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799-FBFD-4476-B8E2-A2D4B086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0DE-81AE-4DAE-9086-BE0E090E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2E1-20DE-4F3D-90F7-E302DFFF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D97-B679-42EE-ADEE-7E33C45D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9DD9-028F-4854-B5FE-64F3FB32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D8C9-3C32-4DB6-8617-556DCEF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AFD6-CB2C-4C05-94C9-B777260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7F40-5431-4AE2-A14F-54F51F3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EB48-9B95-45C1-8985-4D72F5B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C91E-81CA-447A-BBEB-6F0652F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D13-D3B4-4D6D-8E85-0FAFD378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14B-F8B8-4EFE-8BCD-25A9E830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2935-90BA-4BCC-8F0A-C7AB527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16EC-2330-4E20-B23D-23F4686E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8E8B-E1AA-4D36-8634-4BD507C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F8B2-B46A-4615-ADEC-53952CE6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9092-B028-4B3D-9A4B-3E5B582E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00A-656B-40B7-8EC2-2CF94943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D80-1CEA-4D9E-BFD4-F7F38AA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928-27DA-4162-BBFC-3FD1D827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4D7-2C3C-484C-93FE-78DC71E1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C7B-869F-4A84-AE0B-AA98E15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0DA-B3A4-4EA2-9FDB-45D25EC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1A4-A773-4F94-8E8A-F5F622E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267E-5624-4E0E-AE3E-8DAFE11615D1}" type="slidenum">
              <a:rPr b="0" lang="tr-TR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923B-25C4-4515-94A0-1DBE3884B997}" type="slidenum">
              <a:rPr b="0" lang="tr-TR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3-IMPROVING ONE’S LOOK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ODY C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AS BORN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243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66720" y="1294920"/>
            <a:ext cx="4419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Berkay </a:t>
            </a:r>
            <a:r>
              <a:rPr b="0" lang="tr-TR" sz="3500" spc="-1" strike="noStrike">
                <a:solidFill>
                  <a:srgbClr val="ff0000"/>
                </a:solidFill>
                <a:latin typeface="Arial"/>
              </a:rPr>
              <a:t>was born</a:t>
            </a: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 in Sincan-Ankara.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He is 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‘</a:t>
            </a: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Angara Bebesi’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35268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38880" y="2666880"/>
            <a:ext cx="160020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350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WAS BORN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Rümeysa was born in .............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Osman was born in 1996, is it true?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Where were you born? I was born in ..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When was you born? I was born in .....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NFIDEN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İlayda is the most </a:t>
            </a:r>
            <a:r>
              <a:rPr b="0" lang="tr-TR" sz="3000" spc="-1" strike="noStrike">
                <a:solidFill>
                  <a:srgbClr val="ff0000"/>
                </a:solidFill>
                <a:latin typeface="Arial"/>
              </a:rPr>
              <a:t>confident</a:t>
            </a: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 student in 8-E 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cc"/>
                </a:solidFill>
                <a:latin typeface="Arial"/>
              </a:rPr>
              <a:t>Do you agreee?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426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ENEROU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91120" y="12952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People are </a:t>
            </a:r>
            <a:r>
              <a:rPr b="0" lang="tr-TR" sz="3900" spc="-1" strike="noStrike">
                <a:solidFill>
                  <a:srgbClr val="ff0000"/>
                </a:solidFill>
                <a:latin typeface="Arial"/>
              </a:rPr>
              <a:t>generous </a:t>
            </a: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and help poor people in Ramadan!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81280" cy="39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4419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HAR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Nihal </a:t>
            </a:r>
            <a:r>
              <a:rPr b="0" lang="tr-TR" sz="3900" spc="-1" strike="noStrike">
                <a:solidFill>
                  <a:srgbClr val="ff0000"/>
                </a:solidFill>
                <a:latin typeface="Arial"/>
              </a:rPr>
              <a:t>shares</a:t>
            </a: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 nice pictures on facebook</a:t>
            </a:r>
            <a:r>
              <a:rPr b="0" lang="tr-TR" sz="2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495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RIDE A HORS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200" spc="-1" strike="noStrike">
                <a:solidFill>
                  <a:srgbClr val="ffffcc"/>
                </a:solidFill>
                <a:latin typeface="Arial"/>
              </a:rPr>
              <a:t>I want to learn </a:t>
            </a:r>
            <a:r>
              <a:rPr b="0" lang="tr-TR" sz="5200" spc="-1" strike="noStrike">
                <a:solidFill>
                  <a:srgbClr val="ff0000"/>
                </a:solidFill>
                <a:latin typeface="Arial"/>
              </a:rPr>
              <a:t>riding a horse</a:t>
            </a:r>
            <a:r>
              <a:rPr b="0" lang="tr-TR" sz="5200" spc="-1" strike="noStrike">
                <a:solidFill>
                  <a:srgbClr val="ffffcc"/>
                </a:solidFill>
                <a:latin typeface="Arial"/>
              </a:rPr>
              <a:t> when I grow up</a:t>
            </a:r>
            <a:endParaRPr b="0" lang="en-US" sz="5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OFA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7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900" spc="-1" strike="noStrike">
                <a:solidFill>
                  <a:srgbClr val="ffffcc"/>
                </a:solidFill>
                <a:latin typeface="Arial"/>
              </a:rPr>
              <a:t>Mert is sleeping on the </a:t>
            </a:r>
            <a:r>
              <a:rPr b="0" lang="tr-TR" sz="5900" spc="-1" strike="noStrike">
                <a:solidFill>
                  <a:srgbClr val="ff0000"/>
                </a:solidFill>
                <a:latin typeface="Arial"/>
              </a:rPr>
              <a:t>sofa.</a:t>
            </a:r>
            <a:endParaRPr b="0" lang="en-US" sz="5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IVE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Arial"/>
              </a:rPr>
              <a:t>This woman </a:t>
            </a:r>
            <a:r>
              <a:rPr b="0" lang="tr-TR" sz="4000" spc="-1" strike="noStrike">
                <a:solidFill>
                  <a:srgbClr val="ff0000"/>
                </a:solidFill>
                <a:latin typeface="Arial"/>
              </a:rPr>
              <a:t>lives</a:t>
            </a:r>
            <a:r>
              <a:rPr b="0" lang="tr-TR" sz="4000" spc="-1" strike="noStrike">
                <a:solidFill>
                  <a:srgbClr val="ffffcc"/>
                </a:solidFill>
                <a:latin typeface="Arial"/>
              </a:rPr>
              <a:t> in a cottage,where do you liv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Arial"/>
              </a:rPr>
              <a:t>I live in ..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419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00600" y="4952880"/>
            <a:ext cx="4038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OOD LOOKING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I am a </a:t>
            </a:r>
            <a:r>
              <a:rPr b="0" lang="tr-TR" sz="4800" spc="-1" strike="noStrike">
                <a:solidFill>
                  <a:srgbClr val="ff0000"/>
                </a:solidFill>
                <a:latin typeface="Arial"/>
              </a:rPr>
              <a:t>good      looking </a:t>
            </a: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acto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I am ugly </a:t>
            </a:r>
            <a:r>
              <a:rPr b="0" lang="tr-TR" sz="4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362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352680" y="2362320"/>
            <a:ext cx="1752840" cy="48564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4114800" cy="2109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UTGOING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9360" y="1447920"/>
            <a:ext cx="4267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Serra is </a:t>
            </a:r>
            <a:r>
              <a:rPr b="0" lang="tr-TR" sz="4800" spc="-1" strike="noStrike">
                <a:solidFill>
                  <a:srgbClr val="ff0000"/>
                </a:solidFill>
                <a:latin typeface="Arial"/>
              </a:rPr>
              <a:t>outgoing</a:t>
            </a: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,she never stays at home and always want to go out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038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Tarkan,Hadise and Athena are famous </a:t>
            </a:r>
            <a:r>
              <a:rPr b="0" lang="tr-TR" sz="3900" spc="-1" strike="noStrike">
                <a:solidFill>
                  <a:srgbClr val="ff0000"/>
                </a:solidFill>
                <a:latin typeface="Arial"/>
              </a:rPr>
              <a:t>celebrities</a:t>
            </a: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 in Turkey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900" spc="-1" strike="noStrike" u="sng">
                <a:solidFill>
                  <a:srgbClr val="ff0000"/>
                </a:solidFill>
                <a:uFillTx/>
                <a:latin typeface="Arial"/>
              </a:rPr>
              <a:t>CELEBRITY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886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IVING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7080" y="1523880"/>
            <a:ext cx="4368600" cy="5238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3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CARF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ffffcc"/>
                </a:solidFill>
                <a:latin typeface="Arial"/>
              </a:rPr>
              <a:t>She is wearing a white </a:t>
            </a:r>
            <a:r>
              <a:rPr b="0" lang="tr-TR" sz="6600" spc="-1" strike="noStrike">
                <a:solidFill>
                  <a:srgbClr val="ff0000"/>
                </a:solidFill>
                <a:latin typeface="Arial"/>
              </a:rPr>
              <a:t>scarf.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267080" cy="4495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743200" y="2819520"/>
            <a:ext cx="2057400" cy="48564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UT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tr-TR" sz="5000" spc="-1" strike="noStrike">
                <a:solidFill>
                  <a:srgbClr val="ffffcc"/>
                </a:solidFill>
                <a:latin typeface="Arial"/>
              </a:rPr>
              <a:t>This cat is </a:t>
            </a:r>
            <a:r>
              <a:rPr b="0" lang="tr-TR" sz="5000" spc="-1" strike="noStrike">
                <a:solidFill>
                  <a:srgbClr val="ff0000"/>
                </a:solidFill>
                <a:latin typeface="Arial"/>
              </a:rPr>
              <a:t>cut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tr-TR" sz="5000" spc="-1" strike="noStrike">
                <a:solidFill>
                  <a:srgbClr val="ffffcc"/>
                </a:solidFill>
                <a:latin typeface="Arial"/>
              </a:rPr>
              <a:t>This snake is not</a:t>
            </a:r>
            <a:r>
              <a:rPr b="0" lang="tr-TR" sz="5000" spc="-1" strike="noStrike">
                <a:solidFill>
                  <a:srgbClr val="ff0000"/>
                </a:solidFill>
                <a:latin typeface="Arial"/>
              </a:rPr>
              <a:t> cute,</a:t>
            </a:r>
            <a:r>
              <a:rPr b="0" lang="tr-TR" sz="5000" spc="-1" strike="noStrike">
                <a:solidFill>
                  <a:srgbClr val="ffffcc"/>
                </a:solidFill>
                <a:latin typeface="Arial"/>
              </a:rPr>
              <a:t>it</a:t>
            </a:r>
            <a:r>
              <a:rPr b="0" lang="tr-TR" sz="5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r-TR" sz="5000" spc="-1" strike="noStrike">
                <a:solidFill>
                  <a:srgbClr val="ffffcc"/>
                </a:solidFill>
                <a:latin typeface="Arial"/>
              </a:rPr>
              <a:t>is terrifiying</a:t>
            </a:r>
            <a:r>
              <a:rPr b="0" lang="tr-TR" sz="5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962160" cy="2438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9625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OY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Arial"/>
              </a:rPr>
              <a:t>Refik and Berkay used to play with their </a:t>
            </a:r>
            <a:r>
              <a:rPr b="0" lang="tr-TR" sz="4400" spc="-1" strike="noStrike" u="sng">
                <a:solidFill>
                  <a:srgbClr val="ff0000"/>
                </a:solidFill>
                <a:uFillTx/>
                <a:latin typeface="Arial"/>
              </a:rPr>
              <a:t>toy </a:t>
            </a:r>
            <a:r>
              <a:rPr b="0" lang="tr-TR" sz="4400" spc="-1" strike="noStrike">
                <a:solidFill>
                  <a:srgbClr val="ffffcc"/>
                </a:solidFill>
                <a:latin typeface="Arial"/>
              </a:rPr>
              <a:t>car when they were a little child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OL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ffffcc"/>
                </a:solidFill>
                <a:latin typeface="Arial"/>
              </a:rPr>
              <a:t>Girls like playing with </a:t>
            </a:r>
            <a:r>
              <a:rPr b="0" lang="tr-TR" sz="6600" spc="-1" strike="noStrike">
                <a:solidFill>
                  <a:srgbClr val="ff0000"/>
                </a:solidFill>
                <a:latin typeface="Arial"/>
              </a:rPr>
              <a:t>dolls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CTING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Kemal Sunal and Şener Şen are good at </a:t>
            </a:r>
            <a:r>
              <a:rPr b="0" lang="tr-TR" sz="4800" spc="-1" strike="noStrike" u="sng">
                <a:solidFill>
                  <a:srgbClr val="ff0000"/>
                </a:solidFill>
                <a:uFillTx/>
                <a:latin typeface="Arial"/>
              </a:rPr>
              <a:t>acting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572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HIR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ffffcc"/>
                </a:solidFill>
                <a:latin typeface="Arial"/>
              </a:rPr>
              <a:t>Kıvanç Tatlıtuğ is wearing a nice </a:t>
            </a:r>
            <a:r>
              <a:rPr b="0" lang="tr-TR" sz="6000" spc="-1" strike="noStrike" u="sng">
                <a:solidFill>
                  <a:srgbClr val="ff0000"/>
                </a:solidFill>
                <a:uFillTx/>
                <a:latin typeface="Arial"/>
              </a:rPr>
              <a:t>shirt </a:t>
            </a:r>
            <a:r>
              <a:rPr b="0" lang="tr-TR" sz="6000" spc="-1" strike="noStrike">
                <a:solidFill>
                  <a:srgbClr val="ffffcc"/>
                </a:solidFill>
                <a:latin typeface="Arial"/>
              </a:rPr>
              <a:t>here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ffcc"/>
                </a:solidFill>
                <a:latin typeface="Arial"/>
              </a:rPr>
              <a:t>Our English teacher </a:t>
            </a:r>
            <a:r>
              <a:rPr b="0" lang="tr-TR" sz="4300" spc="-1" strike="noStrike">
                <a:solidFill>
                  <a:srgbClr val="ff0000"/>
                </a:solidFill>
                <a:latin typeface="Arial"/>
              </a:rPr>
              <a:t>wear</a:t>
            </a:r>
            <a:r>
              <a:rPr b="0" lang="tr-TR" sz="4300" spc="-1" strike="noStrike">
                <a:solidFill>
                  <a:srgbClr val="ffffcc"/>
                </a:solidFill>
                <a:latin typeface="Arial"/>
              </a:rPr>
              <a:t> suit in school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343400" cy="4496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ASUAL CLOTH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7760" y="1676520"/>
            <a:ext cx="60958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cc"/>
                </a:solidFill>
                <a:latin typeface="Arial"/>
              </a:rPr>
              <a:t>Burcu wears </a:t>
            </a:r>
            <a:r>
              <a:rPr b="0" lang="tr-TR" sz="2600" spc="-1" strike="noStrike">
                <a:solidFill>
                  <a:srgbClr val="ff0000"/>
                </a:solidFill>
                <a:latin typeface="Arial"/>
              </a:rPr>
              <a:t>casual clothes</a:t>
            </a:r>
            <a:r>
              <a:rPr b="0" lang="tr-TR" sz="2600" spc="-1" strike="noStrike">
                <a:solidFill>
                  <a:srgbClr val="ffffcc"/>
                </a:solidFill>
                <a:latin typeface="Arial"/>
              </a:rPr>
              <a:t> at home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cc"/>
                </a:solidFill>
                <a:latin typeface="Arial"/>
              </a:rPr>
              <a:t>She mustn’t wear </a:t>
            </a:r>
            <a:r>
              <a:rPr b="0" lang="tr-TR" sz="2600" spc="-1" strike="noStrike">
                <a:solidFill>
                  <a:srgbClr val="ff0000"/>
                </a:solidFill>
                <a:latin typeface="Arial"/>
              </a:rPr>
              <a:t>casual clothes</a:t>
            </a:r>
            <a:r>
              <a:rPr b="0" lang="tr-TR" sz="2600" spc="-1" strike="noStrike">
                <a:solidFill>
                  <a:srgbClr val="ffffcc"/>
                </a:solidFill>
                <a:latin typeface="Arial"/>
              </a:rPr>
              <a:t> in school!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3048120" cy="441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8880" y="2666880"/>
            <a:ext cx="1295640" cy="609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191120" y="3581280"/>
            <a:ext cx="4495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CCESSORI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Bags and earrings are important </a:t>
            </a:r>
            <a:r>
              <a:rPr b="0" lang="tr-TR" sz="3900" spc="-1" strike="noStrike">
                <a:solidFill>
                  <a:srgbClr val="ff0000"/>
                </a:solidFill>
                <a:latin typeface="Arial"/>
              </a:rPr>
              <a:t>accessories</a:t>
            </a:r>
            <a:r>
              <a:rPr b="0" lang="tr-TR" sz="3900" spc="-1" strike="noStrike">
                <a:solidFill>
                  <a:srgbClr val="ffffcc"/>
                </a:solidFill>
                <a:latin typeface="Arial"/>
              </a:rPr>
              <a:t> for women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3352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RINGS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530360"/>
            <a:ext cx="82296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RACELE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Where is </a:t>
            </a:r>
            <a:r>
              <a:rPr b="0" lang="tr-TR" sz="3500" spc="-1" strike="noStrike">
                <a:solidFill>
                  <a:srgbClr val="ff0000"/>
                </a:solidFill>
                <a:latin typeface="Arial"/>
              </a:rPr>
              <a:t>bracelet</a:t>
            </a: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 in this picture?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A) arm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B) hand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C) foot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cc"/>
                </a:solidFill>
                <a:latin typeface="Arial"/>
              </a:rPr>
              <a:t>D) neck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NECKLACE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You can wear your </a:t>
            </a:r>
            <a:r>
              <a:rPr b="0" lang="tr-TR" sz="3000" spc="-1" strike="noStrike">
                <a:solidFill>
                  <a:srgbClr val="ff0000"/>
                </a:solidFill>
                <a:latin typeface="Arial"/>
              </a:rPr>
              <a:t>necklace</a:t>
            </a: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 on your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A) head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B) ea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C) neck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Arial"/>
              </a:rPr>
              <a:t>D) ar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20289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ROUSER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81280" y="129528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ffcc"/>
                </a:solidFill>
                <a:latin typeface="Arial"/>
              </a:rPr>
              <a:t>Ömer always wear funny </a:t>
            </a:r>
            <a:r>
              <a:rPr b="0" lang="tr-TR" sz="4300" spc="-1" strike="noStrike">
                <a:solidFill>
                  <a:srgbClr val="ff0000"/>
                </a:solidFill>
                <a:latin typeface="Arial"/>
              </a:rPr>
              <a:t>trousers</a:t>
            </a:r>
            <a:r>
              <a:rPr b="0" lang="tr-TR" sz="4300" spc="-1" strike="noStrike">
                <a:solidFill>
                  <a:srgbClr val="ffffcc"/>
                </a:solidFill>
                <a:latin typeface="Arial"/>
              </a:rPr>
              <a:t> in school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3276720" cy="4800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224160" cy="244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629400" y="3200400"/>
            <a:ext cx="21430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0:51:58Z</dcterms:created>
  <dc:creator>ex</dc:creator>
  <dc:description/>
  <dc:language>en-US</dc:language>
  <cp:lastModifiedBy>samsung</cp:lastModifiedBy>
  <dcterms:modified xsi:type="dcterms:W3CDTF">2013-10-27T17:54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