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133-1759-416E-815C-C9EFAEB1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D8C-C8B5-47EB-9905-20C23C4E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E76-0AE1-41BB-8429-20D1A010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BA8-CE0A-4B8D-9661-5FE1B339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7CA8-1E8D-4338-A0D7-B21F0EFC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B892-4FB3-41C4-9F78-DC7D937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6821-A8E5-4A0F-988A-E5C5947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14E-2379-4A36-89C7-6EEFE5DF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23C-C871-4F0E-BE09-C56AEEB7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66C6-9FA6-4167-9176-2277C62E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5AAF-784E-4151-A1A4-2E89FB1A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A2E-EDC1-4C6C-AF29-A48FB94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F24C-E2BF-4097-AC8C-D621FD9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E747-CC31-4D75-ADE7-90AB068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F986-D706-440A-9A40-9D338F3D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F4B1-DBCA-4FF1-95B4-CC2876E8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C6F2-77B8-4075-8B49-A7709C36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13C-3EE6-43E7-BCA1-9CEB8F12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315-1C0C-4119-9E19-661AAD52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BF4-CBEE-493E-9905-1CF7AE37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325-43F1-4B25-8A03-6DD7583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210-ABDA-4616-980D-F75B9DA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DD0-721D-4543-B284-CD1AAEDE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605-5199-476B-B3B2-AA38317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88E2-EA5D-4AA8-AC36-5DC0E71FBC10}" type="slidenum"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9354-C3A5-4176-910C-7F8EDEED9341}" type="slidenum"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" Target="slide12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" Target="slide12.xml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" Target="slide12.xml"/><Relationship Id="rId14" Type="http://schemas.openxmlformats.org/officeDocument/2006/relationships/image" Target="../media/image17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slide" Target="slide11.xml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828800" y="762120"/>
            <a:ext cx="647712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ENGLISH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QUESTIONS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76920" y="5181480"/>
            <a:ext cx="3476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y: Sude Babur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76520" y="91440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Times New Roman"/>
              </a:rPr>
              <a:t>Sarah is il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Times New Roman"/>
              </a:rPr>
              <a:t>What should Sarah do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828800" y="2286000"/>
            <a:ext cx="26575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 Drink cold water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828800" y="3124080"/>
            <a:ext cx="4114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 She shouldn't see a doctor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828800" y="3962520"/>
            <a:ext cx="3152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 Use your sun cream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28800" y="4724280"/>
            <a:ext cx="5181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 Don't forget to take your medicine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200px-Tweety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25401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523880" y="5181480"/>
            <a:ext cx="32004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GRATULATIONS!!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5720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19920" y="2286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90512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19920" y="9144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114300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251460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19920" y="16002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19920" y="22860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20040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19920" y="29718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6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388620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19920" y="358128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7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4956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19920" y="4191120"/>
            <a:ext cx="21049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8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502920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19920" y="48006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9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29200" y="15238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19920" y="129528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297180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19920" y="198108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2096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35812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19920" y="266688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4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19920" y="335268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5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42670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19920" y="403848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6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9528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19920" y="4648320"/>
            <a:ext cx="21049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7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56272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19920" y="525780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8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60958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19920" y="5867280"/>
            <a:ext cx="210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9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7" name="8933ec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323856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2057400" y="4800600"/>
            <a:ext cx="20098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!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8380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19920" y="533520"/>
            <a:ext cx="21049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1.QUESTION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286000" y="1066680"/>
            <a:ext cx="5533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en do you brush your teeth?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00200" y="1600200"/>
            <a:ext cx="727704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Verilen sorunun cevabı hangi seçenektedir?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81080" y="2895480"/>
            <a:ext cx="2600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 In the bathroom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81080" y="3581280"/>
            <a:ext cx="1962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 Toothbrush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81080" y="4267080"/>
            <a:ext cx="4191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 In the morning and at night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81080" y="4952880"/>
            <a:ext cx="1943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 Toothpaste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28800" y="1066680"/>
            <a:ext cx="6781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im _____________ to school on foot?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1828800"/>
            <a:ext cx="4400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oşluğa ne gelmelidir?</a:t>
            </a:r>
            <a:endParaRPr b="0" lang="en-US" sz="2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28800" y="3048120"/>
            <a:ext cx="10191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 goes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733920"/>
            <a:ext cx="685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 go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828800" y="4419720"/>
            <a:ext cx="1219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 drives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828800" y="5181480"/>
            <a:ext cx="10573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 drive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533520"/>
            <a:ext cx="717228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ue odası için bir saat alacaktır.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mak istediği saat "quarter to nine"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urumundadır.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28800" y="2286000"/>
            <a:ext cx="6153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ue'nin alacağı saat hangisidir?</a:t>
            </a:r>
            <a:endParaRPr b="0" lang="en-US" sz="2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76520" y="3809880"/>
            <a:ext cx="247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ghgh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81080" y="3581280"/>
            <a:ext cx="914400" cy="89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352680" y="3886200"/>
            <a:ext cx="228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ttg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657600" y="358128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76920" y="3886200"/>
            <a:ext cx="257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khıı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181480" y="358128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477120" y="3962520"/>
            <a:ext cx="257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</a:t>
            </a:r>
            <a:endParaRPr b="0" lang="en-US" sz="2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indir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781680" y="3578400"/>
            <a:ext cx="914400" cy="887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3049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6858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MV Boli"/>
              </a:rPr>
              <a:t>After school she always _________ her homewor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81080" y="2133720"/>
            <a:ext cx="1276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 makes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981080" y="3048120"/>
            <a:ext cx="1057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mak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81080" y="3809880"/>
            <a:ext cx="685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 do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81080" y="4495680"/>
            <a:ext cx="10288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 does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14600" y="533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Times New Roman"/>
              </a:rPr>
              <a:t>Ankara is the __________ of Turke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81080" y="1752480"/>
            <a:ext cx="847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 city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81080" y="2514600"/>
            <a:ext cx="1428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 country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81080" y="3276720"/>
            <a:ext cx="1933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 capital city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81080" y="4114800"/>
            <a:ext cx="1866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 city center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52480" y="762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609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Times New Roman"/>
              </a:rPr>
              <a:t>Ayşe is from Turkey, but she speak ____________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057400" y="1676520"/>
            <a:ext cx="1295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 Franc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7400" y="2514600"/>
            <a:ext cx="971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 Italy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7400" y="3276720"/>
            <a:ext cx="10954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 Egypt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057400" y="4038480"/>
            <a:ext cx="1486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 Spanish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9907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4572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tr-TR" sz="2400" spc="-1" strike="noStrike">
                <a:solidFill>
                  <a:srgbClr val="eaeaea"/>
                </a:solidFill>
                <a:latin typeface="Times New Roman"/>
              </a:rPr>
              <a:t>Seninle tanıştığıma memnun oldum.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Times New Roman"/>
              </a:rPr>
              <a:t>ifadesi hangi seçenektedir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81080" y="2514600"/>
            <a:ext cx="2914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 I'm fine, thank you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81080" y="3200400"/>
            <a:ext cx="2705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 Nice to meet you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81080" y="3886200"/>
            <a:ext cx="29908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 It's nice to see you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81080" y="4572000"/>
            <a:ext cx="2210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 See you later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914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Times New Roman"/>
              </a:rPr>
              <a:t>Farklı olana tıklayını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05120" y="1752480"/>
            <a:ext cx="1800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. First Class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2514600"/>
            <a:ext cx="25146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. Primary School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3276720"/>
            <a:ext cx="3000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. Elementary School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4114800"/>
            <a:ext cx="20383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. High School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21:17:17Z</dcterms:created>
  <dc:creator>Csö</dc:creator>
  <dc:description/>
  <dc:language>en-US</dc:language>
  <cp:lastModifiedBy>Csö</cp:lastModifiedBy>
  <dcterms:modified xsi:type="dcterms:W3CDTF">2014-04-06T17:26:47Z</dcterms:modified>
  <cp:revision>3</cp:revision>
  <dc:subject/>
  <dc:title>PowerPoint Sunusu</dc:title>
</cp:coreProperties>
</file>