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7.wmf" ContentType="image/x-wmf"/>
  <Override PartName="/ppt/media/image24.gif" ContentType="image/gif"/>
  <Override PartName="/ppt/media/image17.png" ContentType="image/png"/>
  <Override PartName="/ppt/media/image32.jpeg" ContentType="image/jpeg"/>
  <Override PartName="/ppt/media/image23.wmf" ContentType="image/x-wmf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26.wmf" ContentType="image/x-wmf"/>
  <Override PartName="/ppt/media/image15.jpeg" ContentType="image/jpeg"/>
  <Override PartName="/ppt/media/image14.png" ContentType="image/png"/>
  <Override PartName="/ppt/media/image1.jpeg" ContentType="image/jpeg"/>
  <Override PartName="/ppt/media/image29.jpeg" ContentType="image/jpeg"/>
  <Override PartName="/ppt/media/image13.jpeg" ContentType="image/jpeg"/>
  <Override PartName="/ppt/media/image43.wmf" ContentType="image/x-wmf"/>
  <Override PartName="/ppt/media/image31.png" ContentType="image/png"/>
  <Override PartName="/ppt/media/image42.wmf" ContentType="image/x-wmf"/>
  <Override PartName="/ppt/media/image9.png" ContentType="image/png"/>
  <Override PartName="/ppt/media/image33.jpeg" ContentType="image/jpeg"/>
  <Override PartName="/ppt/media/image34.jpeg" ContentType="image/jpeg"/>
  <Override PartName="/ppt/media/image18.png" ContentType="image/png"/>
  <Override PartName="/ppt/media/image36.png" ContentType="image/png"/>
  <Override PartName="/ppt/media/image38.gif" ContentType="image/gif"/>
  <Override PartName="/ppt/media/image8.jpeg" ContentType="image/jpeg"/>
  <Override PartName="/ppt/media/image41.wmf" ContentType="image/x-wmf"/>
  <Override PartName="/ppt/media/image39.gif" ContentType="image/gif"/>
  <Override PartName="/ppt/media/image12.jpeg" ContentType="image/jpeg"/>
  <Override PartName="/ppt/media/image10.wmf" ContentType="image/x-wmf"/>
  <Override PartName="/ppt/media/image22.gif" ContentType="image/gif"/>
  <Override PartName="/ppt/media/image25.jpeg" ContentType="image/jpeg"/>
  <Override PartName="/ppt/media/image4.jpeg" ContentType="image/jpeg"/>
  <Override PartName="/ppt/media/image40.png" ContentType="image/png"/>
  <Override PartName="/ppt/media/image7.jpeg" ContentType="image/jpeg"/>
  <Override PartName="/ppt/media/image35.gif" ContentType="image/gif"/>
  <Override PartName="/ppt/media/image6.wmf" ContentType="image/x-wmf"/>
  <Override PartName="/ppt/media/image11.wmf" ContentType="image/x-wmf"/>
  <Override PartName="/ppt/media/image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95F-EEF1-4F48-A6D4-6280A6AB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BED-B600-4F44-94E6-6AE6F0C9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E73-EBAF-415D-9634-E3CBFE28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75D-5DC4-40F4-9524-E0B71F33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BDA-7CD6-4B4F-918E-DCE93824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DB4-116B-411D-BECF-BE49153E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9B4-0D39-49D2-B18C-0CD63479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C09-909A-44E3-9D3B-02C5F864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E98-E337-43EA-8B62-218794A6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883-636E-4060-A416-C987CB8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876-5896-4567-89F6-0431923F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B05-202B-4EAC-AB17-68D65FE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7DAB-7FD8-43B3-8F0E-3AB977644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7.wm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5.gif"/><Relationship Id="rId7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image" Target="../media/image38.gif"/><Relationship Id="rId7" Type="http://schemas.openxmlformats.org/officeDocument/2006/relationships/image" Target="../media/image39.gif"/><Relationship Id="rId8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371628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Hazırlayan:Grup KURTARILMAYA DEĞ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76500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ÇEVRE KOR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11280" y="62064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 Unicode MS"/>
              </a:rPr>
              <a:t>HAVA KİRLİLİĞ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1844640"/>
            <a:ext cx="64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ava kirliliği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ada katı, sıvı ve gaz şeklindeki yabancı maddelerin insan sağlığına, canlı hayatına ve ekolojik dengeye zarar verecek miktar, yoğunluk ve sürede atmosferde bulunmasıdır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49600" y="533520"/>
            <a:ext cx="462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HAVA KİRLİLİĞ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37160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Kaynakları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anay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laşı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Yak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114800" cy="163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435640" y="981000"/>
            <a:ext cx="2620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2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381120" cy="4791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9720" y="5334120"/>
            <a:ext cx="310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ermik Santral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Kaynaklana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ava Kirlili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809880" y="380880"/>
            <a:ext cx="5105520" cy="4724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256280" y="533412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Evlerden Kaynaklanan Hava Kirlili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Hava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Kirliliğinin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Etkiler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rial"/>
              </a:rPr>
              <a:t>Kirli hava, insanlarda solunum yolu hastalıklarının artmasına sebep olmaktadır.</a:t>
            </a: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ff"/>
                </a:solidFill>
                <a:latin typeface="Arial"/>
              </a:rPr>
              <a:t>Kükürtdioksit ve ozon bitkiler için zararlı olup; özellikle ozon, ürün kayıplarına sebep olmakta ve ormanlara zarar ver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ff0000"/>
                </a:solidFill>
                <a:latin typeface="Arial"/>
              </a:rPr>
              <a:t>Hava kirliliği, hava katmanlarında sera etkisine ve iklim değişikliğine yol aç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ff"/>
                </a:solidFill>
                <a:latin typeface="Arial"/>
              </a:rPr>
              <a:t>Küresel ısınmaya yol açabil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97440" y="533520"/>
            <a:ext cx="43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ASİT YAĞMURL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2708280"/>
            <a:ext cx="85341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 Unicode MS"/>
              </a:rPr>
              <a:t>Asit yağmurlarının zararlar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Su kirliliğine sebep olması ve sudaki canlıları olumsuz etkilem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Ormanlar ve bitkiler üzerindeki olumsuz etki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Toprağa ve topraktaki canlılara zarar verm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4842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avada asılı kalabilen kirleticiler su partikülleri ile tepkimeye girerek asit meydana getirmekte ve yağmurlarla yeryüzüne asit yağmurları olarak  inmekt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t yağmurunun ormana etkis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8351640" cy="5688360"/>
          </a:xfrm>
          <a:prstGeom prst="rect">
            <a:avLst/>
          </a:prstGeom>
          <a:ln w="604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11280" y="260280"/>
            <a:ext cx="39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OZON TABAKA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860640"/>
            <a:ext cx="82296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zon yoğunluğunun ultraviole ışınlarını tutma    görevini yapamayacak kadar azalması, </a:t>
            </a:r>
            <a:r>
              <a:rPr b="1" i="1" lang="tr-T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1" lang="tr-TR" sz="2400" spc="-1" strike="noStrike">
                <a:solidFill>
                  <a:srgbClr val="ff0066"/>
                </a:solidFill>
                <a:latin typeface="Arial"/>
                <a:ea typeface="Arial Unicode MS"/>
              </a:rPr>
              <a:t>ozon tabakasının</a:t>
            </a:r>
            <a:r>
              <a:rPr b="1" i="1" lang="tr-TR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tr-TR" sz="2400" spc="-1" strike="noStrike">
                <a:solidFill>
                  <a:srgbClr val="ff0066"/>
                </a:solidFill>
                <a:latin typeface="Arial"/>
                <a:ea typeface="Arial Unicode MS"/>
              </a:rPr>
              <a:t>delinmesi</a:t>
            </a:r>
            <a:r>
              <a:rPr b="1" i="1" lang="tr-T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olarak adlandır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77336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mosferdeki ozonun yaklaşık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%90’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eryüzünden itibare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0-40 k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ası yükseklikte bulun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3141720"/>
            <a:ext cx="756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bölgedeki ozonun özelliği; tüm canlı varlıkları, doğal kaynakları ve tarımsal ürünleri olumsuz yönde etkileyen </a:t>
            </a:r>
            <a:r>
              <a:rPr b="0" lang="tr-TR" sz="2400" spc="-1" strike="noStrike">
                <a:solidFill>
                  <a:srgbClr val="ff0066"/>
                </a:solidFill>
                <a:latin typeface="Arial"/>
              </a:rPr>
              <a:t>ultraviole(UV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ışınlarını tutmasıdı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35280" y="1197000"/>
            <a:ext cx="48974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zon tabakasının incelmesi sonucunda;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adyasy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tmakta ve insanların bağışıklık sistemleri zarar görmekte, görme bozukluğuna ve deri kanserine yol açmakta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3789360"/>
            <a:ext cx="511344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zon tabakasının incelmesine sebep olan maddelerin başında klor türevleri, plastik köpükler (</a:t>
            </a:r>
            <a:r>
              <a:rPr b="1" i="1" lang="tr-T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rafor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, spreyler, aerasoller ve yangın söndürücüler gelmekt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ava Kirliliğini Önlemek İçin Alınabilecek Tedbirl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anayi tesislerinin bacalarına filtre takılması sağlanmal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vleri ısıtmak için yüksek kalorili kömürler kullanılmalı,kaçak kömür kullanımı engellenme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emiz enerji kaynakları </a:t>
            </a:r>
            <a:r>
              <a:rPr b="1" lang="tr-TR" sz="2400" spc="-1" strike="noStrike">
                <a:solidFill>
                  <a:srgbClr val="000099"/>
                </a:solidFill>
                <a:latin typeface="Arial"/>
              </a:rPr>
              <a:t>(Güneş, doğalgaz, joetermal enerji vb.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yaygınlaştırılarak, özendirilme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erleşim yerlerinde yeşil alanlar arttırılmal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plu taşım araçları(otobüs,dolmuş..) yaygınlaştırılmal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letme kurulurken uygun yer seçimi yapılmal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32000" y="4005360"/>
            <a:ext cx="6962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Çev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insanların ve diğer canlıların yaşamları boyunca ilişkilerini sürdürdükleri ve karşılıklı etkileşim içinde bulundukları ortam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981000"/>
            <a:ext cx="8534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ünyamızın %70’ini su kaplamaktadır. Bu suyun % 98’i okyanuslarda ve iç denizlerde bulunmakta, tuzlu olduğundan içmeye, sulamaya ve endüstriyel kullanıma uygun değil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ryüzündeki su kaynaklarının yaklaşık %0.3’ü kullanılabilir ve içilebilir özellikte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ünya nüfusunun %40’ını barındıran yaklaşık 80 ülke şimdiden su sıkıntısı çekmekted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lkemizin yıllık yağış ortalaması dünya yıllık yağış ortalamasının altındadır.(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643mm/100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üfusun hızla artması, buna karşılık su kaynaklarının sabit kalması sebebiyle, su ihtiyacı her geçen gün artmaktadı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86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u Kirliliğine Sebep Olan Etkenle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3357720"/>
            <a:ext cx="79246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Sanayi ve endüstri kuruluşların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ın atıkları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Hızl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 nüfus artışı ve yeterli altyapının olma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Tarım ilaç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Asit yağmur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Evsel atıklar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26920" y="-171720"/>
            <a:ext cx="432108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 Unicode MS"/>
              </a:rPr>
              <a:t>TOPRAK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prak, bitki örtüsünün beslendiği kaynakların ana deposu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nlıların devamını  ve verimliliğini sağlayan, toprağın üst tabakası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 cm. kalınlıktak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st tabak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cak birkaç yüzyılda oluşabilmektedir.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Arial Black"/>
                <a:ea typeface="Arial Unicode MS"/>
              </a:rPr>
              <a:t>Ülkemizin kullanılabilir arazi varlığının oranlar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371600" y="3505320"/>
            <a:ext cx="6477120" cy="2971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044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 Unicode MS"/>
              </a:rPr>
              <a:t>Toprak Kirliliğine Sebep Olan Faktörl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rleşim alanlarından çıkan 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vsel ve kanalizasyon atıklar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ndüstri tesislerinden çıkan ve arıtılmaksızın toprağa  verilen atık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arımsal mücadele ilaçları ve suni gübre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bilinçsiz kullanım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it yağmurlar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rmanların tahribi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a ve çayırların bilinçsiz kullanımı ve aşırı otlatm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70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284720" y="141300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Arial"/>
              </a:rPr>
              <a:t>Anızın yakılması sırasında toprağın 3cm.lik  üst katmanında ısı 750 C kadar çıkab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Arial"/>
              </a:rPr>
              <a:t>Topraktaki canlıların %70’ i zarar görür. Bunun sonucunda organik maddeler humus haline dönüşem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Arial"/>
              </a:rPr>
              <a:t>Toprağın fiziksel, kimyasal ve biyolojik özellikleri bozu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Arial"/>
              </a:rPr>
              <a:t>Verimlilik azalı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33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NIZ YANGINININ ZARARL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50920" y="1125360"/>
            <a:ext cx="4114800" cy="5257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71640" y="4221000"/>
            <a:ext cx="320760" cy="141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2627280" y="4653000"/>
            <a:ext cx="320760" cy="1415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3492360" y="4149720"/>
            <a:ext cx="32076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1692360" y="4365720"/>
            <a:ext cx="32076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500"/>
                            </p:stCondLst>
                            <p:childTnLst>
                              <p:par>
                                <p:cTn id="4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500"/>
                            </p:stCondLst>
                            <p:childTnLst>
                              <p:par>
                                <p:cTn id="4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Arial Unicode MS"/>
              </a:rPr>
              <a:t>EROZYON VE ÇÖLLEŞ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Erozy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oprağın bulunduğu yerden; yağışlar, sel suları, rüzgar, çığ vb. etkenlerle taşınması olay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Ülkemiz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erozyon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vrupa’dan 12, Afrika’dan 1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kat daha  fazladı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195880" y="1197000"/>
            <a:ext cx="3552840" cy="547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1219320"/>
            <a:ext cx="80769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rozyon sebebi ile toprağın verimi azalmakta, besin maddeleri yok olmakta, sular kirlenmekte, ürünlerde verim ve kalite düş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Ülkemizde erozyon sonucu her yı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500 milyon 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verimli toprağımız kaybo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Unicode MS"/>
              </a:rPr>
              <a:t>Erozyon ve Çölleşmeyi Önlemek İçin Alınabilecek Tedbir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752480"/>
            <a:ext cx="81532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rozyon riski yüksek olan yerlerde tarım yapılmaması, bu tip arazilerin mera olarak ayrılması veya orman örtüsü altına alınmas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anlış toprak işlenmesi , yanlış ekim ve sulamanın önlenme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u kaynaklarının korunmas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rman tahribatına son verilmesi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ğaçlandırmanın  hızlandırılması ve orman yangınlarına karşı gerekli tedbirlerin alınması, 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700280"/>
            <a:ext cx="741672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buClr>
                <a:srgbClr val="bbe0e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ğlıklı bir yaşamın devam ettirilebilmesi de ancak sağlıklı ve temiz bir çevreyle mümkündü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be0e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knolojik gelişmeler birçok imkanı insanlığın hizmetine sunarken, bir yandan insanlığın ortak malı olan çevrede telafisi mümkün olmayan sonuçlar doğur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RMANLARIMI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828684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26920" y="1197000"/>
            <a:ext cx="75614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man; ağaçlarla birlikte diğer bitkiler, hayvanlar, toprak, su, iklim gibi canlı ve cansız tabiat faktörlerinin birlikte oluşturduğu doğal bir bütünlüğü ifade ed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raklarımızın %28’ i ormanlık alandır. 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ropikal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(yağmur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) ormanların ekosistem için büyük önemi vardır. Tropikal ormanların kapladığı alan, dünya yüzeyinin yalnızca %7’sidir. Buna karşılık hayvan ve bitki türlerinin %80’i bu alanlarda yaşamakta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  <a:ea typeface="Arial Unicode MS"/>
              </a:rPr>
              <a:t>Ormanların faydalar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l ve taşkınları ön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ozyon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ön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rtam sıcaklıkların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ılımanlaştırarak, yağışların oluşmasını sağ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sijen üreterek çevresindek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havayı temiz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İçerisinde yer alan flora ve faunayı kor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l güzellik sağl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Yakacak ihtiyacını karşılamada, kağıt üretiminde, ev eşyası ve ders  araçları üretimi vb. alanlard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Ormanların yararlarından bazı örnek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Orman 50m genişliğindeki bir otabanın trafik gürültüsünü 20-30 desibel azal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apraklı ağaçlardan meydana gelen bir bölgede 50 kuş türü yaşayab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ğaçsız bir alana göre 8 kat daha fazla humus oluşturur ve toprak canlılarının yaşamasına olanak sağ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5m boyunda ve 15m tepe çatısına sahip bir kayın ağacı saatte 1.5 kg oksijen üret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 hektar ladin ormanı yılda 32 ton, kayın ormanı 68 ton, çam ormanı 30-40 ton toz e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0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8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29600" cy="5943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71640" y="91116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manların koru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manlar, yalnız ait oldukları ülkeler bakımından değil aynı zamanda tüm insanlığın ve dünyanın geleceği açısından da büyük önem taşımakta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 önemlerine karşılık ormanl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- İnsanların yasadışı çeşitli müdahaleler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 Zaralı böcek ve mantarların yıkıcı etkiler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 Yangı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- Yıldırım, fırtına, heyelan, don, güneş yakmas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- Zirai mücadele ilaçlarının ve kimyasal gübrelerin bilinçsizce kullanılması, gibi etkilere karşı korunmak zoru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067280" y="5661000"/>
            <a:ext cx="2160360" cy="119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916360" y="5516640"/>
            <a:ext cx="1224000" cy="1341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2637000"/>
            <a:ext cx="4562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rmanların Korunm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rla açmak için ormanlar yakılmam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man alanlarına yapılaşma yapılmamal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Çayır ve meraların kapasitesine göre otlatma yapılm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ğayı kirleten, tahrip eden, ormanları kesen ve yakanlar uyarılm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0" y="5584680"/>
            <a:ext cx="2971800" cy="1273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6172200" y="4292640"/>
            <a:ext cx="29718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6500"/>
                            </p:stCondLst>
                            <p:childTnLst>
                              <p:par>
                                <p:cTn id="6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GÜRÜLTÜ KİRLİLİĞ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İnsanlar üzerinde olumsuz etki yapan ve hoşa gitmeyen seslere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 Unicode MS"/>
              </a:rPr>
              <a:t>gürült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en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üyük kentlerimizde gürültü yoğunlukları Dünya Sağlık Örgütünce belirlenen ölçülerin üzerind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şırı gürültü insan sağlığını olumsuz yönde etkilemek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643280" y="1601640"/>
            <a:ext cx="4176720" cy="5256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95280" y="260280"/>
            <a:ext cx="1297080" cy="1081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7164360" y="333360"/>
            <a:ext cx="1590840" cy="914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8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1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 Unicode MS"/>
              </a:rPr>
              <a:t>Gürültünün insan üzerindeki etkilerini 4’e ayırabiliriz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Fiziksel Etkileri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çici veya sürekli işitme bozukluklar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Fizyolojik Etkiler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basıncının artması, dolaşım bozuklukları, solunumda hızlanma, kalp atışlarında yavaşlama, ani refl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.Psikolojik Etkiler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ranış bozuklukları, aşırı sinirlilik ve s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4.Performans Etkiler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İş veriminin düşmesi, konsantrasyon bozukluğu, hareketlerin yavaşlamas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000"/>
                            </p:stCondLst>
                            <p:childTnLst>
                              <p:par>
                                <p:cTn id="6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8000"/>
                            </p:stCondLst>
                            <p:childTnLst>
                              <p:par>
                                <p:cTn id="6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55820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Gürültüyü Azaltmak İçin Alınabilecek Tedbirl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Hava alanlarının, endüstri ve sanayi bölgelerinin yerleşim bölgelerinden uzak yerlerde kurulmas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Arial Unicode MS"/>
              </a:rPr>
              <a:t>Motorlu taşıtların gereksiz korna çalmalarının önlenme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Kamuoyuna açık yerlerde ve evlerde müzik aletlerinin çevreyi rahatsız etmesinin önlenme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Arial Unicode MS"/>
              </a:rPr>
              <a:t>İşyerlerindeki gürültü seviyesinin en aza  indirilme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Yeni inşa edilen yapılara ses yalıtımı yapılmas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435640" y="83664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468360" y="907920"/>
            <a:ext cx="1523880" cy="1067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7848720" y="206064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8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40464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Çevre sorunlarının ortaya çıkması bitmez tükenmez gibi görünen doğal kaynakların bilinçsizce kullanılması ve insan kaynaklı etkenlerin doğanın dengelerini bozmasıyla başlamıştı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328464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buClr>
                <a:srgbClr val="bbe0e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Çevreye zarar verende,  çevreyi koruyan, geliştirende insan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72428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Ç</a:t>
            </a:r>
            <a:r>
              <a:rPr b="1" lang="tr-TR" sz="2800" spc="-1" strike="noStrike">
                <a:solidFill>
                  <a:srgbClr val="ff3300"/>
                </a:solidFill>
                <a:latin typeface="Arial"/>
              </a:rPr>
              <a:t>evre kirliliğinin sınır tanımaz özellikte oluşu da onu küresel bir sorun haline getirmiş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4247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 yüzyılın ortalarından bu yana dünyanın sanayileşmiş ülkelerinde kendini gösteren çevre sorunları, günümüzde küresel bir sorun haline gelmişt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50920" y="2060640"/>
            <a:ext cx="4753080" cy="3484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-53002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ÇEVRE  KİRLİLİĞ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34936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şama ortamında doğal dengeyi bozan gelişmeler ortaya çıkmakta, bu gibi sorunlara genel olar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Kirlen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y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Çevre Bozulmas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l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Çevre kirliliğ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ğanın temel fiziksel unsurları ola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opr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üzerinde zararlı etkilerin oluşması ile ortaya çıkar ve canlıların hayati faaliyetlerini olumsuz yönde etki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56360" y="620640"/>
            <a:ext cx="2519280" cy="23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84720" y="3500280"/>
            <a:ext cx="25401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H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va, insan ve canlıların yaşaması için  hayati öneme sahiptir. Yerküreyi saran gaz kütleye</a:t>
            </a:r>
            <a:r>
              <a:rPr b="0" lang="tr-TR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cc0099"/>
                </a:solidFill>
                <a:latin typeface="Arial"/>
              </a:rPr>
              <a:t>atmosfer</a:t>
            </a:r>
            <a:r>
              <a:rPr b="0" lang="tr-TR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080808"/>
                </a:solidFill>
                <a:latin typeface="Arial"/>
              </a:rPr>
              <a:t>denir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tmosferdeki hava tabakasının kalınlığı yaklaşık</a:t>
            </a:r>
            <a:r>
              <a:rPr b="0" lang="tr-TR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cc0099"/>
                </a:solidFill>
                <a:latin typeface="Arial"/>
              </a:rPr>
              <a:t>150</a:t>
            </a:r>
            <a:r>
              <a:rPr b="0" lang="tr-TR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m.dir. Bunun sadece</a:t>
            </a:r>
            <a:r>
              <a:rPr b="0" lang="tr-TR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cc0099"/>
                </a:solidFill>
                <a:latin typeface="Arial"/>
              </a:rPr>
              <a:t>5 km</a:t>
            </a:r>
            <a:r>
              <a:rPr b="0" lang="tr-TR" sz="3200" spc="-1" strike="noStrike">
                <a:solidFill>
                  <a:srgbClr val="1c1c1c"/>
                </a:solidFill>
                <a:latin typeface="Arial"/>
              </a:rPr>
              <a:t>’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i canlıların yaşamasına elverişlidir.</a:t>
            </a:r>
            <a:r>
              <a:rPr b="0" lang="tr-TR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16000" y="981000"/>
            <a:ext cx="6994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tmosfer, yerkürenin etrafında adeta düzenleyici ve koruyucu bir örtü şeklind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tmosfer tabakası;  azot (%78), oksijen (%21), karbondioksit ve asal gazlar (%1)dan meydana ge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7:33:32Z</dcterms:created>
  <dc:creator>n.aydin</dc:creator>
  <dc:description/>
  <dc:language>en-US</dc:language>
  <cp:lastModifiedBy>burtvin1608</cp:lastModifiedBy>
  <dcterms:modified xsi:type="dcterms:W3CDTF">2010-05-02T18:29:21Z</dcterms:modified>
  <cp:revision>82</cp:revision>
  <dc:subject/>
  <dc:title>Slayt 1</dc:title>
</cp:coreProperties>
</file>