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82F9-17B8-4389-A2DC-F7F917F4B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B715-C052-4877-8A56-E7E94158F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7246-DD67-4F37-9BA8-96CC76A6D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628B-831C-4AA3-B4AE-F988B36CB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FBD8-84E4-497E-A591-2D932A7A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60F1-CB6D-467E-9605-EBE588B67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00CB-8821-485B-BB0F-134D42334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7EA9-6260-4C13-B781-9700DE86D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3174-1C12-4649-99E9-CADD27952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ABA1-3334-441F-ABAC-6F3693DB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A338-9BAE-414B-AC7B-52C8B3F0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ACD6-A94F-4142-9DE8-EABCF26C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2A87C-E41B-455F-B930-874D57378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258,3,K&#304;&#350;&#304;SEL FAKT&#214;RLER" TargetMode="External"/><Relationship Id="rId3" Type="http://schemas.openxmlformats.org/officeDocument/2006/relationships/hyperlink" Target="259,4,&#199;EVRESEL FAKT&#214;RLER" TargetMode="External"/><Relationship Id="rId4" Type="http://schemas.openxmlformats.org/officeDocument/2006/relationships/hyperlink" Target="260,5,DO&#286;AL AFETLER" TargetMode="External"/><Relationship Id="rId5" Type="http://schemas.openxmlformats.org/officeDocument/2006/relationships/hyperlink" Target="261,6,Slayt 6" TargetMode="Externa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RUH SAĞLIĞINI ETKİLEYEN FAKTÖR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ff"/>
                </a:solidFill>
                <a:latin typeface="Arial"/>
              </a:rPr>
              <a:t>                                                                 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min Koç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                                                               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Burak 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Ruh Sağlığını Etkileyen Kişisel Faktör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Ruh Sağlığını Etkileyen Çevresel Faktör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Doğal Afetlerin İnsanların Ruh  Sağlığın Etkil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Karikatür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"/>
              </a:rPr>
              <a:t>KİŞİSEL FAKTÖR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ff"/>
                </a:solidFill>
                <a:latin typeface="Arial"/>
              </a:rPr>
              <a:t>Yaş ve Cinsiy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ff"/>
                </a:solidFill>
                <a:latin typeface="Arial"/>
              </a:rPr>
              <a:t>Alışkanlıkl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ff"/>
                </a:solidFill>
                <a:latin typeface="Arial"/>
              </a:rPr>
              <a:t>Mesl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ff"/>
                </a:solidFill>
                <a:latin typeface="Arial"/>
              </a:rPr>
              <a:t>Medeni Dur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ff"/>
                </a:solidFill>
                <a:latin typeface="Arial"/>
              </a:rPr>
              <a:t>Beden Sağlığ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604360" y="0"/>
            <a:ext cx="539640" cy="431640"/>
          </a:xfrm>
          <a:custGeom>
            <a:avLst/>
            <a:gdLst>
              <a:gd name="textAreaLeft" fmla="*/ 27720 w 539640"/>
              <a:gd name="textAreaRight" fmla="*/ 511920 w 539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13500" y="3837"/>
                </a:moveTo>
                <a:lnTo>
                  <a:pt x="16076" y="6448"/>
                </a:lnTo>
                <a:lnTo>
                  <a:pt x="16076" y="4707"/>
                </a:lnTo>
                <a:lnTo>
                  <a:pt x="17852" y="4707"/>
                </a:lnTo>
                <a:lnTo>
                  <a:pt x="17852" y="8224"/>
                </a:lnTo>
                <a:lnTo>
                  <a:pt x="20463" y="10800"/>
                </a:lnTo>
                <a:lnTo>
                  <a:pt x="18809" y="10800"/>
                </a:lnTo>
                <a:lnTo>
                  <a:pt x="18809" y="17989"/>
                </a:lnTo>
                <a:lnTo>
                  <a:pt x="8191" y="17989"/>
                </a:lnTo>
                <a:lnTo>
                  <a:pt x="8191" y="10800"/>
                </a:lnTo>
                <a:lnTo>
                  <a:pt x="6537" y="10800"/>
                </a:lnTo>
                <a:close/>
              </a:path>
              <a:path fill="darkenLess" w="27000" h="21600">
                <a:moveTo>
                  <a:pt x="16076" y="6448"/>
                </a:moveTo>
                <a:lnTo>
                  <a:pt x="16076" y="4707"/>
                </a:lnTo>
                <a:lnTo>
                  <a:pt x="17852" y="4707"/>
                </a:lnTo>
                <a:lnTo>
                  <a:pt x="17852" y="8224"/>
                </a:lnTo>
                <a:close/>
              </a:path>
              <a:path fill="darkenLess" w="27000" h="21600">
                <a:moveTo>
                  <a:pt x="12577" y="14299"/>
                </a:moveTo>
                <a:lnTo>
                  <a:pt x="14423" y="14299"/>
                </a:lnTo>
                <a:lnTo>
                  <a:pt x="14423" y="17989"/>
                </a:lnTo>
                <a:lnTo>
                  <a:pt x="18809" y="17989"/>
                </a:lnTo>
                <a:lnTo>
                  <a:pt x="18809" y="10800"/>
                </a:lnTo>
                <a:lnTo>
                  <a:pt x="8191" y="10800"/>
                </a:lnTo>
                <a:lnTo>
                  <a:pt x="8191" y="17989"/>
                </a:lnTo>
                <a:lnTo>
                  <a:pt x="125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ÇEVRESEL FAKTÖR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Times New Roman"/>
              </a:rPr>
              <a:t>Aile Duru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Times New Roman"/>
              </a:rPr>
              <a:t>Sosyal Du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Times New Roman"/>
              </a:rPr>
              <a:t>Kültürel Du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Times New Roman"/>
              </a:rPr>
              <a:t>Ekonomik Du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Times New Roman"/>
              </a:rPr>
              <a:t>Özel Zorlayıcı Durum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604360" y="0"/>
            <a:ext cx="539640" cy="431640"/>
          </a:xfrm>
          <a:custGeom>
            <a:avLst/>
            <a:gdLst>
              <a:gd name="textAreaLeft" fmla="*/ 27720 w 539640"/>
              <a:gd name="textAreaRight" fmla="*/ 511920 w 539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13500" y="3837"/>
                </a:moveTo>
                <a:lnTo>
                  <a:pt x="16076" y="6448"/>
                </a:lnTo>
                <a:lnTo>
                  <a:pt x="16076" y="4707"/>
                </a:lnTo>
                <a:lnTo>
                  <a:pt x="17852" y="4707"/>
                </a:lnTo>
                <a:lnTo>
                  <a:pt x="17852" y="8224"/>
                </a:lnTo>
                <a:lnTo>
                  <a:pt x="20463" y="10800"/>
                </a:lnTo>
                <a:lnTo>
                  <a:pt x="18809" y="10800"/>
                </a:lnTo>
                <a:lnTo>
                  <a:pt x="18809" y="17989"/>
                </a:lnTo>
                <a:lnTo>
                  <a:pt x="8191" y="17989"/>
                </a:lnTo>
                <a:lnTo>
                  <a:pt x="8191" y="10800"/>
                </a:lnTo>
                <a:lnTo>
                  <a:pt x="6537" y="10800"/>
                </a:lnTo>
                <a:close/>
              </a:path>
              <a:path fill="darkenLess" w="27000" h="21600">
                <a:moveTo>
                  <a:pt x="16076" y="6448"/>
                </a:moveTo>
                <a:lnTo>
                  <a:pt x="16076" y="4707"/>
                </a:lnTo>
                <a:lnTo>
                  <a:pt x="17852" y="4707"/>
                </a:lnTo>
                <a:lnTo>
                  <a:pt x="17852" y="8224"/>
                </a:lnTo>
                <a:close/>
              </a:path>
              <a:path fill="darkenLess" w="27000" h="21600">
                <a:moveTo>
                  <a:pt x="12577" y="14299"/>
                </a:moveTo>
                <a:lnTo>
                  <a:pt x="14423" y="14299"/>
                </a:lnTo>
                <a:lnTo>
                  <a:pt x="14423" y="17989"/>
                </a:lnTo>
                <a:lnTo>
                  <a:pt x="18809" y="17989"/>
                </a:lnTo>
                <a:lnTo>
                  <a:pt x="18809" y="10800"/>
                </a:lnTo>
                <a:lnTo>
                  <a:pt x="8191" y="10800"/>
                </a:lnTo>
                <a:lnTo>
                  <a:pt x="8191" y="17989"/>
                </a:lnTo>
                <a:lnTo>
                  <a:pt x="125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"/>
              </a:rPr>
              <a:t>DOĞAL AFET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604360" y="0"/>
            <a:ext cx="539640" cy="431640"/>
          </a:xfrm>
          <a:custGeom>
            <a:avLst/>
            <a:gdLst>
              <a:gd name="textAreaLeft" fmla="*/ 27720 w 539640"/>
              <a:gd name="textAreaRight" fmla="*/ 511920 w 539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13500" y="3837"/>
                </a:moveTo>
                <a:lnTo>
                  <a:pt x="16076" y="6448"/>
                </a:lnTo>
                <a:lnTo>
                  <a:pt x="16076" y="4707"/>
                </a:lnTo>
                <a:lnTo>
                  <a:pt x="17852" y="4707"/>
                </a:lnTo>
                <a:lnTo>
                  <a:pt x="17852" y="8224"/>
                </a:lnTo>
                <a:lnTo>
                  <a:pt x="20463" y="10800"/>
                </a:lnTo>
                <a:lnTo>
                  <a:pt x="18809" y="10800"/>
                </a:lnTo>
                <a:lnTo>
                  <a:pt x="18809" y="17989"/>
                </a:lnTo>
                <a:lnTo>
                  <a:pt x="8191" y="17989"/>
                </a:lnTo>
                <a:lnTo>
                  <a:pt x="8191" y="10800"/>
                </a:lnTo>
                <a:lnTo>
                  <a:pt x="6537" y="10800"/>
                </a:lnTo>
                <a:close/>
              </a:path>
              <a:path fill="darkenLess" w="27000" h="21600">
                <a:moveTo>
                  <a:pt x="16076" y="6448"/>
                </a:moveTo>
                <a:lnTo>
                  <a:pt x="16076" y="4707"/>
                </a:lnTo>
                <a:lnTo>
                  <a:pt x="17852" y="4707"/>
                </a:lnTo>
                <a:lnTo>
                  <a:pt x="17852" y="8224"/>
                </a:lnTo>
                <a:close/>
              </a:path>
              <a:path fill="darkenLess" w="27000" h="21600">
                <a:moveTo>
                  <a:pt x="12577" y="14299"/>
                </a:moveTo>
                <a:lnTo>
                  <a:pt x="14423" y="14299"/>
                </a:lnTo>
                <a:lnTo>
                  <a:pt x="14423" y="17989"/>
                </a:lnTo>
                <a:lnTo>
                  <a:pt x="18809" y="17989"/>
                </a:lnTo>
                <a:lnTo>
                  <a:pt x="18809" y="10800"/>
                </a:lnTo>
                <a:lnTo>
                  <a:pt x="8191" y="10800"/>
                </a:lnTo>
                <a:lnTo>
                  <a:pt x="8191" y="17989"/>
                </a:lnTo>
                <a:lnTo>
                  <a:pt x="125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3T20:45:01Z</dcterms:created>
  <dc:creator>Yurt</dc:creator>
  <dc:description/>
  <dc:language>en-US</dc:language>
  <cp:lastModifiedBy>Yurt</cp:lastModifiedBy>
  <dcterms:modified xsi:type="dcterms:W3CDTF">2010-01-13T21:38:10Z</dcterms:modified>
  <cp:revision>2</cp:revision>
  <dc:subject/>
  <dc:title>RUH SAĞLIĞINI ETKİLEYEN FAKTÖRLER</dc:title>
</cp:coreProperties>
</file>