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wmf" ContentType="image/x-wmf"/>
  <Override PartName="/ppt/media/image11.jpeg" ContentType="image/jpeg"/>
  <Override PartName="/ppt/media/image9.jpeg" ContentType="image/jpeg"/>
  <Override PartName="/ppt/media/image13.wmf" ContentType="image/x-wmf"/>
  <Override PartName="/ppt/media/image2.gif" ContentType="image/gif"/>
  <Override PartName="/ppt/media/image8.wmf" ContentType="image/x-wmf"/>
  <Override PartName="/ppt/media/image7.gif" ContentType="image/gif"/>
  <Override PartName="/ppt/media/image18.wmf" ContentType="image/x-wmf"/>
  <Override PartName="/ppt/media/image21.gif" ContentType="image/gif"/>
  <Override PartName="/ppt/media/image20.png" ContentType="image/png"/>
  <Override PartName="/ppt/media/image19.wmf" ContentType="image/x-wmf"/>
  <Override PartName="/ppt/media/image1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5.wmf" ContentType="image/x-wmf"/>
  <Override PartName="/ppt/media/image10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E75-70F2-4BC7-9F18-436C09A0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44B2-ED43-45DF-B69F-3E0C3060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8432-4380-490B-9FD1-36A46FF4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D370-3F64-4B84-8EDC-B6C6467A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2659-CF1B-43D7-A843-849A8E55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0082-36C9-4ACF-B509-5F6FE1D4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5E61-8083-4961-8AF2-8975C084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8600-FA2E-471B-ADA7-8A90BFC6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2B76-D7AD-4215-8514-C97CA7C7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5D36-C41B-4F91-9DF5-8913E321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FF4D-2D54-410D-AC3C-8767C4FB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F8D-6D19-41FA-B01F-CD446C09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04B2-AFE1-4D7A-AE95-86C5E8D1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50F2-6091-42CB-BE5D-AB24BB03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9E43-FE9E-40F7-BA70-2C45FF71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0040-D09A-4F30-96CD-CCCC45A0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75D2-1033-497C-BB73-9ADC8252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822E-0AB4-410E-9011-933B5868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1441-6259-4DEF-B0C4-A8FBD829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3D3B-7AC0-4170-9E39-529091E1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0421-FA7A-4440-8748-D07150C1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7A1-C355-440E-9C48-C4799652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A918-A1E9-4152-BEC5-90A6347F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FB35-2D9B-4468-91F5-E3C3383B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79FA-28C8-4D53-AE89-B6916B6C54A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35D7-5F49-48DC-9306-BF1021C187E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14400" y="1905120"/>
            <a:ext cx="7543800" cy="23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Ruh Sağlığı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16200" y="1295280"/>
            <a:ext cx="7039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ırnak yiyen çocukların ailelerinin çoğund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ırnak yiyenlere rastlanı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SO01575_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715000" cy="390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990720"/>
            <a:ext cx="8362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ırnak Yeme Alışkanlığının Nedenleri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0" name="AG00316_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25146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3000" y="1371600"/>
            <a:ext cx="723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lışkanlık daha çok baskı altına alınmış heyecanların ilgilendiği durumlarla olup çocuk bunun arzu edilmeyen bir davranış ve alışkanlık olduğunu anlayınca kökleşmekte olduğu görülmektedi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1371600"/>
            <a:ext cx="723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ırnak yeme bir güvensizlik belirtisi olarak kabul edilir.Aile içinde aşırı baskılı ve otoriter bir eğitimin uygulanması,çocuğun sürekli azarlanarak eleştirilmesi, kıskançlık,yeterli ilgi ve sevgi görmeme sıkıntı ve gerginlik başlıca nedenlerdi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1371600"/>
            <a:ext cx="723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ne ve babanın yaşantısı da önemli bir etkendir.Anne baba geçimsizlikleri anne babanın sık sık kavga etmesi ailedeki sorunlar çocuklarda tırnak yeme gibi davranışlara neden olu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1371600"/>
            <a:ext cx="723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Çocuğu tedirgin eden herhangi bir olay veya çevrede onun için hoşnutsuzluk yaratacak herhangi bir durum bu davranışı göstermesine yol aça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990720"/>
            <a:ext cx="8362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edavi ve Alınabilecek Önlemler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6" name="BD20114_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665680" cy="38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13716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n etkili yöntem 3-4 yaşlarına kadar bu alışkanlığın görmezlikten gelinmesidi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13716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Çocuğun gerginlik ve uyumsuzluk nedenleri iyice araştırılmalı ve bunlar saptanarak çözüm getirilmeli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43000" y="1371600"/>
            <a:ext cx="723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Çocuğu azarlamak, korkutmak, ceza vermek gibi zorlayıcı yöntemlerin uygulanması yararlı olmamaktadır. Hatta kimi zaman daha ağır duygusal problemlerin çıkmasına neden olabili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09480" y="2133720"/>
            <a:ext cx="8305920" cy="148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eminerimize Hoşgeldiniz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1324080"/>
            <a:ext cx="723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Çocukların korku kaygı yaratacak durumlardan uzak tutmak gerekir.Küçük çocukların kaygı korku verici televizyon filmlerini izlemeleri, kavgalı olaylarda bulunmaları çocuğu heyecanlandıracağı için sakıncalıdı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3000" y="1371600"/>
            <a:ext cx="723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ırnak yiyen çocuklara geceleri yatarken eski hafif eldivenleri giydirmek.Çocuk gece tırnaklarını yemek veya ısırmak istediğinde hatırlatıcı olması bakımından yararlı olabilir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1371600"/>
            <a:ext cx="723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armak ve tırnağa acı fakat zararsız bir sıvı sürülebilir.Bu hem hatırlatıcı ve hem de tırnağını ağzına götürdüğü zaman acı ile birleştiğinde acı ile terk etmeye yardımcı olabili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1371600"/>
            <a:ext cx="7238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1371600"/>
            <a:ext cx="723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Çocukların ilgisi başka yöne çekilebilir.Sinema,televizyon izlerken veya radyo dinlerken onun ağzını çiğneyecek bir şeyle meşgul etmek tırnak yemenin ve ısırmanın yerine gelecek bir etkinlik olabil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1371600"/>
            <a:ext cx="723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Çocukları ara sıra başarılarından dolayı ödüllendirme bazı durumlarda yarar sağlayabilir.Ancak bunun kısıtlı ve uygun şekilde kullanılması gerekir.Aksi taktirde çocuklar bunu yeni ödüller almak için kullanabilir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13716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ırnak derin kesilebili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13716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Çocuğu kendi tırnak bakımıyla uğraşması da yararlı olabilir.Bunu içinde çocuğa manikür ve pedikür malzemeleri alınabili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1371600"/>
            <a:ext cx="723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ırnak yemenin ve ısırmanın çok kötü bir alışkanlık olmadığı ve bunu isteyenlerin kolaylıkla terk edebilecekler çocuklara anlatılmalıdı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L OLARAK DAVRANIŞ BOZUKLUKLARININ NEDENLERİ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kkat Çekm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İntikam Alma İsteğ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etersizli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VRANIŞ BOZUKLUĞU OLAN ÇOCUKLARLA OLUMLU İLİŞKİ NASIL KURULUR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arşılıklı Saygı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Çocuğa zaman ayır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esaretlendir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giyi Anlat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90720" y="2057400"/>
            <a:ext cx="7543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Onur AKÇ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Harun TEKA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Zeki KAVLA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Ayşenur ÖZBE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Mehmet Akif ÇAKMA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914400"/>
            <a:ext cx="7162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Semineri Hazırlayanlar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Times New Roman"/>
              </a:rPr>
              <a:t>KRİZ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3300"/>
                </a:solidFill>
                <a:latin typeface="Trebuchet MS"/>
              </a:rPr>
              <a:t>KRİZ BÜTÜN İNSANLARIN EKONOMİSİNİ ETKİLEMİŞTİR VE BÖYLECE İNSANLARIN RUH SAĞLIKLARI BOZULMAKTADIR.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PE01605_" descr=""/>
          <p:cNvPicPr/>
          <p:nvPr/>
        </p:nvPicPr>
        <p:blipFill>
          <a:blip r:embed="rId2"/>
          <a:stretch/>
        </p:blipFill>
        <p:spPr>
          <a:xfrm>
            <a:off x="4648320" y="2808360"/>
            <a:ext cx="380988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ff"/>
                </a:solidFill>
                <a:latin typeface="Times New Roman"/>
              </a:rPr>
              <a:t>GÖMLEĞİN İLK DÜĞMESİ YANLIŞ İLİKLENİRSE,ÖBÜRLERİ DE YANLIŞ GİDER.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3300"/>
                </a:solidFill>
                <a:latin typeface="Book Antiqua"/>
              </a:rPr>
              <a:t>BAŞARIYI ELDE EDENLER HER ZAMAN SABIRLA ÇALIŞANLAR ARASINDAN ÇIKMIŞTIR.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238d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4400" spc="-1" strike="noStrike">
                <a:solidFill>
                  <a:srgbClr val="3333ff"/>
                </a:solidFill>
                <a:latin typeface="Comic Sans MS"/>
              </a:rPr>
              <a:t>EN UZUN ÖMÜRLÜLER EN ÇOK YAŞAYANLAR DEĞİL, EVİRİP ÇEVİRİP HAYATLARINDAN EN ÇOK MEYVE ALMASINI BİLENLERDİR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38088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ek bir başarı vardır. O da istediğiniz şekilde yaşamaktır.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15238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Christopher Morl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43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Kişiler tembel değildir. Sadece,kendilerine esin kaynağı oluşturacak kadar, güçlü amaçları yoktur.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358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Anthony Robbi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4876920"/>
            <a:ext cx="769608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tr-TR" sz="3200" spc="-1" strike="noStrike">
                <a:solidFill>
                  <a:srgbClr val="ff0000"/>
                </a:solidFill>
                <a:latin typeface="Times New Roman"/>
              </a:rPr>
              <a:t>Zafer ilk adımla başlar.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0000"/>
                </a:solidFill>
                <a:latin typeface="Times New Roman"/>
              </a:rPr>
              <a:t>                                 </a:t>
            </a:r>
            <a:r>
              <a:rPr b="1" i="1" lang="tr-TR" sz="2000" spc="-1" strike="noStrike">
                <a:solidFill>
                  <a:srgbClr val="ff0000"/>
                </a:solidFill>
                <a:latin typeface="Times New Roman"/>
              </a:rPr>
              <a:t>Anoni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7029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38088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İRENÇLE BAŞA ÇIKMANIN VE PROBLEMLERİ ÇÖZMENİN YOLLARI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3048120"/>
            <a:ext cx="777240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a40052"/>
                </a:solidFill>
                <a:latin typeface="Times New Roman"/>
              </a:rPr>
              <a:t>“</a:t>
            </a:r>
            <a:r>
              <a:rPr b="1" i="1" lang="tr-TR" sz="4400" spc="-1" strike="noStrike">
                <a:solidFill>
                  <a:srgbClr val="a40052"/>
                </a:solidFill>
                <a:latin typeface="Times New Roman"/>
              </a:rPr>
              <a:t>Dünyanın gidişi hariç, her türlü akıntıya karşı dura bilirsiniz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400" spc="-1" strike="noStrike">
                <a:solidFill>
                  <a:srgbClr val="ffffcc"/>
                </a:solidFill>
                <a:latin typeface="Times New Roman"/>
              </a:rPr>
              <a:t>                              </a:t>
            </a:r>
            <a:r>
              <a:rPr b="1" i="1" lang="tr-TR" sz="3200" spc="-1" strike="noStrike">
                <a:solidFill>
                  <a:srgbClr val="ff6600"/>
                </a:solidFill>
                <a:latin typeface="Times New Roman"/>
              </a:rPr>
              <a:t>japon atasöz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-74520"/>
            <a:ext cx="9144000" cy="693396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1371600" y="762120"/>
            <a:ext cx="685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002b"/>
                </a:solidFill>
                <a:latin typeface="Times New Roman"/>
              </a:rPr>
              <a:t>YENİDEN ÇERÇEVELEME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002b"/>
                </a:solidFill>
                <a:latin typeface="Times New Roman"/>
              </a:rPr>
              <a:t>PERSPEKTİFİN GÜCÜ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312408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40052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a40052"/>
                </a:solidFill>
                <a:latin typeface="Times New Roman"/>
              </a:rPr>
              <a:t>Yaşam durağan değildir. Zihinlerini değiştiremeyenler; düşkünler evindeki zavallılarla, mezarlıktakilerdir.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55627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40052"/>
                </a:solidFill>
                <a:latin typeface="Times New Roman"/>
              </a:rPr>
              <a:t>EVERETT  DİRKS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867280" y="2921040"/>
            <a:ext cx="2982960" cy="3936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209680" cy="1981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3520" y="60948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6002b"/>
                </a:solidFill>
                <a:latin typeface="Times New Roman"/>
              </a:rPr>
              <a:t>BAŞARIYI ÇAĞRIŞTIRMA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371600" y="2438280"/>
            <a:ext cx="3473280" cy="34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50000">
              <a:srgbClr val="56002b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6094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eğer Nedir ? Değerler , neyin önemli olduğunu gösteren bize özgü , kişisel inançlarımızdır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236232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eğerlerimiz , gideceğimiz yönü belirleyen pusulalarımızdır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98480" y="3809880"/>
            <a:ext cx="2022480" cy="2238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2806560" cy="3247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876920" y="4038480"/>
            <a:ext cx="331128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1600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VGİ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43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ĞLE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819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STE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ARATICILI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657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ÇEKİCİLİ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038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ÖZGÜRLÜ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438280" y="1447920"/>
            <a:ext cx="3452760" cy="3458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2057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ARŞILIKLI İLETİŞİ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1600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ÇOŞKUNLU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1981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AYG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2362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LGUNLU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2819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ÜCADE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3276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ÜZELLİ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3657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HSAL BÜTÜNLÜ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ÜRÜSTLÜ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52280" y="2057400"/>
          <a:ext cx="88394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57400"/>
                    <a:ext cx="8839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56002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ĞER DAHA İYİYE GİDEN BİR YOL VARSA BU EN KÖTÜYE EKSİKSİZ BİR BAKIŞI GEREKTİRİR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E KADAR BİLİRSEN BİL; SÖYLEDİKLERİN KARŞINDAKİNİN ANLADIĞI KADARDIR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                               MEVL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28600" y="914400"/>
            <a:ext cx="84675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eminerimizi İzlediğiniz İçin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eşekkür Ederiz.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7" name="AG00373_" descr=""/>
          <p:cNvPicPr/>
          <p:nvPr/>
        </p:nvPicPr>
        <p:blipFill>
          <a:blip r:embed="rId1"/>
          <a:stretch/>
        </p:blipFill>
        <p:spPr>
          <a:xfrm>
            <a:off x="3124080" y="3352680"/>
            <a:ext cx="3353040" cy="32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209680" y="2286000"/>
            <a:ext cx="507708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ırnak Ye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371600"/>
            <a:ext cx="8362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ırnak Yeme Alışkanlığ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8" name="AG00317_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3829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5520" y="162576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Çoğunlukla 3-4 yaşından önce başlamaz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AG00315_" descr=""/>
          <p:cNvPicPr/>
          <p:nvPr/>
        </p:nvPicPr>
        <p:blipFill>
          <a:blip r:embed="rId1"/>
          <a:stretch/>
        </p:blipFill>
        <p:spPr>
          <a:xfrm>
            <a:off x="3124080" y="2438280"/>
            <a:ext cx="3324240" cy="375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3716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Çocukların %33’ünde tırnak yeme davranışı görülü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2362320"/>
          <a:ext cx="7543800" cy="50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543800" cy="50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13716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rgenlik çağında tırnak yiyen çocukların sayısı %40-45’e yükseli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14400" y="1371600"/>
          <a:ext cx="7543800" cy="503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5438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11:32:01Z</dcterms:created>
  <dc:creator>md</dc:creator>
  <dc:description/>
  <dc:language>en-US</dc:language>
  <cp:lastModifiedBy>Sukru Akkaya</cp:lastModifiedBy>
  <dcterms:modified xsi:type="dcterms:W3CDTF">2001-04-25T07:41:03Z</dcterms:modified>
  <cp:revision>13</cp:revision>
  <dc:subject/>
  <dc:title>PowerPoint Sunusu</dc:title>
</cp:coreProperties>
</file>