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wmf" ContentType="image/x-wmf"/>
  <Override PartName="/ppt/media/image11.jpeg" ContentType="image/jpeg"/>
  <Override PartName="/ppt/media/image9.jpeg" ContentType="image/jpeg"/>
  <Override PartName="/ppt/media/image13.wmf" ContentType="image/x-wmf"/>
  <Override PartName="/ppt/media/image2.gif" ContentType="image/gif"/>
  <Override PartName="/ppt/media/image8.wmf" ContentType="image/x-wmf"/>
  <Override PartName="/ppt/media/image7.gif" ContentType="image/gif"/>
  <Override PartName="/ppt/media/image18.wmf" ContentType="image/x-wmf"/>
  <Override PartName="/ppt/media/image21.gif" ContentType="image/gif"/>
  <Override PartName="/ppt/media/image20.png" ContentType="image/png"/>
  <Override PartName="/ppt/media/image19.wmf" ContentType="image/x-wmf"/>
  <Override PartName="/ppt/media/image1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5.wmf" ContentType="image/x-wmf"/>
  <Override PartName="/ppt/media/image10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166-188D-4032-B128-EFC060E5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27A-6686-45E3-B4FB-660F72D9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AED-6389-46CA-9066-CCC3D302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019-C05F-49CF-9709-184BB37B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D5D8-5C08-4319-B127-BC0773A0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20C8-CE5C-4B52-BAD4-A9106E74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A8CE-9E46-489C-B36E-28D0FD63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8BD7-D838-471E-801E-40AA04F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514F-4213-4DE9-822C-2AF55BB7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ED6D-C44D-479C-B98A-2898FD31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1C4C-BDD4-4A88-8765-33DA7A9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0E0-C734-4D40-9A22-D0169BFA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FC86-8401-4DF9-AAD7-E3427D00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56A9-D9FE-4522-B510-6A07B6D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9FE7-D89B-4F97-88FA-A599798E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CF90-6EB6-4571-BE76-7B5C12AE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B01E-CBF2-4561-A260-D48DEEAC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922-8970-4F13-B5B1-D5DBC00E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8D7-8E5D-4E57-BB39-F0CDB3B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B73-BF48-481C-8290-D17105D0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1A6-ACD6-441F-8122-2FC9AEBC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830-6472-4202-AE8C-92820896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3E4-6CB5-4BA4-81EB-672600A0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756-807F-4ED8-A6BC-191210AF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0A51-3B6A-426A-9A99-0E5FAE5A652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9D7-5C1A-4716-AEF0-0A8EECBAE08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14400" y="1905120"/>
            <a:ext cx="7543800" cy="23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uh Sağlığı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6200" y="1295280"/>
            <a:ext cx="703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iyen çocukların ailelerinin çoğun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iyenlere rastlanı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SO01575_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715000" cy="39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990720"/>
            <a:ext cx="8362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ırnak Yeme Alışkanlığının Nedenler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AG00316_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25146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ışkanlık daha çok baskı altına alınmış heyecanların ilgilendiği durumlarla olup çocuk bunun arzu edilmeyen bir davranış ve alışkanlık olduğunu anlayınca kökleşmekte olduğu görülmekted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137160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eme bir güvensizlik belirtisi olarak kabul edilir.Aile içinde aşırı baskılı ve otoriter bir eğitimin uygulanması,çocuğun sürekli azarlanarak eleştirilmesi, kıskançlık,yeterli ilgi ve sevgi görmeme sıkıntı ve gerginlik başlıca nedenlerd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ne ve babanın yaşantısı da önemli bir etkendir.Anne baba geçimsizlikleri anne babanın sık sık kavga etmesi ailedeki sorunlar çocuklarda tırnak yeme gibi davranışlara neden olu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137160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ğu tedirgin eden herhangi bir olay veya çevrede onun için hoşnutsuzluk yaratacak herhangi bir durum bu davranışı göstermesine yol aç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990720"/>
            <a:ext cx="8362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edavi ve Alınabilecek Önlemler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6" name="BD20114_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665680" cy="38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13716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 etkili yöntem 3-4 yaşlarına kadar bu alışkanlığın görmezlikten gelinmesid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1371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ğun gerginlik ve uyumsuzluk nedenleri iyice araştırılmalı ve bunlar saptanarak çözüm getirilmel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ğu azarlamak, korkutmak, ceza vermek gibi zorlayıcı yöntemlerin uygulanması yararlı olmamaktadır. Hatta kimi zaman daha ağır duygusal problemlerin çıkmasına neden olabi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2133720"/>
            <a:ext cx="830592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minerimize Hoşgeldiniz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132408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kların korku kaygı yaratacak durumlardan uzak tutmak gerekir.Küçük çocukların kaygı korku verici televizyon filmlerini izlemeleri, kavgalı olaylarda bulunmaları çocuğu heyecanlandıracağı için sakıncalıdı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137160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iyen çocuklara geceleri yatarken eski hafif eldivenleri giydirmek.Çocuk gece tırnaklarını yemek veya ısırmak istediğinde hatırlatıcı olması bakımından yararlı olabili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mak ve tırnağa acı fakat zararsız bir sıvı sürülebilir.Bu hem hatırlatıcı ve hem de tırnağını ağzına götürdüğü zaman acı ile birleştiğinde acı ile terk etmeye yardımcı olabi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137160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3716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kların ilgisi başka yöne çekilebilir.Sinema,televizyon izlerken veya radyo dinlerken onun ağzını çiğneyecek bir şeyle meşgul etmek tırnak yemenin ve ısırmanın yerine gelecek bir etkinlik olabil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137160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kları ara sıra başarılarından dolayı ödüllendirme bazı durumlarda yarar sağlayabilir.Ancak bunun kısıtlı ve uygun şekilde kullanılması gerekir.Aksi taktirde çocuklar bunu yeni ödüller almak için kullanabilir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1371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derin kesilebi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1371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ğu kendi tırnak bakımıyla uğraşması da yararlı olabilir.Bunu içinde çocuğa manikür ve pedikür malzemeleri alınabi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137160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ırnak yemenin ve ısırmanın çok kötü bir alışkanlık olmadığı ve bunu isteyenlerin kolaylıkla terk edebilecekler çocuklara anlatılmalıdı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L OLARAK DAVRANIŞ BOZUKLUKLARININ NEDENLERİ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kkat Çekm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İntikam Alma İsteğ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etersizli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VRANIŞ BOZUKLUĞU OLAN ÇOCUKLARLA OLUMLU İLİŞKİ NASIL KURULUR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rşılıklı Saygı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Çocuğa zaman ayır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saretlendir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giyi Anlat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205740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Onur AKÇ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Harun TEKA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Zeki KAVLA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Ayşenur ÖZBE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ffffcc"/>
                </a:solidFill>
                <a:latin typeface="Arial"/>
              </a:rPr>
              <a:t>Mehmet Akif ÇAKMA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914400"/>
            <a:ext cx="7162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Semineri Hazırlayanlar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KRİZ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Trebuchet MS"/>
              </a:rPr>
              <a:t>KRİZ BÜTÜN İNSANLARIN EKONOMİSİNİ ETKİLEMİŞTİR VE BÖYLECE İNSANLARIN RUH SAĞLIKLARI BOZULMAKTADIR.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E01605_" descr=""/>
          <p:cNvPicPr/>
          <p:nvPr/>
        </p:nvPicPr>
        <p:blipFill>
          <a:blip r:embed="rId2"/>
          <a:stretch/>
        </p:blipFill>
        <p:spPr>
          <a:xfrm>
            <a:off x="4648320" y="2808360"/>
            <a:ext cx="380988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ff"/>
                </a:solidFill>
                <a:latin typeface="Times New Roman"/>
              </a:rPr>
              <a:t>GÖMLEĞİN İLK DÜĞMESİ YANLIŞ İLİKLENİRSE,ÖBÜRLERİ DE YANLIŞ GİDER.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3300"/>
                </a:solidFill>
                <a:latin typeface="Book Antiqua"/>
              </a:rPr>
              <a:t>BAŞARIYI ELDE EDENLER HER ZAMAN SABIRLA ÇALIŞANLAR ARASINDAN ÇIKMIŞTIR.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238d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400" spc="-1" strike="noStrike">
                <a:solidFill>
                  <a:srgbClr val="3333ff"/>
                </a:solidFill>
                <a:latin typeface="Comic Sans MS"/>
              </a:rPr>
              <a:t>EN UZUN ÖMÜRLÜLER EN ÇOK YAŞAYANLAR DEĞİL, EVİRİP ÇEVİRİP HAYATLARINDAN EN ÇOK MEYVE ALMASINI BİLENLERDİR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38088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k bir başarı vardır. O da istediğiniz şekilde yaşamaktır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5238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Christopher Morl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işiler tembel değildir. Sadece,kendilerine esin kaynağı oluşturacak kadar, güçlü amaçları yoktur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358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Anthony Robbi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876920"/>
            <a:ext cx="769608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tr-TR" sz="3200" spc="-1" strike="noStrike">
                <a:solidFill>
                  <a:srgbClr val="ff0000"/>
                </a:solidFill>
                <a:latin typeface="Times New Roman"/>
              </a:rPr>
              <a:t>Zafer ilk adımla başlar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0000"/>
                </a:solidFill>
                <a:latin typeface="Times New Roman"/>
              </a:rPr>
              <a:t>                                 </a:t>
            </a:r>
            <a:r>
              <a:rPr b="1" i="1" lang="tr-TR" sz="2000" spc="-1" strike="noStrike">
                <a:solidFill>
                  <a:srgbClr val="ff0000"/>
                </a:solidFill>
                <a:latin typeface="Times New Roman"/>
              </a:rPr>
              <a:t>Anoni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7029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İRENÇLE BAŞA ÇIKMANIN VE PROBLEMLERİ ÇÖZMENİN YOLLARI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048120"/>
            <a:ext cx="77724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40052"/>
                </a:solidFill>
                <a:latin typeface="Times New Roman"/>
              </a:rPr>
              <a:t>“</a:t>
            </a:r>
            <a:r>
              <a:rPr b="1" i="1" lang="tr-TR" sz="4400" spc="-1" strike="noStrike">
                <a:solidFill>
                  <a:srgbClr val="a40052"/>
                </a:solidFill>
                <a:latin typeface="Times New Roman"/>
              </a:rPr>
              <a:t>Dünyanın gidişi hariç, her türlü akıntıya karşı dura bilirsiniz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ffcc"/>
                </a:solidFill>
                <a:latin typeface="Times New Roman"/>
              </a:rPr>
              <a:t>                              </a:t>
            </a:r>
            <a:r>
              <a:rPr b="1" i="1" lang="tr-TR" sz="3200" spc="-1" strike="noStrike">
                <a:solidFill>
                  <a:srgbClr val="ff6600"/>
                </a:solidFill>
                <a:latin typeface="Times New Roman"/>
              </a:rPr>
              <a:t>japon atasöz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-74520"/>
            <a:ext cx="9144000" cy="69339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371600" y="76212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002b"/>
                </a:solidFill>
                <a:latin typeface="Times New Roman"/>
              </a:rPr>
              <a:t>YENİDEN ÇERÇEVELEME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002b"/>
                </a:solidFill>
                <a:latin typeface="Times New Roman"/>
              </a:rPr>
              <a:t>PERSPEKTİFİN GÜCÜ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124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40052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a40052"/>
                </a:solidFill>
                <a:latin typeface="Times New Roman"/>
              </a:rPr>
              <a:t>Yaşam durağan değildir. Zihinlerini değiştiremeyenler; düşkünler evindeki zavallılarla, mezarlıktakilerdir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5562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40052"/>
                </a:solidFill>
                <a:latin typeface="Times New Roman"/>
              </a:rPr>
              <a:t>EVERETT  DİRKS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67280" y="2921040"/>
            <a:ext cx="2982960" cy="3936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520" y="6094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6002b"/>
                </a:solidFill>
                <a:latin typeface="Times New Roman"/>
              </a:rPr>
              <a:t>BAŞARIYI ÇAĞRIŞTIRMA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71600" y="2438280"/>
            <a:ext cx="347328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56002b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6094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eğer Nedir ? Değerler , neyin önemli olduğunu gösteren bize özgü , kişisel inançlarımızdır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362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eğerlerimiz , gideceğimiz yönü belirleyen pusulalarımızdır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98480" y="3809880"/>
            <a:ext cx="2022480" cy="2238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2806560" cy="3247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876920" y="4038480"/>
            <a:ext cx="331128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VG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ĞL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ST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ARATICILI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657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ÇEKİCİLİ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038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ÖZGÜRLÜ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438280" y="1447920"/>
            <a:ext cx="3452760" cy="345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057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ARŞILIKLI İLETİŞİ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1600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ÇOŞKUNLU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YG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LGUNLU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ÜCADE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3276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ÜZELLİ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HSAL BÜTÜNLÜ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ÜRÜSTLÜ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280" y="2057400"/>
          <a:ext cx="88394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7400"/>
                    <a:ext cx="8839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56002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ĞER DAHA İYİYE GİDEN BİR YOL VARSA BU EN KÖTÜYE EKSİKSİZ BİR BAKIŞI GEREKTİRİR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 KADAR BİLİRSEN BİL; SÖYLEDİKLERİN KARŞINDAKİNİN ANLADIĞI KADARDIR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                              MEVL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28600" y="914400"/>
            <a:ext cx="84675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eminerimizi İzlediğiniz İçi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şekkür Ederiz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AG00373_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335304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09680" y="2286000"/>
            <a:ext cx="507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ırnak Ye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371600"/>
            <a:ext cx="8362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ırnak Yeme Alışkanlığ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AG00317_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382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5520" y="16257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ğunlukla 3-4 yaşından önce başlamaz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AG00315_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3324240" cy="37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3716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Çocukların %33’ünde tırnak yeme davranışı görülü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2362320"/>
          <a:ext cx="7543800" cy="50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54380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13716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rgenlik çağında tırnak yiyen çocukların sayısı %40-45’e yükseli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37160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1:32:01Z</dcterms:created>
  <dc:creator>md</dc:creator>
  <dc:description/>
  <dc:language>en-US</dc:language>
  <cp:lastModifiedBy>Sukru Akkaya</cp:lastModifiedBy>
  <dcterms:modified xsi:type="dcterms:W3CDTF">2001-04-25T07:41:03Z</dcterms:modified>
  <cp:revision>13</cp:revision>
  <dc:subject/>
  <dc:title>PowerPoint Sunusu</dc:title>
</cp:coreProperties>
</file>