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9.wmf" ContentType="image/x-wmf"/>
  <Override PartName="/ppt/media/image20.wmf" ContentType="image/x-wmf"/>
  <Override PartName="/ppt/media/image3.png" ContentType="image/png"/>
  <Override PartName="/ppt/media/glass.wav" ContentType="audio/x-wav"/>
  <Override PartName="/ppt/media/image6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4.png" ContentType="image/png"/>
  <Override PartName="/ppt/media/image16.wmf" ContentType="image/x-wmf"/>
  <Override PartName="/ppt/media/carbrake.wav" ContentType="audio/x-wav"/>
  <Override PartName="/ppt/media/chimes.wav" ContentType="audio/x-wav"/>
  <Override PartName="/ppt/media/image7.wmf" ContentType="image/x-wmf"/>
  <Override PartName="/ppt/media/image8.wmf" ContentType="image/x-wmf"/>
  <Override PartName="/ppt/media/image22.gif" ContentType="image/gif"/>
  <Override PartName="/ppt/media/image2.png" ContentType="image/png"/>
  <Override PartName="/ppt/media/image10.wmf" ContentType="image/x-wmf"/>
  <Override PartName="/ppt/media/image9.jpeg" ContentType="image/jpeg"/>
  <Override PartName="/ppt/media/image1.jpeg" ContentType="image/jpeg"/>
  <Override PartName="/ppt/media/image15.wmf" ContentType="image/x-wmf"/>
  <Override PartName="/ppt/media/drumroll.wav" ContentType="audio/x-wav"/>
  <Override PartName="/ppt/media/camera.wav" ContentType="audio/x-wav"/>
  <Override PartName="/ppt/media/whoosh.wav" ContentType="audio/x-wav"/>
  <Override PartName="/ppt/media/image13.wmf" ContentType="image/x-wmf"/>
  <Override PartName="/ppt/media/image21.wmf" ContentType="image/x-wmf"/>
  <Override PartName="/ppt/media/type.wav" ContentType="audio/x-wav"/>
  <Override PartName="/ppt/media/image14.wmf" ContentType="image/x-wmf"/>
  <Override PartName="/ppt/media/image11.wmf" ContentType="image/x-wmf"/>
  <Override PartName="/ppt/media/explode.wav" ContentType="audio/x-wav"/>
  <Override PartName="/ppt/media/image17.wmf" ContentType="image/x-wmf"/>
  <Override PartName="/ppt/media/image1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6315-0D0B-4FE2-8D0C-E44D086F5316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Sınav Kaygısı İle İlgili Bilinmesi Gerekenler Yazısından Gevşeme Tekniklerinin Seminer sırasında Uygulanması Uygun Olacaktı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1DEF-2ED9-4EE7-A530-655606E826DF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C50-C4F3-45CC-9736-B3CF6F05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A8C-D0BD-4797-988E-359A00F8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BD4-90D6-4C27-B076-F7513294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13D-A05D-481C-A21B-9E68615B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98A7-3B52-4094-90C5-9AC9470E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2833-8144-4EBC-9A9A-DF03E73E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7774-DE00-43BD-B0B7-51878572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6E5A-E1B8-4350-97FB-4EFB3607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CDF1-E2B0-4848-B0B7-8527D08B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BD2F-E82C-4BE7-A46F-720F325C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3BD0-4BBD-44B7-AAC2-F8D45500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EF5-05DB-4FEC-B9C2-B9169F0F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6643-C085-4113-BA70-7BAA2323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8994-3C26-40C1-AF96-CEA57FA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0779-1FD2-4120-9000-4E314E1F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0146-0922-4B20-90E1-689C0098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0BF0-39E2-4543-A882-5E67BC7A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73022-52EC-4CBC-9A3C-1145B3E9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1CFA-E3FC-4778-B0BA-E337C5D5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B26A-A6B0-4D0D-987A-B4FE4AEB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1295-7E75-4D47-A86F-19DE436C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59D8-B244-4D3E-AEDF-059313C0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757-5BFC-40A5-9EEA-5DB742FC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6C459-6733-49D4-BBBB-2BBFA838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EC06B-4D67-4D73-B33B-D2ADFA83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D97C-4972-4E9F-AFD9-839B177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0D9EA-29BE-424A-A9C1-9C564AFD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AA7E-5F7D-4837-8667-0FC57C36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BF6B-8AEE-4271-A9F5-CF8F1B00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28D4-FEE7-4591-BA90-4257E3AB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1E161-9957-4A5F-8294-A7CB9C98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0F3F1-4409-4458-87AE-AF6CDD5C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0CD6-0EA4-4073-AE9C-C1CB5AAD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08B-F07C-4523-839A-10811F4C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D9C5F-B83C-4682-AC5A-810B3E25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A91AC-E1E9-4675-AB2C-3ABFD533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2452-910B-42A7-B927-2C9D581E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AAF17-0F68-4149-8282-1FAEB124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95F41-9E6A-4263-AAA6-7D73D851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0EC9A-9142-468E-AE9D-A73CB226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FAA0E-1492-443D-93C7-F2938B1F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74570-D842-42CE-889D-79FBEE9F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D3E6D-9408-4C9A-97E1-43E66F17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9E8A8-4474-4EED-A107-2E2F4E21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9E4-DC4E-4DFF-BB65-FAEBF8CA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C4C59-E1AD-43C0-A844-BF127E1F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E80AD-D55C-42AB-B78B-90CD7803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AD20-EEF7-4A69-96C5-5155CE82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B05D0-2F90-4649-9C33-62E22FB6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A204F-8745-49E4-896F-5518243B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CCEF7-F4D6-4278-909B-7C83B798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ABE04-41E6-49C8-ABB2-3F4B90CD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29362-2602-4173-922B-756F960C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3578A-DC7F-4B60-957E-1BA2D5BE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3544B-4D2C-49FE-A3B3-7A3AA3CF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978-7501-4B16-A770-C6DDB22B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5F029-FAEE-4CD4-BFB1-4688CF6F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73DBD-2AA1-4C6B-9A26-8F9181E2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658D3-1FBD-4F1D-ABF2-FD4B12BD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15381-CDD8-490A-8E80-D551B84A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4196A-1FCA-4830-95B2-92FF9686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801A7-1DC6-47D2-A77F-F1A6BB13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575B4-3D28-436C-837E-A84158BD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007A6-1042-44A5-812B-D22FB9BA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1D992-3E61-4D5F-9A41-C5E7D755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D62E5-D9F3-44BE-8905-7F9A70E5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080-25D8-4916-9098-28450668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C9123-E824-4AFE-88B7-3C913E15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F61AD-F4B6-40DA-8917-1AF02B4B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FF69B-99E5-4E1D-B8E1-2A439B22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4CD9C-F41B-4FF6-A269-DC39CDF6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647A1-F4F9-46C4-998A-851EF9DF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69D7-AFCA-4C8C-899F-7ED40BE8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850C5-B6C1-447F-B64A-549C0900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D54ED-512E-43A2-BD81-453BBD7E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87B5F-6499-41F5-B4B4-D9F95FA1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043F7-2400-4008-A3DF-1EC03B27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E7D-3CC7-4D61-9510-421CFF90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1A861-57B5-40B9-BE9B-C180706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F7969-E9A7-46CB-971C-C8A23DDE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7843D-A385-4796-8F16-7F460DFC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BE1B2-519D-4466-8F3B-C694BD18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20577-04B5-46C3-8E84-E501ABE4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C84-EB60-4A77-88D7-AA05E02D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Pasta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Oval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10 Halka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Halka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11 Dikdörtgen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36EF-092C-4F90-931C-AE24F5A4AEF7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Dikdörtgen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Pasta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7 Oval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10 Halka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Halka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11 Dikdörtgen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14 Dikdörtgen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12 Oval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Oval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13 Oval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6A63-BD5D-4A92-AF83-C709F1624C78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Dikdörtgen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3 Dikdörtgen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5 Oval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Oval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16 Oval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20D4-743D-4ED7-AAEE-1476D7AA800A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65E2-2C98-4DD6-9C15-5D3CC08072F7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Dikdörtgen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3 Dikdörtgen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EAE5-E6B8-4929-A608-87BFE50F3A3D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47DC-9653-4B19-A8CA-87438BBD9F96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Dikdörtgen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Dikdörtgen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13 Akış Çizelgesi: İşlem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5 Akış Çizelgesi: İşlem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DEBB-31FC-49BA-862A-35E163367752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367668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7" descr="an02046_"/>
          <p:cNvPicPr/>
          <p:nvPr/>
        </p:nvPicPr>
        <p:blipFill>
          <a:blip r:embed="rId1"/>
          <a:stretch/>
        </p:blipFill>
        <p:spPr>
          <a:xfrm>
            <a:off x="3132000" y="1557360"/>
            <a:ext cx="3065760" cy="3166920"/>
          </a:xfrm>
          <a:prstGeom prst="rect">
            <a:avLst/>
          </a:prstGeom>
          <a:ln w="0">
            <a:noFill/>
          </a:ln>
        </p:spPr>
      </p:pic>
      <p:sp>
        <p:nvSpPr>
          <p:cNvPr id="327" name="5 Dikdörtgen"/>
          <p:cNvSpPr/>
          <p:nvPr/>
        </p:nvSpPr>
        <p:spPr>
          <a:xfrm>
            <a:off x="719280" y="0"/>
            <a:ext cx="8389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1" lang="tr-TR" sz="5000" spc="-1" strike="noStrike">
                <a:solidFill>
                  <a:srgbClr val="ff0000"/>
                </a:solidFill>
                <a:latin typeface="Calibri"/>
                <a:ea typeface="Calibri"/>
              </a:rPr>
              <a:t>SINAV KAYGISI VE BAŞA ÇIKMA  YOLLARI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5 Dikdörtgen"/>
          <p:cNvSpPr/>
          <p:nvPr/>
        </p:nvSpPr>
        <p:spPr>
          <a:xfrm>
            <a:off x="0" y="4903920"/>
            <a:ext cx="9072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1" lang="tr-TR" sz="4000" spc="-1" strike="noStrike">
                <a:solidFill>
                  <a:srgbClr val="ff0000"/>
                </a:solidFill>
                <a:latin typeface="Calibri"/>
                <a:ea typeface="Calibri"/>
              </a:rPr>
              <a:t>REHBER ÖĞRET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Calibri"/>
                <a:ea typeface="Calibri"/>
              </a:rPr>
              <a:t>HÜLYA KAR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5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E5EE-FFB6-4CA8-A6BC-29CAB0DCA81E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57200" y="49968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3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ınavdan Önce</a:t>
            </a:r>
            <a:r>
              <a:rPr b="0" lang="tr-TR" sz="4300" spc="-1" strike="noStrike">
                <a:solidFill>
                  <a:srgbClr val="ff0000"/>
                </a:solidFill>
                <a:latin typeface="Comic Sans MS"/>
              </a:rPr>
              <a:t>;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99720" y="142848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바탕"/>
              </a:rPr>
              <a:t>ınava 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tam 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바탕"/>
              </a:rPr>
              <a:t>çalışmış olarak girin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바탕"/>
              </a:rPr>
              <a:t>Spor yapın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바탕"/>
              </a:rPr>
              <a:t>Sınavdan önceki gece iyi uyuyun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바탕"/>
              </a:rPr>
              <a:t>Aç karnına sınava girmeyi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ınava acele içinde girmeyin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rken gidin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바탕"/>
              </a:rPr>
              <a:t>Son ana kadar asla ders çalışmayın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바탕"/>
              </a:rPr>
              <a:t>Sınavdan hemen önce gevşemeye çalışın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Zihninizde geçmişteki başarısızlıkları değil başarılarınızı vurgulayı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Sınava kendinize güvenerek girin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an00106_"/>
          <p:cNvPicPr/>
          <p:nvPr/>
        </p:nvPicPr>
        <p:blipFill>
          <a:blip r:embed="rId1"/>
          <a:stretch/>
        </p:blipFill>
        <p:spPr>
          <a:xfrm>
            <a:off x="7086600" y="155736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360" name="4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F498-FB86-47CE-9D96-5A9793FF74D2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ınav S</a:t>
            </a:r>
            <a:r>
              <a:rPr b="0" lang="tr-TR" sz="3600" spc="-1" strike="noStrike">
                <a:solidFill>
                  <a:srgbClr val="ff0000"/>
                </a:solidFill>
                <a:latin typeface="Comic Sans MS"/>
              </a:rPr>
              <a:t>üresince;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26560" y="105264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Sınav için olumlu düşünü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amanı nasıl kullanacağınıza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 soruları hangi sırayla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vaplayacağınıza karar verin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바탕"/>
              </a:rPr>
              <a:t>Soruları 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ve yönergeleri 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바탕"/>
              </a:rPr>
              <a:t>dikkatlice okuyun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çıklama isteyin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바탕"/>
              </a:rPr>
              <a:t>Zaman zaman duruşunuzu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바탕"/>
              </a:rPr>
              <a:t>değiştirin, bu sizi rahatlatacaktır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바탕"/>
              </a:rPr>
              <a:t>Sınıf arkadaşlarınız sınavlarını erkenden bitir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diğinde 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바탕"/>
              </a:rPr>
              <a:t>panik olmayı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tr-TR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ınav başarısı ile kişilik değerinizi bir tutmayı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4" descr="bd05032_"/>
          <p:cNvPicPr/>
          <p:nvPr/>
        </p:nvPicPr>
        <p:blipFill>
          <a:blip r:embed="rId1"/>
          <a:stretch/>
        </p:blipFill>
        <p:spPr>
          <a:xfrm>
            <a:off x="7143840" y="714240"/>
            <a:ext cx="2000160" cy="1941480"/>
          </a:xfrm>
          <a:prstGeom prst="rect">
            <a:avLst/>
          </a:prstGeom>
          <a:ln w="0">
            <a:noFill/>
          </a:ln>
        </p:spPr>
      </p:pic>
      <p:sp>
        <p:nvSpPr>
          <p:cNvPr id="364" name="4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84A2-310D-469A-91ED-AE51D448F06C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8596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0000"/>
                </a:solidFill>
                <a:latin typeface="Comic Sans MS"/>
              </a:rPr>
              <a:t>Kaygı İle Başa Çıkma Yolları</a:t>
            </a:r>
            <a:endParaRPr b="0" lang="en-US" sz="3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1-  Zihinsel Uygulamal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2- Bedensel Uygulamal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Picture 1028" descr="bd06529_"/>
          <p:cNvPicPr/>
          <p:nvPr/>
        </p:nvPicPr>
        <p:blipFill>
          <a:blip r:embed="rId1"/>
          <a:stretch/>
        </p:blipFill>
        <p:spPr>
          <a:xfrm>
            <a:off x="1143000" y="3000240"/>
            <a:ext cx="3048120" cy="2071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29" descr="bd07031_"/>
          <p:cNvPicPr/>
          <p:nvPr/>
        </p:nvPicPr>
        <p:blipFill>
          <a:blip r:embed="rId2"/>
          <a:stretch/>
        </p:blipFill>
        <p:spPr>
          <a:xfrm>
            <a:off x="6643800" y="1714680"/>
            <a:ext cx="1500120" cy="1981080"/>
          </a:xfrm>
          <a:prstGeom prst="rect">
            <a:avLst/>
          </a:prstGeom>
          <a:ln w="0">
            <a:noFill/>
          </a:ln>
        </p:spPr>
      </p:pic>
      <p:sp>
        <p:nvSpPr>
          <p:cNvPr id="369" name="5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F7BD-C3FB-473D-AEAA-5750BE99C869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00120" y="571680"/>
            <a:ext cx="5486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300" spc="-1" strike="noStrike">
                <a:solidFill>
                  <a:srgbClr val="ff0000"/>
                </a:solidFill>
                <a:latin typeface="Comic Sans MS"/>
              </a:rPr>
              <a:t>Olumlu</a:t>
            </a:r>
            <a:r>
              <a:rPr b="0" lang="tr-TR" sz="43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Düşünceler</a:t>
            </a:r>
            <a:r>
              <a:rPr b="0" lang="tr-TR" sz="43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Zamanımı etkili şekilde kullanabilirim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Takıldığım yerler olabilir, bilenlere sorup yardım alabilirim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Önceden başarısız olmuş olabilirim ama nedenlerini biliyorum, şimdi çalıştım başarabiliri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Elimden geleni yaparak ilerlediğimi ve daha iyi olduğumu kendime gösterebiliri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Ben bedenimi ve duygularımı (heyecanımı, korkularımı vb) kontrol edebilirim, başarılı olabilirim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4" descr="bd05960_"/>
          <p:cNvPicPr/>
          <p:nvPr/>
        </p:nvPicPr>
        <p:blipFill>
          <a:blip r:embed="rId1"/>
          <a:stretch/>
        </p:blipFill>
        <p:spPr>
          <a:xfrm>
            <a:off x="7308720" y="260280"/>
            <a:ext cx="1285920" cy="1386000"/>
          </a:xfrm>
          <a:prstGeom prst="rect">
            <a:avLst/>
          </a:prstGeom>
          <a:ln w="0">
            <a:noFill/>
          </a:ln>
        </p:spPr>
      </p:pic>
      <p:sp>
        <p:nvSpPr>
          <p:cNvPr id="373" name="4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4819-78DD-42F8-9E5F-7CF6E7C628A3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57200" y="642600"/>
            <a:ext cx="70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0000"/>
                </a:solidFill>
                <a:latin typeface="Comic Sans MS"/>
              </a:rPr>
              <a:t>Bedensel Uygulamalar</a:t>
            </a:r>
            <a:endParaRPr b="0" lang="en-US" sz="4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1-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Doğru Nefes Alıp Ver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2-  Gevşeme Tekniğ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6" name="Picture 4" descr="bd06528_"/>
          <p:cNvPicPr/>
          <p:nvPr/>
        </p:nvPicPr>
        <p:blipFill>
          <a:blip r:embed="rId1"/>
          <a:stretch/>
        </p:blipFill>
        <p:spPr>
          <a:xfrm>
            <a:off x="642960" y="2571840"/>
            <a:ext cx="3095640" cy="3352680"/>
          </a:xfrm>
          <a:prstGeom prst="rect">
            <a:avLst/>
          </a:prstGeom>
          <a:ln w="0">
            <a:noFill/>
          </a:ln>
        </p:spPr>
      </p:pic>
      <p:sp>
        <p:nvSpPr>
          <p:cNvPr id="377" name="4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D713-FA53-4A2D-87E7-07D3D097D3F6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42680" y="1213920"/>
            <a:ext cx="5334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300" spc="-1" strike="noStrike">
                <a:solidFill>
                  <a:srgbClr val="ff0000"/>
                </a:solidFill>
                <a:latin typeface="Comic Sans MS"/>
              </a:rPr>
              <a:t>Doğru Nef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26920" y="264276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00"/>
                </a:solidFill>
                <a:uFillTx/>
                <a:latin typeface="Comic Sans MS"/>
              </a:rPr>
              <a:t>Nefes alırken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; içinize rahatlığın, huzurun, mutluluğun dolduğunu ve vücudunuzun her köşesine ulaştığını hissedi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00"/>
                </a:solidFill>
                <a:uFillTx/>
                <a:latin typeface="Comic Sans MS"/>
              </a:rPr>
              <a:t>Nefes verirken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Comic Sans MS"/>
              </a:rPr>
              <a:t> ise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; stresinizin ve onu oluşturan etkenlerin vücudunuzdan dışarı atıldığını düşleyi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Nefes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Comic Sans MS"/>
              </a:rPr>
              <a:t>burundan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alınmalı ve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Comic Sans MS"/>
              </a:rPr>
              <a:t>ağızdan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verilmelidi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0" name="Picture 4" descr="bd06525_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606760"/>
          </a:xfrm>
          <a:prstGeom prst="rect">
            <a:avLst/>
          </a:prstGeom>
          <a:ln w="0">
            <a:noFill/>
          </a:ln>
        </p:spPr>
      </p:pic>
      <p:sp>
        <p:nvSpPr>
          <p:cNvPr id="381" name="4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90A0-840E-4BA3-BD00-D34F7C747FAC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76000" y="61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900" spc="-1" strike="noStrike">
                <a:solidFill>
                  <a:srgbClr val="ff0000"/>
                </a:solidFill>
                <a:latin typeface="Gill Sans MT"/>
              </a:rPr>
              <a:t>Gevşeme Tekniğ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41120" y="632880"/>
            <a:ext cx="770724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Yerinize iyice ve rahatça yerleşi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Herhangi bir tedirginlik hali vars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bir kenara bırakı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İçinizden "rahatla ve bırak" deyin ve derin soluk alı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Eller-Koll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Kaf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Boyu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Omuzl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4" name="Picture 7" descr="so01380_"/>
          <p:cNvPicPr/>
          <p:nvPr/>
        </p:nvPicPr>
        <p:blipFill>
          <a:blip r:embed="rId1"/>
          <a:stretch/>
        </p:blipFill>
        <p:spPr>
          <a:xfrm>
            <a:off x="5857920" y="4214880"/>
            <a:ext cx="2295360" cy="2332080"/>
          </a:xfrm>
          <a:prstGeom prst="rect">
            <a:avLst/>
          </a:prstGeom>
          <a:ln w="0">
            <a:noFill/>
          </a:ln>
        </p:spPr>
      </p:pic>
      <p:sp>
        <p:nvSpPr>
          <p:cNvPr id="385" name="4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92C6-AC16-45C6-A62F-46B76E3CD4A4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71760" y="42840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300" spc="-1" strike="noStrike">
                <a:solidFill>
                  <a:srgbClr val="ff0000"/>
                </a:solidFill>
                <a:latin typeface="Comic Sans MS"/>
              </a:rPr>
              <a:t>Öneril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143000" y="157176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Kaygıya karşı </a:t>
            </a:r>
            <a:r>
              <a:rPr b="1" lang="tr-TR" sz="3200" spc="-1" strike="noStrike" u="sng">
                <a:solidFill>
                  <a:srgbClr val="000000"/>
                </a:solidFill>
                <a:uFillTx/>
                <a:latin typeface="Comic Sans MS"/>
              </a:rPr>
              <a:t>olumlu düşünceler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geliştiri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Bedensel gevşeme hareketlerine zaman ayırı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Uykunuza, beslenmenize özen gösteri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ikkatinizi sadece derse veri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Gününüzü planlayı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Picture 4" descr="bd05012_"/>
          <p:cNvPicPr/>
          <p:nvPr/>
        </p:nvPicPr>
        <p:blipFill>
          <a:blip r:embed="rId1"/>
          <a:stretch/>
        </p:blipFill>
        <p:spPr>
          <a:xfrm>
            <a:off x="7108920" y="5348160"/>
            <a:ext cx="2035080" cy="1509840"/>
          </a:xfrm>
          <a:prstGeom prst="rect">
            <a:avLst/>
          </a:prstGeom>
          <a:ln w="0">
            <a:noFill/>
          </a:ln>
        </p:spPr>
      </p:pic>
      <p:sp>
        <p:nvSpPr>
          <p:cNvPr id="389" name="4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8B21-11DE-4093-93A7-993EEBCF363E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714240" y="57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omic Sans MS"/>
              </a:rPr>
              <a:t>Geç kaldığını düşün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omic Sans MS"/>
              </a:rPr>
              <a:t>Hemen </a:t>
            </a:r>
            <a:r>
              <a:rPr b="0" lang="tr-TR" sz="4000" spc="-1" strike="noStrike">
                <a:solidFill>
                  <a:srgbClr val="ff0000"/>
                </a:solidFill>
                <a:latin typeface="Comic Sans MS"/>
              </a:rPr>
              <a:t>şimdi</a:t>
            </a:r>
            <a:r>
              <a:rPr b="0" lang="tr-TR" sz="3600" spc="-1" strike="noStrike">
                <a:solidFill>
                  <a:srgbClr val="ff0000"/>
                </a:solidFill>
                <a:latin typeface="Comic Sans MS"/>
              </a:rPr>
              <a:t> başla!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0000"/>
                </a:solidFill>
                <a:latin typeface="Comic Sans MS"/>
              </a:rPr>
              <a:t>Başlamak bitirmenin yarısıdır!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4" descr="bd00173_"/>
          <p:cNvPicPr/>
          <p:nvPr/>
        </p:nvPicPr>
        <p:blipFill>
          <a:blip r:embed="rId1"/>
          <a:stretch/>
        </p:blipFill>
        <p:spPr>
          <a:xfrm>
            <a:off x="3214800" y="2857680"/>
            <a:ext cx="2517840" cy="3200400"/>
          </a:xfrm>
          <a:prstGeom prst="rect">
            <a:avLst/>
          </a:prstGeom>
          <a:ln w="0">
            <a:noFill/>
          </a:ln>
        </p:spPr>
      </p:pic>
      <p:sp>
        <p:nvSpPr>
          <p:cNvPr id="392" name="3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6EDD-9B57-4DFA-A621-D5D5C60A5A6B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572314"/>
                </a:solidFill>
                <a:latin typeface="Gill Sans MT"/>
              </a:rPr>
              <a:t>TEŞEKKÜRLER…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4" name="Picture 5" descr="pemgulpar368"/>
          <p:cNvPicPr/>
          <p:nvPr/>
        </p:nvPicPr>
        <p:blipFill>
          <a:blip r:embed="rId1"/>
          <a:stretch/>
        </p:blipFill>
        <p:spPr>
          <a:xfrm>
            <a:off x="2195640" y="1268280"/>
            <a:ext cx="5761080" cy="5256360"/>
          </a:xfrm>
          <a:prstGeom prst="rect">
            <a:avLst/>
          </a:prstGeom>
          <a:ln w="0">
            <a:noFill/>
          </a:ln>
        </p:spPr>
      </p:pic>
      <p:sp>
        <p:nvSpPr>
          <p:cNvPr id="395" name="4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1AE4-A61D-4BBA-9061-85A95D19E664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300" spc="-1" strike="noStrike">
                <a:solidFill>
                  <a:srgbClr val="ff0000"/>
                </a:solidFill>
                <a:latin typeface="Comic Sans MS"/>
              </a:rPr>
              <a:t>Kaygı nedir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1787400"/>
            <a:ext cx="9144000" cy="421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Gill Sans MT"/>
              </a:rPr>
              <a:t>                   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işi </a:t>
            </a:r>
            <a:r>
              <a:rPr b="0" lang="tr-TR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uygusal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ya da </a:t>
            </a:r>
            <a:r>
              <a:rPr b="0" lang="tr-TR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fiziksel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askı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ındayken ortaya çıkan bi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tr-TR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pkidir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r>
              <a:rPr b="0" lang="tr-TR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r miktar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kaygı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nın </a:t>
            </a:r>
            <a:r>
              <a:rPr b="0" lang="tr-TR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lumlu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tkileri vardı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cak </a:t>
            </a:r>
            <a:r>
              <a:rPr b="0" lang="tr-TR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şırı kaygı durumu</a:t>
            </a:r>
            <a:r>
              <a:rPr b="0" lang="tr-TR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niğe sebep olu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4" descr="an02131_"/>
          <p:cNvPicPr/>
          <p:nvPr/>
        </p:nvPicPr>
        <p:blipFill>
          <a:blip r:embed="rId1"/>
          <a:stretch/>
        </p:blipFill>
        <p:spPr>
          <a:xfrm>
            <a:off x="214200" y="1428840"/>
            <a:ext cx="2149560" cy="2663640"/>
          </a:xfrm>
          <a:prstGeom prst="rect">
            <a:avLst/>
          </a:prstGeom>
          <a:ln w="0">
            <a:noFill/>
          </a:ln>
        </p:spPr>
      </p:pic>
      <p:sp>
        <p:nvSpPr>
          <p:cNvPr id="333" name="4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46DA-6B20-44CD-91BE-02C9F4F7D765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571560" y="121428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300" spc="-1" strike="noStrike">
                <a:solidFill>
                  <a:srgbClr val="572314"/>
                </a:solidFill>
                <a:latin typeface="Comic Sans MS"/>
              </a:rPr>
              <a:t> </a:t>
            </a:r>
            <a:r>
              <a:rPr b="0" lang="tr-TR" sz="4300" spc="-1" strike="noStrike">
                <a:solidFill>
                  <a:srgbClr val="ff0000"/>
                </a:solidFill>
                <a:latin typeface="Comic Sans MS"/>
              </a:rPr>
              <a:t>Sınav kaygısı nedir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ınav öncesinde öğrenilen bilginin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ınav sırasında kullanılmasına engel olan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ve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şarının düşmesine yol açan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tr-TR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ğun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tr-TR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aygı</a:t>
            </a:r>
            <a:r>
              <a:rPr b="0" lang="tr-TR" sz="4800" spc="-1" strike="noStrike">
                <a:solidFill>
                  <a:srgbClr val="000000"/>
                </a:solidFill>
                <a:latin typeface="Comic Sans MS"/>
              </a:rPr>
              <a:t>dır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5" descr="bd07175_"/>
          <p:cNvPicPr/>
          <p:nvPr/>
        </p:nvPicPr>
        <p:blipFill>
          <a:blip r:embed="rId1"/>
          <a:stretch/>
        </p:blipFill>
        <p:spPr>
          <a:xfrm>
            <a:off x="142920" y="214200"/>
            <a:ext cx="3505320" cy="2743200"/>
          </a:xfrm>
          <a:prstGeom prst="rect">
            <a:avLst/>
          </a:prstGeom>
          <a:ln w="0">
            <a:noFill/>
          </a:ln>
        </p:spPr>
      </p:pic>
      <p:sp>
        <p:nvSpPr>
          <p:cNvPr id="337" name="4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8785-91EA-4D79-BA85-4328CBD237E2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8" descr="bd05508_"/>
          <p:cNvPicPr/>
          <p:nvPr/>
        </p:nvPicPr>
        <p:blipFill>
          <a:blip r:embed="rId1"/>
          <a:stretch/>
        </p:blipFill>
        <p:spPr>
          <a:xfrm>
            <a:off x="395280" y="1773360"/>
            <a:ext cx="3505320" cy="3571920"/>
          </a:xfrm>
          <a:prstGeom prst="rect">
            <a:avLst/>
          </a:prstGeom>
          <a:ln w="0">
            <a:noFill/>
          </a:ln>
        </p:spPr>
      </p:pic>
      <p:sp>
        <p:nvSpPr>
          <p:cNvPr id="339" name="4 Dikdörtgen"/>
          <p:cNvSpPr/>
          <p:nvPr/>
        </p:nvSpPr>
        <p:spPr>
          <a:xfrm>
            <a:off x="3924360" y="-603360"/>
            <a:ext cx="4572000" cy="70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tr-TR" sz="35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ınav </a:t>
            </a:r>
            <a:r>
              <a:rPr b="0" lang="tr-TR" sz="35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tr-TR" sz="35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ygısı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 ya</a:t>
            </a:r>
            <a:r>
              <a:rPr b="0" lang="tr-TR" sz="35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tr-TR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rubundan öğrencini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a</a:t>
            </a:r>
            <a:r>
              <a:rPr b="0" lang="tr-TR" sz="35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tr-TR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ı</a:t>
            </a:r>
            <a:r>
              <a:rPr b="0" lang="tr-TR" sz="3500" spc="-1" strike="noStrike">
                <a:solidFill>
                  <a:srgbClr val="000000"/>
                </a:solidFill>
                <a:latin typeface="Comic Sans MS"/>
              </a:rPr>
              <a:t>ğ</a:t>
            </a:r>
            <a:r>
              <a:rPr b="0" lang="tr-TR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ı bir problemdir. </a:t>
            </a:r>
            <a:r>
              <a:rPr b="0" lang="tr-TR" sz="35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cak, </a:t>
            </a:r>
            <a:r>
              <a:rPr b="0" lang="tr-TR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35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</a:t>
            </a:r>
            <a:r>
              <a:rPr b="0" lang="tr-TR" sz="3500" spc="-1" strike="noStrike" u="sng">
                <a:solidFill>
                  <a:srgbClr val="000000"/>
                </a:solidFill>
                <a:uFillTx/>
                <a:latin typeface="Comic Sans MS"/>
              </a:rPr>
              <a:t>ş</a:t>
            </a:r>
            <a:r>
              <a:rPr b="0" lang="tr-TR" sz="35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ılamayacak</a:t>
            </a:r>
            <a:r>
              <a:rPr b="0" lang="tr-TR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ir problem </a:t>
            </a:r>
            <a:r>
              <a:rPr b="0" lang="tr-TR" sz="35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e</a:t>
            </a:r>
            <a:r>
              <a:rPr b="0" lang="tr-TR" sz="3500" spc="-1" strike="noStrike" u="sng">
                <a:solidFill>
                  <a:srgbClr val="000000"/>
                </a:solidFill>
                <a:uFillTx/>
                <a:latin typeface="Comic Sans MS"/>
              </a:rPr>
              <a:t>ğ</a:t>
            </a:r>
            <a:r>
              <a:rPr b="0" lang="tr-TR" sz="35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ldir</a:t>
            </a:r>
            <a:r>
              <a:rPr b="0" lang="tr-TR" sz="35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tr-T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A5EF-9466-4AD6-9376-231863E238A5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71800" y="285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ınav Kaygısının</a:t>
            </a:r>
            <a:br>
              <a:rPr sz="2900"/>
            </a:br>
            <a:r>
              <a:rPr b="0" lang="tr-TR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Belirtileri</a:t>
            </a:r>
            <a:r>
              <a:rPr b="0" lang="tr-TR" sz="29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619280" y="1290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Kalp atışlarında hızlanma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Hızlı nefes alıp-verme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Terleme ve/veya titreme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Dilin damağın kuruması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Mide şikayetleri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Baş ağrısı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İshal-kabızlık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Yorgunluk belirtileri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Gerginlik/sinirlilik hali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eme alışkanlıklarında değişme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Telaş, şaşkınlık, dikkat bozuklukları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Huzursuz uyku, kabus görme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lumsuz düşünceler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3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CBF5-59FA-42BD-8E82-BB0211C0F0A2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ınav Kaygısının </a:t>
            </a:r>
            <a:br>
              <a:rPr sz="3200"/>
            </a:br>
            <a:r>
              <a:rPr b="0" lang="tr-TR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ebep Olduğu Duygular</a:t>
            </a:r>
            <a:r>
              <a:rPr b="0" lang="tr-TR" sz="32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371600" y="18568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Endişe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Mutsuzluk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Huzursuzluk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Öfke-Kızgınlık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Korku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Hayal kırıklığı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Ümitsizlik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Mahcubiyet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1028" descr="anxiety"/>
          <p:cNvPicPr/>
          <p:nvPr/>
        </p:nvPicPr>
        <p:blipFill>
          <a:blip r:embed="rId1"/>
          <a:stretch/>
        </p:blipFill>
        <p:spPr>
          <a:xfrm>
            <a:off x="6095880" y="2714760"/>
            <a:ext cx="3048120" cy="2446200"/>
          </a:xfrm>
          <a:prstGeom prst="rect">
            <a:avLst/>
          </a:prstGeom>
          <a:ln w="0">
            <a:noFill/>
          </a:ln>
        </p:spPr>
      </p:pic>
      <p:sp>
        <p:nvSpPr>
          <p:cNvPr id="347" name="4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EA9F-D894-46E7-9C0A-7D8CB09CBCD1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Sınav Kaygısının</a:t>
            </a:r>
            <a:br>
              <a:rPr sz="3200"/>
            </a:br>
            <a:r>
              <a:rPr b="0" lang="tr-TR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Nedenleri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112500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Kötü çalışma alışkanlıkları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Görev ve sorumlulukları erteleme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Zamanı iyi kullanamama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şarısız olma ve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ğerlendirilm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orkusu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Beklenti düzeyi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(Aile, öğretmen, arkadaş, kendisi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Mükemmeliyetçi yaklaşım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3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DE02-FF14-4B4F-9CD5-304A45740F85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5840" y="112392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tr-TR" sz="4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INAV KAYGISI </a:t>
            </a:r>
            <a:br>
              <a:rPr sz="4800"/>
            </a:br>
            <a:r>
              <a:rPr b="0" lang="tr-TR" sz="4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İLE </a:t>
            </a:r>
            <a:br>
              <a:rPr sz="4800"/>
            </a:br>
            <a:r>
              <a:rPr b="0" lang="tr-TR" sz="4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ŞA</a:t>
            </a:r>
            <a:r>
              <a:rPr b="0" lang="tr-TR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tr-TR" sz="4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ÇIKMA</a:t>
            </a:r>
            <a:r>
              <a:rPr b="0" lang="tr-TR" sz="43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2" name="Picture 4" descr="bd06651_"/>
          <p:cNvPicPr/>
          <p:nvPr/>
        </p:nvPicPr>
        <p:blipFill>
          <a:blip r:embed="rId1"/>
          <a:stretch/>
        </p:blipFill>
        <p:spPr>
          <a:xfrm>
            <a:off x="3419640" y="981000"/>
            <a:ext cx="2743200" cy="2725920"/>
          </a:xfrm>
          <a:prstGeom prst="rect">
            <a:avLst/>
          </a:prstGeom>
          <a:ln w="0">
            <a:noFill/>
          </a:ln>
        </p:spPr>
      </p:pic>
      <p:sp>
        <p:nvSpPr>
          <p:cNvPr id="353" name="3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90A4-EAE2-4AD6-ADF8-9E1E23F69A6B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60948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tr-TR" sz="4000" spc="-1" strike="noStrike">
                <a:solidFill>
                  <a:srgbClr val="000000"/>
                </a:solidFill>
                <a:latin typeface="Comic Sans MS"/>
              </a:rPr>
              <a:t>Kendini Yönetirsen,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tr-TR" sz="4000" spc="-1" strike="noStrike">
                <a:solidFill>
                  <a:srgbClr val="000000"/>
                </a:solidFill>
                <a:latin typeface="Comic Sans MS"/>
              </a:rPr>
              <a:t>Dünyayı Yönetecek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tr-TR" sz="4000" spc="-1" strike="noStrike">
                <a:solidFill>
                  <a:srgbClr val="000000"/>
                </a:solidFill>
                <a:latin typeface="Comic Sans MS"/>
              </a:rPr>
              <a:t>Gücü De                    </a:t>
            </a:r>
            <a:r>
              <a:rPr b="0" lang="tr-T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4000" spc="-1" strike="noStrike">
                <a:solidFill>
                  <a:srgbClr val="000000"/>
                </a:solidFill>
                <a:latin typeface="Comic Sans MS"/>
              </a:rPr>
              <a:t>Bulursun!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Eflatu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5" name="Picture 4" descr="bd06675_"/>
          <p:cNvPicPr/>
          <p:nvPr/>
        </p:nvPicPr>
        <p:blipFill>
          <a:blip r:embed="rId1"/>
          <a:stretch/>
        </p:blipFill>
        <p:spPr>
          <a:xfrm>
            <a:off x="838080" y="2438280"/>
            <a:ext cx="2711520" cy="3353040"/>
          </a:xfrm>
          <a:prstGeom prst="rect">
            <a:avLst/>
          </a:prstGeom>
          <a:ln w="0">
            <a:noFill/>
          </a:ln>
        </p:spPr>
      </p:pic>
      <p:sp>
        <p:nvSpPr>
          <p:cNvPr id="356" name="3 Slayt Numarası Yer Tutucusu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2FEC-2092-4E24-94C9-1906F01CAF5F}" type="slidenum">
              <a:rPr b="0" lang="tr-T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0:34:08Z</dcterms:created>
  <dc:creator>Asuman</dc:creator>
  <dc:description/>
  <dc:language>en-US</dc:language>
  <cp:lastModifiedBy>Windows User</cp:lastModifiedBy>
  <dcterms:modified xsi:type="dcterms:W3CDTF">2015-02-10T06:54:51Z</dcterms:modified>
  <cp:revision>345</cp:revision>
  <dc:subject/>
  <dc:title>PowerPoint Sunusu</dc:title>
</cp:coreProperties>
</file>