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B74A-108A-4DEC-B893-9D9A17D04A6E}"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9D66-FBAC-494A-B39B-9BC820C97D41}"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8A186-3A0B-47BC-95F0-1A15B5DC3442}"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588B-A8B2-43FE-A914-87B7598FE892}"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6813-095B-4D69-9C0E-E8B0C999768A}"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91BD-5B54-4E27-B144-FB68544FC027}"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A4006-D072-4CD4-B544-FF0AEC333CDD}"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1B8E-0A51-43F4-B933-435DE63D39C5}"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435E-9185-4892-A817-50656B416847}"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27DF-4E63-4101-9CDD-5A712CC7A178}"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58B1-5FA1-4C20-8A74-456A5468161B}"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3B34-C378-47B2-B6B3-8581E87BBDA5}"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DB4C-D466-4E33-AFD7-5948B11EFACD}"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9F94B-B9EF-480C-9394-57E364CDC389}"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222C-0484-4357-B9DE-2FA305143D79}"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FE04-FDB3-453D-A0DB-ECE2281ADEAA}"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8519-BB72-48DB-9CC9-D12B6C925B94}"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634D-57AF-4F14-A707-EFBDB273499B}"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C8BB-A40D-4F31-9A33-7D30C795BDFE}"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2644-227D-4ED8-A47C-D2237EC6C5F1}"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62D5-3568-4FAA-944B-197DDE0932DA}"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BC4B-95EE-4E5E-8701-C55C73012DE8}"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2EE7-EE87-4B1E-8792-DFA5C685F84F}"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8FCB-E474-400C-A732-D1A505FFA75A}"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92BFD-9F37-474A-A9A3-2CFE5569CBCC}"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3833D-91AA-4C88-BA23-27132D02CCEF}"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79D3-269F-4FA3-B890-678081F27538}"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E8BE-53FC-40B8-8746-E62E65FD91BD}"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1B11-6FED-4F77-89C3-5D08CD41C8D6}"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7EC6-04D6-4EED-91B6-F2377B64931E}"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2235-A150-439E-8E6A-AB277C074C19}"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ED86-ACB6-477D-A65E-E608794392FF}"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04F3-9A90-44A0-94DC-9FBAE6CB1A23}"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A4A9-B1CF-4AF4-9F73-9852603A32E2}"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7B3C-5A9B-4EB1-AC53-672D6F5266E7}"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21706-0281-4FD5-A3DB-F3AE88DAF852}"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AC7D-4DAE-4EA5-94F5-340C01A0DBAA}"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D902C-943B-4BDF-A981-1C0594CA8377}"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24F8-49DE-4B9D-B4E9-1EF35A3B6A52}"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1B12-4685-49B7-9D2F-2193B20E1262}"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95DC-74AD-4539-A178-C111C2ECC8C1}"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B081-0079-4E8F-8098-A82625955119}"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91FF-6804-4C46-8FD7-B4F5E39CAAF1}"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4A3C-9476-4599-8DDD-26FE24AA0573}"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F75F-9A30-4A5E-AE46-24C6143221E7}"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B9DF-AD6F-42B7-9BEB-E049BE97CDC3}"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80E7-2079-4258-808B-AAA0606BF3C4}"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5118-9E1A-479A-89B0-F9FF83E1989C}"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1363-DCA2-444F-9450-D7ED32E02641}" type="slidenum">
              <a:rPr b="0" lang="tr-TR"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B2256-78D5-4070-9A1F-04D2C61F2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4B569-69F1-4437-97CE-E3DD5AAAD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712FE-D2E4-4564-8EEC-849482BC0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37A61-A659-407B-BB2D-353A1E2A0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794A4-13E5-4821-BACD-89F3E95EB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9FBB5-A654-4BAE-96E5-5CEE0D347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1369B-F8DE-4D3C-9AC7-787DA0B5A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50426-92DD-4EA1-BE0E-8F4E67E97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E74AF-DEA4-4E0C-8EAA-31C2D6A96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271E6-B676-4E22-83D7-2F58F5F13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04DB2-56DC-492E-AE5B-A2AAA9E2F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704CA-56E2-489F-BAFF-9EB6A620F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F8CC4-6024-434F-843B-7373BB331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529C1-5127-4D6E-A89E-2DAAFD2E0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563D8-1C54-47F2-87D9-8D8E1DEAE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434E8-C161-417F-874F-4006B607E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7349DA-1B0F-4F11-8F9F-0DB935E7A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0D5DD-D31D-4B4F-A6FC-EC209E1EC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8BF49-909D-4BF3-8BDF-8135375E6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8AD00-20DA-40DA-A081-A4BC7B50E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87198-E851-467E-BCBD-03564281C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7547E-372D-4EF3-841F-D3B024072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C45EF-6BA9-4A4F-AC49-921A64B85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16AD7-15F3-4AFA-B295-2A3E8416F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5F456-FDAD-4156-988A-3204406BE6B9}" type="slidenum">
              <a:rPr b="0" lang="tr-TR"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200" y="-86760"/>
            <a:ext cx="2427840" cy="2247840"/>
            <a:chOff x="7171200" y="-86760"/>
            <a:chExt cx="2427840" cy="2247840"/>
          </a:xfrm>
        </p:grpSpPr>
        <p:grpSp>
          <p:nvGrpSpPr>
            <p:cNvPr id="39" name="Group 41"/>
            <p:cNvGrpSpPr/>
            <p:nvPr/>
          </p:nvGrpSpPr>
          <p:grpSpPr>
            <a:xfrm>
              <a:off x="7171200" y="-86760"/>
              <a:ext cx="2427840" cy="2247840"/>
              <a:chOff x="7171200" y="-86760"/>
              <a:chExt cx="2427840" cy="224784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200" y="-86760"/>
                <a:ext cx="2427840" cy="2247840"/>
                <a:chOff x="7171200" y="-86760"/>
                <a:chExt cx="2427840" cy="224784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5760" y="524520"/>
                  <a:ext cx="427320" cy="695520"/>
                </a:xfrm>
                <a:custGeom>
                  <a:avLst/>
                  <a:gdLst>
                    <a:gd name="textAreaLeft" fmla="*/ 0 w 427320"/>
                    <a:gd name="textAreaRight" fmla="*/ 427680 w 427320"/>
                    <a:gd name="textAreaTop" fmla="*/ 0 h 695520"/>
                    <a:gd name="textAreaBottom" fmla="*/ 695880 h 69552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4080" y="286920"/>
                  <a:ext cx="802440" cy="1425240"/>
                </a:xfrm>
                <a:custGeom>
                  <a:avLst/>
                  <a:gdLst>
                    <a:gd name="textAreaLeft" fmla="*/ 0 w 802440"/>
                    <a:gd name="textAreaRight" fmla="*/ 802800 w 802440"/>
                    <a:gd name="textAreaTop" fmla="*/ 0 h 1425240"/>
                    <a:gd name="textAreaBottom" fmla="*/ 1425600 h 142524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2840" y="-29160"/>
                  <a:ext cx="1204560" cy="2133360"/>
                </a:xfrm>
                <a:custGeom>
                  <a:avLst/>
                  <a:gdLst>
                    <a:gd name="textAreaLeft" fmla="*/ 0 w 1204560"/>
                    <a:gd name="textAreaRight" fmla="*/ 1204920 w 120456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1104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7640"/>
                  <a:ext cx="287280" cy="228600"/>
                </a:xfrm>
                <a:custGeom>
                  <a:avLst/>
                  <a:gdLst>
                    <a:gd name="textAreaLeft" fmla="*/ 0 w 287280"/>
                    <a:gd name="textAreaRight" fmla="*/ 287280 w 28728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7000" y="22320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gd name="textAreaLeft" fmla="*/ 0 w 660240"/>
                <a:gd name="textAreaRight" fmla="*/ 660600 w 66024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71DD-419B-4F77-92CC-AFCC5C2C08BC}" type="slidenum">
              <a:rPr b="0" lang="tr-TR"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4920" y="907560"/>
            <a:ext cx="8280360" cy="3961080"/>
          </a:xfrm>
          <a:prstGeom prst="rect">
            <a:avLst/>
          </a:prstGeom>
          <a:solidFill>
            <a:srgbClr val="ffffff">
              <a:alpha val="90000"/>
            </a:srgbClr>
          </a:solidFill>
          <a:ln w="76320">
            <a:solidFill>
              <a:srgbClr val="000000"/>
            </a:solidFill>
            <a:miter/>
          </a:ln>
          <a:effectLst>
            <a:outerShdw dist="153753" dir="2700000" blurRad="0" rotWithShape="0">
              <a:srgbClr val="80808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man Old Style"/>
                <a:ea typeface="Times New Roman"/>
              </a:rPr>
              <a:t>SINAV KAYGISI </a:t>
            </a:r>
            <a:br>
              <a:rPr sz="4000"/>
            </a:br>
            <a:br>
              <a:rPr sz="4000"/>
            </a:br>
            <a:r>
              <a:rPr b="1" lang="en-US" sz="4000" spc="-1" strike="noStrike">
                <a:solidFill>
                  <a:srgbClr val="000000"/>
                </a:solidFill>
                <a:latin typeface="Bookman Old Style"/>
                <a:ea typeface="Times New Roman"/>
              </a:rPr>
              <a:t>VE </a:t>
            </a:r>
            <a:br>
              <a:rPr sz="4000"/>
            </a:br>
            <a:br>
              <a:rPr sz="4000"/>
            </a:br>
            <a:r>
              <a:rPr b="1" lang="en-US" sz="4000" spc="-1" strike="noStrike">
                <a:solidFill>
                  <a:srgbClr val="000000"/>
                </a:solidFill>
                <a:latin typeface="Bookman Old Style"/>
                <a:ea typeface="Times New Roman"/>
              </a:rPr>
              <a:t>BAŞETME YÖNTEMLERİ</a:t>
            </a:r>
            <a:br>
              <a:rPr sz="4000"/>
            </a:br>
            <a:endParaRPr b="0" lang="en-US" sz="4000" spc="-1" strike="noStrike">
              <a:solidFill>
                <a:srgbClr val="000000"/>
              </a:solidFill>
              <a:latin typeface="Comic Sans MS"/>
            </a:endParaRPr>
          </a:p>
        </p:txBody>
      </p:sp>
      <p:pic>
        <p:nvPicPr>
          <p:cNvPr id="159" name="Picture 3" descr="bs00559_"/>
          <p:cNvPicPr/>
          <p:nvPr/>
        </p:nvPicPr>
        <p:blipFill>
          <a:blip r:embed="rId1"/>
          <a:stretch/>
        </p:blipFill>
        <p:spPr>
          <a:xfrm>
            <a:off x="685800" y="5013360"/>
            <a:ext cx="2133720" cy="136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0" y="476280"/>
            <a:ext cx="8686800" cy="5619600"/>
          </a:xfrm>
          <a:prstGeom prst="rect">
            <a:avLst/>
          </a:prstGeom>
          <a:noFill/>
          <a:ln w="0">
            <a:noFill/>
          </a:ln>
        </p:spPr>
        <p:txBody>
          <a:bodyPr anchor="t">
            <a:normAutofit/>
          </a:bodyPr>
          <a:p>
            <a:pPr marL="343080" indent="-34308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Orta derecede akademik yeteneği olan öğrenciler ve düşük kaygı düzeyindeki öğrenciler, yüksek kaygı düzeyindeki öğrencilere nazaran  daha başarılı olmuşlardır. </a:t>
            </a:r>
            <a:endParaRPr b="0" lang="en-US" sz="3200" spc="-1" strike="noStrike">
              <a:solidFill>
                <a:srgbClr val="000000"/>
              </a:solidFill>
              <a:latin typeface="Comic Sans MS"/>
            </a:endParaRPr>
          </a:p>
          <a:p>
            <a:pPr marL="343080" indent="-34308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Çok yüksek ve çok düşük akademik yeteneğe sahip öğrencilerde yüksek ya da düşük kaygılı olmak öğrenme açısından pek fark oluşturmamıştır.</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cover dir="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66" dur="500"/>
                                        <p:tgtEl>
                                          <p:spTgt spid="172">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71"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6699"/>
                </a:solidFill>
                <a:latin typeface="Comic Sans MS"/>
              </a:rPr>
              <a:t>HİÇ KAYGI YAŞAMADAN BAŞARI GELİR Mİ?</a:t>
            </a:r>
            <a:endParaRPr b="0" lang="en-US" sz="3200" spc="-1" strike="noStrike">
              <a:solidFill>
                <a:srgbClr val="000000"/>
              </a:solidFill>
              <a:latin typeface="Comic Sans MS"/>
            </a:endParaRPr>
          </a:p>
        </p:txBody>
      </p:sp>
      <p:sp>
        <p:nvSpPr>
          <p:cNvPr id="174" name="PlaceHolder 2"/>
          <p:cNvSpPr>
            <a:spLocks noGrp="1"/>
          </p:cNvSpPr>
          <p:nvPr>
            <p:ph/>
          </p:nvPr>
        </p:nvSpPr>
        <p:spPr>
          <a:xfrm>
            <a:off x="3591000" y="1828800"/>
            <a:ext cx="4790880" cy="3657600"/>
          </a:xfrm>
          <a:prstGeom prst="rect">
            <a:avLst/>
          </a:prstGeom>
          <a:noFill/>
          <a:ln w="0">
            <a:noFill/>
          </a:ln>
        </p:spPr>
        <p:txBody>
          <a:bodyPr anchor="t">
            <a:normAutofit fontScale="88000"/>
          </a:bodyPr>
          <a:p>
            <a:pPr marL="30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      </a:t>
            </a:r>
            <a:r>
              <a:rPr b="0" lang="tr-TR" sz="3200" spc="-1" strike="noStrike">
                <a:solidFill>
                  <a:srgbClr val="000000"/>
                </a:solidFill>
                <a:latin typeface="Comic Sans MS"/>
              </a:rPr>
              <a:t>Her duygu gibi “kaygı” da kişinin yaşamında önem taşır ve gereklidir. Orta düzeyde bir kaygı kişiye enerji verir, onu motive eder.</a:t>
            </a:r>
            <a:endParaRPr b="0" lang="en-US" sz="3200" spc="-1" strike="noStrike">
              <a:solidFill>
                <a:srgbClr val="000000"/>
              </a:solidFill>
              <a:latin typeface="Comic Sans MS"/>
            </a:endParaRPr>
          </a:p>
          <a:p>
            <a:pPr marL="30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66cc"/>
                </a:solidFill>
                <a:latin typeface="Comic Sans MS"/>
              </a:rPr>
              <a:t>       </a:t>
            </a:r>
            <a:r>
              <a:rPr b="0" lang="tr-TR" sz="3200" spc="-1" strike="noStrike">
                <a:solidFill>
                  <a:srgbClr val="000000"/>
                </a:solidFill>
                <a:latin typeface="Comic Sans MS"/>
              </a:rPr>
              <a:t>Amaç; kaygıyı tümüyle ortadan kaldırmak değil, yapıcı bir düzeyde tutabilmektir.</a:t>
            </a:r>
            <a:endParaRPr b="0" lang="en-US" sz="3200" spc="-1" strike="noStrike">
              <a:solidFill>
                <a:srgbClr val="000000"/>
              </a:solidFill>
              <a:latin typeface="Comic Sans MS"/>
            </a:endParaRPr>
          </a:p>
          <a:p>
            <a:pPr marL="3016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5" name="Picture 4" descr="j0286034"/>
          <p:cNvPicPr/>
          <p:nvPr/>
        </p:nvPicPr>
        <p:blipFill>
          <a:blip r:embed="rId1"/>
          <a:stretch/>
        </p:blipFill>
        <p:spPr>
          <a:xfrm>
            <a:off x="971640" y="1773360"/>
            <a:ext cx="2592360" cy="352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0920" y="1628280"/>
            <a:ext cx="8642160" cy="3313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dff"/>
                </a:solidFill>
                <a:latin typeface="Arial"/>
                <a:ea typeface="Arial"/>
              </a:rPr>
              <a:t>Öğrenme</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kişinin yaşamını sürdürebilmesi ve süregelen yaşamdan doyum alması için gerekli tüm bilgi, eylem ve becerilerin kazanılması sürecidir.</a:t>
            </a:r>
            <a:br>
              <a:rPr sz="2800"/>
            </a:br>
            <a:br>
              <a:rPr sz="2800"/>
            </a:br>
            <a:r>
              <a:rPr b="0" lang="en-US" sz="2800" spc="-1" strike="noStrike">
                <a:solidFill>
                  <a:srgbClr val="000000"/>
                </a:solidFill>
                <a:latin typeface="Arial"/>
                <a:ea typeface="Arial"/>
              </a:rPr>
              <a:t> </a:t>
            </a:r>
            <a:r>
              <a:rPr b="1" lang="tr-TR" sz="3200" spc="-1" strike="noStrike">
                <a:solidFill>
                  <a:srgbClr val="703dff"/>
                </a:solidFill>
                <a:latin typeface="Arial"/>
              </a:rPr>
              <a:t>Öğrenilenler</a:t>
            </a:r>
            <a:r>
              <a:rPr b="0" lang="tr-TR" sz="3200" spc="-1" strike="noStrike">
                <a:solidFill>
                  <a:srgbClr val="000000"/>
                </a:solidFill>
                <a:latin typeface="Arial"/>
              </a:rPr>
              <a:t>, kişinin birikimini oluştururken, öğrenilenlerin belli bir amaca yönelik kullanılması da performansı ortaya koyar.</a:t>
            </a:r>
            <a:endParaRPr b="0" lang="en-US" sz="3200" spc="-1" strike="noStrike">
              <a:solidFill>
                <a:srgbClr val="000000"/>
              </a:solidFill>
              <a:latin typeface="Comic Sans MS"/>
            </a:endParaRPr>
          </a:p>
        </p:txBody>
      </p:sp>
      <p:sp>
        <p:nvSpPr>
          <p:cNvPr id="177"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669960" y="727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9" name="PlaceHolder 1"/>
          <p:cNvSpPr>
            <a:spLocks noGrp="1"/>
          </p:cNvSpPr>
          <p:nvPr>
            <p:ph type="title"/>
          </p:nvPr>
        </p:nvSpPr>
        <p:spPr>
          <a:xfrm>
            <a:off x="755640" y="1197000"/>
            <a:ext cx="7772400" cy="396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703dff"/>
                </a:solidFill>
                <a:latin typeface="Arial"/>
              </a:rPr>
              <a:t>P</a:t>
            </a:r>
            <a:r>
              <a:rPr b="1" lang="en-US" sz="3600" spc="-1" strike="noStrike">
                <a:solidFill>
                  <a:srgbClr val="703dff"/>
                </a:solidFill>
                <a:latin typeface="Arial"/>
                <a:ea typeface="Arial"/>
              </a:rPr>
              <a:t>erformans</a:t>
            </a:r>
            <a:r>
              <a:rPr b="0" lang="en-US" sz="3600" spc="-1" strike="noStrike">
                <a:solidFill>
                  <a:srgbClr val="000000"/>
                </a:solidFill>
                <a:latin typeface="Arial"/>
                <a:ea typeface="Arial"/>
              </a:rPr>
              <a:t>, </a:t>
            </a:r>
            <a:br>
              <a:rPr sz="3600"/>
            </a:br>
            <a:r>
              <a:rPr b="0" lang="en-US" sz="3600" spc="-1" strike="noStrike">
                <a:solidFill>
                  <a:srgbClr val="000000"/>
                </a:solidFill>
                <a:latin typeface="Arial"/>
                <a:ea typeface="Arial"/>
              </a:rPr>
              <a:t>kişinin akıl, duygu ve davranış düzeyinde daha önceden kazanmış olduklarının, belli bir durum ve belli bir zaman kesitinde, eylemsel olarak ortaya konulan şeklidir.</a:t>
            </a:r>
            <a:r>
              <a:rPr b="0" lang="en-US" sz="4000" spc="-1" strike="noStrike">
                <a:solidFill>
                  <a:srgbClr val="000000"/>
                </a:solidFill>
                <a:latin typeface="Arial"/>
                <a:ea typeface="Arial"/>
              </a:rPr>
              <a:t>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94920" y="765000"/>
            <a:ext cx="8497800" cy="53308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sanın performansının en iyi olduğu durum, onun o alanda varolan potansiyelinin tümünü eyleme dönüştürebildiği durumdur.</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ncak çeşitli iç ve dış etkenler nedeniyle gerçek potansiyelin performansa dönüşmesi zaman zaman güçleşir. Bu etkenlerden biri </a:t>
            </a:r>
            <a:r>
              <a:rPr b="0" lang="tr-TR" sz="3200" spc="-1" strike="noStrike">
                <a:solidFill>
                  <a:srgbClr val="000000"/>
                </a:solidFill>
                <a:latin typeface="Arial"/>
                <a:ea typeface="Arial"/>
              </a:rPr>
              <a:t>de </a:t>
            </a:r>
            <a:r>
              <a:rPr b="0" lang="en-US" sz="3200" spc="-1" strike="noStrike">
                <a:solidFill>
                  <a:srgbClr val="ff0000"/>
                </a:solidFill>
                <a:latin typeface="Arial"/>
                <a:ea typeface="Arial"/>
              </a:rPr>
              <a:t>kaygıdı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475920"/>
            <a:ext cx="748656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00"/>
                </a:solidFill>
                <a:latin typeface="Comic Sans MS"/>
              </a:rPr>
              <a:t>Sınav nedir?</a:t>
            </a:r>
            <a:endParaRPr b="0" lang="en-US" sz="4000" spc="-1" strike="noStrike">
              <a:solidFill>
                <a:srgbClr val="000000"/>
              </a:solidFill>
              <a:latin typeface="Comic Sans MS"/>
            </a:endParaRPr>
          </a:p>
        </p:txBody>
      </p:sp>
      <p:sp>
        <p:nvSpPr>
          <p:cNvPr id="182" name="PlaceHolder 2"/>
          <p:cNvSpPr>
            <a:spLocks noGrp="1"/>
          </p:cNvSpPr>
          <p:nvPr>
            <p:ph/>
          </p:nvPr>
        </p:nvSpPr>
        <p:spPr>
          <a:xfrm>
            <a:off x="685800" y="1341360"/>
            <a:ext cx="7696080" cy="41450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mic Sans MS"/>
              </a:rPr>
              <a:t>Belirli bir alanda edinilen bilgi ve becerilerin düzeyini belirlemek için yapılan bir değerlendirme sistemidi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mic Sans MS"/>
              </a:rPr>
              <a:t>Sınav bir değerlendirme sürecidir ve sınırlı alandaki bilgi ve becerilerin düzeyini değerlendirir, KİŞİLİĞİ deği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475920"/>
            <a:ext cx="6870600" cy="108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omic Sans MS"/>
              </a:rPr>
              <a:t>Sınav Kaygısı Nedir?</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Öğrenilen bilginin sınav sırasında etkili biçimde kullanılmasına engel olan ve başarının düşmesine yol açan yoğun kaygıdır.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700000" y="620640"/>
            <a:ext cx="5986440" cy="5533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    </a:t>
            </a:r>
            <a:r>
              <a:rPr b="0" lang="tr-TR" sz="2800" spc="-1" strike="noStrike">
                <a:solidFill>
                  <a:srgbClr val="000000"/>
                </a:solidFill>
                <a:latin typeface="Comic Sans MS"/>
              </a:rPr>
              <a:t>Bir sınav öncesinde, sırasında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ya da sonrasında duyulan endişe, korku ve rahatsızlıktır.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    </a:t>
            </a:r>
            <a:r>
              <a:rPr b="0" lang="tr-TR" sz="2800" spc="-1" strike="noStrike">
                <a:solidFill>
                  <a:srgbClr val="000000"/>
                </a:solidFill>
                <a:latin typeface="Comic Sans MS"/>
              </a:rPr>
              <a:t>Hemen hemen herkes bu kaygıyı bir miktar hissetmektedir. Ama bazı öğrenciler sınav döneminde yaşadığı bu duygusal tepkilerin akademik performanslarını ciddi anlamda olumsuz yönde etkilediğinden söz etmektedir.</a:t>
            </a:r>
            <a:endParaRPr b="0" lang="en-US" sz="2800" spc="-1" strike="noStrike">
              <a:solidFill>
                <a:srgbClr val="000000"/>
              </a:solidFill>
              <a:latin typeface="Comic Sans MS"/>
            </a:endParaRPr>
          </a:p>
        </p:txBody>
      </p:sp>
      <p:grpSp>
        <p:nvGrpSpPr>
          <p:cNvPr id="186" name="Group 4"/>
          <p:cNvGrpSpPr/>
          <p:nvPr/>
        </p:nvGrpSpPr>
        <p:grpSpPr>
          <a:xfrm>
            <a:off x="250920" y="189000"/>
            <a:ext cx="2808000" cy="3168360"/>
            <a:chOff x="250920" y="189000"/>
            <a:chExt cx="2808000" cy="3168360"/>
          </a:xfrm>
        </p:grpSpPr>
        <p:sp>
          <p:nvSpPr>
            <p:cNvPr id="187" name="AutoShape 5"/>
            <p:cNvSpPr/>
            <p:nvPr/>
          </p:nvSpPr>
          <p:spPr>
            <a:xfrm>
              <a:off x="250920" y="189000"/>
              <a:ext cx="2808000" cy="3168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8" name="Freeform 6"/>
            <p:cNvSpPr/>
            <p:nvPr/>
          </p:nvSpPr>
          <p:spPr>
            <a:xfrm>
              <a:off x="284400" y="234000"/>
              <a:ext cx="2729160" cy="3069360"/>
            </a:xfrm>
            <a:custGeom>
              <a:avLst/>
              <a:gdLst>
                <a:gd name="textAreaLeft" fmla="*/ 0 w 2729160"/>
                <a:gd name="textAreaRight" fmla="*/ 2729520 w 2729160"/>
                <a:gd name="textAreaTop" fmla="*/ 0 h 3069360"/>
                <a:gd name="textAreaBottom" fmla="*/ 3069720 h 3069360"/>
              </a:gdLst>
              <a:ahLst/>
              <a:rect l="textAreaLeft" t="textAreaTop" r="textAreaRight" b="textAreaBottom"/>
              <a:pathLst>
                <a:path w="2287" h="2164">
                  <a:moveTo>
                    <a:pt x="817" y="124"/>
                  </a:moveTo>
                  <a:lnTo>
                    <a:pt x="810" y="120"/>
                  </a:lnTo>
                  <a:lnTo>
                    <a:pt x="802" y="118"/>
                  </a:lnTo>
                  <a:lnTo>
                    <a:pt x="796" y="114"/>
                  </a:lnTo>
                  <a:lnTo>
                    <a:pt x="791" y="112"/>
                  </a:lnTo>
                  <a:lnTo>
                    <a:pt x="785" y="111"/>
                  </a:lnTo>
                  <a:lnTo>
                    <a:pt x="779" y="107"/>
                  </a:lnTo>
                  <a:lnTo>
                    <a:pt x="772" y="105"/>
                  </a:lnTo>
                  <a:lnTo>
                    <a:pt x="768" y="103"/>
                  </a:lnTo>
                  <a:lnTo>
                    <a:pt x="760" y="101"/>
                  </a:lnTo>
                  <a:lnTo>
                    <a:pt x="756" y="97"/>
                  </a:lnTo>
                  <a:lnTo>
                    <a:pt x="749" y="95"/>
                  </a:lnTo>
                  <a:lnTo>
                    <a:pt x="743" y="93"/>
                  </a:lnTo>
                  <a:lnTo>
                    <a:pt x="737" y="92"/>
                  </a:lnTo>
                  <a:lnTo>
                    <a:pt x="733" y="90"/>
                  </a:lnTo>
                  <a:lnTo>
                    <a:pt x="726" y="88"/>
                  </a:lnTo>
                  <a:lnTo>
                    <a:pt x="722" y="86"/>
                  </a:lnTo>
                  <a:lnTo>
                    <a:pt x="716" y="84"/>
                  </a:lnTo>
                  <a:lnTo>
                    <a:pt x="711" y="82"/>
                  </a:lnTo>
                  <a:lnTo>
                    <a:pt x="705" y="80"/>
                  </a:lnTo>
                  <a:lnTo>
                    <a:pt x="701" y="78"/>
                  </a:lnTo>
                  <a:lnTo>
                    <a:pt x="695" y="76"/>
                  </a:lnTo>
                  <a:lnTo>
                    <a:pt x="690" y="74"/>
                  </a:lnTo>
                  <a:lnTo>
                    <a:pt x="684" y="73"/>
                  </a:lnTo>
                  <a:lnTo>
                    <a:pt x="680" y="71"/>
                  </a:lnTo>
                  <a:lnTo>
                    <a:pt x="675" y="69"/>
                  </a:lnTo>
                  <a:lnTo>
                    <a:pt x="669" y="67"/>
                  </a:lnTo>
                  <a:lnTo>
                    <a:pt x="663" y="65"/>
                  </a:lnTo>
                  <a:lnTo>
                    <a:pt x="659" y="65"/>
                  </a:lnTo>
                  <a:lnTo>
                    <a:pt x="654" y="63"/>
                  </a:lnTo>
                  <a:lnTo>
                    <a:pt x="648" y="61"/>
                  </a:lnTo>
                  <a:lnTo>
                    <a:pt x="642" y="59"/>
                  </a:lnTo>
                  <a:lnTo>
                    <a:pt x="638" y="59"/>
                  </a:lnTo>
                  <a:lnTo>
                    <a:pt x="631" y="57"/>
                  </a:lnTo>
                  <a:lnTo>
                    <a:pt x="625" y="55"/>
                  </a:lnTo>
                  <a:lnTo>
                    <a:pt x="621" y="54"/>
                  </a:lnTo>
                  <a:lnTo>
                    <a:pt x="616" y="52"/>
                  </a:lnTo>
                  <a:lnTo>
                    <a:pt x="608" y="50"/>
                  </a:lnTo>
                  <a:lnTo>
                    <a:pt x="604" y="48"/>
                  </a:lnTo>
                  <a:lnTo>
                    <a:pt x="598" y="48"/>
                  </a:lnTo>
                  <a:lnTo>
                    <a:pt x="593" y="46"/>
                  </a:lnTo>
                  <a:lnTo>
                    <a:pt x="587" y="44"/>
                  </a:lnTo>
                  <a:lnTo>
                    <a:pt x="579" y="44"/>
                  </a:lnTo>
                  <a:lnTo>
                    <a:pt x="574" y="40"/>
                  </a:lnTo>
                  <a:lnTo>
                    <a:pt x="568" y="40"/>
                  </a:lnTo>
                  <a:lnTo>
                    <a:pt x="562" y="38"/>
                  </a:lnTo>
                  <a:lnTo>
                    <a:pt x="557" y="36"/>
                  </a:lnTo>
                  <a:lnTo>
                    <a:pt x="549" y="35"/>
                  </a:lnTo>
                  <a:lnTo>
                    <a:pt x="543" y="35"/>
                  </a:lnTo>
                  <a:lnTo>
                    <a:pt x="538" y="33"/>
                  </a:lnTo>
                  <a:lnTo>
                    <a:pt x="530" y="31"/>
                  </a:lnTo>
                  <a:lnTo>
                    <a:pt x="522" y="29"/>
                  </a:lnTo>
                  <a:lnTo>
                    <a:pt x="517" y="29"/>
                  </a:lnTo>
                  <a:lnTo>
                    <a:pt x="509" y="27"/>
                  </a:lnTo>
                  <a:lnTo>
                    <a:pt x="503" y="25"/>
                  </a:lnTo>
                  <a:lnTo>
                    <a:pt x="496" y="23"/>
                  </a:lnTo>
                  <a:lnTo>
                    <a:pt x="488" y="23"/>
                  </a:lnTo>
                  <a:lnTo>
                    <a:pt x="481" y="21"/>
                  </a:lnTo>
                  <a:lnTo>
                    <a:pt x="473" y="19"/>
                  </a:lnTo>
                  <a:lnTo>
                    <a:pt x="465" y="17"/>
                  </a:lnTo>
                  <a:lnTo>
                    <a:pt x="458" y="17"/>
                  </a:lnTo>
                  <a:lnTo>
                    <a:pt x="450" y="16"/>
                  </a:lnTo>
                  <a:lnTo>
                    <a:pt x="443" y="14"/>
                  </a:lnTo>
                  <a:lnTo>
                    <a:pt x="433" y="14"/>
                  </a:lnTo>
                  <a:lnTo>
                    <a:pt x="425" y="12"/>
                  </a:lnTo>
                  <a:lnTo>
                    <a:pt x="416" y="10"/>
                  </a:lnTo>
                  <a:lnTo>
                    <a:pt x="408" y="8"/>
                  </a:lnTo>
                  <a:lnTo>
                    <a:pt x="399" y="6"/>
                  </a:lnTo>
                  <a:lnTo>
                    <a:pt x="391" y="6"/>
                  </a:lnTo>
                  <a:lnTo>
                    <a:pt x="382" y="4"/>
                  </a:lnTo>
                  <a:lnTo>
                    <a:pt x="374" y="4"/>
                  </a:lnTo>
                  <a:lnTo>
                    <a:pt x="365" y="2"/>
                  </a:lnTo>
                  <a:lnTo>
                    <a:pt x="357" y="2"/>
                  </a:lnTo>
                  <a:lnTo>
                    <a:pt x="347" y="2"/>
                  </a:lnTo>
                  <a:lnTo>
                    <a:pt x="340" y="0"/>
                  </a:lnTo>
                  <a:lnTo>
                    <a:pt x="330" y="0"/>
                  </a:lnTo>
                  <a:lnTo>
                    <a:pt x="323" y="0"/>
                  </a:lnTo>
                  <a:lnTo>
                    <a:pt x="315" y="0"/>
                  </a:lnTo>
                  <a:lnTo>
                    <a:pt x="308" y="0"/>
                  </a:lnTo>
                  <a:lnTo>
                    <a:pt x="298" y="0"/>
                  </a:lnTo>
                  <a:lnTo>
                    <a:pt x="290" y="0"/>
                  </a:lnTo>
                  <a:lnTo>
                    <a:pt x="283" y="0"/>
                  </a:lnTo>
                  <a:lnTo>
                    <a:pt x="275" y="0"/>
                  </a:lnTo>
                  <a:lnTo>
                    <a:pt x="266" y="0"/>
                  </a:lnTo>
                  <a:lnTo>
                    <a:pt x="258" y="2"/>
                  </a:lnTo>
                  <a:lnTo>
                    <a:pt x="251" y="2"/>
                  </a:lnTo>
                  <a:lnTo>
                    <a:pt x="243" y="2"/>
                  </a:lnTo>
                  <a:lnTo>
                    <a:pt x="235" y="4"/>
                  </a:lnTo>
                  <a:lnTo>
                    <a:pt x="228" y="6"/>
                  </a:lnTo>
                  <a:lnTo>
                    <a:pt x="218" y="6"/>
                  </a:lnTo>
                  <a:lnTo>
                    <a:pt x="211" y="8"/>
                  </a:lnTo>
                  <a:lnTo>
                    <a:pt x="203" y="8"/>
                  </a:lnTo>
                  <a:lnTo>
                    <a:pt x="197" y="10"/>
                  </a:lnTo>
                  <a:lnTo>
                    <a:pt x="190" y="12"/>
                  </a:lnTo>
                  <a:lnTo>
                    <a:pt x="182" y="14"/>
                  </a:lnTo>
                  <a:lnTo>
                    <a:pt x="174" y="14"/>
                  </a:lnTo>
                  <a:lnTo>
                    <a:pt x="169" y="17"/>
                  </a:lnTo>
                  <a:lnTo>
                    <a:pt x="161" y="17"/>
                  </a:lnTo>
                  <a:lnTo>
                    <a:pt x="154" y="19"/>
                  </a:lnTo>
                  <a:lnTo>
                    <a:pt x="148" y="21"/>
                  </a:lnTo>
                  <a:lnTo>
                    <a:pt x="140" y="23"/>
                  </a:lnTo>
                  <a:lnTo>
                    <a:pt x="133" y="27"/>
                  </a:lnTo>
                  <a:lnTo>
                    <a:pt x="127" y="29"/>
                  </a:lnTo>
                  <a:lnTo>
                    <a:pt x="121" y="31"/>
                  </a:lnTo>
                  <a:lnTo>
                    <a:pt x="116" y="33"/>
                  </a:lnTo>
                  <a:lnTo>
                    <a:pt x="108" y="35"/>
                  </a:lnTo>
                  <a:lnTo>
                    <a:pt x="104" y="38"/>
                  </a:lnTo>
                  <a:lnTo>
                    <a:pt x="96" y="40"/>
                  </a:lnTo>
                  <a:lnTo>
                    <a:pt x="93" y="44"/>
                  </a:lnTo>
                  <a:lnTo>
                    <a:pt x="87" y="46"/>
                  </a:lnTo>
                  <a:lnTo>
                    <a:pt x="81" y="50"/>
                  </a:lnTo>
                  <a:lnTo>
                    <a:pt x="76" y="52"/>
                  </a:lnTo>
                  <a:lnTo>
                    <a:pt x="72" y="57"/>
                  </a:lnTo>
                  <a:lnTo>
                    <a:pt x="66" y="59"/>
                  </a:lnTo>
                  <a:lnTo>
                    <a:pt x="62" y="63"/>
                  </a:lnTo>
                  <a:lnTo>
                    <a:pt x="57" y="65"/>
                  </a:lnTo>
                  <a:lnTo>
                    <a:pt x="53" y="69"/>
                  </a:lnTo>
                  <a:lnTo>
                    <a:pt x="49" y="73"/>
                  </a:lnTo>
                  <a:lnTo>
                    <a:pt x="43" y="76"/>
                  </a:lnTo>
                  <a:lnTo>
                    <a:pt x="39" y="80"/>
                  </a:lnTo>
                  <a:lnTo>
                    <a:pt x="38" y="84"/>
                  </a:lnTo>
                  <a:lnTo>
                    <a:pt x="28" y="92"/>
                  </a:lnTo>
                  <a:lnTo>
                    <a:pt x="22" y="101"/>
                  </a:lnTo>
                  <a:lnTo>
                    <a:pt x="20" y="105"/>
                  </a:lnTo>
                  <a:lnTo>
                    <a:pt x="17" y="109"/>
                  </a:lnTo>
                  <a:lnTo>
                    <a:pt x="15" y="114"/>
                  </a:lnTo>
                  <a:lnTo>
                    <a:pt x="13" y="118"/>
                  </a:lnTo>
                  <a:lnTo>
                    <a:pt x="11" y="122"/>
                  </a:lnTo>
                  <a:lnTo>
                    <a:pt x="9" y="128"/>
                  </a:lnTo>
                  <a:lnTo>
                    <a:pt x="7" y="132"/>
                  </a:lnTo>
                  <a:lnTo>
                    <a:pt x="5" y="135"/>
                  </a:lnTo>
                  <a:lnTo>
                    <a:pt x="3" y="141"/>
                  </a:lnTo>
                  <a:lnTo>
                    <a:pt x="3" y="145"/>
                  </a:lnTo>
                  <a:lnTo>
                    <a:pt x="1" y="149"/>
                  </a:lnTo>
                  <a:lnTo>
                    <a:pt x="1" y="154"/>
                  </a:lnTo>
                  <a:lnTo>
                    <a:pt x="0" y="158"/>
                  </a:lnTo>
                  <a:lnTo>
                    <a:pt x="0" y="164"/>
                  </a:lnTo>
                  <a:lnTo>
                    <a:pt x="0" y="168"/>
                  </a:lnTo>
                  <a:lnTo>
                    <a:pt x="0" y="173"/>
                  </a:lnTo>
                  <a:lnTo>
                    <a:pt x="0" y="177"/>
                  </a:lnTo>
                  <a:lnTo>
                    <a:pt x="0" y="183"/>
                  </a:lnTo>
                  <a:lnTo>
                    <a:pt x="0" y="187"/>
                  </a:lnTo>
                  <a:lnTo>
                    <a:pt x="1" y="192"/>
                  </a:lnTo>
                  <a:lnTo>
                    <a:pt x="1" y="196"/>
                  </a:lnTo>
                  <a:lnTo>
                    <a:pt x="3" y="200"/>
                  </a:lnTo>
                  <a:lnTo>
                    <a:pt x="3" y="206"/>
                  </a:lnTo>
                  <a:lnTo>
                    <a:pt x="5" y="209"/>
                  </a:lnTo>
                  <a:lnTo>
                    <a:pt x="5" y="215"/>
                  </a:lnTo>
                  <a:lnTo>
                    <a:pt x="7" y="221"/>
                  </a:lnTo>
                  <a:lnTo>
                    <a:pt x="9" y="225"/>
                  </a:lnTo>
                  <a:lnTo>
                    <a:pt x="11" y="230"/>
                  </a:lnTo>
                  <a:lnTo>
                    <a:pt x="13" y="234"/>
                  </a:lnTo>
                  <a:lnTo>
                    <a:pt x="15" y="240"/>
                  </a:lnTo>
                  <a:lnTo>
                    <a:pt x="17" y="244"/>
                  </a:lnTo>
                  <a:lnTo>
                    <a:pt x="20" y="249"/>
                  </a:lnTo>
                  <a:lnTo>
                    <a:pt x="22" y="255"/>
                  </a:lnTo>
                  <a:lnTo>
                    <a:pt x="24" y="259"/>
                  </a:lnTo>
                  <a:lnTo>
                    <a:pt x="28" y="265"/>
                  </a:lnTo>
                  <a:lnTo>
                    <a:pt x="30" y="270"/>
                  </a:lnTo>
                  <a:lnTo>
                    <a:pt x="32" y="274"/>
                  </a:lnTo>
                  <a:lnTo>
                    <a:pt x="36" y="280"/>
                  </a:lnTo>
                  <a:lnTo>
                    <a:pt x="38" y="284"/>
                  </a:lnTo>
                  <a:lnTo>
                    <a:pt x="41" y="289"/>
                  </a:lnTo>
                  <a:lnTo>
                    <a:pt x="45" y="293"/>
                  </a:lnTo>
                  <a:lnTo>
                    <a:pt x="49" y="299"/>
                  </a:lnTo>
                  <a:lnTo>
                    <a:pt x="51" y="305"/>
                  </a:lnTo>
                  <a:lnTo>
                    <a:pt x="55" y="310"/>
                  </a:lnTo>
                  <a:lnTo>
                    <a:pt x="58" y="314"/>
                  </a:lnTo>
                  <a:lnTo>
                    <a:pt x="62" y="320"/>
                  </a:lnTo>
                  <a:lnTo>
                    <a:pt x="66" y="324"/>
                  </a:lnTo>
                  <a:lnTo>
                    <a:pt x="70" y="329"/>
                  </a:lnTo>
                  <a:lnTo>
                    <a:pt x="76" y="333"/>
                  </a:lnTo>
                  <a:lnTo>
                    <a:pt x="79" y="339"/>
                  </a:lnTo>
                  <a:lnTo>
                    <a:pt x="83" y="344"/>
                  </a:lnTo>
                  <a:lnTo>
                    <a:pt x="87" y="348"/>
                  </a:lnTo>
                  <a:lnTo>
                    <a:pt x="93" y="354"/>
                  </a:lnTo>
                  <a:lnTo>
                    <a:pt x="96" y="358"/>
                  </a:lnTo>
                  <a:lnTo>
                    <a:pt x="100" y="363"/>
                  </a:lnTo>
                  <a:lnTo>
                    <a:pt x="106" y="369"/>
                  </a:lnTo>
                  <a:lnTo>
                    <a:pt x="110" y="373"/>
                  </a:lnTo>
                  <a:lnTo>
                    <a:pt x="116" y="379"/>
                  </a:lnTo>
                  <a:lnTo>
                    <a:pt x="119" y="382"/>
                  </a:lnTo>
                  <a:lnTo>
                    <a:pt x="125" y="388"/>
                  </a:lnTo>
                  <a:lnTo>
                    <a:pt x="129" y="394"/>
                  </a:lnTo>
                  <a:lnTo>
                    <a:pt x="133" y="398"/>
                  </a:lnTo>
                  <a:lnTo>
                    <a:pt x="138" y="403"/>
                  </a:lnTo>
                  <a:lnTo>
                    <a:pt x="144" y="407"/>
                  </a:lnTo>
                  <a:lnTo>
                    <a:pt x="150" y="413"/>
                  </a:lnTo>
                  <a:lnTo>
                    <a:pt x="154" y="419"/>
                  </a:lnTo>
                  <a:lnTo>
                    <a:pt x="159" y="422"/>
                  </a:lnTo>
                  <a:lnTo>
                    <a:pt x="165" y="428"/>
                  </a:lnTo>
                  <a:lnTo>
                    <a:pt x="171" y="432"/>
                  </a:lnTo>
                  <a:lnTo>
                    <a:pt x="174" y="438"/>
                  </a:lnTo>
                  <a:lnTo>
                    <a:pt x="180" y="441"/>
                  </a:lnTo>
                  <a:lnTo>
                    <a:pt x="186" y="445"/>
                  </a:lnTo>
                  <a:lnTo>
                    <a:pt x="192" y="451"/>
                  </a:lnTo>
                  <a:lnTo>
                    <a:pt x="197" y="455"/>
                  </a:lnTo>
                  <a:lnTo>
                    <a:pt x="203" y="460"/>
                  </a:lnTo>
                  <a:lnTo>
                    <a:pt x="209" y="464"/>
                  </a:lnTo>
                  <a:lnTo>
                    <a:pt x="214" y="468"/>
                  </a:lnTo>
                  <a:lnTo>
                    <a:pt x="222" y="474"/>
                  </a:lnTo>
                  <a:lnTo>
                    <a:pt x="226" y="478"/>
                  </a:lnTo>
                  <a:lnTo>
                    <a:pt x="233" y="483"/>
                  </a:lnTo>
                  <a:lnTo>
                    <a:pt x="239" y="487"/>
                  </a:lnTo>
                  <a:lnTo>
                    <a:pt x="245" y="491"/>
                  </a:lnTo>
                  <a:lnTo>
                    <a:pt x="251" y="495"/>
                  </a:lnTo>
                  <a:lnTo>
                    <a:pt x="256" y="500"/>
                  </a:lnTo>
                  <a:lnTo>
                    <a:pt x="262" y="502"/>
                  </a:lnTo>
                  <a:lnTo>
                    <a:pt x="268" y="508"/>
                  </a:lnTo>
                  <a:lnTo>
                    <a:pt x="273" y="510"/>
                  </a:lnTo>
                  <a:lnTo>
                    <a:pt x="281" y="516"/>
                  </a:lnTo>
                  <a:lnTo>
                    <a:pt x="285" y="517"/>
                  </a:lnTo>
                  <a:lnTo>
                    <a:pt x="292" y="523"/>
                  </a:lnTo>
                  <a:lnTo>
                    <a:pt x="298" y="525"/>
                  </a:lnTo>
                  <a:lnTo>
                    <a:pt x="304" y="531"/>
                  </a:lnTo>
                  <a:lnTo>
                    <a:pt x="309" y="535"/>
                  </a:lnTo>
                  <a:lnTo>
                    <a:pt x="315" y="538"/>
                  </a:lnTo>
                  <a:lnTo>
                    <a:pt x="321" y="540"/>
                  </a:lnTo>
                  <a:lnTo>
                    <a:pt x="327" y="544"/>
                  </a:lnTo>
                  <a:lnTo>
                    <a:pt x="332" y="548"/>
                  </a:lnTo>
                  <a:lnTo>
                    <a:pt x="340" y="552"/>
                  </a:lnTo>
                  <a:lnTo>
                    <a:pt x="344" y="555"/>
                  </a:lnTo>
                  <a:lnTo>
                    <a:pt x="351" y="559"/>
                  </a:lnTo>
                  <a:lnTo>
                    <a:pt x="355" y="561"/>
                  </a:lnTo>
                  <a:lnTo>
                    <a:pt x="361" y="565"/>
                  </a:lnTo>
                  <a:lnTo>
                    <a:pt x="367" y="567"/>
                  </a:lnTo>
                  <a:lnTo>
                    <a:pt x="372" y="571"/>
                  </a:lnTo>
                  <a:lnTo>
                    <a:pt x="376" y="573"/>
                  </a:lnTo>
                  <a:lnTo>
                    <a:pt x="382" y="576"/>
                  </a:lnTo>
                  <a:lnTo>
                    <a:pt x="387" y="578"/>
                  </a:lnTo>
                  <a:lnTo>
                    <a:pt x="393" y="582"/>
                  </a:lnTo>
                  <a:lnTo>
                    <a:pt x="397" y="584"/>
                  </a:lnTo>
                  <a:lnTo>
                    <a:pt x="403" y="586"/>
                  </a:lnTo>
                  <a:lnTo>
                    <a:pt x="406" y="590"/>
                  </a:lnTo>
                  <a:lnTo>
                    <a:pt x="410" y="592"/>
                  </a:lnTo>
                  <a:lnTo>
                    <a:pt x="416" y="594"/>
                  </a:lnTo>
                  <a:lnTo>
                    <a:pt x="420" y="595"/>
                  </a:lnTo>
                  <a:lnTo>
                    <a:pt x="425" y="597"/>
                  </a:lnTo>
                  <a:lnTo>
                    <a:pt x="429" y="601"/>
                  </a:lnTo>
                  <a:lnTo>
                    <a:pt x="437" y="605"/>
                  </a:lnTo>
                  <a:lnTo>
                    <a:pt x="444" y="609"/>
                  </a:lnTo>
                  <a:lnTo>
                    <a:pt x="452" y="613"/>
                  </a:lnTo>
                  <a:lnTo>
                    <a:pt x="458" y="616"/>
                  </a:lnTo>
                  <a:lnTo>
                    <a:pt x="463" y="618"/>
                  </a:lnTo>
                  <a:lnTo>
                    <a:pt x="469" y="622"/>
                  </a:lnTo>
                  <a:lnTo>
                    <a:pt x="473" y="624"/>
                  </a:lnTo>
                  <a:lnTo>
                    <a:pt x="479" y="626"/>
                  </a:lnTo>
                  <a:lnTo>
                    <a:pt x="482" y="628"/>
                  </a:lnTo>
                  <a:lnTo>
                    <a:pt x="484" y="632"/>
                  </a:lnTo>
                  <a:lnTo>
                    <a:pt x="484" y="633"/>
                  </a:lnTo>
                  <a:lnTo>
                    <a:pt x="482" y="635"/>
                  </a:lnTo>
                  <a:lnTo>
                    <a:pt x="477" y="637"/>
                  </a:lnTo>
                  <a:lnTo>
                    <a:pt x="471" y="639"/>
                  </a:lnTo>
                  <a:lnTo>
                    <a:pt x="465" y="639"/>
                  </a:lnTo>
                  <a:lnTo>
                    <a:pt x="462" y="639"/>
                  </a:lnTo>
                  <a:lnTo>
                    <a:pt x="458" y="641"/>
                  </a:lnTo>
                  <a:lnTo>
                    <a:pt x="452" y="643"/>
                  </a:lnTo>
                  <a:lnTo>
                    <a:pt x="446" y="643"/>
                  </a:lnTo>
                  <a:lnTo>
                    <a:pt x="441" y="645"/>
                  </a:lnTo>
                  <a:lnTo>
                    <a:pt x="435" y="645"/>
                  </a:lnTo>
                  <a:lnTo>
                    <a:pt x="429" y="645"/>
                  </a:lnTo>
                  <a:lnTo>
                    <a:pt x="424" y="647"/>
                  </a:lnTo>
                  <a:lnTo>
                    <a:pt x="416" y="649"/>
                  </a:lnTo>
                  <a:lnTo>
                    <a:pt x="410" y="649"/>
                  </a:lnTo>
                  <a:lnTo>
                    <a:pt x="405" y="651"/>
                  </a:lnTo>
                  <a:lnTo>
                    <a:pt x="397" y="652"/>
                  </a:lnTo>
                  <a:lnTo>
                    <a:pt x="391" y="652"/>
                  </a:lnTo>
                  <a:lnTo>
                    <a:pt x="384" y="656"/>
                  </a:lnTo>
                  <a:lnTo>
                    <a:pt x="376" y="658"/>
                  </a:lnTo>
                  <a:lnTo>
                    <a:pt x="368" y="660"/>
                  </a:lnTo>
                  <a:lnTo>
                    <a:pt x="363" y="662"/>
                  </a:lnTo>
                  <a:lnTo>
                    <a:pt x="357" y="664"/>
                  </a:lnTo>
                  <a:lnTo>
                    <a:pt x="349" y="668"/>
                  </a:lnTo>
                  <a:lnTo>
                    <a:pt x="344" y="670"/>
                  </a:lnTo>
                  <a:lnTo>
                    <a:pt x="336" y="671"/>
                  </a:lnTo>
                  <a:lnTo>
                    <a:pt x="330" y="673"/>
                  </a:lnTo>
                  <a:lnTo>
                    <a:pt x="325" y="679"/>
                  </a:lnTo>
                  <a:lnTo>
                    <a:pt x="317" y="681"/>
                  </a:lnTo>
                  <a:lnTo>
                    <a:pt x="311" y="687"/>
                  </a:lnTo>
                  <a:lnTo>
                    <a:pt x="306" y="690"/>
                  </a:lnTo>
                  <a:lnTo>
                    <a:pt x="300" y="696"/>
                  </a:lnTo>
                  <a:lnTo>
                    <a:pt x="292" y="700"/>
                  </a:lnTo>
                  <a:lnTo>
                    <a:pt x="287" y="704"/>
                  </a:lnTo>
                  <a:lnTo>
                    <a:pt x="281" y="709"/>
                  </a:lnTo>
                  <a:lnTo>
                    <a:pt x="275" y="715"/>
                  </a:lnTo>
                  <a:lnTo>
                    <a:pt x="270" y="721"/>
                  </a:lnTo>
                  <a:lnTo>
                    <a:pt x="264" y="727"/>
                  </a:lnTo>
                  <a:lnTo>
                    <a:pt x="258" y="734"/>
                  </a:lnTo>
                  <a:lnTo>
                    <a:pt x="254" y="742"/>
                  </a:lnTo>
                  <a:lnTo>
                    <a:pt x="249" y="748"/>
                  </a:lnTo>
                  <a:lnTo>
                    <a:pt x="243" y="753"/>
                  </a:lnTo>
                  <a:lnTo>
                    <a:pt x="239" y="761"/>
                  </a:lnTo>
                  <a:lnTo>
                    <a:pt x="235" y="767"/>
                  </a:lnTo>
                  <a:lnTo>
                    <a:pt x="230" y="774"/>
                  </a:lnTo>
                  <a:lnTo>
                    <a:pt x="226" y="782"/>
                  </a:lnTo>
                  <a:lnTo>
                    <a:pt x="222" y="789"/>
                  </a:lnTo>
                  <a:lnTo>
                    <a:pt x="218" y="797"/>
                  </a:lnTo>
                  <a:lnTo>
                    <a:pt x="214" y="805"/>
                  </a:lnTo>
                  <a:lnTo>
                    <a:pt x="212" y="812"/>
                  </a:lnTo>
                  <a:lnTo>
                    <a:pt x="209" y="820"/>
                  </a:lnTo>
                  <a:lnTo>
                    <a:pt x="207" y="827"/>
                  </a:lnTo>
                  <a:lnTo>
                    <a:pt x="205" y="835"/>
                  </a:lnTo>
                  <a:lnTo>
                    <a:pt x="203" y="843"/>
                  </a:lnTo>
                  <a:lnTo>
                    <a:pt x="201" y="852"/>
                  </a:lnTo>
                  <a:lnTo>
                    <a:pt x="201" y="860"/>
                  </a:lnTo>
                  <a:lnTo>
                    <a:pt x="199" y="867"/>
                  </a:lnTo>
                  <a:lnTo>
                    <a:pt x="199" y="875"/>
                  </a:lnTo>
                  <a:lnTo>
                    <a:pt x="199" y="883"/>
                  </a:lnTo>
                  <a:lnTo>
                    <a:pt x="199" y="890"/>
                  </a:lnTo>
                  <a:lnTo>
                    <a:pt x="199" y="898"/>
                  </a:lnTo>
                  <a:lnTo>
                    <a:pt x="201" y="907"/>
                  </a:lnTo>
                  <a:lnTo>
                    <a:pt x="203" y="915"/>
                  </a:lnTo>
                  <a:lnTo>
                    <a:pt x="205" y="922"/>
                  </a:lnTo>
                  <a:lnTo>
                    <a:pt x="207" y="930"/>
                  </a:lnTo>
                  <a:lnTo>
                    <a:pt x="209" y="938"/>
                  </a:lnTo>
                  <a:lnTo>
                    <a:pt x="211" y="945"/>
                  </a:lnTo>
                  <a:lnTo>
                    <a:pt x="214" y="955"/>
                  </a:lnTo>
                  <a:lnTo>
                    <a:pt x="218" y="962"/>
                  </a:lnTo>
                  <a:lnTo>
                    <a:pt x="222" y="970"/>
                  </a:lnTo>
                  <a:lnTo>
                    <a:pt x="226" y="978"/>
                  </a:lnTo>
                  <a:lnTo>
                    <a:pt x="230" y="985"/>
                  </a:lnTo>
                  <a:lnTo>
                    <a:pt x="235" y="993"/>
                  </a:lnTo>
                  <a:lnTo>
                    <a:pt x="239" y="1000"/>
                  </a:lnTo>
                  <a:lnTo>
                    <a:pt x="245" y="1006"/>
                  </a:lnTo>
                  <a:lnTo>
                    <a:pt x="251" y="1014"/>
                  </a:lnTo>
                  <a:lnTo>
                    <a:pt x="256" y="1021"/>
                  </a:lnTo>
                  <a:lnTo>
                    <a:pt x="262" y="1029"/>
                  </a:lnTo>
                  <a:lnTo>
                    <a:pt x="268" y="1035"/>
                  </a:lnTo>
                  <a:lnTo>
                    <a:pt x="275" y="1042"/>
                  </a:lnTo>
                  <a:lnTo>
                    <a:pt x="283" y="1048"/>
                  </a:lnTo>
                  <a:lnTo>
                    <a:pt x="289" y="1054"/>
                  </a:lnTo>
                  <a:lnTo>
                    <a:pt x="292" y="1057"/>
                  </a:lnTo>
                  <a:lnTo>
                    <a:pt x="298" y="1061"/>
                  </a:lnTo>
                  <a:lnTo>
                    <a:pt x="302" y="1063"/>
                  </a:lnTo>
                  <a:lnTo>
                    <a:pt x="306" y="1067"/>
                  </a:lnTo>
                  <a:lnTo>
                    <a:pt x="313" y="1073"/>
                  </a:lnTo>
                  <a:lnTo>
                    <a:pt x="323" y="1080"/>
                  </a:lnTo>
                  <a:lnTo>
                    <a:pt x="327" y="1082"/>
                  </a:lnTo>
                  <a:lnTo>
                    <a:pt x="332" y="1084"/>
                  </a:lnTo>
                  <a:lnTo>
                    <a:pt x="336" y="1088"/>
                  </a:lnTo>
                  <a:lnTo>
                    <a:pt x="342" y="1092"/>
                  </a:lnTo>
                  <a:lnTo>
                    <a:pt x="347" y="1094"/>
                  </a:lnTo>
                  <a:lnTo>
                    <a:pt x="351" y="1095"/>
                  </a:lnTo>
                  <a:lnTo>
                    <a:pt x="357" y="1097"/>
                  </a:lnTo>
                  <a:lnTo>
                    <a:pt x="361" y="1101"/>
                  </a:lnTo>
                  <a:lnTo>
                    <a:pt x="365" y="1103"/>
                  </a:lnTo>
                  <a:lnTo>
                    <a:pt x="370" y="1105"/>
                  </a:lnTo>
                  <a:lnTo>
                    <a:pt x="376" y="1109"/>
                  </a:lnTo>
                  <a:lnTo>
                    <a:pt x="382" y="1111"/>
                  </a:lnTo>
                  <a:lnTo>
                    <a:pt x="386" y="1114"/>
                  </a:lnTo>
                  <a:lnTo>
                    <a:pt x="391" y="1116"/>
                  </a:lnTo>
                  <a:lnTo>
                    <a:pt x="397" y="1118"/>
                  </a:lnTo>
                  <a:lnTo>
                    <a:pt x="403" y="1120"/>
                  </a:lnTo>
                  <a:lnTo>
                    <a:pt x="406" y="1122"/>
                  </a:lnTo>
                  <a:lnTo>
                    <a:pt x="412" y="1126"/>
                  </a:lnTo>
                  <a:lnTo>
                    <a:pt x="418" y="1128"/>
                  </a:lnTo>
                  <a:lnTo>
                    <a:pt x="424" y="1132"/>
                  </a:lnTo>
                  <a:lnTo>
                    <a:pt x="427" y="1132"/>
                  </a:lnTo>
                  <a:lnTo>
                    <a:pt x="435" y="1135"/>
                  </a:lnTo>
                  <a:lnTo>
                    <a:pt x="439" y="1137"/>
                  </a:lnTo>
                  <a:lnTo>
                    <a:pt x="444" y="1139"/>
                  </a:lnTo>
                  <a:lnTo>
                    <a:pt x="450" y="1141"/>
                  </a:lnTo>
                  <a:lnTo>
                    <a:pt x="456" y="1143"/>
                  </a:lnTo>
                  <a:lnTo>
                    <a:pt x="462" y="1145"/>
                  </a:lnTo>
                  <a:lnTo>
                    <a:pt x="467" y="1147"/>
                  </a:lnTo>
                  <a:lnTo>
                    <a:pt x="473" y="1149"/>
                  </a:lnTo>
                  <a:lnTo>
                    <a:pt x="479" y="1152"/>
                  </a:lnTo>
                  <a:lnTo>
                    <a:pt x="482" y="1154"/>
                  </a:lnTo>
                  <a:lnTo>
                    <a:pt x="490" y="1156"/>
                  </a:lnTo>
                  <a:lnTo>
                    <a:pt x="496" y="1158"/>
                  </a:lnTo>
                  <a:lnTo>
                    <a:pt x="500" y="1160"/>
                  </a:lnTo>
                  <a:lnTo>
                    <a:pt x="505" y="1164"/>
                  </a:lnTo>
                  <a:lnTo>
                    <a:pt x="513" y="1166"/>
                  </a:lnTo>
                  <a:lnTo>
                    <a:pt x="517" y="1168"/>
                  </a:lnTo>
                  <a:lnTo>
                    <a:pt x="522" y="1170"/>
                  </a:lnTo>
                  <a:lnTo>
                    <a:pt x="526" y="1172"/>
                  </a:lnTo>
                  <a:lnTo>
                    <a:pt x="532" y="1173"/>
                  </a:lnTo>
                  <a:lnTo>
                    <a:pt x="538" y="1175"/>
                  </a:lnTo>
                  <a:lnTo>
                    <a:pt x="541" y="1177"/>
                  </a:lnTo>
                  <a:lnTo>
                    <a:pt x="547" y="1181"/>
                  </a:lnTo>
                  <a:lnTo>
                    <a:pt x="553" y="1183"/>
                  </a:lnTo>
                  <a:lnTo>
                    <a:pt x="557" y="1185"/>
                  </a:lnTo>
                  <a:lnTo>
                    <a:pt x="562" y="1187"/>
                  </a:lnTo>
                  <a:lnTo>
                    <a:pt x="566" y="1191"/>
                  </a:lnTo>
                  <a:lnTo>
                    <a:pt x="572" y="1192"/>
                  </a:lnTo>
                  <a:lnTo>
                    <a:pt x="578" y="1194"/>
                  </a:lnTo>
                  <a:lnTo>
                    <a:pt x="581" y="1198"/>
                  </a:lnTo>
                  <a:lnTo>
                    <a:pt x="587" y="1200"/>
                  </a:lnTo>
                  <a:lnTo>
                    <a:pt x="591" y="1202"/>
                  </a:lnTo>
                  <a:lnTo>
                    <a:pt x="598" y="1208"/>
                  </a:lnTo>
                  <a:lnTo>
                    <a:pt x="608" y="1213"/>
                  </a:lnTo>
                  <a:lnTo>
                    <a:pt x="616" y="1219"/>
                  </a:lnTo>
                  <a:lnTo>
                    <a:pt x="623" y="1225"/>
                  </a:lnTo>
                  <a:lnTo>
                    <a:pt x="629" y="1230"/>
                  </a:lnTo>
                  <a:lnTo>
                    <a:pt x="637" y="1236"/>
                  </a:lnTo>
                  <a:lnTo>
                    <a:pt x="642" y="1244"/>
                  </a:lnTo>
                  <a:lnTo>
                    <a:pt x="648" y="1251"/>
                  </a:lnTo>
                  <a:lnTo>
                    <a:pt x="652" y="1257"/>
                  </a:lnTo>
                  <a:lnTo>
                    <a:pt x="657" y="1265"/>
                  </a:lnTo>
                  <a:lnTo>
                    <a:pt x="659" y="1270"/>
                  </a:lnTo>
                  <a:lnTo>
                    <a:pt x="663" y="1278"/>
                  </a:lnTo>
                  <a:lnTo>
                    <a:pt x="667" y="1286"/>
                  </a:lnTo>
                  <a:lnTo>
                    <a:pt x="669" y="1295"/>
                  </a:lnTo>
                  <a:lnTo>
                    <a:pt x="671" y="1303"/>
                  </a:lnTo>
                  <a:lnTo>
                    <a:pt x="673" y="1310"/>
                  </a:lnTo>
                  <a:lnTo>
                    <a:pt x="673" y="1318"/>
                  </a:lnTo>
                  <a:lnTo>
                    <a:pt x="675" y="1327"/>
                  </a:lnTo>
                  <a:lnTo>
                    <a:pt x="675" y="1331"/>
                  </a:lnTo>
                  <a:lnTo>
                    <a:pt x="675" y="1337"/>
                  </a:lnTo>
                  <a:lnTo>
                    <a:pt x="675" y="1341"/>
                  </a:lnTo>
                  <a:lnTo>
                    <a:pt x="676" y="1346"/>
                  </a:lnTo>
                  <a:lnTo>
                    <a:pt x="675" y="1350"/>
                  </a:lnTo>
                  <a:lnTo>
                    <a:pt x="675" y="1356"/>
                  </a:lnTo>
                  <a:lnTo>
                    <a:pt x="675" y="1360"/>
                  </a:lnTo>
                  <a:lnTo>
                    <a:pt x="675" y="1364"/>
                  </a:lnTo>
                  <a:lnTo>
                    <a:pt x="675" y="1369"/>
                  </a:lnTo>
                  <a:lnTo>
                    <a:pt x="675" y="1373"/>
                  </a:lnTo>
                  <a:lnTo>
                    <a:pt x="675" y="1379"/>
                  </a:lnTo>
                  <a:lnTo>
                    <a:pt x="675" y="1383"/>
                  </a:lnTo>
                  <a:lnTo>
                    <a:pt x="673" y="1388"/>
                  </a:lnTo>
                  <a:lnTo>
                    <a:pt x="673" y="1392"/>
                  </a:lnTo>
                  <a:lnTo>
                    <a:pt x="671" y="1398"/>
                  </a:lnTo>
                  <a:lnTo>
                    <a:pt x="671" y="1402"/>
                  </a:lnTo>
                  <a:lnTo>
                    <a:pt x="669" y="1405"/>
                  </a:lnTo>
                  <a:lnTo>
                    <a:pt x="669" y="1411"/>
                  </a:lnTo>
                  <a:lnTo>
                    <a:pt x="667" y="1415"/>
                  </a:lnTo>
                  <a:lnTo>
                    <a:pt x="667" y="1421"/>
                  </a:lnTo>
                  <a:lnTo>
                    <a:pt x="667" y="1424"/>
                  </a:lnTo>
                  <a:lnTo>
                    <a:pt x="667" y="1430"/>
                  </a:lnTo>
                  <a:lnTo>
                    <a:pt x="665" y="1434"/>
                  </a:lnTo>
                  <a:lnTo>
                    <a:pt x="665" y="1440"/>
                  </a:lnTo>
                  <a:lnTo>
                    <a:pt x="663" y="1443"/>
                  </a:lnTo>
                  <a:lnTo>
                    <a:pt x="663" y="1447"/>
                  </a:lnTo>
                  <a:lnTo>
                    <a:pt x="661" y="1453"/>
                  </a:lnTo>
                  <a:lnTo>
                    <a:pt x="661" y="1459"/>
                  </a:lnTo>
                  <a:lnTo>
                    <a:pt x="659" y="1462"/>
                  </a:lnTo>
                  <a:lnTo>
                    <a:pt x="659" y="1466"/>
                  </a:lnTo>
                  <a:lnTo>
                    <a:pt x="657" y="1472"/>
                  </a:lnTo>
                  <a:lnTo>
                    <a:pt x="657" y="1476"/>
                  </a:lnTo>
                  <a:lnTo>
                    <a:pt x="656" y="1481"/>
                  </a:lnTo>
                  <a:lnTo>
                    <a:pt x="656" y="1485"/>
                  </a:lnTo>
                  <a:lnTo>
                    <a:pt x="654" y="1491"/>
                  </a:lnTo>
                  <a:lnTo>
                    <a:pt x="654" y="1495"/>
                  </a:lnTo>
                  <a:lnTo>
                    <a:pt x="652" y="1499"/>
                  </a:lnTo>
                  <a:lnTo>
                    <a:pt x="652" y="1504"/>
                  </a:lnTo>
                  <a:lnTo>
                    <a:pt x="650" y="1508"/>
                  </a:lnTo>
                  <a:lnTo>
                    <a:pt x="650" y="1512"/>
                  </a:lnTo>
                  <a:lnTo>
                    <a:pt x="650" y="1518"/>
                  </a:lnTo>
                  <a:lnTo>
                    <a:pt x="650" y="1521"/>
                  </a:lnTo>
                  <a:lnTo>
                    <a:pt x="648" y="1527"/>
                  </a:lnTo>
                  <a:lnTo>
                    <a:pt x="648" y="1531"/>
                  </a:lnTo>
                  <a:lnTo>
                    <a:pt x="646" y="1535"/>
                  </a:lnTo>
                  <a:lnTo>
                    <a:pt x="646" y="1538"/>
                  </a:lnTo>
                  <a:lnTo>
                    <a:pt x="646" y="1544"/>
                  </a:lnTo>
                  <a:lnTo>
                    <a:pt x="646" y="1548"/>
                  </a:lnTo>
                  <a:lnTo>
                    <a:pt x="644" y="1552"/>
                  </a:lnTo>
                  <a:lnTo>
                    <a:pt x="644" y="1556"/>
                  </a:lnTo>
                  <a:lnTo>
                    <a:pt x="644" y="1561"/>
                  </a:lnTo>
                  <a:lnTo>
                    <a:pt x="644" y="1565"/>
                  </a:lnTo>
                  <a:lnTo>
                    <a:pt x="642" y="1573"/>
                  </a:lnTo>
                  <a:lnTo>
                    <a:pt x="642" y="1582"/>
                  </a:lnTo>
                  <a:lnTo>
                    <a:pt x="642" y="1590"/>
                  </a:lnTo>
                  <a:lnTo>
                    <a:pt x="644" y="1597"/>
                  </a:lnTo>
                  <a:lnTo>
                    <a:pt x="644" y="1605"/>
                  </a:lnTo>
                  <a:lnTo>
                    <a:pt x="644" y="1613"/>
                  </a:lnTo>
                  <a:lnTo>
                    <a:pt x="644" y="1622"/>
                  </a:lnTo>
                  <a:lnTo>
                    <a:pt x="644" y="1630"/>
                  </a:lnTo>
                  <a:lnTo>
                    <a:pt x="644" y="1637"/>
                  </a:lnTo>
                  <a:lnTo>
                    <a:pt x="646" y="1647"/>
                  </a:lnTo>
                  <a:lnTo>
                    <a:pt x="646" y="1654"/>
                  </a:lnTo>
                  <a:lnTo>
                    <a:pt x="648" y="1662"/>
                  </a:lnTo>
                  <a:lnTo>
                    <a:pt x="650" y="1670"/>
                  </a:lnTo>
                  <a:lnTo>
                    <a:pt x="650" y="1677"/>
                  </a:lnTo>
                  <a:lnTo>
                    <a:pt x="652" y="1685"/>
                  </a:lnTo>
                  <a:lnTo>
                    <a:pt x="654" y="1694"/>
                  </a:lnTo>
                  <a:lnTo>
                    <a:pt x="656" y="1702"/>
                  </a:lnTo>
                  <a:lnTo>
                    <a:pt x="656" y="1710"/>
                  </a:lnTo>
                  <a:lnTo>
                    <a:pt x="657" y="1715"/>
                  </a:lnTo>
                  <a:lnTo>
                    <a:pt x="657" y="1719"/>
                  </a:lnTo>
                  <a:lnTo>
                    <a:pt x="659" y="1723"/>
                  </a:lnTo>
                  <a:lnTo>
                    <a:pt x="659" y="1729"/>
                  </a:lnTo>
                  <a:lnTo>
                    <a:pt x="659" y="1732"/>
                  </a:lnTo>
                  <a:lnTo>
                    <a:pt x="661" y="1736"/>
                  </a:lnTo>
                  <a:lnTo>
                    <a:pt x="661" y="1740"/>
                  </a:lnTo>
                  <a:lnTo>
                    <a:pt x="663" y="1746"/>
                  </a:lnTo>
                  <a:lnTo>
                    <a:pt x="663" y="1749"/>
                  </a:lnTo>
                  <a:lnTo>
                    <a:pt x="665" y="1755"/>
                  </a:lnTo>
                  <a:lnTo>
                    <a:pt x="665" y="1759"/>
                  </a:lnTo>
                  <a:lnTo>
                    <a:pt x="667" y="1765"/>
                  </a:lnTo>
                  <a:lnTo>
                    <a:pt x="667" y="1769"/>
                  </a:lnTo>
                  <a:lnTo>
                    <a:pt x="669" y="1774"/>
                  </a:lnTo>
                  <a:lnTo>
                    <a:pt x="669" y="1778"/>
                  </a:lnTo>
                  <a:lnTo>
                    <a:pt x="671" y="1784"/>
                  </a:lnTo>
                  <a:lnTo>
                    <a:pt x="673" y="1788"/>
                  </a:lnTo>
                  <a:lnTo>
                    <a:pt x="673" y="1791"/>
                  </a:lnTo>
                  <a:lnTo>
                    <a:pt x="675" y="1797"/>
                  </a:lnTo>
                  <a:lnTo>
                    <a:pt x="676" y="1803"/>
                  </a:lnTo>
                  <a:lnTo>
                    <a:pt x="676" y="1807"/>
                  </a:lnTo>
                  <a:lnTo>
                    <a:pt x="676" y="1812"/>
                  </a:lnTo>
                  <a:lnTo>
                    <a:pt x="676" y="1816"/>
                  </a:lnTo>
                  <a:lnTo>
                    <a:pt x="678" y="1822"/>
                  </a:lnTo>
                  <a:lnTo>
                    <a:pt x="680" y="1827"/>
                  </a:lnTo>
                  <a:lnTo>
                    <a:pt x="680" y="1833"/>
                  </a:lnTo>
                  <a:lnTo>
                    <a:pt x="680" y="1837"/>
                  </a:lnTo>
                  <a:lnTo>
                    <a:pt x="682" y="1843"/>
                  </a:lnTo>
                  <a:lnTo>
                    <a:pt x="684" y="1848"/>
                  </a:lnTo>
                  <a:lnTo>
                    <a:pt x="684" y="1854"/>
                  </a:lnTo>
                  <a:lnTo>
                    <a:pt x="686" y="1858"/>
                  </a:lnTo>
                  <a:lnTo>
                    <a:pt x="688" y="1865"/>
                  </a:lnTo>
                  <a:lnTo>
                    <a:pt x="688" y="1869"/>
                  </a:lnTo>
                  <a:lnTo>
                    <a:pt x="690" y="1875"/>
                  </a:lnTo>
                  <a:lnTo>
                    <a:pt x="690" y="1881"/>
                  </a:lnTo>
                  <a:lnTo>
                    <a:pt x="692" y="1886"/>
                  </a:lnTo>
                  <a:lnTo>
                    <a:pt x="694" y="1892"/>
                  </a:lnTo>
                  <a:lnTo>
                    <a:pt x="695" y="1898"/>
                  </a:lnTo>
                  <a:lnTo>
                    <a:pt x="695" y="1902"/>
                  </a:lnTo>
                  <a:lnTo>
                    <a:pt x="697" y="1909"/>
                  </a:lnTo>
                  <a:lnTo>
                    <a:pt x="699" y="1913"/>
                  </a:lnTo>
                  <a:lnTo>
                    <a:pt x="701" y="1919"/>
                  </a:lnTo>
                  <a:lnTo>
                    <a:pt x="703" y="1924"/>
                  </a:lnTo>
                  <a:lnTo>
                    <a:pt x="705" y="1930"/>
                  </a:lnTo>
                  <a:lnTo>
                    <a:pt x="707" y="1934"/>
                  </a:lnTo>
                  <a:lnTo>
                    <a:pt x="709" y="1942"/>
                  </a:lnTo>
                  <a:lnTo>
                    <a:pt x="713" y="1945"/>
                  </a:lnTo>
                  <a:lnTo>
                    <a:pt x="714" y="1951"/>
                  </a:lnTo>
                  <a:lnTo>
                    <a:pt x="716" y="1957"/>
                  </a:lnTo>
                  <a:lnTo>
                    <a:pt x="718" y="1962"/>
                  </a:lnTo>
                  <a:lnTo>
                    <a:pt x="722" y="1968"/>
                  </a:lnTo>
                  <a:lnTo>
                    <a:pt x="724" y="1974"/>
                  </a:lnTo>
                  <a:lnTo>
                    <a:pt x="726" y="1980"/>
                  </a:lnTo>
                  <a:lnTo>
                    <a:pt x="730" y="1985"/>
                  </a:lnTo>
                  <a:lnTo>
                    <a:pt x="732" y="1989"/>
                  </a:lnTo>
                  <a:lnTo>
                    <a:pt x="735" y="1995"/>
                  </a:lnTo>
                  <a:lnTo>
                    <a:pt x="737" y="1999"/>
                  </a:lnTo>
                  <a:lnTo>
                    <a:pt x="741" y="2004"/>
                  </a:lnTo>
                  <a:lnTo>
                    <a:pt x="745" y="2010"/>
                  </a:lnTo>
                  <a:lnTo>
                    <a:pt x="749" y="2016"/>
                  </a:lnTo>
                  <a:lnTo>
                    <a:pt x="751" y="2019"/>
                  </a:lnTo>
                  <a:lnTo>
                    <a:pt x="756" y="2023"/>
                  </a:lnTo>
                  <a:lnTo>
                    <a:pt x="758" y="2029"/>
                  </a:lnTo>
                  <a:lnTo>
                    <a:pt x="764" y="2035"/>
                  </a:lnTo>
                  <a:lnTo>
                    <a:pt x="768" y="2038"/>
                  </a:lnTo>
                  <a:lnTo>
                    <a:pt x="772" y="2044"/>
                  </a:lnTo>
                  <a:lnTo>
                    <a:pt x="777" y="2048"/>
                  </a:lnTo>
                  <a:lnTo>
                    <a:pt x="781" y="2054"/>
                  </a:lnTo>
                  <a:lnTo>
                    <a:pt x="785" y="2058"/>
                  </a:lnTo>
                  <a:lnTo>
                    <a:pt x="791" y="2061"/>
                  </a:lnTo>
                  <a:lnTo>
                    <a:pt x="794" y="2065"/>
                  </a:lnTo>
                  <a:lnTo>
                    <a:pt x="800" y="2069"/>
                  </a:lnTo>
                  <a:lnTo>
                    <a:pt x="806" y="2073"/>
                  </a:lnTo>
                  <a:lnTo>
                    <a:pt x="811" y="2077"/>
                  </a:lnTo>
                  <a:lnTo>
                    <a:pt x="815" y="2080"/>
                  </a:lnTo>
                  <a:lnTo>
                    <a:pt x="823" y="2086"/>
                  </a:lnTo>
                  <a:lnTo>
                    <a:pt x="827" y="2088"/>
                  </a:lnTo>
                  <a:lnTo>
                    <a:pt x="834" y="2092"/>
                  </a:lnTo>
                  <a:lnTo>
                    <a:pt x="840" y="2096"/>
                  </a:lnTo>
                  <a:lnTo>
                    <a:pt x="846" y="2099"/>
                  </a:lnTo>
                  <a:lnTo>
                    <a:pt x="851" y="2103"/>
                  </a:lnTo>
                  <a:lnTo>
                    <a:pt x="859" y="2105"/>
                  </a:lnTo>
                  <a:lnTo>
                    <a:pt x="867" y="2109"/>
                  </a:lnTo>
                  <a:lnTo>
                    <a:pt x="874" y="2113"/>
                  </a:lnTo>
                  <a:lnTo>
                    <a:pt x="882" y="2115"/>
                  </a:lnTo>
                  <a:lnTo>
                    <a:pt x="888" y="2116"/>
                  </a:lnTo>
                  <a:lnTo>
                    <a:pt x="895" y="2120"/>
                  </a:lnTo>
                  <a:lnTo>
                    <a:pt x="903" y="2122"/>
                  </a:lnTo>
                  <a:lnTo>
                    <a:pt x="908" y="2126"/>
                  </a:lnTo>
                  <a:lnTo>
                    <a:pt x="916" y="2128"/>
                  </a:lnTo>
                  <a:lnTo>
                    <a:pt x="924" y="2130"/>
                  </a:lnTo>
                  <a:lnTo>
                    <a:pt x="933" y="2132"/>
                  </a:lnTo>
                  <a:lnTo>
                    <a:pt x="939" y="2134"/>
                  </a:lnTo>
                  <a:lnTo>
                    <a:pt x="946" y="2135"/>
                  </a:lnTo>
                  <a:lnTo>
                    <a:pt x="954" y="2137"/>
                  </a:lnTo>
                  <a:lnTo>
                    <a:pt x="962" y="2139"/>
                  </a:lnTo>
                  <a:lnTo>
                    <a:pt x="969" y="2141"/>
                  </a:lnTo>
                  <a:lnTo>
                    <a:pt x="977" y="2143"/>
                  </a:lnTo>
                  <a:lnTo>
                    <a:pt x="984" y="2145"/>
                  </a:lnTo>
                  <a:lnTo>
                    <a:pt x="994" y="2147"/>
                  </a:lnTo>
                  <a:lnTo>
                    <a:pt x="1000" y="2147"/>
                  </a:lnTo>
                  <a:lnTo>
                    <a:pt x="1007" y="2149"/>
                  </a:lnTo>
                  <a:lnTo>
                    <a:pt x="1015" y="2151"/>
                  </a:lnTo>
                  <a:lnTo>
                    <a:pt x="1024" y="2153"/>
                  </a:lnTo>
                  <a:lnTo>
                    <a:pt x="1032" y="2153"/>
                  </a:lnTo>
                  <a:lnTo>
                    <a:pt x="1040" y="2154"/>
                  </a:lnTo>
                  <a:lnTo>
                    <a:pt x="1047" y="2154"/>
                  </a:lnTo>
                  <a:lnTo>
                    <a:pt x="1055" y="2156"/>
                  </a:lnTo>
                  <a:lnTo>
                    <a:pt x="1062" y="2158"/>
                  </a:lnTo>
                  <a:lnTo>
                    <a:pt x="1070" y="2158"/>
                  </a:lnTo>
                  <a:lnTo>
                    <a:pt x="1078" y="2158"/>
                  </a:lnTo>
                  <a:lnTo>
                    <a:pt x="1085" y="2160"/>
                  </a:lnTo>
                  <a:lnTo>
                    <a:pt x="1093" y="2160"/>
                  </a:lnTo>
                  <a:lnTo>
                    <a:pt x="1100" y="2162"/>
                  </a:lnTo>
                  <a:lnTo>
                    <a:pt x="1108" y="2162"/>
                  </a:lnTo>
                  <a:lnTo>
                    <a:pt x="1118" y="2164"/>
                  </a:lnTo>
                  <a:lnTo>
                    <a:pt x="1125" y="2164"/>
                  </a:lnTo>
                  <a:lnTo>
                    <a:pt x="1133" y="2164"/>
                  </a:lnTo>
                  <a:lnTo>
                    <a:pt x="1140" y="2164"/>
                  </a:lnTo>
                  <a:lnTo>
                    <a:pt x="1148" y="2164"/>
                  </a:lnTo>
                  <a:lnTo>
                    <a:pt x="1154" y="2164"/>
                  </a:lnTo>
                  <a:lnTo>
                    <a:pt x="1163" y="2164"/>
                  </a:lnTo>
                  <a:lnTo>
                    <a:pt x="1171" y="2164"/>
                  </a:lnTo>
                  <a:lnTo>
                    <a:pt x="1178" y="2164"/>
                  </a:lnTo>
                  <a:lnTo>
                    <a:pt x="1186" y="2162"/>
                  </a:lnTo>
                  <a:lnTo>
                    <a:pt x="1194" y="2162"/>
                  </a:lnTo>
                  <a:lnTo>
                    <a:pt x="1201" y="2162"/>
                  </a:lnTo>
                  <a:lnTo>
                    <a:pt x="1209" y="2162"/>
                  </a:lnTo>
                  <a:lnTo>
                    <a:pt x="1216" y="2160"/>
                  </a:lnTo>
                  <a:lnTo>
                    <a:pt x="1224" y="2160"/>
                  </a:lnTo>
                  <a:lnTo>
                    <a:pt x="1232" y="2158"/>
                  </a:lnTo>
                  <a:lnTo>
                    <a:pt x="1239" y="2158"/>
                  </a:lnTo>
                  <a:lnTo>
                    <a:pt x="1247" y="2158"/>
                  </a:lnTo>
                  <a:lnTo>
                    <a:pt x="1254" y="2156"/>
                  </a:lnTo>
                  <a:lnTo>
                    <a:pt x="1260" y="2154"/>
                  </a:lnTo>
                  <a:lnTo>
                    <a:pt x="1268" y="2154"/>
                  </a:lnTo>
                  <a:lnTo>
                    <a:pt x="1275" y="2153"/>
                  </a:lnTo>
                  <a:lnTo>
                    <a:pt x="1283" y="2153"/>
                  </a:lnTo>
                  <a:lnTo>
                    <a:pt x="1289" y="2151"/>
                  </a:lnTo>
                  <a:lnTo>
                    <a:pt x="1298" y="2151"/>
                  </a:lnTo>
                  <a:lnTo>
                    <a:pt x="1304" y="2147"/>
                  </a:lnTo>
                  <a:lnTo>
                    <a:pt x="1312" y="2147"/>
                  </a:lnTo>
                  <a:lnTo>
                    <a:pt x="1319" y="2145"/>
                  </a:lnTo>
                  <a:lnTo>
                    <a:pt x="1325" y="2143"/>
                  </a:lnTo>
                  <a:lnTo>
                    <a:pt x="1332" y="2141"/>
                  </a:lnTo>
                  <a:lnTo>
                    <a:pt x="1340" y="2139"/>
                  </a:lnTo>
                  <a:lnTo>
                    <a:pt x="1346" y="2137"/>
                  </a:lnTo>
                  <a:lnTo>
                    <a:pt x="1353" y="2137"/>
                  </a:lnTo>
                  <a:lnTo>
                    <a:pt x="1361" y="2134"/>
                  </a:lnTo>
                  <a:lnTo>
                    <a:pt x="1367" y="2132"/>
                  </a:lnTo>
                  <a:lnTo>
                    <a:pt x="1372" y="2130"/>
                  </a:lnTo>
                  <a:lnTo>
                    <a:pt x="1380" y="2126"/>
                  </a:lnTo>
                  <a:lnTo>
                    <a:pt x="1386" y="2124"/>
                  </a:lnTo>
                  <a:lnTo>
                    <a:pt x="1391" y="2122"/>
                  </a:lnTo>
                  <a:lnTo>
                    <a:pt x="1397" y="2120"/>
                  </a:lnTo>
                  <a:lnTo>
                    <a:pt x="1403" y="2116"/>
                  </a:lnTo>
                  <a:lnTo>
                    <a:pt x="1407" y="2115"/>
                  </a:lnTo>
                  <a:lnTo>
                    <a:pt x="1412" y="2111"/>
                  </a:lnTo>
                  <a:lnTo>
                    <a:pt x="1418" y="2109"/>
                  </a:lnTo>
                  <a:lnTo>
                    <a:pt x="1424" y="2107"/>
                  </a:lnTo>
                  <a:lnTo>
                    <a:pt x="1428" y="2103"/>
                  </a:lnTo>
                  <a:lnTo>
                    <a:pt x="1433" y="2099"/>
                  </a:lnTo>
                  <a:lnTo>
                    <a:pt x="1439" y="2097"/>
                  </a:lnTo>
                  <a:lnTo>
                    <a:pt x="1445" y="2096"/>
                  </a:lnTo>
                  <a:lnTo>
                    <a:pt x="1448" y="2092"/>
                  </a:lnTo>
                  <a:lnTo>
                    <a:pt x="1452" y="2090"/>
                  </a:lnTo>
                  <a:lnTo>
                    <a:pt x="1458" y="2086"/>
                  </a:lnTo>
                  <a:lnTo>
                    <a:pt x="1462" y="2084"/>
                  </a:lnTo>
                  <a:lnTo>
                    <a:pt x="1466" y="2080"/>
                  </a:lnTo>
                  <a:lnTo>
                    <a:pt x="1469" y="2078"/>
                  </a:lnTo>
                  <a:lnTo>
                    <a:pt x="1475" y="2075"/>
                  </a:lnTo>
                  <a:lnTo>
                    <a:pt x="1479" y="2073"/>
                  </a:lnTo>
                  <a:lnTo>
                    <a:pt x="1486" y="2067"/>
                  </a:lnTo>
                  <a:lnTo>
                    <a:pt x="1494" y="2061"/>
                  </a:lnTo>
                  <a:lnTo>
                    <a:pt x="1502" y="2056"/>
                  </a:lnTo>
                  <a:lnTo>
                    <a:pt x="1511" y="2052"/>
                  </a:lnTo>
                  <a:lnTo>
                    <a:pt x="1517" y="2044"/>
                  </a:lnTo>
                  <a:lnTo>
                    <a:pt x="1524" y="2040"/>
                  </a:lnTo>
                  <a:lnTo>
                    <a:pt x="1532" y="2035"/>
                  </a:lnTo>
                  <a:lnTo>
                    <a:pt x="1538" y="2029"/>
                  </a:lnTo>
                  <a:lnTo>
                    <a:pt x="1545" y="2025"/>
                  </a:lnTo>
                  <a:lnTo>
                    <a:pt x="1553" y="2019"/>
                  </a:lnTo>
                  <a:lnTo>
                    <a:pt x="1559" y="2016"/>
                  </a:lnTo>
                  <a:lnTo>
                    <a:pt x="1566" y="2012"/>
                  </a:lnTo>
                  <a:lnTo>
                    <a:pt x="1574" y="2006"/>
                  </a:lnTo>
                  <a:lnTo>
                    <a:pt x="1582" y="2004"/>
                  </a:lnTo>
                  <a:lnTo>
                    <a:pt x="1589" y="2000"/>
                  </a:lnTo>
                  <a:lnTo>
                    <a:pt x="1597" y="1999"/>
                  </a:lnTo>
                  <a:lnTo>
                    <a:pt x="1604" y="1995"/>
                  </a:lnTo>
                  <a:lnTo>
                    <a:pt x="1612" y="1993"/>
                  </a:lnTo>
                  <a:lnTo>
                    <a:pt x="1618" y="1991"/>
                  </a:lnTo>
                  <a:lnTo>
                    <a:pt x="1621" y="1991"/>
                  </a:lnTo>
                  <a:lnTo>
                    <a:pt x="1625" y="1989"/>
                  </a:lnTo>
                  <a:lnTo>
                    <a:pt x="1631" y="1989"/>
                  </a:lnTo>
                  <a:lnTo>
                    <a:pt x="1635" y="1989"/>
                  </a:lnTo>
                  <a:lnTo>
                    <a:pt x="1639" y="1987"/>
                  </a:lnTo>
                  <a:lnTo>
                    <a:pt x="1642" y="1987"/>
                  </a:lnTo>
                  <a:lnTo>
                    <a:pt x="1648" y="1987"/>
                  </a:lnTo>
                  <a:lnTo>
                    <a:pt x="1652" y="1985"/>
                  </a:lnTo>
                  <a:lnTo>
                    <a:pt x="1658" y="1985"/>
                  </a:lnTo>
                  <a:lnTo>
                    <a:pt x="1661" y="1985"/>
                  </a:lnTo>
                  <a:lnTo>
                    <a:pt x="1667" y="1985"/>
                  </a:lnTo>
                  <a:lnTo>
                    <a:pt x="1671" y="1985"/>
                  </a:lnTo>
                  <a:lnTo>
                    <a:pt x="1677" y="1985"/>
                  </a:lnTo>
                  <a:lnTo>
                    <a:pt x="1680" y="1985"/>
                  </a:lnTo>
                  <a:lnTo>
                    <a:pt x="1686" y="1985"/>
                  </a:lnTo>
                  <a:lnTo>
                    <a:pt x="1690" y="1985"/>
                  </a:lnTo>
                  <a:lnTo>
                    <a:pt x="1696" y="1985"/>
                  </a:lnTo>
                  <a:lnTo>
                    <a:pt x="1701" y="1985"/>
                  </a:lnTo>
                  <a:lnTo>
                    <a:pt x="1707" y="1987"/>
                  </a:lnTo>
                  <a:lnTo>
                    <a:pt x="1711" y="1987"/>
                  </a:lnTo>
                  <a:lnTo>
                    <a:pt x="1717" y="1987"/>
                  </a:lnTo>
                  <a:lnTo>
                    <a:pt x="1722" y="1987"/>
                  </a:lnTo>
                  <a:lnTo>
                    <a:pt x="1728" y="1987"/>
                  </a:lnTo>
                  <a:lnTo>
                    <a:pt x="1732" y="1987"/>
                  </a:lnTo>
                  <a:lnTo>
                    <a:pt x="1737" y="1989"/>
                  </a:lnTo>
                  <a:lnTo>
                    <a:pt x="1743" y="1989"/>
                  </a:lnTo>
                  <a:lnTo>
                    <a:pt x="1749" y="1991"/>
                  </a:lnTo>
                  <a:lnTo>
                    <a:pt x="1755" y="1991"/>
                  </a:lnTo>
                  <a:lnTo>
                    <a:pt x="1760" y="1991"/>
                  </a:lnTo>
                  <a:lnTo>
                    <a:pt x="1764" y="1993"/>
                  </a:lnTo>
                  <a:lnTo>
                    <a:pt x="1772" y="1993"/>
                  </a:lnTo>
                  <a:lnTo>
                    <a:pt x="1777" y="1995"/>
                  </a:lnTo>
                  <a:lnTo>
                    <a:pt x="1783" y="1995"/>
                  </a:lnTo>
                  <a:lnTo>
                    <a:pt x="1789" y="1995"/>
                  </a:lnTo>
                  <a:lnTo>
                    <a:pt x="1794" y="1997"/>
                  </a:lnTo>
                  <a:lnTo>
                    <a:pt x="1798" y="1997"/>
                  </a:lnTo>
                  <a:lnTo>
                    <a:pt x="1806" y="1999"/>
                  </a:lnTo>
                  <a:lnTo>
                    <a:pt x="1812" y="1999"/>
                  </a:lnTo>
                  <a:lnTo>
                    <a:pt x="1817" y="2000"/>
                  </a:lnTo>
                  <a:lnTo>
                    <a:pt x="1821" y="2000"/>
                  </a:lnTo>
                  <a:lnTo>
                    <a:pt x="1827" y="2002"/>
                  </a:lnTo>
                  <a:lnTo>
                    <a:pt x="1833" y="2002"/>
                  </a:lnTo>
                  <a:lnTo>
                    <a:pt x="1840" y="2004"/>
                  </a:lnTo>
                  <a:lnTo>
                    <a:pt x="1844" y="2004"/>
                  </a:lnTo>
                  <a:lnTo>
                    <a:pt x="1850" y="2006"/>
                  </a:lnTo>
                  <a:lnTo>
                    <a:pt x="1855" y="2006"/>
                  </a:lnTo>
                  <a:lnTo>
                    <a:pt x="1861" y="2008"/>
                  </a:lnTo>
                  <a:lnTo>
                    <a:pt x="1867" y="2010"/>
                  </a:lnTo>
                  <a:lnTo>
                    <a:pt x="1872" y="2012"/>
                  </a:lnTo>
                  <a:lnTo>
                    <a:pt x="1878" y="2012"/>
                  </a:lnTo>
                  <a:lnTo>
                    <a:pt x="1886" y="2014"/>
                  </a:lnTo>
                  <a:lnTo>
                    <a:pt x="1890" y="2014"/>
                  </a:lnTo>
                  <a:lnTo>
                    <a:pt x="1895" y="2016"/>
                  </a:lnTo>
                  <a:lnTo>
                    <a:pt x="1901" y="2016"/>
                  </a:lnTo>
                  <a:lnTo>
                    <a:pt x="1907" y="2018"/>
                  </a:lnTo>
                  <a:lnTo>
                    <a:pt x="1912" y="2018"/>
                  </a:lnTo>
                  <a:lnTo>
                    <a:pt x="1918" y="2019"/>
                  </a:lnTo>
                  <a:lnTo>
                    <a:pt x="1924" y="2019"/>
                  </a:lnTo>
                  <a:lnTo>
                    <a:pt x="1929" y="2021"/>
                  </a:lnTo>
                  <a:lnTo>
                    <a:pt x="1933" y="2023"/>
                  </a:lnTo>
                  <a:lnTo>
                    <a:pt x="1941" y="2023"/>
                  </a:lnTo>
                  <a:lnTo>
                    <a:pt x="1945" y="2025"/>
                  </a:lnTo>
                  <a:lnTo>
                    <a:pt x="1950" y="2027"/>
                  </a:lnTo>
                  <a:lnTo>
                    <a:pt x="1956" y="2027"/>
                  </a:lnTo>
                  <a:lnTo>
                    <a:pt x="1962" y="2029"/>
                  </a:lnTo>
                  <a:lnTo>
                    <a:pt x="1966" y="2029"/>
                  </a:lnTo>
                  <a:lnTo>
                    <a:pt x="1973" y="2031"/>
                  </a:lnTo>
                  <a:lnTo>
                    <a:pt x="1977" y="2031"/>
                  </a:lnTo>
                  <a:lnTo>
                    <a:pt x="1983" y="2033"/>
                  </a:lnTo>
                  <a:lnTo>
                    <a:pt x="1988" y="2033"/>
                  </a:lnTo>
                  <a:lnTo>
                    <a:pt x="1994" y="2033"/>
                  </a:lnTo>
                  <a:lnTo>
                    <a:pt x="1998" y="2033"/>
                  </a:lnTo>
                  <a:lnTo>
                    <a:pt x="2004" y="2035"/>
                  </a:lnTo>
                  <a:lnTo>
                    <a:pt x="2009" y="2035"/>
                  </a:lnTo>
                  <a:lnTo>
                    <a:pt x="2015" y="2037"/>
                  </a:lnTo>
                  <a:lnTo>
                    <a:pt x="2021" y="2037"/>
                  </a:lnTo>
                  <a:lnTo>
                    <a:pt x="2026" y="2037"/>
                  </a:lnTo>
                  <a:lnTo>
                    <a:pt x="2030" y="2037"/>
                  </a:lnTo>
                  <a:lnTo>
                    <a:pt x="2038" y="2037"/>
                  </a:lnTo>
                  <a:lnTo>
                    <a:pt x="2042" y="2037"/>
                  </a:lnTo>
                  <a:lnTo>
                    <a:pt x="2049" y="2038"/>
                  </a:lnTo>
                  <a:lnTo>
                    <a:pt x="2055" y="2038"/>
                  </a:lnTo>
                  <a:lnTo>
                    <a:pt x="2061" y="2038"/>
                  </a:lnTo>
                  <a:lnTo>
                    <a:pt x="2065" y="2038"/>
                  </a:lnTo>
                  <a:lnTo>
                    <a:pt x="2072" y="2038"/>
                  </a:lnTo>
                  <a:lnTo>
                    <a:pt x="2076" y="2038"/>
                  </a:lnTo>
                  <a:lnTo>
                    <a:pt x="2082" y="2038"/>
                  </a:lnTo>
                  <a:lnTo>
                    <a:pt x="2087" y="2038"/>
                  </a:lnTo>
                  <a:lnTo>
                    <a:pt x="2093" y="2038"/>
                  </a:lnTo>
                  <a:lnTo>
                    <a:pt x="2097" y="2038"/>
                  </a:lnTo>
                  <a:lnTo>
                    <a:pt x="2104" y="2038"/>
                  </a:lnTo>
                  <a:lnTo>
                    <a:pt x="2108" y="2037"/>
                  </a:lnTo>
                  <a:lnTo>
                    <a:pt x="2114" y="2037"/>
                  </a:lnTo>
                  <a:lnTo>
                    <a:pt x="2120" y="2037"/>
                  </a:lnTo>
                  <a:lnTo>
                    <a:pt x="2125" y="2037"/>
                  </a:lnTo>
                  <a:lnTo>
                    <a:pt x="2129" y="2035"/>
                  </a:lnTo>
                  <a:lnTo>
                    <a:pt x="2135" y="2035"/>
                  </a:lnTo>
                  <a:lnTo>
                    <a:pt x="2141" y="2035"/>
                  </a:lnTo>
                  <a:lnTo>
                    <a:pt x="2146" y="2035"/>
                  </a:lnTo>
                  <a:lnTo>
                    <a:pt x="2150" y="2033"/>
                  </a:lnTo>
                  <a:lnTo>
                    <a:pt x="2156" y="2033"/>
                  </a:lnTo>
                  <a:lnTo>
                    <a:pt x="2160" y="2031"/>
                  </a:lnTo>
                  <a:lnTo>
                    <a:pt x="2165" y="2031"/>
                  </a:lnTo>
                  <a:lnTo>
                    <a:pt x="2171" y="2029"/>
                  </a:lnTo>
                  <a:lnTo>
                    <a:pt x="2175" y="2027"/>
                  </a:lnTo>
                  <a:lnTo>
                    <a:pt x="2180" y="2027"/>
                  </a:lnTo>
                  <a:lnTo>
                    <a:pt x="2184" y="2027"/>
                  </a:lnTo>
                  <a:lnTo>
                    <a:pt x="2192" y="2023"/>
                  </a:lnTo>
                  <a:lnTo>
                    <a:pt x="2201" y="2021"/>
                  </a:lnTo>
                  <a:lnTo>
                    <a:pt x="2209" y="2018"/>
                  </a:lnTo>
                  <a:lnTo>
                    <a:pt x="2217" y="2016"/>
                  </a:lnTo>
                  <a:lnTo>
                    <a:pt x="2222" y="2012"/>
                  </a:lnTo>
                  <a:lnTo>
                    <a:pt x="2230" y="2008"/>
                  </a:lnTo>
                  <a:lnTo>
                    <a:pt x="2236" y="2004"/>
                  </a:lnTo>
                  <a:lnTo>
                    <a:pt x="2241" y="2000"/>
                  </a:lnTo>
                  <a:lnTo>
                    <a:pt x="2247" y="1997"/>
                  </a:lnTo>
                  <a:lnTo>
                    <a:pt x="2251" y="1991"/>
                  </a:lnTo>
                  <a:lnTo>
                    <a:pt x="2255" y="1987"/>
                  </a:lnTo>
                  <a:lnTo>
                    <a:pt x="2258" y="1981"/>
                  </a:lnTo>
                  <a:lnTo>
                    <a:pt x="2260" y="1976"/>
                  </a:lnTo>
                  <a:lnTo>
                    <a:pt x="2262" y="1970"/>
                  </a:lnTo>
                  <a:lnTo>
                    <a:pt x="2264" y="1964"/>
                  </a:lnTo>
                  <a:lnTo>
                    <a:pt x="2268" y="1959"/>
                  </a:lnTo>
                  <a:lnTo>
                    <a:pt x="2270" y="1951"/>
                  </a:lnTo>
                  <a:lnTo>
                    <a:pt x="2272" y="1945"/>
                  </a:lnTo>
                  <a:lnTo>
                    <a:pt x="2274" y="1938"/>
                  </a:lnTo>
                  <a:lnTo>
                    <a:pt x="2276" y="1932"/>
                  </a:lnTo>
                  <a:lnTo>
                    <a:pt x="2277" y="1924"/>
                  </a:lnTo>
                  <a:lnTo>
                    <a:pt x="2279" y="1917"/>
                  </a:lnTo>
                  <a:lnTo>
                    <a:pt x="2281" y="1909"/>
                  </a:lnTo>
                  <a:lnTo>
                    <a:pt x="2283" y="1902"/>
                  </a:lnTo>
                  <a:lnTo>
                    <a:pt x="2283" y="1894"/>
                  </a:lnTo>
                  <a:lnTo>
                    <a:pt x="2285" y="1886"/>
                  </a:lnTo>
                  <a:lnTo>
                    <a:pt x="2285" y="1881"/>
                  </a:lnTo>
                  <a:lnTo>
                    <a:pt x="2287" y="1873"/>
                  </a:lnTo>
                  <a:lnTo>
                    <a:pt x="2285" y="1865"/>
                  </a:lnTo>
                  <a:lnTo>
                    <a:pt x="2285" y="1858"/>
                  </a:lnTo>
                  <a:lnTo>
                    <a:pt x="2285" y="1850"/>
                  </a:lnTo>
                  <a:lnTo>
                    <a:pt x="2285" y="1843"/>
                  </a:lnTo>
                  <a:lnTo>
                    <a:pt x="2283" y="1835"/>
                  </a:lnTo>
                  <a:lnTo>
                    <a:pt x="2283" y="1829"/>
                  </a:lnTo>
                  <a:lnTo>
                    <a:pt x="2281" y="1822"/>
                  </a:lnTo>
                  <a:lnTo>
                    <a:pt x="2279" y="1816"/>
                  </a:lnTo>
                  <a:lnTo>
                    <a:pt x="2277" y="1808"/>
                  </a:lnTo>
                  <a:lnTo>
                    <a:pt x="2276" y="1803"/>
                  </a:lnTo>
                  <a:lnTo>
                    <a:pt x="2272" y="1797"/>
                  </a:lnTo>
                  <a:lnTo>
                    <a:pt x="2268" y="1793"/>
                  </a:lnTo>
                  <a:lnTo>
                    <a:pt x="2264" y="1788"/>
                  </a:lnTo>
                  <a:lnTo>
                    <a:pt x="2260" y="1784"/>
                  </a:lnTo>
                  <a:lnTo>
                    <a:pt x="2257" y="1778"/>
                  </a:lnTo>
                  <a:lnTo>
                    <a:pt x="2253" y="1776"/>
                  </a:lnTo>
                  <a:lnTo>
                    <a:pt x="2247" y="1772"/>
                  </a:lnTo>
                  <a:lnTo>
                    <a:pt x="2241" y="1769"/>
                  </a:lnTo>
                  <a:lnTo>
                    <a:pt x="2236" y="1767"/>
                  </a:lnTo>
                  <a:lnTo>
                    <a:pt x="2230" y="1765"/>
                  </a:lnTo>
                  <a:lnTo>
                    <a:pt x="2222" y="1763"/>
                  </a:lnTo>
                  <a:lnTo>
                    <a:pt x="2215" y="1761"/>
                  </a:lnTo>
                  <a:lnTo>
                    <a:pt x="2207" y="1761"/>
                  </a:lnTo>
                  <a:lnTo>
                    <a:pt x="2201" y="1761"/>
                  </a:lnTo>
                  <a:lnTo>
                    <a:pt x="2196" y="1759"/>
                  </a:lnTo>
                  <a:lnTo>
                    <a:pt x="2192" y="1759"/>
                  </a:lnTo>
                  <a:lnTo>
                    <a:pt x="2188" y="1759"/>
                  </a:lnTo>
                  <a:lnTo>
                    <a:pt x="2184" y="1759"/>
                  </a:lnTo>
                  <a:lnTo>
                    <a:pt x="2179" y="1759"/>
                  </a:lnTo>
                  <a:lnTo>
                    <a:pt x="2175" y="1759"/>
                  </a:lnTo>
                  <a:lnTo>
                    <a:pt x="2171" y="1759"/>
                  </a:lnTo>
                  <a:lnTo>
                    <a:pt x="2167" y="1759"/>
                  </a:lnTo>
                  <a:lnTo>
                    <a:pt x="2161" y="1759"/>
                  </a:lnTo>
                  <a:lnTo>
                    <a:pt x="2156" y="1759"/>
                  </a:lnTo>
                  <a:lnTo>
                    <a:pt x="2152" y="1759"/>
                  </a:lnTo>
                  <a:lnTo>
                    <a:pt x="2146" y="1759"/>
                  </a:lnTo>
                  <a:lnTo>
                    <a:pt x="2142" y="1759"/>
                  </a:lnTo>
                  <a:lnTo>
                    <a:pt x="2139" y="1759"/>
                  </a:lnTo>
                  <a:lnTo>
                    <a:pt x="2133" y="1759"/>
                  </a:lnTo>
                  <a:lnTo>
                    <a:pt x="2129" y="1761"/>
                  </a:lnTo>
                  <a:lnTo>
                    <a:pt x="2123" y="1761"/>
                  </a:lnTo>
                  <a:lnTo>
                    <a:pt x="2118" y="1761"/>
                  </a:lnTo>
                  <a:lnTo>
                    <a:pt x="2112" y="1761"/>
                  </a:lnTo>
                  <a:lnTo>
                    <a:pt x="2108" y="1761"/>
                  </a:lnTo>
                  <a:lnTo>
                    <a:pt x="2103" y="1761"/>
                  </a:lnTo>
                  <a:lnTo>
                    <a:pt x="2097" y="1761"/>
                  </a:lnTo>
                  <a:lnTo>
                    <a:pt x="2091" y="1761"/>
                  </a:lnTo>
                  <a:lnTo>
                    <a:pt x="2087" y="1761"/>
                  </a:lnTo>
                  <a:lnTo>
                    <a:pt x="2080" y="1761"/>
                  </a:lnTo>
                  <a:lnTo>
                    <a:pt x="2076" y="1761"/>
                  </a:lnTo>
                  <a:lnTo>
                    <a:pt x="2070" y="1761"/>
                  </a:lnTo>
                  <a:lnTo>
                    <a:pt x="2065" y="1761"/>
                  </a:lnTo>
                  <a:lnTo>
                    <a:pt x="2059" y="1761"/>
                  </a:lnTo>
                  <a:lnTo>
                    <a:pt x="2055" y="1761"/>
                  </a:lnTo>
                  <a:lnTo>
                    <a:pt x="2047" y="1761"/>
                  </a:lnTo>
                  <a:lnTo>
                    <a:pt x="2044" y="1761"/>
                  </a:lnTo>
                  <a:lnTo>
                    <a:pt x="2038" y="1761"/>
                  </a:lnTo>
                  <a:lnTo>
                    <a:pt x="2032" y="1761"/>
                  </a:lnTo>
                  <a:lnTo>
                    <a:pt x="2025" y="1761"/>
                  </a:lnTo>
                  <a:lnTo>
                    <a:pt x="2021" y="1761"/>
                  </a:lnTo>
                  <a:lnTo>
                    <a:pt x="2013" y="1761"/>
                  </a:lnTo>
                  <a:lnTo>
                    <a:pt x="2007" y="1761"/>
                  </a:lnTo>
                  <a:lnTo>
                    <a:pt x="2002" y="1759"/>
                  </a:lnTo>
                  <a:lnTo>
                    <a:pt x="1996" y="1759"/>
                  </a:lnTo>
                  <a:lnTo>
                    <a:pt x="1990" y="1759"/>
                  </a:lnTo>
                  <a:lnTo>
                    <a:pt x="1985" y="1757"/>
                  </a:lnTo>
                  <a:lnTo>
                    <a:pt x="1979" y="1757"/>
                  </a:lnTo>
                  <a:lnTo>
                    <a:pt x="1973" y="1757"/>
                  </a:lnTo>
                  <a:lnTo>
                    <a:pt x="1968" y="1755"/>
                  </a:lnTo>
                  <a:lnTo>
                    <a:pt x="1962" y="1755"/>
                  </a:lnTo>
                  <a:lnTo>
                    <a:pt x="1956" y="1753"/>
                  </a:lnTo>
                  <a:lnTo>
                    <a:pt x="1950" y="1753"/>
                  </a:lnTo>
                  <a:lnTo>
                    <a:pt x="1945" y="1753"/>
                  </a:lnTo>
                  <a:lnTo>
                    <a:pt x="1939" y="1751"/>
                  </a:lnTo>
                  <a:lnTo>
                    <a:pt x="1933" y="1749"/>
                  </a:lnTo>
                  <a:lnTo>
                    <a:pt x="1928" y="1749"/>
                  </a:lnTo>
                  <a:lnTo>
                    <a:pt x="1920" y="1746"/>
                  </a:lnTo>
                  <a:lnTo>
                    <a:pt x="1916" y="1746"/>
                  </a:lnTo>
                  <a:lnTo>
                    <a:pt x="1909" y="1744"/>
                  </a:lnTo>
                  <a:lnTo>
                    <a:pt x="1903" y="1742"/>
                  </a:lnTo>
                  <a:lnTo>
                    <a:pt x="1897" y="1740"/>
                  </a:lnTo>
                  <a:lnTo>
                    <a:pt x="1891" y="1738"/>
                  </a:lnTo>
                  <a:lnTo>
                    <a:pt x="1886" y="1736"/>
                  </a:lnTo>
                  <a:lnTo>
                    <a:pt x="1880" y="1736"/>
                  </a:lnTo>
                  <a:lnTo>
                    <a:pt x="1874" y="1732"/>
                  </a:lnTo>
                  <a:lnTo>
                    <a:pt x="1869" y="1730"/>
                  </a:lnTo>
                  <a:lnTo>
                    <a:pt x="1863" y="1729"/>
                  </a:lnTo>
                  <a:lnTo>
                    <a:pt x="1857" y="1727"/>
                  </a:lnTo>
                  <a:lnTo>
                    <a:pt x="1852" y="1723"/>
                  </a:lnTo>
                  <a:lnTo>
                    <a:pt x="1846" y="1721"/>
                  </a:lnTo>
                  <a:lnTo>
                    <a:pt x="1840" y="1719"/>
                  </a:lnTo>
                  <a:lnTo>
                    <a:pt x="1834" y="1717"/>
                  </a:lnTo>
                  <a:lnTo>
                    <a:pt x="1827" y="1715"/>
                  </a:lnTo>
                  <a:lnTo>
                    <a:pt x="1823" y="1711"/>
                  </a:lnTo>
                  <a:lnTo>
                    <a:pt x="1815" y="1710"/>
                  </a:lnTo>
                  <a:lnTo>
                    <a:pt x="1812" y="1708"/>
                  </a:lnTo>
                  <a:lnTo>
                    <a:pt x="1804" y="1704"/>
                  </a:lnTo>
                  <a:lnTo>
                    <a:pt x="1798" y="1702"/>
                  </a:lnTo>
                  <a:lnTo>
                    <a:pt x="1793" y="1698"/>
                  </a:lnTo>
                  <a:lnTo>
                    <a:pt x="1789" y="1696"/>
                  </a:lnTo>
                  <a:lnTo>
                    <a:pt x="1781" y="1692"/>
                  </a:lnTo>
                  <a:lnTo>
                    <a:pt x="1777" y="1691"/>
                  </a:lnTo>
                  <a:lnTo>
                    <a:pt x="1770" y="1689"/>
                  </a:lnTo>
                  <a:lnTo>
                    <a:pt x="1766" y="1685"/>
                  </a:lnTo>
                  <a:lnTo>
                    <a:pt x="1760" y="1681"/>
                  </a:lnTo>
                  <a:lnTo>
                    <a:pt x="1755" y="1679"/>
                  </a:lnTo>
                  <a:lnTo>
                    <a:pt x="1747" y="1675"/>
                  </a:lnTo>
                  <a:lnTo>
                    <a:pt x="1743" y="1672"/>
                  </a:lnTo>
                  <a:lnTo>
                    <a:pt x="1736" y="1668"/>
                  </a:lnTo>
                  <a:lnTo>
                    <a:pt x="1732" y="1666"/>
                  </a:lnTo>
                  <a:lnTo>
                    <a:pt x="1726" y="1662"/>
                  </a:lnTo>
                  <a:lnTo>
                    <a:pt x="1720" y="1660"/>
                  </a:lnTo>
                  <a:lnTo>
                    <a:pt x="1715" y="1656"/>
                  </a:lnTo>
                  <a:lnTo>
                    <a:pt x="1709" y="1653"/>
                  </a:lnTo>
                  <a:lnTo>
                    <a:pt x="1703" y="1651"/>
                  </a:lnTo>
                  <a:lnTo>
                    <a:pt x="1699" y="1647"/>
                  </a:lnTo>
                  <a:lnTo>
                    <a:pt x="1694" y="1643"/>
                  </a:lnTo>
                  <a:lnTo>
                    <a:pt x="1688" y="1641"/>
                  </a:lnTo>
                  <a:lnTo>
                    <a:pt x="1682" y="1637"/>
                  </a:lnTo>
                  <a:lnTo>
                    <a:pt x="1679" y="1635"/>
                  </a:lnTo>
                  <a:lnTo>
                    <a:pt x="1673" y="1630"/>
                  </a:lnTo>
                  <a:lnTo>
                    <a:pt x="1667" y="1628"/>
                  </a:lnTo>
                  <a:lnTo>
                    <a:pt x="1661" y="1624"/>
                  </a:lnTo>
                  <a:lnTo>
                    <a:pt x="1656" y="1622"/>
                  </a:lnTo>
                  <a:lnTo>
                    <a:pt x="1652" y="1618"/>
                  </a:lnTo>
                  <a:lnTo>
                    <a:pt x="1646" y="1615"/>
                  </a:lnTo>
                  <a:lnTo>
                    <a:pt x="1640" y="1611"/>
                  </a:lnTo>
                  <a:lnTo>
                    <a:pt x="1635" y="1609"/>
                  </a:lnTo>
                  <a:lnTo>
                    <a:pt x="1629" y="1605"/>
                  </a:lnTo>
                  <a:lnTo>
                    <a:pt x="1625" y="1601"/>
                  </a:lnTo>
                  <a:lnTo>
                    <a:pt x="1620" y="1597"/>
                  </a:lnTo>
                  <a:lnTo>
                    <a:pt x="1616" y="1595"/>
                  </a:lnTo>
                  <a:lnTo>
                    <a:pt x="1610" y="1592"/>
                  </a:lnTo>
                  <a:lnTo>
                    <a:pt x="1604" y="1588"/>
                  </a:lnTo>
                  <a:lnTo>
                    <a:pt x="1601" y="1584"/>
                  </a:lnTo>
                  <a:lnTo>
                    <a:pt x="1597" y="1582"/>
                  </a:lnTo>
                  <a:lnTo>
                    <a:pt x="1591" y="1578"/>
                  </a:lnTo>
                  <a:lnTo>
                    <a:pt x="1585" y="1575"/>
                  </a:lnTo>
                  <a:lnTo>
                    <a:pt x="1580" y="1573"/>
                  </a:lnTo>
                  <a:lnTo>
                    <a:pt x="1574" y="1571"/>
                  </a:lnTo>
                  <a:lnTo>
                    <a:pt x="1570" y="1567"/>
                  </a:lnTo>
                  <a:lnTo>
                    <a:pt x="1566" y="1563"/>
                  </a:lnTo>
                  <a:lnTo>
                    <a:pt x="1561" y="1561"/>
                  </a:lnTo>
                  <a:lnTo>
                    <a:pt x="1557" y="1557"/>
                  </a:lnTo>
                  <a:lnTo>
                    <a:pt x="1551" y="1554"/>
                  </a:lnTo>
                  <a:lnTo>
                    <a:pt x="1545" y="1552"/>
                  </a:lnTo>
                  <a:lnTo>
                    <a:pt x="1542" y="1548"/>
                  </a:lnTo>
                  <a:lnTo>
                    <a:pt x="1538" y="1546"/>
                  </a:lnTo>
                  <a:lnTo>
                    <a:pt x="1532" y="1542"/>
                  </a:lnTo>
                  <a:lnTo>
                    <a:pt x="1528" y="1540"/>
                  </a:lnTo>
                  <a:lnTo>
                    <a:pt x="1524" y="1537"/>
                  </a:lnTo>
                  <a:lnTo>
                    <a:pt x="1521" y="1535"/>
                  </a:lnTo>
                  <a:lnTo>
                    <a:pt x="1515" y="1531"/>
                  </a:lnTo>
                  <a:lnTo>
                    <a:pt x="1511" y="1529"/>
                  </a:lnTo>
                  <a:lnTo>
                    <a:pt x="1505" y="1525"/>
                  </a:lnTo>
                  <a:lnTo>
                    <a:pt x="1502" y="1521"/>
                  </a:lnTo>
                  <a:lnTo>
                    <a:pt x="1492" y="1516"/>
                  </a:lnTo>
                  <a:lnTo>
                    <a:pt x="1485" y="1510"/>
                  </a:lnTo>
                  <a:lnTo>
                    <a:pt x="1477" y="1504"/>
                  </a:lnTo>
                  <a:lnTo>
                    <a:pt x="1469" y="1499"/>
                  </a:lnTo>
                  <a:lnTo>
                    <a:pt x="1462" y="1491"/>
                  </a:lnTo>
                  <a:lnTo>
                    <a:pt x="1454" y="1485"/>
                  </a:lnTo>
                  <a:lnTo>
                    <a:pt x="1447" y="1478"/>
                  </a:lnTo>
                  <a:lnTo>
                    <a:pt x="1441" y="1472"/>
                  </a:lnTo>
                  <a:lnTo>
                    <a:pt x="1433" y="1464"/>
                  </a:lnTo>
                  <a:lnTo>
                    <a:pt x="1426" y="1457"/>
                  </a:lnTo>
                  <a:lnTo>
                    <a:pt x="1420" y="1449"/>
                  </a:lnTo>
                  <a:lnTo>
                    <a:pt x="1414" y="1443"/>
                  </a:lnTo>
                  <a:lnTo>
                    <a:pt x="1407" y="1436"/>
                  </a:lnTo>
                  <a:lnTo>
                    <a:pt x="1403" y="1426"/>
                  </a:lnTo>
                  <a:lnTo>
                    <a:pt x="1399" y="1422"/>
                  </a:lnTo>
                  <a:lnTo>
                    <a:pt x="1397" y="1419"/>
                  </a:lnTo>
                  <a:lnTo>
                    <a:pt x="1395" y="1413"/>
                  </a:lnTo>
                  <a:lnTo>
                    <a:pt x="1391" y="1409"/>
                  </a:lnTo>
                  <a:lnTo>
                    <a:pt x="1389" y="1405"/>
                  </a:lnTo>
                  <a:lnTo>
                    <a:pt x="1388" y="1402"/>
                  </a:lnTo>
                  <a:lnTo>
                    <a:pt x="1386" y="1398"/>
                  </a:lnTo>
                  <a:lnTo>
                    <a:pt x="1382" y="1394"/>
                  </a:lnTo>
                  <a:lnTo>
                    <a:pt x="1380" y="1388"/>
                  </a:lnTo>
                  <a:lnTo>
                    <a:pt x="1378" y="1383"/>
                  </a:lnTo>
                  <a:lnTo>
                    <a:pt x="1376" y="1379"/>
                  </a:lnTo>
                  <a:lnTo>
                    <a:pt x="1374" y="1373"/>
                  </a:lnTo>
                  <a:lnTo>
                    <a:pt x="1372" y="1367"/>
                  </a:lnTo>
                  <a:lnTo>
                    <a:pt x="1370" y="1364"/>
                  </a:lnTo>
                  <a:lnTo>
                    <a:pt x="1369" y="1360"/>
                  </a:lnTo>
                  <a:lnTo>
                    <a:pt x="1369" y="1354"/>
                  </a:lnTo>
                  <a:lnTo>
                    <a:pt x="1365" y="1348"/>
                  </a:lnTo>
                  <a:lnTo>
                    <a:pt x="1365" y="1343"/>
                  </a:lnTo>
                  <a:lnTo>
                    <a:pt x="1363" y="1337"/>
                  </a:lnTo>
                  <a:lnTo>
                    <a:pt x="1361" y="1333"/>
                  </a:lnTo>
                  <a:lnTo>
                    <a:pt x="1359" y="1326"/>
                  </a:lnTo>
                  <a:lnTo>
                    <a:pt x="1359" y="1322"/>
                  </a:lnTo>
                  <a:lnTo>
                    <a:pt x="1357" y="1316"/>
                  </a:lnTo>
                  <a:lnTo>
                    <a:pt x="1357" y="1310"/>
                  </a:lnTo>
                  <a:lnTo>
                    <a:pt x="1355" y="1305"/>
                  </a:lnTo>
                  <a:lnTo>
                    <a:pt x="1353" y="1297"/>
                  </a:lnTo>
                  <a:lnTo>
                    <a:pt x="1353" y="1291"/>
                  </a:lnTo>
                  <a:lnTo>
                    <a:pt x="1351" y="1286"/>
                  </a:lnTo>
                  <a:lnTo>
                    <a:pt x="1351" y="1280"/>
                  </a:lnTo>
                  <a:lnTo>
                    <a:pt x="1350" y="1274"/>
                  </a:lnTo>
                  <a:lnTo>
                    <a:pt x="1350" y="1267"/>
                  </a:lnTo>
                  <a:lnTo>
                    <a:pt x="1350" y="1263"/>
                  </a:lnTo>
                  <a:lnTo>
                    <a:pt x="1348" y="1255"/>
                  </a:lnTo>
                  <a:lnTo>
                    <a:pt x="1348" y="1249"/>
                  </a:lnTo>
                  <a:lnTo>
                    <a:pt x="1346" y="1242"/>
                  </a:lnTo>
                  <a:lnTo>
                    <a:pt x="1346" y="1236"/>
                  </a:lnTo>
                  <a:lnTo>
                    <a:pt x="1346" y="1229"/>
                  </a:lnTo>
                  <a:lnTo>
                    <a:pt x="1346" y="1223"/>
                  </a:lnTo>
                  <a:lnTo>
                    <a:pt x="1346" y="1217"/>
                  </a:lnTo>
                  <a:lnTo>
                    <a:pt x="1346" y="1211"/>
                  </a:lnTo>
                  <a:lnTo>
                    <a:pt x="1344" y="1204"/>
                  </a:lnTo>
                  <a:lnTo>
                    <a:pt x="1344" y="1198"/>
                  </a:lnTo>
                  <a:lnTo>
                    <a:pt x="1344" y="1191"/>
                  </a:lnTo>
                  <a:lnTo>
                    <a:pt x="1344" y="1185"/>
                  </a:lnTo>
                  <a:lnTo>
                    <a:pt x="1344" y="1177"/>
                  </a:lnTo>
                  <a:lnTo>
                    <a:pt x="1344" y="1172"/>
                  </a:lnTo>
                  <a:lnTo>
                    <a:pt x="1344" y="1164"/>
                  </a:lnTo>
                  <a:lnTo>
                    <a:pt x="1344" y="1158"/>
                  </a:lnTo>
                  <a:lnTo>
                    <a:pt x="1344" y="1152"/>
                  </a:lnTo>
                  <a:lnTo>
                    <a:pt x="1344" y="1145"/>
                  </a:lnTo>
                  <a:lnTo>
                    <a:pt x="1344" y="1139"/>
                  </a:lnTo>
                  <a:lnTo>
                    <a:pt x="1344" y="1132"/>
                  </a:lnTo>
                  <a:lnTo>
                    <a:pt x="1344" y="1126"/>
                  </a:lnTo>
                  <a:lnTo>
                    <a:pt x="1344" y="1118"/>
                  </a:lnTo>
                  <a:lnTo>
                    <a:pt x="1344" y="1113"/>
                  </a:lnTo>
                  <a:lnTo>
                    <a:pt x="1344" y="1105"/>
                  </a:lnTo>
                  <a:lnTo>
                    <a:pt x="1344" y="1099"/>
                  </a:lnTo>
                  <a:lnTo>
                    <a:pt x="1344" y="1094"/>
                  </a:lnTo>
                  <a:lnTo>
                    <a:pt x="1344" y="1086"/>
                  </a:lnTo>
                  <a:lnTo>
                    <a:pt x="1346" y="1080"/>
                  </a:lnTo>
                  <a:lnTo>
                    <a:pt x="1346" y="1073"/>
                  </a:lnTo>
                  <a:lnTo>
                    <a:pt x="1346" y="1067"/>
                  </a:lnTo>
                  <a:lnTo>
                    <a:pt x="1348" y="1061"/>
                  </a:lnTo>
                  <a:lnTo>
                    <a:pt x="1348" y="1056"/>
                  </a:lnTo>
                  <a:lnTo>
                    <a:pt x="1348" y="1048"/>
                  </a:lnTo>
                  <a:lnTo>
                    <a:pt x="1348" y="1042"/>
                  </a:lnTo>
                  <a:lnTo>
                    <a:pt x="1348" y="1037"/>
                  </a:lnTo>
                  <a:lnTo>
                    <a:pt x="1348" y="1031"/>
                  </a:lnTo>
                  <a:lnTo>
                    <a:pt x="1348" y="1025"/>
                  </a:lnTo>
                  <a:lnTo>
                    <a:pt x="1350" y="1019"/>
                  </a:lnTo>
                  <a:lnTo>
                    <a:pt x="1350" y="1012"/>
                  </a:lnTo>
                  <a:lnTo>
                    <a:pt x="1350" y="1008"/>
                  </a:lnTo>
                  <a:lnTo>
                    <a:pt x="1350" y="1002"/>
                  </a:lnTo>
                  <a:lnTo>
                    <a:pt x="1351" y="997"/>
                  </a:lnTo>
                  <a:lnTo>
                    <a:pt x="1351" y="991"/>
                  </a:lnTo>
                  <a:lnTo>
                    <a:pt x="1351" y="987"/>
                  </a:lnTo>
                  <a:lnTo>
                    <a:pt x="1351" y="981"/>
                  </a:lnTo>
                  <a:lnTo>
                    <a:pt x="1353" y="976"/>
                  </a:lnTo>
                  <a:lnTo>
                    <a:pt x="1353" y="970"/>
                  </a:lnTo>
                  <a:lnTo>
                    <a:pt x="1353" y="966"/>
                  </a:lnTo>
                  <a:lnTo>
                    <a:pt x="1353" y="960"/>
                  </a:lnTo>
                  <a:lnTo>
                    <a:pt x="1353" y="955"/>
                  </a:lnTo>
                  <a:lnTo>
                    <a:pt x="1355" y="951"/>
                  </a:lnTo>
                  <a:lnTo>
                    <a:pt x="1355" y="945"/>
                  </a:lnTo>
                  <a:lnTo>
                    <a:pt x="1355" y="941"/>
                  </a:lnTo>
                  <a:lnTo>
                    <a:pt x="1355" y="936"/>
                  </a:lnTo>
                  <a:lnTo>
                    <a:pt x="1357" y="932"/>
                  </a:lnTo>
                  <a:lnTo>
                    <a:pt x="1357" y="928"/>
                  </a:lnTo>
                  <a:lnTo>
                    <a:pt x="1357" y="924"/>
                  </a:lnTo>
                  <a:lnTo>
                    <a:pt x="1357" y="919"/>
                  </a:lnTo>
                  <a:lnTo>
                    <a:pt x="1357" y="915"/>
                  </a:lnTo>
                  <a:lnTo>
                    <a:pt x="1359" y="911"/>
                  </a:lnTo>
                  <a:lnTo>
                    <a:pt x="1359" y="902"/>
                  </a:lnTo>
                  <a:lnTo>
                    <a:pt x="1361" y="894"/>
                  </a:lnTo>
                  <a:lnTo>
                    <a:pt x="1361" y="886"/>
                  </a:lnTo>
                  <a:lnTo>
                    <a:pt x="1363" y="881"/>
                  </a:lnTo>
                  <a:lnTo>
                    <a:pt x="1365" y="873"/>
                  </a:lnTo>
                  <a:lnTo>
                    <a:pt x="1365" y="865"/>
                  </a:lnTo>
                  <a:lnTo>
                    <a:pt x="1367" y="860"/>
                  </a:lnTo>
                  <a:lnTo>
                    <a:pt x="1369" y="854"/>
                  </a:lnTo>
                  <a:lnTo>
                    <a:pt x="1369" y="848"/>
                  </a:lnTo>
                  <a:lnTo>
                    <a:pt x="1370" y="843"/>
                  </a:lnTo>
                  <a:lnTo>
                    <a:pt x="1372" y="837"/>
                  </a:lnTo>
                  <a:lnTo>
                    <a:pt x="1374" y="831"/>
                  </a:lnTo>
                  <a:lnTo>
                    <a:pt x="1374" y="825"/>
                  </a:lnTo>
                  <a:lnTo>
                    <a:pt x="1378" y="822"/>
                  </a:lnTo>
                  <a:lnTo>
                    <a:pt x="1378" y="816"/>
                  </a:lnTo>
                  <a:lnTo>
                    <a:pt x="1382" y="812"/>
                  </a:lnTo>
                  <a:lnTo>
                    <a:pt x="1384" y="806"/>
                  </a:lnTo>
                  <a:lnTo>
                    <a:pt x="1386" y="803"/>
                  </a:lnTo>
                  <a:lnTo>
                    <a:pt x="1388" y="799"/>
                  </a:lnTo>
                  <a:lnTo>
                    <a:pt x="1391" y="793"/>
                  </a:lnTo>
                  <a:lnTo>
                    <a:pt x="1393" y="789"/>
                  </a:lnTo>
                  <a:lnTo>
                    <a:pt x="1397" y="787"/>
                  </a:lnTo>
                  <a:lnTo>
                    <a:pt x="1403" y="780"/>
                  </a:lnTo>
                  <a:lnTo>
                    <a:pt x="1410" y="772"/>
                  </a:lnTo>
                  <a:lnTo>
                    <a:pt x="1414" y="768"/>
                  </a:lnTo>
                  <a:lnTo>
                    <a:pt x="1420" y="765"/>
                  </a:lnTo>
                  <a:lnTo>
                    <a:pt x="1424" y="761"/>
                  </a:lnTo>
                  <a:lnTo>
                    <a:pt x="1428" y="757"/>
                  </a:lnTo>
                  <a:lnTo>
                    <a:pt x="1433" y="753"/>
                  </a:lnTo>
                  <a:lnTo>
                    <a:pt x="1437" y="749"/>
                  </a:lnTo>
                  <a:lnTo>
                    <a:pt x="1443" y="746"/>
                  </a:lnTo>
                  <a:lnTo>
                    <a:pt x="1448" y="742"/>
                  </a:lnTo>
                  <a:lnTo>
                    <a:pt x="1452" y="738"/>
                  </a:lnTo>
                  <a:lnTo>
                    <a:pt x="1458" y="734"/>
                  </a:lnTo>
                  <a:lnTo>
                    <a:pt x="1464" y="730"/>
                  </a:lnTo>
                  <a:lnTo>
                    <a:pt x="1469" y="729"/>
                  </a:lnTo>
                  <a:lnTo>
                    <a:pt x="1475" y="723"/>
                  </a:lnTo>
                  <a:lnTo>
                    <a:pt x="1479" y="721"/>
                  </a:lnTo>
                  <a:lnTo>
                    <a:pt x="1485" y="717"/>
                  </a:lnTo>
                  <a:lnTo>
                    <a:pt x="1490" y="713"/>
                  </a:lnTo>
                  <a:lnTo>
                    <a:pt x="1496" y="708"/>
                  </a:lnTo>
                  <a:lnTo>
                    <a:pt x="1502" y="704"/>
                  </a:lnTo>
                  <a:lnTo>
                    <a:pt x="1505" y="700"/>
                  </a:lnTo>
                  <a:lnTo>
                    <a:pt x="1511" y="696"/>
                  </a:lnTo>
                  <a:lnTo>
                    <a:pt x="1517" y="692"/>
                  </a:lnTo>
                  <a:lnTo>
                    <a:pt x="1521" y="689"/>
                  </a:lnTo>
                  <a:lnTo>
                    <a:pt x="1526" y="685"/>
                  </a:lnTo>
                  <a:lnTo>
                    <a:pt x="1532" y="681"/>
                  </a:lnTo>
                  <a:lnTo>
                    <a:pt x="1536" y="677"/>
                  </a:lnTo>
                  <a:lnTo>
                    <a:pt x="1542" y="673"/>
                  </a:lnTo>
                  <a:lnTo>
                    <a:pt x="1545" y="670"/>
                  </a:lnTo>
                  <a:lnTo>
                    <a:pt x="1549" y="666"/>
                  </a:lnTo>
                  <a:lnTo>
                    <a:pt x="1553" y="660"/>
                  </a:lnTo>
                  <a:lnTo>
                    <a:pt x="1559" y="656"/>
                  </a:lnTo>
                  <a:lnTo>
                    <a:pt x="1563" y="652"/>
                  </a:lnTo>
                  <a:lnTo>
                    <a:pt x="1566" y="649"/>
                  </a:lnTo>
                  <a:lnTo>
                    <a:pt x="1568" y="643"/>
                  </a:lnTo>
                  <a:lnTo>
                    <a:pt x="1570" y="637"/>
                  </a:lnTo>
                  <a:lnTo>
                    <a:pt x="1574" y="632"/>
                  </a:lnTo>
                  <a:lnTo>
                    <a:pt x="1576" y="628"/>
                  </a:lnTo>
                  <a:lnTo>
                    <a:pt x="1578" y="622"/>
                  </a:lnTo>
                  <a:lnTo>
                    <a:pt x="1580" y="618"/>
                  </a:lnTo>
                  <a:lnTo>
                    <a:pt x="1582" y="613"/>
                  </a:lnTo>
                  <a:lnTo>
                    <a:pt x="1583" y="607"/>
                  </a:lnTo>
                  <a:lnTo>
                    <a:pt x="1583" y="603"/>
                  </a:lnTo>
                  <a:lnTo>
                    <a:pt x="1585" y="597"/>
                  </a:lnTo>
                  <a:lnTo>
                    <a:pt x="1585" y="592"/>
                  </a:lnTo>
                  <a:lnTo>
                    <a:pt x="1585" y="586"/>
                  </a:lnTo>
                  <a:lnTo>
                    <a:pt x="1585" y="580"/>
                  </a:lnTo>
                  <a:lnTo>
                    <a:pt x="1585" y="575"/>
                  </a:lnTo>
                  <a:lnTo>
                    <a:pt x="1585" y="569"/>
                  </a:lnTo>
                  <a:lnTo>
                    <a:pt x="1585" y="565"/>
                  </a:lnTo>
                  <a:lnTo>
                    <a:pt x="1583" y="559"/>
                  </a:lnTo>
                  <a:lnTo>
                    <a:pt x="1583" y="554"/>
                  </a:lnTo>
                  <a:lnTo>
                    <a:pt x="1582" y="548"/>
                  </a:lnTo>
                  <a:lnTo>
                    <a:pt x="1580" y="542"/>
                  </a:lnTo>
                  <a:lnTo>
                    <a:pt x="1578" y="535"/>
                  </a:lnTo>
                  <a:lnTo>
                    <a:pt x="1576" y="531"/>
                  </a:lnTo>
                  <a:lnTo>
                    <a:pt x="1574" y="523"/>
                  </a:lnTo>
                  <a:lnTo>
                    <a:pt x="1572" y="519"/>
                  </a:lnTo>
                  <a:lnTo>
                    <a:pt x="1570" y="514"/>
                  </a:lnTo>
                  <a:lnTo>
                    <a:pt x="1566" y="508"/>
                  </a:lnTo>
                  <a:lnTo>
                    <a:pt x="1564" y="500"/>
                  </a:lnTo>
                  <a:lnTo>
                    <a:pt x="1561" y="497"/>
                  </a:lnTo>
                  <a:lnTo>
                    <a:pt x="1557" y="489"/>
                  </a:lnTo>
                  <a:lnTo>
                    <a:pt x="1553" y="485"/>
                  </a:lnTo>
                  <a:lnTo>
                    <a:pt x="1549" y="479"/>
                  </a:lnTo>
                  <a:lnTo>
                    <a:pt x="1547" y="474"/>
                  </a:lnTo>
                  <a:lnTo>
                    <a:pt x="1542" y="468"/>
                  </a:lnTo>
                  <a:lnTo>
                    <a:pt x="1538" y="462"/>
                  </a:lnTo>
                  <a:lnTo>
                    <a:pt x="1534" y="457"/>
                  </a:lnTo>
                  <a:lnTo>
                    <a:pt x="1528" y="451"/>
                  </a:lnTo>
                  <a:lnTo>
                    <a:pt x="1523" y="445"/>
                  </a:lnTo>
                  <a:lnTo>
                    <a:pt x="1519" y="440"/>
                  </a:lnTo>
                  <a:lnTo>
                    <a:pt x="1513" y="434"/>
                  </a:lnTo>
                  <a:lnTo>
                    <a:pt x="1507" y="428"/>
                  </a:lnTo>
                  <a:lnTo>
                    <a:pt x="1502" y="422"/>
                  </a:lnTo>
                  <a:lnTo>
                    <a:pt x="1496" y="417"/>
                  </a:lnTo>
                  <a:lnTo>
                    <a:pt x="1490" y="413"/>
                  </a:lnTo>
                  <a:lnTo>
                    <a:pt x="1485" y="407"/>
                  </a:lnTo>
                  <a:lnTo>
                    <a:pt x="1479" y="403"/>
                  </a:lnTo>
                  <a:lnTo>
                    <a:pt x="1473" y="398"/>
                  </a:lnTo>
                  <a:lnTo>
                    <a:pt x="1466" y="394"/>
                  </a:lnTo>
                  <a:lnTo>
                    <a:pt x="1460" y="390"/>
                  </a:lnTo>
                  <a:lnTo>
                    <a:pt x="1452" y="384"/>
                  </a:lnTo>
                  <a:lnTo>
                    <a:pt x="1447" y="381"/>
                  </a:lnTo>
                  <a:lnTo>
                    <a:pt x="1439" y="377"/>
                  </a:lnTo>
                  <a:lnTo>
                    <a:pt x="1431" y="373"/>
                  </a:lnTo>
                  <a:lnTo>
                    <a:pt x="1424" y="367"/>
                  </a:lnTo>
                  <a:lnTo>
                    <a:pt x="1418" y="365"/>
                  </a:lnTo>
                  <a:lnTo>
                    <a:pt x="1410" y="360"/>
                  </a:lnTo>
                  <a:lnTo>
                    <a:pt x="1403" y="358"/>
                  </a:lnTo>
                  <a:lnTo>
                    <a:pt x="1395" y="354"/>
                  </a:lnTo>
                  <a:lnTo>
                    <a:pt x="1388" y="352"/>
                  </a:lnTo>
                  <a:lnTo>
                    <a:pt x="1380" y="348"/>
                  </a:lnTo>
                  <a:lnTo>
                    <a:pt x="1372" y="346"/>
                  </a:lnTo>
                  <a:lnTo>
                    <a:pt x="1365" y="344"/>
                  </a:lnTo>
                  <a:lnTo>
                    <a:pt x="1357" y="341"/>
                  </a:lnTo>
                  <a:lnTo>
                    <a:pt x="1348" y="341"/>
                  </a:lnTo>
                  <a:lnTo>
                    <a:pt x="1340" y="339"/>
                  </a:lnTo>
                  <a:lnTo>
                    <a:pt x="1332" y="337"/>
                  </a:lnTo>
                  <a:lnTo>
                    <a:pt x="1325" y="333"/>
                  </a:lnTo>
                  <a:lnTo>
                    <a:pt x="1315" y="331"/>
                  </a:lnTo>
                  <a:lnTo>
                    <a:pt x="1308" y="331"/>
                  </a:lnTo>
                  <a:lnTo>
                    <a:pt x="1300" y="329"/>
                  </a:lnTo>
                  <a:lnTo>
                    <a:pt x="1293" y="329"/>
                  </a:lnTo>
                  <a:lnTo>
                    <a:pt x="1283" y="327"/>
                  </a:lnTo>
                  <a:lnTo>
                    <a:pt x="1275" y="327"/>
                  </a:lnTo>
                  <a:lnTo>
                    <a:pt x="1268" y="327"/>
                  </a:lnTo>
                  <a:lnTo>
                    <a:pt x="1260" y="327"/>
                  </a:lnTo>
                  <a:lnTo>
                    <a:pt x="1253" y="327"/>
                  </a:lnTo>
                  <a:lnTo>
                    <a:pt x="1247" y="327"/>
                  </a:lnTo>
                  <a:lnTo>
                    <a:pt x="1239" y="327"/>
                  </a:lnTo>
                  <a:lnTo>
                    <a:pt x="1232" y="329"/>
                  </a:lnTo>
                  <a:lnTo>
                    <a:pt x="1224" y="329"/>
                  </a:lnTo>
                  <a:lnTo>
                    <a:pt x="1218" y="331"/>
                  </a:lnTo>
                  <a:lnTo>
                    <a:pt x="1211" y="333"/>
                  </a:lnTo>
                  <a:lnTo>
                    <a:pt x="1205" y="335"/>
                  </a:lnTo>
                  <a:lnTo>
                    <a:pt x="1197" y="337"/>
                  </a:lnTo>
                  <a:lnTo>
                    <a:pt x="1192" y="339"/>
                  </a:lnTo>
                  <a:lnTo>
                    <a:pt x="1186" y="341"/>
                  </a:lnTo>
                  <a:lnTo>
                    <a:pt x="1180" y="344"/>
                  </a:lnTo>
                  <a:lnTo>
                    <a:pt x="1177" y="346"/>
                  </a:lnTo>
                  <a:lnTo>
                    <a:pt x="1173" y="350"/>
                  </a:lnTo>
                  <a:lnTo>
                    <a:pt x="1167" y="352"/>
                  </a:lnTo>
                  <a:lnTo>
                    <a:pt x="1163" y="356"/>
                  </a:lnTo>
                  <a:lnTo>
                    <a:pt x="1159" y="360"/>
                  </a:lnTo>
                  <a:lnTo>
                    <a:pt x="1156" y="363"/>
                  </a:lnTo>
                  <a:lnTo>
                    <a:pt x="1154" y="367"/>
                  </a:lnTo>
                  <a:lnTo>
                    <a:pt x="1150" y="371"/>
                  </a:lnTo>
                  <a:lnTo>
                    <a:pt x="1148" y="377"/>
                  </a:lnTo>
                  <a:lnTo>
                    <a:pt x="1148" y="382"/>
                  </a:lnTo>
                  <a:lnTo>
                    <a:pt x="1146" y="386"/>
                  </a:lnTo>
                  <a:lnTo>
                    <a:pt x="1144" y="390"/>
                  </a:lnTo>
                  <a:lnTo>
                    <a:pt x="1142" y="396"/>
                  </a:lnTo>
                  <a:lnTo>
                    <a:pt x="1142" y="401"/>
                  </a:lnTo>
                  <a:lnTo>
                    <a:pt x="1140" y="407"/>
                  </a:lnTo>
                  <a:lnTo>
                    <a:pt x="1138" y="413"/>
                  </a:lnTo>
                  <a:lnTo>
                    <a:pt x="1138" y="419"/>
                  </a:lnTo>
                  <a:lnTo>
                    <a:pt x="1137" y="424"/>
                  </a:lnTo>
                  <a:lnTo>
                    <a:pt x="1135" y="428"/>
                  </a:lnTo>
                  <a:lnTo>
                    <a:pt x="1133" y="434"/>
                  </a:lnTo>
                  <a:lnTo>
                    <a:pt x="1133" y="440"/>
                  </a:lnTo>
                  <a:lnTo>
                    <a:pt x="1131" y="445"/>
                  </a:lnTo>
                  <a:lnTo>
                    <a:pt x="1129" y="449"/>
                  </a:lnTo>
                  <a:lnTo>
                    <a:pt x="1129" y="455"/>
                  </a:lnTo>
                  <a:lnTo>
                    <a:pt x="1125" y="457"/>
                  </a:lnTo>
                  <a:lnTo>
                    <a:pt x="1125" y="460"/>
                  </a:lnTo>
                  <a:lnTo>
                    <a:pt x="1121" y="464"/>
                  </a:lnTo>
                  <a:lnTo>
                    <a:pt x="1118" y="468"/>
                  </a:lnTo>
                  <a:lnTo>
                    <a:pt x="1112" y="466"/>
                  </a:lnTo>
                  <a:lnTo>
                    <a:pt x="1104" y="462"/>
                  </a:lnTo>
                  <a:lnTo>
                    <a:pt x="1100" y="457"/>
                  </a:lnTo>
                  <a:lnTo>
                    <a:pt x="1097" y="453"/>
                  </a:lnTo>
                  <a:lnTo>
                    <a:pt x="1093" y="445"/>
                  </a:lnTo>
                  <a:lnTo>
                    <a:pt x="1089" y="440"/>
                  </a:lnTo>
                  <a:lnTo>
                    <a:pt x="1087" y="434"/>
                  </a:lnTo>
                  <a:lnTo>
                    <a:pt x="1083" y="430"/>
                  </a:lnTo>
                  <a:lnTo>
                    <a:pt x="1081" y="424"/>
                  </a:lnTo>
                  <a:lnTo>
                    <a:pt x="1080" y="421"/>
                  </a:lnTo>
                  <a:lnTo>
                    <a:pt x="1076" y="415"/>
                  </a:lnTo>
                  <a:lnTo>
                    <a:pt x="1074" y="409"/>
                  </a:lnTo>
                  <a:lnTo>
                    <a:pt x="1072" y="403"/>
                  </a:lnTo>
                  <a:lnTo>
                    <a:pt x="1070" y="398"/>
                  </a:lnTo>
                  <a:lnTo>
                    <a:pt x="1066" y="390"/>
                  </a:lnTo>
                  <a:lnTo>
                    <a:pt x="1062" y="384"/>
                  </a:lnTo>
                  <a:lnTo>
                    <a:pt x="1059" y="377"/>
                  </a:lnTo>
                  <a:lnTo>
                    <a:pt x="1057" y="371"/>
                  </a:lnTo>
                  <a:lnTo>
                    <a:pt x="1051" y="365"/>
                  </a:lnTo>
                  <a:lnTo>
                    <a:pt x="1049" y="358"/>
                  </a:lnTo>
                  <a:lnTo>
                    <a:pt x="1043" y="352"/>
                  </a:lnTo>
                  <a:lnTo>
                    <a:pt x="1042" y="346"/>
                  </a:lnTo>
                  <a:lnTo>
                    <a:pt x="1036" y="339"/>
                  </a:lnTo>
                  <a:lnTo>
                    <a:pt x="1032" y="333"/>
                  </a:lnTo>
                  <a:lnTo>
                    <a:pt x="1026" y="327"/>
                  </a:lnTo>
                  <a:lnTo>
                    <a:pt x="1023" y="320"/>
                  </a:lnTo>
                  <a:lnTo>
                    <a:pt x="1019" y="314"/>
                  </a:lnTo>
                  <a:lnTo>
                    <a:pt x="1013" y="308"/>
                  </a:lnTo>
                  <a:lnTo>
                    <a:pt x="1009" y="303"/>
                  </a:lnTo>
                  <a:lnTo>
                    <a:pt x="1003" y="297"/>
                  </a:lnTo>
                  <a:lnTo>
                    <a:pt x="1000" y="289"/>
                  </a:lnTo>
                  <a:lnTo>
                    <a:pt x="994" y="284"/>
                  </a:lnTo>
                  <a:lnTo>
                    <a:pt x="988" y="278"/>
                  </a:lnTo>
                  <a:lnTo>
                    <a:pt x="983" y="272"/>
                  </a:lnTo>
                  <a:lnTo>
                    <a:pt x="979" y="267"/>
                  </a:lnTo>
                  <a:lnTo>
                    <a:pt x="973" y="261"/>
                  </a:lnTo>
                  <a:lnTo>
                    <a:pt x="967" y="255"/>
                  </a:lnTo>
                  <a:lnTo>
                    <a:pt x="962" y="249"/>
                  </a:lnTo>
                  <a:lnTo>
                    <a:pt x="958" y="244"/>
                  </a:lnTo>
                  <a:lnTo>
                    <a:pt x="952" y="238"/>
                  </a:lnTo>
                  <a:lnTo>
                    <a:pt x="946" y="232"/>
                  </a:lnTo>
                  <a:lnTo>
                    <a:pt x="941" y="228"/>
                  </a:lnTo>
                  <a:lnTo>
                    <a:pt x="937" y="223"/>
                  </a:lnTo>
                  <a:lnTo>
                    <a:pt x="931" y="217"/>
                  </a:lnTo>
                  <a:lnTo>
                    <a:pt x="926" y="213"/>
                  </a:lnTo>
                  <a:lnTo>
                    <a:pt x="920" y="209"/>
                  </a:lnTo>
                  <a:lnTo>
                    <a:pt x="916" y="204"/>
                  </a:lnTo>
                  <a:lnTo>
                    <a:pt x="910" y="198"/>
                  </a:lnTo>
                  <a:lnTo>
                    <a:pt x="905" y="194"/>
                  </a:lnTo>
                  <a:lnTo>
                    <a:pt x="899" y="189"/>
                  </a:lnTo>
                  <a:lnTo>
                    <a:pt x="893" y="185"/>
                  </a:lnTo>
                  <a:lnTo>
                    <a:pt x="889" y="181"/>
                  </a:lnTo>
                  <a:lnTo>
                    <a:pt x="886" y="177"/>
                  </a:lnTo>
                  <a:lnTo>
                    <a:pt x="880" y="173"/>
                  </a:lnTo>
                  <a:lnTo>
                    <a:pt x="876" y="168"/>
                  </a:lnTo>
                  <a:lnTo>
                    <a:pt x="870" y="166"/>
                  </a:lnTo>
                  <a:lnTo>
                    <a:pt x="867" y="162"/>
                  </a:lnTo>
                  <a:lnTo>
                    <a:pt x="863" y="158"/>
                  </a:lnTo>
                  <a:lnTo>
                    <a:pt x="855" y="151"/>
                  </a:lnTo>
                  <a:lnTo>
                    <a:pt x="848" y="147"/>
                  </a:lnTo>
                  <a:lnTo>
                    <a:pt x="840" y="141"/>
                  </a:lnTo>
                  <a:lnTo>
                    <a:pt x="834" y="137"/>
                  </a:lnTo>
                  <a:lnTo>
                    <a:pt x="829" y="132"/>
                  </a:lnTo>
                  <a:lnTo>
                    <a:pt x="825" y="130"/>
                  </a:lnTo>
                  <a:lnTo>
                    <a:pt x="819" y="124"/>
                  </a:lnTo>
                  <a:lnTo>
                    <a:pt x="817"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9" name="Freeform 7"/>
            <p:cNvSpPr/>
            <p:nvPr/>
          </p:nvSpPr>
          <p:spPr>
            <a:xfrm>
              <a:off x="486720" y="410040"/>
              <a:ext cx="2404800" cy="2742840"/>
            </a:xfrm>
            <a:custGeom>
              <a:avLst/>
              <a:gdLst>
                <a:gd name="textAreaLeft" fmla="*/ 0 w 2404800"/>
                <a:gd name="textAreaRight" fmla="*/ 2405160 w 2404800"/>
                <a:gd name="textAreaTop" fmla="*/ 0 h 2742840"/>
                <a:gd name="textAreaBottom" fmla="*/ 2743200 h 2742840"/>
              </a:gdLst>
              <a:ahLst/>
              <a:rect l="textAreaLeft" t="textAreaTop" r="textAreaRight" b="textAreaBottom"/>
              <a:pathLst>
                <a:path w="2015" h="1934">
                  <a:moveTo>
                    <a:pt x="255" y="17"/>
                  </a:moveTo>
                  <a:lnTo>
                    <a:pt x="256" y="17"/>
                  </a:lnTo>
                  <a:lnTo>
                    <a:pt x="262" y="17"/>
                  </a:lnTo>
                  <a:lnTo>
                    <a:pt x="266" y="17"/>
                  </a:lnTo>
                  <a:lnTo>
                    <a:pt x="274" y="19"/>
                  </a:lnTo>
                  <a:lnTo>
                    <a:pt x="279" y="21"/>
                  </a:lnTo>
                  <a:lnTo>
                    <a:pt x="289" y="23"/>
                  </a:lnTo>
                  <a:lnTo>
                    <a:pt x="291" y="23"/>
                  </a:lnTo>
                  <a:lnTo>
                    <a:pt x="294" y="25"/>
                  </a:lnTo>
                  <a:lnTo>
                    <a:pt x="300" y="25"/>
                  </a:lnTo>
                  <a:lnTo>
                    <a:pt x="304" y="27"/>
                  </a:lnTo>
                  <a:lnTo>
                    <a:pt x="310" y="27"/>
                  </a:lnTo>
                  <a:lnTo>
                    <a:pt x="313" y="28"/>
                  </a:lnTo>
                  <a:lnTo>
                    <a:pt x="319" y="30"/>
                  </a:lnTo>
                  <a:lnTo>
                    <a:pt x="325" y="32"/>
                  </a:lnTo>
                  <a:lnTo>
                    <a:pt x="329" y="32"/>
                  </a:lnTo>
                  <a:lnTo>
                    <a:pt x="334" y="34"/>
                  </a:lnTo>
                  <a:lnTo>
                    <a:pt x="340" y="34"/>
                  </a:lnTo>
                  <a:lnTo>
                    <a:pt x="346" y="36"/>
                  </a:lnTo>
                  <a:lnTo>
                    <a:pt x="352" y="38"/>
                  </a:lnTo>
                  <a:lnTo>
                    <a:pt x="357" y="40"/>
                  </a:lnTo>
                  <a:lnTo>
                    <a:pt x="363" y="40"/>
                  </a:lnTo>
                  <a:lnTo>
                    <a:pt x="371" y="42"/>
                  </a:lnTo>
                  <a:lnTo>
                    <a:pt x="376" y="44"/>
                  </a:lnTo>
                  <a:lnTo>
                    <a:pt x="382" y="46"/>
                  </a:lnTo>
                  <a:lnTo>
                    <a:pt x="388" y="47"/>
                  </a:lnTo>
                  <a:lnTo>
                    <a:pt x="395" y="47"/>
                  </a:lnTo>
                  <a:lnTo>
                    <a:pt x="401" y="49"/>
                  </a:lnTo>
                  <a:lnTo>
                    <a:pt x="407" y="51"/>
                  </a:lnTo>
                  <a:lnTo>
                    <a:pt x="414" y="51"/>
                  </a:lnTo>
                  <a:lnTo>
                    <a:pt x="422" y="55"/>
                  </a:lnTo>
                  <a:lnTo>
                    <a:pt x="428" y="55"/>
                  </a:lnTo>
                  <a:lnTo>
                    <a:pt x="433" y="57"/>
                  </a:lnTo>
                  <a:lnTo>
                    <a:pt x="441" y="59"/>
                  </a:lnTo>
                  <a:lnTo>
                    <a:pt x="448" y="61"/>
                  </a:lnTo>
                  <a:lnTo>
                    <a:pt x="454" y="63"/>
                  </a:lnTo>
                  <a:lnTo>
                    <a:pt x="460" y="65"/>
                  </a:lnTo>
                  <a:lnTo>
                    <a:pt x="468" y="66"/>
                  </a:lnTo>
                  <a:lnTo>
                    <a:pt x="475" y="68"/>
                  </a:lnTo>
                  <a:lnTo>
                    <a:pt x="481" y="70"/>
                  </a:lnTo>
                  <a:lnTo>
                    <a:pt x="487" y="72"/>
                  </a:lnTo>
                  <a:lnTo>
                    <a:pt x="494" y="72"/>
                  </a:lnTo>
                  <a:lnTo>
                    <a:pt x="500" y="76"/>
                  </a:lnTo>
                  <a:lnTo>
                    <a:pt x="507" y="76"/>
                  </a:lnTo>
                  <a:lnTo>
                    <a:pt x="513" y="78"/>
                  </a:lnTo>
                  <a:lnTo>
                    <a:pt x="519" y="80"/>
                  </a:lnTo>
                  <a:lnTo>
                    <a:pt x="526" y="82"/>
                  </a:lnTo>
                  <a:lnTo>
                    <a:pt x="532" y="84"/>
                  </a:lnTo>
                  <a:lnTo>
                    <a:pt x="540" y="85"/>
                  </a:lnTo>
                  <a:lnTo>
                    <a:pt x="544" y="87"/>
                  </a:lnTo>
                  <a:lnTo>
                    <a:pt x="551" y="89"/>
                  </a:lnTo>
                  <a:lnTo>
                    <a:pt x="557" y="91"/>
                  </a:lnTo>
                  <a:lnTo>
                    <a:pt x="563" y="93"/>
                  </a:lnTo>
                  <a:lnTo>
                    <a:pt x="568" y="95"/>
                  </a:lnTo>
                  <a:lnTo>
                    <a:pt x="574" y="97"/>
                  </a:lnTo>
                  <a:lnTo>
                    <a:pt x="580" y="99"/>
                  </a:lnTo>
                  <a:lnTo>
                    <a:pt x="583" y="101"/>
                  </a:lnTo>
                  <a:lnTo>
                    <a:pt x="589" y="101"/>
                  </a:lnTo>
                  <a:lnTo>
                    <a:pt x="595" y="104"/>
                  </a:lnTo>
                  <a:lnTo>
                    <a:pt x="599" y="104"/>
                  </a:lnTo>
                  <a:lnTo>
                    <a:pt x="603" y="106"/>
                  </a:lnTo>
                  <a:lnTo>
                    <a:pt x="608" y="108"/>
                  </a:lnTo>
                  <a:lnTo>
                    <a:pt x="612" y="110"/>
                  </a:lnTo>
                  <a:lnTo>
                    <a:pt x="620" y="114"/>
                  </a:lnTo>
                  <a:lnTo>
                    <a:pt x="629" y="118"/>
                  </a:lnTo>
                  <a:lnTo>
                    <a:pt x="637" y="122"/>
                  </a:lnTo>
                  <a:lnTo>
                    <a:pt x="646" y="125"/>
                  </a:lnTo>
                  <a:lnTo>
                    <a:pt x="652" y="129"/>
                  </a:lnTo>
                  <a:lnTo>
                    <a:pt x="658" y="133"/>
                  </a:lnTo>
                  <a:lnTo>
                    <a:pt x="665" y="135"/>
                  </a:lnTo>
                  <a:lnTo>
                    <a:pt x="671" y="139"/>
                  </a:lnTo>
                  <a:lnTo>
                    <a:pt x="677" y="144"/>
                  </a:lnTo>
                  <a:lnTo>
                    <a:pt x="682" y="148"/>
                  </a:lnTo>
                  <a:lnTo>
                    <a:pt x="690" y="152"/>
                  </a:lnTo>
                  <a:lnTo>
                    <a:pt x="696" y="156"/>
                  </a:lnTo>
                  <a:lnTo>
                    <a:pt x="699" y="160"/>
                  </a:lnTo>
                  <a:lnTo>
                    <a:pt x="705" y="163"/>
                  </a:lnTo>
                  <a:lnTo>
                    <a:pt x="709" y="169"/>
                  </a:lnTo>
                  <a:lnTo>
                    <a:pt x="715" y="173"/>
                  </a:lnTo>
                  <a:lnTo>
                    <a:pt x="720" y="179"/>
                  </a:lnTo>
                  <a:lnTo>
                    <a:pt x="724" y="182"/>
                  </a:lnTo>
                  <a:lnTo>
                    <a:pt x="730" y="188"/>
                  </a:lnTo>
                  <a:lnTo>
                    <a:pt x="734" y="194"/>
                  </a:lnTo>
                  <a:lnTo>
                    <a:pt x="738" y="198"/>
                  </a:lnTo>
                  <a:lnTo>
                    <a:pt x="743" y="203"/>
                  </a:lnTo>
                  <a:lnTo>
                    <a:pt x="747" y="209"/>
                  </a:lnTo>
                  <a:lnTo>
                    <a:pt x="753" y="215"/>
                  </a:lnTo>
                  <a:lnTo>
                    <a:pt x="757" y="220"/>
                  </a:lnTo>
                  <a:lnTo>
                    <a:pt x="762" y="228"/>
                  </a:lnTo>
                  <a:lnTo>
                    <a:pt x="768" y="234"/>
                  </a:lnTo>
                  <a:lnTo>
                    <a:pt x="772" y="241"/>
                  </a:lnTo>
                  <a:lnTo>
                    <a:pt x="777" y="247"/>
                  </a:lnTo>
                  <a:lnTo>
                    <a:pt x="781" y="255"/>
                  </a:lnTo>
                  <a:lnTo>
                    <a:pt x="787" y="262"/>
                  </a:lnTo>
                  <a:lnTo>
                    <a:pt x="793" y="270"/>
                  </a:lnTo>
                  <a:lnTo>
                    <a:pt x="798" y="277"/>
                  </a:lnTo>
                  <a:lnTo>
                    <a:pt x="806" y="285"/>
                  </a:lnTo>
                  <a:lnTo>
                    <a:pt x="808" y="289"/>
                  </a:lnTo>
                  <a:lnTo>
                    <a:pt x="810" y="293"/>
                  </a:lnTo>
                  <a:lnTo>
                    <a:pt x="814" y="298"/>
                  </a:lnTo>
                  <a:lnTo>
                    <a:pt x="817" y="302"/>
                  </a:lnTo>
                  <a:lnTo>
                    <a:pt x="821" y="310"/>
                  </a:lnTo>
                  <a:lnTo>
                    <a:pt x="829" y="319"/>
                  </a:lnTo>
                  <a:lnTo>
                    <a:pt x="831" y="323"/>
                  </a:lnTo>
                  <a:lnTo>
                    <a:pt x="834" y="327"/>
                  </a:lnTo>
                  <a:lnTo>
                    <a:pt x="836" y="333"/>
                  </a:lnTo>
                  <a:lnTo>
                    <a:pt x="840" y="336"/>
                  </a:lnTo>
                  <a:lnTo>
                    <a:pt x="842" y="342"/>
                  </a:lnTo>
                  <a:lnTo>
                    <a:pt x="846" y="346"/>
                  </a:lnTo>
                  <a:lnTo>
                    <a:pt x="850" y="352"/>
                  </a:lnTo>
                  <a:lnTo>
                    <a:pt x="854" y="355"/>
                  </a:lnTo>
                  <a:lnTo>
                    <a:pt x="855" y="359"/>
                  </a:lnTo>
                  <a:lnTo>
                    <a:pt x="859" y="365"/>
                  </a:lnTo>
                  <a:lnTo>
                    <a:pt x="861" y="369"/>
                  </a:lnTo>
                  <a:lnTo>
                    <a:pt x="865" y="374"/>
                  </a:lnTo>
                  <a:lnTo>
                    <a:pt x="869" y="378"/>
                  </a:lnTo>
                  <a:lnTo>
                    <a:pt x="871" y="382"/>
                  </a:lnTo>
                  <a:lnTo>
                    <a:pt x="873" y="388"/>
                  </a:lnTo>
                  <a:lnTo>
                    <a:pt x="876" y="392"/>
                  </a:lnTo>
                  <a:lnTo>
                    <a:pt x="878" y="395"/>
                  </a:lnTo>
                  <a:lnTo>
                    <a:pt x="882" y="401"/>
                  </a:lnTo>
                  <a:lnTo>
                    <a:pt x="886" y="405"/>
                  </a:lnTo>
                  <a:lnTo>
                    <a:pt x="888" y="411"/>
                  </a:lnTo>
                  <a:lnTo>
                    <a:pt x="890" y="414"/>
                  </a:lnTo>
                  <a:lnTo>
                    <a:pt x="893" y="418"/>
                  </a:lnTo>
                  <a:lnTo>
                    <a:pt x="895" y="424"/>
                  </a:lnTo>
                  <a:lnTo>
                    <a:pt x="897" y="428"/>
                  </a:lnTo>
                  <a:lnTo>
                    <a:pt x="901" y="431"/>
                  </a:lnTo>
                  <a:lnTo>
                    <a:pt x="903" y="435"/>
                  </a:lnTo>
                  <a:lnTo>
                    <a:pt x="905" y="441"/>
                  </a:lnTo>
                  <a:lnTo>
                    <a:pt x="909" y="445"/>
                  </a:lnTo>
                  <a:lnTo>
                    <a:pt x="911" y="449"/>
                  </a:lnTo>
                  <a:lnTo>
                    <a:pt x="912" y="454"/>
                  </a:lnTo>
                  <a:lnTo>
                    <a:pt x="914" y="458"/>
                  </a:lnTo>
                  <a:lnTo>
                    <a:pt x="916" y="462"/>
                  </a:lnTo>
                  <a:lnTo>
                    <a:pt x="918" y="466"/>
                  </a:lnTo>
                  <a:lnTo>
                    <a:pt x="920" y="471"/>
                  </a:lnTo>
                  <a:lnTo>
                    <a:pt x="924" y="475"/>
                  </a:lnTo>
                  <a:lnTo>
                    <a:pt x="926" y="481"/>
                  </a:lnTo>
                  <a:lnTo>
                    <a:pt x="928" y="489"/>
                  </a:lnTo>
                  <a:lnTo>
                    <a:pt x="931" y="496"/>
                  </a:lnTo>
                  <a:lnTo>
                    <a:pt x="935" y="504"/>
                  </a:lnTo>
                  <a:lnTo>
                    <a:pt x="939" y="513"/>
                  </a:lnTo>
                  <a:lnTo>
                    <a:pt x="939" y="521"/>
                  </a:lnTo>
                  <a:lnTo>
                    <a:pt x="941" y="528"/>
                  </a:lnTo>
                  <a:lnTo>
                    <a:pt x="941" y="532"/>
                  </a:lnTo>
                  <a:lnTo>
                    <a:pt x="943" y="536"/>
                  </a:lnTo>
                  <a:lnTo>
                    <a:pt x="943" y="542"/>
                  </a:lnTo>
                  <a:lnTo>
                    <a:pt x="945" y="546"/>
                  </a:lnTo>
                  <a:lnTo>
                    <a:pt x="945" y="549"/>
                  </a:lnTo>
                  <a:lnTo>
                    <a:pt x="945" y="555"/>
                  </a:lnTo>
                  <a:lnTo>
                    <a:pt x="945" y="559"/>
                  </a:lnTo>
                  <a:lnTo>
                    <a:pt x="945" y="563"/>
                  </a:lnTo>
                  <a:lnTo>
                    <a:pt x="945" y="568"/>
                  </a:lnTo>
                  <a:lnTo>
                    <a:pt x="945" y="572"/>
                  </a:lnTo>
                  <a:lnTo>
                    <a:pt x="945" y="578"/>
                  </a:lnTo>
                  <a:lnTo>
                    <a:pt x="945" y="584"/>
                  </a:lnTo>
                  <a:lnTo>
                    <a:pt x="945" y="587"/>
                  </a:lnTo>
                  <a:lnTo>
                    <a:pt x="945" y="593"/>
                  </a:lnTo>
                  <a:lnTo>
                    <a:pt x="945" y="597"/>
                  </a:lnTo>
                  <a:lnTo>
                    <a:pt x="945" y="601"/>
                  </a:lnTo>
                  <a:lnTo>
                    <a:pt x="945" y="606"/>
                  </a:lnTo>
                  <a:lnTo>
                    <a:pt x="945" y="610"/>
                  </a:lnTo>
                  <a:lnTo>
                    <a:pt x="945" y="616"/>
                  </a:lnTo>
                  <a:lnTo>
                    <a:pt x="945" y="622"/>
                  </a:lnTo>
                  <a:lnTo>
                    <a:pt x="943" y="625"/>
                  </a:lnTo>
                  <a:lnTo>
                    <a:pt x="943" y="629"/>
                  </a:lnTo>
                  <a:lnTo>
                    <a:pt x="941" y="635"/>
                  </a:lnTo>
                  <a:lnTo>
                    <a:pt x="941" y="639"/>
                  </a:lnTo>
                  <a:lnTo>
                    <a:pt x="941" y="644"/>
                  </a:lnTo>
                  <a:lnTo>
                    <a:pt x="941" y="648"/>
                  </a:lnTo>
                  <a:lnTo>
                    <a:pt x="939" y="654"/>
                  </a:lnTo>
                  <a:lnTo>
                    <a:pt x="939" y="660"/>
                  </a:lnTo>
                  <a:lnTo>
                    <a:pt x="939" y="663"/>
                  </a:lnTo>
                  <a:lnTo>
                    <a:pt x="939" y="667"/>
                  </a:lnTo>
                  <a:lnTo>
                    <a:pt x="937" y="671"/>
                  </a:lnTo>
                  <a:lnTo>
                    <a:pt x="937" y="677"/>
                  </a:lnTo>
                  <a:lnTo>
                    <a:pt x="935" y="681"/>
                  </a:lnTo>
                  <a:lnTo>
                    <a:pt x="935" y="684"/>
                  </a:lnTo>
                  <a:lnTo>
                    <a:pt x="935" y="688"/>
                  </a:lnTo>
                  <a:lnTo>
                    <a:pt x="935" y="694"/>
                  </a:lnTo>
                  <a:lnTo>
                    <a:pt x="933" y="701"/>
                  </a:lnTo>
                  <a:lnTo>
                    <a:pt x="931" y="709"/>
                  </a:lnTo>
                  <a:lnTo>
                    <a:pt x="931" y="715"/>
                  </a:lnTo>
                  <a:lnTo>
                    <a:pt x="931" y="722"/>
                  </a:lnTo>
                  <a:lnTo>
                    <a:pt x="930" y="728"/>
                  </a:lnTo>
                  <a:lnTo>
                    <a:pt x="928" y="734"/>
                  </a:lnTo>
                  <a:lnTo>
                    <a:pt x="928" y="740"/>
                  </a:lnTo>
                  <a:lnTo>
                    <a:pt x="928" y="743"/>
                  </a:lnTo>
                  <a:lnTo>
                    <a:pt x="928" y="751"/>
                  </a:lnTo>
                  <a:lnTo>
                    <a:pt x="930" y="755"/>
                  </a:lnTo>
                  <a:lnTo>
                    <a:pt x="931" y="755"/>
                  </a:lnTo>
                  <a:lnTo>
                    <a:pt x="935" y="753"/>
                  </a:lnTo>
                  <a:lnTo>
                    <a:pt x="939" y="749"/>
                  </a:lnTo>
                  <a:lnTo>
                    <a:pt x="947" y="743"/>
                  </a:lnTo>
                  <a:lnTo>
                    <a:pt x="949" y="740"/>
                  </a:lnTo>
                  <a:lnTo>
                    <a:pt x="952" y="734"/>
                  </a:lnTo>
                  <a:lnTo>
                    <a:pt x="954" y="730"/>
                  </a:lnTo>
                  <a:lnTo>
                    <a:pt x="958" y="724"/>
                  </a:lnTo>
                  <a:lnTo>
                    <a:pt x="962" y="719"/>
                  </a:lnTo>
                  <a:lnTo>
                    <a:pt x="966" y="713"/>
                  </a:lnTo>
                  <a:lnTo>
                    <a:pt x="969" y="707"/>
                  </a:lnTo>
                  <a:lnTo>
                    <a:pt x="973" y="701"/>
                  </a:lnTo>
                  <a:lnTo>
                    <a:pt x="977" y="696"/>
                  </a:lnTo>
                  <a:lnTo>
                    <a:pt x="981" y="690"/>
                  </a:lnTo>
                  <a:lnTo>
                    <a:pt x="985" y="682"/>
                  </a:lnTo>
                  <a:lnTo>
                    <a:pt x="989" y="677"/>
                  </a:lnTo>
                  <a:lnTo>
                    <a:pt x="992" y="669"/>
                  </a:lnTo>
                  <a:lnTo>
                    <a:pt x="996" y="663"/>
                  </a:lnTo>
                  <a:lnTo>
                    <a:pt x="1000" y="656"/>
                  </a:lnTo>
                  <a:lnTo>
                    <a:pt x="1004" y="652"/>
                  </a:lnTo>
                  <a:lnTo>
                    <a:pt x="1008" y="644"/>
                  </a:lnTo>
                  <a:lnTo>
                    <a:pt x="1011" y="639"/>
                  </a:lnTo>
                  <a:lnTo>
                    <a:pt x="1015" y="631"/>
                  </a:lnTo>
                  <a:lnTo>
                    <a:pt x="1019" y="627"/>
                  </a:lnTo>
                  <a:lnTo>
                    <a:pt x="1021" y="622"/>
                  </a:lnTo>
                  <a:lnTo>
                    <a:pt x="1025" y="618"/>
                  </a:lnTo>
                  <a:lnTo>
                    <a:pt x="1028" y="612"/>
                  </a:lnTo>
                  <a:lnTo>
                    <a:pt x="1030" y="608"/>
                  </a:lnTo>
                  <a:lnTo>
                    <a:pt x="1032" y="605"/>
                  </a:lnTo>
                  <a:lnTo>
                    <a:pt x="1034" y="601"/>
                  </a:lnTo>
                  <a:lnTo>
                    <a:pt x="1036" y="595"/>
                  </a:lnTo>
                  <a:lnTo>
                    <a:pt x="1038" y="591"/>
                  </a:lnTo>
                  <a:lnTo>
                    <a:pt x="1040" y="587"/>
                  </a:lnTo>
                  <a:lnTo>
                    <a:pt x="1040" y="582"/>
                  </a:lnTo>
                  <a:lnTo>
                    <a:pt x="1042" y="578"/>
                  </a:lnTo>
                  <a:lnTo>
                    <a:pt x="1046" y="574"/>
                  </a:lnTo>
                  <a:lnTo>
                    <a:pt x="1046" y="568"/>
                  </a:lnTo>
                  <a:lnTo>
                    <a:pt x="1046" y="563"/>
                  </a:lnTo>
                  <a:lnTo>
                    <a:pt x="1047" y="559"/>
                  </a:lnTo>
                  <a:lnTo>
                    <a:pt x="1049" y="555"/>
                  </a:lnTo>
                  <a:lnTo>
                    <a:pt x="1049" y="549"/>
                  </a:lnTo>
                  <a:lnTo>
                    <a:pt x="1049" y="546"/>
                  </a:lnTo>
                  <a:lnTo>
                    <a:pt x="1049" y="540"/>
                  </a:lnTo>
                  <a:lnTo>
                    <a:pt x="1051" y="536"/>
                  </a:lnTo>
                  <a:lnTo>
                    <a:pt x="1051" y="530"/>
                  </a:lnTo>
                  <a:lnTo>
                    <a:pt x="1051" y="525"/>
                  </a:lnTo>
                  <a:lnTo>
                    <a:pt x="1051" y="521"/>
                  </a:lnTo>
                  <a:lnTo>
                    <a:pt x="1053" y="515"/>
                  </a:lnTo>
                  <a:lnTo>
                    <a:pt x="1053" y="509"/>
                  </a:lnTo>
                  <a:lnTo>
                    <a:pt x="1053" y="506"/>
                  </a:lnTo>
                  <a:lnTo>
                    <a:pt x="1053" y="500"/>
                  </a:lnTo>
                  <a:lnTo>
                    <a:pt x="1053" y="496"/>
                  </a:lnTo>
                  <a:lnTo>
                    <a:pt x="1051" y="490"/>
                  </a:lnTo>
                  <a:lnTo>
                    <a:pt x="1051" y="487"/>
                  </a:lnTo>
                  <a:lnTo>
                    <a:pt x="1051" y="481"/>
                  </a:lnTo>
                  <a:lnTo>
                    <a:pt x="1051" y="477"/>
                  </a:lnTo>
                  <a:lnTo>
                    <a:pt x="1049" y="471"/>
                  </a:lnTo>
                  <a:lnTo>
                    <a:pt x="1049" y="468"/>
                  </a:lnTo>
                  <a:lnTo>
                    <a:pt x="1049" y="462"/>
                  </a:lnTo>
                  <a:lnTo>
                    <a:pt x="1049" y="458"/>
                  </a:lnTo>
                  <a:lnTo>
                    <a:pt x="1047" y="454"/>
                  </a:lnTo>
                  <a:lnTo>
                    <a:pt x="1047" y="449"/>
                  </a:lnTo>
                  <a:lnTo>
                    <a:pt x="1046" y="445"/>
                  </a:lnTo>
                  <a:lnTo>
                    <a:pt x="1046" y="441"/>
                  </a:lnTo>
                  <a:lnTo>
                    <a:pt x="1042" y="433"/>
                  </a:lnTo>
                  <a:lnTo>
                    <a:pt x="1040" y="428"/>
                  </a:lnTo>
                  <a:lnTo>
                    <a:pt x="1038" y="418"/>
                  </a:lnTo>
                  <a:lnTo>
                    <a:pt x="1036" y="412"/>
                  </a:lnTo>
                  <a:lnTo>
                    <a:pt x="1034" y="407"/>
                  </a:lnTo>
                  <a:lnTo>
                    <a:pt x="1032" y="401"/>
                  </a:lnTo>
                  <a:lnTo>
                    <a:pt x="1030" y="393"/>
                  </a:lnTo>
                  <a:lnTo>
                    <a:pt x="1028" y="388"/>
                  </a:lnTo>
                  <a:lnTo>
                    <a:pt x="1025" y="382"/>
                  </a:lnTo>
                  <a:lnTo>
                    <a:pt x="1025" y="376"/>
                  </a:lnTo>
                  <a:lnTo>
                    <a:pt x="1023" y="373"/>
                  </a:lnTo>
                  <a:lnTo>
                    <a:pt x="1023" y="367"/>
                  </a:lnTo>
                  <a:lnTo>
                    <a:pt x="1023" y="363"/>
                  </a:lnTo>
                  <a:lnTo>
                    <a:pt x="1025" y="359"/>
                  </a:lnTo>
                  <a:lnTo>
                    <a:pt x="1027" y="350"/>
                  </a:lnTo>
                  <a:lnTo>
                    <a:pt x="1032" y="342"/>
                  </a:lnTo>
                  <a:lnTo>
                    <a:pt x="1036" y="335"/>
                  </a:lnTo>
                  <a:lnTo>
                    <a:pt x="1046" y="331"/>
                  </a:lnTo>
                  <a:lnTo>
                    <a:pt x="1051" y="325"/>
                  </a:lnTo>
                  <a:lnTo>
                    <a:pt x="1061" y="323"/>
                  </a:lnTo>
                  <a:lnTo>
                    <a:pt x="1065" y="321"/>
                  </a:lnTo>
                  <a:lnTo>
                    <a:pt x="1068" y="321"/>
                  </a:lnTo>
                  <a:lnTo>
                    <a:pt x="1072" y="321"/>
                  </a:lnTo>
                  <a:lnTo>
                    <a:pt x="1076" y="323"/>
                  </a:lnTo>
                  <a:lnTo>
                    <a:pt x="1084" y="327"/>
                  </a:lnTo>
                  <a:lnTo>
                    <a:pt x="1091" y="333"/>
                  </a:lnTo>
                  <a:lnTo>
                    <a:pt x="1093" y="335"/>
                  </a:lnTo>
                  <a:lnTo>
                    <a:pt x="1097" y="338"/>
                  </a:lnTo>
                  <a:lnTo>
                    <a:pt x="1099" y="344"/>
                  </a:lnTo>
                  <a:lnTo>
                    <a:pt x="1103" y="350"/>
                  </a:lnTo>
                  <a:lnTo>
                    <a:pt x="1103" y="354"/>
                  </a:lnTo>
                  <a:lnTo>
                    <a:pt x="1106" y="359"/>
                  </a:lnTo>
                  <a:lnTo>
                    <a:pt x="1106" y="365"/>
                  </a:lnTo>
                  <a:lnTo>
                    <a:pt x="1108" y="373"/>
                  </a:lnTo>
                  <a:lnTo>
                    <a:pt x="1110" y="376"/>
                  </a:lnTo>
                  <a:lnTo>
                    <a:pt x="1110" y="384"/>
                  </a:lnTo>
                  <a:lnTo>
                    <a:pt x="1112" y="392"/>
                  </a:lnTo>
                  <a:lnTo>
                    <a:pt x="1112" y="399"/>
                  </a:lnTo>
                  <a:lnTo>
                    <a:pt x="1112" y="407"/>
                  </a:lnTo>
                  <a:lnTo>
                    <a:pt x="1110" y="412"/>
                  </a:lnTo>
                  <a:lnTo>
                    <a:pt x="1110" y="420"/>
                  </a:lnTo>
                  <a:lnTo>
                    <a:pt x="1110" y="428"/>
                  </a:lnTo>
                  <a:lnTo>
                    <a:pt x="1108" y="433"/>
                  </a:lnTo>
                  <a:lnTo>
                    <a:pt x="1106" y="441"/>
                  </a:lnTo>
                  <a:lnTo>
                    <a:pt x="1106" y="447"/>
                  </a:lnTo>
                  <a:lnTo>
                    <a:pt x="1106" y="454"/>
                  </a:lnTo>
                  <a:lnTo>
                    <a:pt x="1104" y="460"/>
                  </a:lnTo>
                  <a:lnTo>
                    <a:pt x="1103" y="466"/>
                  </a:lnTo>
                  <a:lnTo>
                    <a:pt x="1103" y="470"/>
                  </a:lnTo>
                  <a:lnTo>
                    <a:pt x="1103" y="473"/>
                  </a:lnTo>
                  <a:lnTo>
                    <a:pt x="1103" y="479"/>
                  </a:lnTo>
                  <a:lnTo>
                    <a:pt x="1106" y="483"/>
                  </a:lnTo>
                  <a:lnTo>
                    <a:pt x="1110" y="483"/>
                  </a:lnTo>
                  <a:lnTo>
                    <a:pt x="1116" y="479"/>
                  </a:lnTo>
                  <a:lnTo>
                    <a:pt x="1118" y="473"/>
                  </a:lnTo>
                  <a:lnTo>
                    <a:pt x="1122" y="471"/>
                  </a:lnTo>
                  <a:lnTo>
                    <a:pt x="1124" y="466"/>
                  </a:lnTo>
                  <a:lnTo>
                    <a:pt x="1129" y="462"/>
                  </a:lnTo>
                  <a:lnTo>
                    <a:pt x="1131" y="458"/>
                  </a:lnTo>
                  <a:lnTo>
                    <a:pt x="1135" y="452"/>
                  </a:lnTo>
                  <a:lnTo>
                    <a:pt x="1139" y="447"/>
                  </a:lnTo>
                  <a:lnTo>
                    <a:pt x="1143" y="441"/>
                  </a:lnTo>
                  <a:lnTo>
                    <a:pt x="1144" y="435"/>
                  </a:lnTo>
                  <a:lnTo>
                    <a:pt x="1148" y="430"/>
                  </a:lnTo>
                  <a:lnTo>
                    <a:pt x="1152" y="424"/>
                  </a:lnTo>
                  <a:lnTo>
                    <a:pt x="1156" y="418"/>
                  </a:lnTo>
                  <a:lnTo>
                    <a:pt x="1158" y="412"/>
                  </a:lnTo>
                  <a:lnTo>
                    <a:pt x="1160" y="407"/>
                  </a:lnTo>
                  <a:lnTo>
                    <a:pt x="1162" y="401"/>
                  </a:lnTo>
                  <a:lnTo>
                    <a:pt x="1163" y="397"/>
                  </a:lnTo>
                  <a:lnTo>
                    <a:pt x="1165" y="392"/>
                  </a:lnTo>
                  <a:lnTo>
                    <a:pt x="1167" y="388"/>
                  </a:lnTo>
                  <a:lnTo>
                    <a:pt x="1169" y="382"/>
                  </a:lnTo>
                  <a:lnTo>
                    <a:pt x="1171" y="380"/>
                  </a:lnTo>
                  <a:lnTo>
                    <a:pt x="1173" y="373"/>
                  </a:lnTo>
                  <a:lnTo>
                    <a:pt x="1177" y="367"/>
                  </a:lnTo>
                  <a:lnTo>
                    <a:pt x="1179" y="361"/>
                  </a:lnTo>
                  <a:lnTo>
                    <a:pt x="1184" y="359"/>
                  </a:lnTo>
                  <a:lnTo>
                    <a:pt x="1188" y="355"/>
                  </a:lnTo>
                  <a:lnTo>
                    <a:pt x="1196" y="357"/>
                  </a:lnTo>
                  <a:lnTo>
                    <a:pt x="1200" y="357"/>
                  </a:lnTo>
                  <a:lnTo>
                    <a:pt x="1207" y="361"/>
                  </a:lnTo>
                  <a:lnTo>
                    <a:pt x="1213" y="365"/>
                  </a:lnTo>
                  <a:lnTo>
                    <a:pt x="1219" y="369"/>
                  </a:lnTo>
                  <a:lnTo>
                    <a:pt x="1224" y="376"/>
                  </a:lnTo>
                  <a:lnTo>
                    <a:pt x="1228" y="382"/>
                  </a:lnTo>
                  <a:lnTo>
                    <a:pt x="1230" y="386"/>
                  </a:lnTo>
                  <a:lnTo>
                    <a:pt x="1230" y="390"/>
                  </a:lnTo>
                  <a:lnTo>
                    <a:pt x="1230" y="395"/>
                  </a:lnTo>
                  <a:lnTo>
                    <a:pt x="1230" y="399"/>
                  </a:lnTo>
                  <a:lnTo>
                    <a:pt x="1230" y="405"/>
                  </a:lnTo>
                  <a:lnTo>
                    <a:pt x="1230" y="409"/>
                  </a:lnTo>
                  <a:lnTo>
                    <a:pt x="1230" y="414"/>
                  </a:lnTo>
                  <a:lnTo>
                    <a:pt x="1230" y="420"/>
                  </a:lnTo>
                  <a:lnTo>
                    <a:pt x="1228" y="424"/>
                  </a:lnTo>
                  <a:lnTo>
                    <a:pt x="1226" y="430"/>
                  </a:lnTo>
                  <a:lnTo>
                    <a:pt x="1224" y="435"/>
                  </a:lnTo>
                  <a:lnTo>
                    <a:pt x="1222" y="441"/>
                  </a:lnTo>
                  <a:lnTo>
                    <a:pt x="1219" y="445"/>
                  </a:lnTo>
                  <a:lnTo>
                    <a:pt x="1217" y="451"/>
                  </a:lnTo>
                  <a:lnTo>
                    <a:pt x="1215" y="456"/>
                  </a:lnTo>
                  <a:lnTo>
                    <a:pt x="1213" y="462"/>
                  </a:lnTo>
                  <a:lnTo>
                    <a:pt x="1209" y="466"/>
                  </a:lnTo>
                  <a:lnTo>
                    <a:pt x="1205" y="470"/>
                  </a:lnTo>
                  <a:lnTo>
                    <a:pt x="1200" y="473"/>
                  </a:lnTo>
                  <a:lnTo>
                    <a:pt x="1198" y="479"/>
                  </a:lnTo>
                  <a:lnTo>
                    <a:pt x="1190" y="487"/>
                  </a:lnTo>
                  <a:lnTo>
                    <a:pt x="1184" y="492"/>
                  </a:lnTo>
                  <a:lnTo>
                    <a:pt x="1179" y="498"/>
                  </a:lnTo>
                  <a:lnTo>
                    <a:pt x="1175" y="502"/>
                  </a:lnTo>
                  <a:lnTo>
                    <a:pt x="1175" y="504"/>
                  </a:lnTo>
                  <a:lnTo>
                    <a:pt x="1177" y="506"/>
                  </a:lnTo>
                  <a:lnTo>
                    <a:pt x="1181" y="504"/>
                  </a:lnTo>
                  <a:lnTo>
                    <a:pt x="1188" y="498"/>
                  </a:lnTo>
                  <a:lnTo>
                    <a:pt x="1192" y="494"/>
                  </a:lnTo>
                  <a:lnTo>
                    <a:pt x="1196" y="492"/>
                  </a:lnTo>
                  <a:lnTo>
                    <a:pt x="1201" y="490"/>
                  </a:lnTo>
                  <a:lnTo>
                    <a:pt x="1209" y="487"/>
                  </a:lnTo>
                  <a:lnTo>
                    <a:pt x="1213" y="483"/>
                  </a:lnTo>
                  <a:lnTo>
                    <a:pt x="1219" y="479"/>
                  </a:lnTo>
                  <a:lnTo>
                    <a:pt x="1226" y="475"/>
                  </a:lnTo>
                  <a:lnTo>
                    <a:pt x="1232" y="473"/>
                  </a:lnTo>
                  <a:lnTo>
                    <a:pt x="1238" y="470"/>
                  </a:lnTo>
                  <a:lnTo>
                    <a:pt x="1243" y="466"/>
                  </a:lnTo>
                  <a:lnTo>
                    <a:pt x="1249" y="464"/>
                  </a:lnTo>
                  <a:lnTo>
                    <a:pt x="1255" y="462"/>
                  </a:lnTo>
                  <a:lnTo>
                    <a:pt x="1260" y="458"/>
                  </a:lnTo>
                  <a:lnTo>
                    <a:pt x="1266" y="456"/>
                  </a:lnTo>
                  <a:lnTo>
                    <a:pt x="1270" y="452"/>
                  </a:lnTo>
                  <a:lnTo>
                    <a:pt x="1276" y="452"/>
                  </a:lnTo>
                  <a:lnTo>
                    <a:pt x="1279" y="451"/>
                  </a:lnTo>
                  <a:lnTo>
                    <a:pt x="1283" y="449"/>
                  </a:lnTo>
                  <a:lnTo>
                    <a:pt x="1287" y="449"/>
                  </a:lnTo>
                  <a:lnTo>
                    <a:pt x="1291" y="449"/>
                  </a:lnTo>
                  <a:lnTo>
                    <a:pt x="1297" y="449"/>
                  </a:lnTo>
                  <a:lnTo>
                    <a:pt x="1302" y="452"/>
                  </a:lnTo>
                  <a:lnTo>
                    <a:pt x="1308" y="456"/>
                  </a:lnTo>
                  <a:lnTo>
                    <a:pt x="1314" y="462"/>
                  </a:lnTo>
                  <a:lnTo>
                    <a:pt x="1314" y="466"/>
                  </a:lnTo>
                  <a:lnTo>
                    <a:pt x="1316" y="470"/>
                  </a:lnTo>
                  <a:lnTo>
                    <a:pt x="1317" y="473"/>
                  </a:lnTo>
                  <a:lnTo>
                    <a:pt x="1319" y="479"/>
                  </a:lnTo>
                  <a:lnTo>
                    <a:pt x="1319" y="483"/>
                  </a:lnTo>
                  <a:lnTo>
                    <a:pt x="1321" y="487"/>
                  </a:lnTo>
                  <a:lnTo>
                    <a:pt x="1321" y="492"/>
                  </a:lnTo>
                  <a:lnTo>
                    <a:pt x="1323" y="498"/>
                  </a:lnTo>
                  <a:lnTo>
                    <a:pt x="1321" y="504"/>
                  </a:lnTo>
                  <a:lnTo>
                    <a:pt x="1321" y="508"/>
                  </a:lnTo>
                  <a:lnTo>
                    <a:pt x="1321" y="513"/>
                  </a:lnTo>
                  <a:lnTo>
                    <a:pt x="1321" y="519"/>
                  </a:lnTo>
                  <a:lnTo>
                    <a:pt x="1319" y="525"/>
                  </a:lnTo>
                  <a:lnTo>
                    <a:pt x="1319" y="528"/>
                  </a:lnTo>
                  <a:lnTo>
                    <a:pt x="1317" y="532"/>
                  </a:lnTo>
                  <a:lnTo>
                    <a:pt x="1316" y="538"/>
                  </a:lnTo>
                  <a:lnTo>
                    <a:pt x="1308" y="546"/>
                  </a:lnTo>
                  <a:lnTo>
                    <a:pt x="1300" y="551"/>
                  </a:lnTo>
                  <a:lnTo>
                    <a:pt x="1295" y="553"/>
                  </a:lnTo>
                  <a:lnTo>
                    <a:pt x="1289" y="555"/>
                  </a:lnTo>
                  <a:lnTo>
                    <a:pt x="1283" y="557"/>
                  </a:lnTo>
                  <a:lnTo>
                    <a:pt x="1279" y="559"/>
                  </a:lnTo>
                  <a:lnTo>
                    <a:pt x="1274" y="561"/>
                  </a:lnTo>
                  <a:lnTo>
                    <a:pt x="1268" y="563"/>
                  </a:lnTo>
                  <a:lnTo>
                    <a:pt x="1262" y="565"/>
                  </a:lnTo>
                  <a:lnTo>
                    <a:pt x="1259" y="566"/>
                  </a:lnTo>
                  <a:lnTo>
                    <a:pt x="1251" y="566"/>
                  </a:lnTo>
                  <a:lnTo>
                    <a:pt x="1245" y="568"/>
                  </a:lnTo>
                  <a:lnTo>
                    <a:pt x="1241" y="568"/>
                  </a:lnTo>
                  <a:lnTo>
                    <a:pt x="1238" y="570"/>
                  </a:lnTo>
                  <a:lnTo>
                    <a:pt x="1232" y="570"/>
                  </a:lnTo>
                  <a:lnTo>
                    <a:pt x="1228" y="570"/>
                  </a:lnTo>
                  <a:lnTo>
                    <a:pt x="1222" y="572"/>
                  </a:lnTo>
                  <a:lnTo>
                    <a:pt x="1219" y="572"/>
                  </a:lnTo>
                  <a:lnTo>
                    <a:pt x="1211" y="572"/>
                  </a:lnTo>
                  <a:lnTo>
                    <a:pt x="1205" y="576"/>
                  </a:lnTo>
                  <a:lnTo>
                    <a:pt x="1198" y="576"/>
                  </a:lnTo>
                  <a:lnTo>
                    <a:pt x="1190" y="580"/>
                  </a:lnTo>
                  <a:lnTo>
                    <a:pt x="1184" y="582"/>
                  </a:lnTo>
                  <a:lnTo>
                    <a:pt x="1177" y="587"/>
                  </a:lnTo>
                  <a:lnTo>
                    <a:pt x="1169" y="591"/>
                  </a:lnTo>
                  <a:lnTo>
                    <a:pt x="1162" y="597"/>
                  </a:lnTo>
                  <a:lnTo>
                    <a:pt x="1156" y="603"/>
                  </a:lnTo>
                  <a:lnTo>
                    <a:pt x="1148" y="610"/>
                  </a:lnTo>
                  <a:lnTo>
                    <a:pt x="1144" y="614"/>
                  </a:lnTo>
                  <a:lnTo>
                    <a:pt x="1141" y="618"/>
                  </a:lnTo>
                  <a:lnTo>
                    <a:pt x="1137" y="622"/>
                  </a:lnTo>
                  <a:lnTo>
                    <a:pt x="1135" y="625"/>
                  </a:lnTo>
                  <a:lnTo>
                    <a:pt x="1131" y="631"/>
                  </a:lnTo>
                  <a:lnTo>
                    <a:pt x="1129" y="635"/>
                  </a:lnTo>
                  <a:lnTo>
                    <a:pt x="1125" y="641"/>
                  </a:lnTo>
                  <a:lnTo>
                    <a:pt x="1124" y="646"/>
                  </a:lnTo>
                  <a:lnTo>
                    <a:pt x="1120" y="652"/>
                  </a:lnTo>
                  <a:lnTo>
                    <a:pt x="1118" y="656"/>
                  </a:lnTo>
                  <a:lnTo>
                    <a:pt x="1116" y="662"/>
                  </a:lnTo>
                  <a:lnTo>
                    <a:pt x="1114" y="667"/>
                  </a:lnTo>
                  <a:lnTo>
                    <a:pt x="1112" y="673"/>
                  </a:lnTo>
                  <a:lnTo>
                    <a:pt x="1108" y="679"/>
                  </a:lnTo>
                  <a:lnTo>
                    <a:pt x="1106" y="686"/>
                  </a:lnTo>
                  <a:lnTo>
                    <a:pt x="1106" y="692"/>
                  </a:lnTo>
                  <a:lnTo>
                    <a:pt x="1104" y="698"/>
                  </a:lnTo>
                  <a:lnTo>
                    <a:pt x="1104" y="705"/>
                  </a:lnTo>
                  <a:lnTo>
                    <a:pt x="1103" y="711"/>
                  </a:lnTo>
                  <a:lnTo>
                    <a:pt x="1103" y="719"/>
                  </a:lnTo>
                  <a:lnTo>
                    <a:pt x="1101" y="724"/>
                  </a:lnTo>
                  <a:lnTo>
                    <a:pt x="1099" y="732"/>
                  </a:lnTo>
                  <a:lnTo>
                    <a:pt x="1099" y="740"/>
                  </a:lnTo>
                  <a:lnTo>
                    <a:pt x="1099" y="747"/>
                  </a:lnTo>
                  <a:lnTo>
                    <a:pt x="1097" y="753"/>
                  </a:lnTo>
                  <a:lnTo>
                    <a:pt x="1095" y="760"/>
                  </a:lnTo>
                  <a:lnTo>
                    <a:pt x="1093" y="770"/>
                  </a:lnTo>
                  <a:lnTo>
                    <a:pt x="1091" y="778"/>
                  </a:lnTo>
                  <a:lnTo>
                    <a:pt x="1089" y="785"/>
                  </a:lnTo>
                  <a:lnTo>
                    <a:pt x="1087" y="793"/>
                  </a:lnTo>
                  <a:lnTo>
                    <a:pt x="1085" y="798"/>
                  </a:lnTo>
                  <a:lnTo>
                    <a:pt x="1084" y="802"/>
                  </a:lnTo>
                  <a:lnTo>
                    <a:pt x="1082" y="808"/>
                  </a:lnTo>
                  <a:lnTo>
                    <a:pt x="1082" y="812"/>
                  </a:lnTo>
                  <a:lnTo>
                    <a:pt x="1078" y="817"/>
                  </a:lnTo>
                  <a:lnTo>
                    <a:pt x="1078" y="821"/>
                  </a:lnTo>
                  <a:lnTo>
                    <a:pt x="1076" y="827"/>
                  </a:lnTo>
                  <a:lnTo>
                    <a:pt x="1074" y="833"/>
                  </a:lnTo>
                  <a:lnTo>
                    <a:pt x="1072" y="836"/>
                  </a:lnTo>
                  <a:lnTo>
                    <a:pt x="1070" y="842"/>
                  </a:lnTo>
                  <a:lnTo>
                    <a:pt x="1068" y="848"/>
                  </a:lnTo>
                  <a:lnTo>
                    <a:pt x="1068" y="854"/>
                  </a:lnTo>
                  <a:lnTo>
                    <a:pt x="1066" y="859"/>
                  </a:lnTo>
                  <a:lnTo>
                    <a:pt x="1065" y="865"/>
                  </a:lnTo>
                  <a:lnTo>
                    <a:pt x="1063" y="873"/>
                  </a:lnTo>
                  <a:lnTo>
                    <a:pt x="1063" y="878"/>
                  </a:lnTo>
                  <a:lnTo>
                    <a:pt x="1061" y="886"/>
                  </a:lnTo>
                  <a:lnTo>
                    <a:pt x="1059" y="892"/>
                  </a:lnTo>
                  <a:lnTo>
                    <a:pt x="1057" y="899"/>
                  </a:lnTo>
                  <a:lnTo>
                    <a:pt x="1057" y="907"/>
                  </a:lnTo>
                  <a:lnTo>
                    <a:pt x="1057" y="914"/>
                  </a:lnTo>
                  <a:lnTo>
                    <a:pt x="1055" y="922"/>
                  </a:lnTo>
                  <a:lnTo>
                    <a:pt x="1055" y="926"/>
                  </a:lnTo>
                  <a:lnTo>
                    <a:pt x="1053" y="930"/>
                  </a:lnTo>
                  <a:lnTo>
                    <a:pt x="1053" y="935"/>
                  </a:lnTo>
                  <a:lnTo>
                    <a:pt x="1053" y="939"/>
                  </a:lnTo>
                  <a:lnTo>
                    <a:pt x="1053" y="943"/>
                  </a:lnTo>
                  <a:lnTo>
                    <a:pt x="1053" y="947"/>
                  </a:lnTo>
                  <a:lnTo>
                    <a:pt x="1053" y="952"/>
                  </a:lnTo>
                  <a:lnTo>
                    <a:pt x="1053" y="956"/>
                  </a:lnTo>
                  <a:lnTo>
                    <a:pt x="1053" y="960"/>
                  </a:lnTo>
                  <a:lnTo>
                    <a:pt x="1053" y="966"/>
                  </a:lnTo>
                  <a:lnTo>
                    <a:pt x="1053" y="970"/>
                  </a:lnTo>
                  <a:lnTo>
                    <a:pt x="1053" y="975"/>
                  </a:lnTo>
                  <a:lnTo>
                    <a:pt x="1053" y="979"/>
                  </a:lnTo>
                  <a:lnTo>
                    <a:pt x="1053" y="983"/>
                  </a:lnTo>
                  <a:lnTo>
                    <a:pt x="1053" y="989"/>
                  </a:lnTo>
                  <a:lnTo>
                    <a:pt x="1053" y="992"/>
                  </a:lnTo>
                  <a:lnTo>
                    <a:pt x="1053" y="998"/>
                  </a:lnTo>
                  <a:lnTo>
                    <a:pt x="1053" y="1002"/>
                  </a:lnTo>
                  <a:lnTo>
                    <a:pt x="1053" y="1008"/>
                  </a:lnTo>
                  <a:lnTo>
                    <a:pt x="1053" y="1011"/>
                  </a:lnTo>
                  <a:lnTo>
                    <a:pt x="1053" y="1017"/>
                  </a:lnTo>
                  <a:lnTo>
                    <a:pt x="1053" y="1021"/>
                  </a:lnTo>
                  <a:lnTo>
                    <a:pt x="1053" y="1027"/>
                  </a:lnTo>
                  <a:lnTo>
                    <a:pt x="1053" y="1032"/>
                  </a:lnTo>
                  <a:lnTo>
                    <a:pt x="1053" y="1036"/>
                  </a:lnTo>
                  <a:lnTo>
                    <a:pt x="1053" y="1042"/>
                  </a:lnTo>
                  <a:lnTo>
                    <a:pt x="1053" y="1048"/>
                  </a:lnTo>
                  <a:lnTo>
                    <a:pt x="1055" y="1053"/>
                  </a:lnTo>
                  <a:lnTo>
                    <a:pt x="1055" y="1057"/>
                  </a:lnTo>
                  <a:lnTo>
                    <a:pt x="1055" y="1061"/>
                  </a:lnTo>
                  <a:lnTo>
                    <a:pt x="1055" y="1067"/>
                  </a:lnTo>
                  <a:lnTo>
                    <a:pt x="1055" y="1072"/>
                  </a:lnTo>
                  <a:lnTo>
                    <a:pt x="1055" y="1076"/>
                  </a:lnTo>
                  <a:lnTo>
                    <a:pt x="1057" y="1082"/>
                  </a:lnTo>
                  <a:lnTo>
                    <a:pt x="1057" y="1087"/>
                  </a:lnTo>
                  <a:lnTo>
                    <a:pt x="1057" y="1091"/>
                  </a:lnTo>
                  <a:lnTo>
                    <a:pt x="1057" y="1097"/>
                  </a:lnTo>
                  <a:lnTo>
                    <a:pt x="1057" y="1103"/>
                  </a:lnTo>
                  <a:lnTo>
                    <a:pt x="1059" y="1106"/>
                  </a:lnTo>
                  <a:lnTo>
                    <a:pt x="1059" y="1112"/>
                  </a:lnTo>
                  <a:lnTo>
                    <a:pt x="1059" y="1118"/>
                  </a:lnTo>
                  <a:lnTo>
                    <a:pt x="1061" y="1122"/>
                  </a:lnTo>
                  <a:lnTo>
                    <a:pt x="1061" y="1127"/>
                  </a:lnTo>
                  <a:lnTo>
                    <a:pt x="1063" y="1133"/>
                  </a:lnTo>
                  <a:lnTo>
                    <a:pt x="1063" y="1139"/>
                  </a:lnTo>
                  <a:lnTo>
                    <a:pt x="1063" y="1143"/>
                  </a:lnTo>
                  <a:lnTo>
                    <a:pt x="1065" y="1148"/>
                  </a:lnTo>
                  <a:lnTo>
                    <a:pt x="1065" y="1154"/>
                  </a:lnTo>
                  <a:lnTo>
                    <a:pt x="1066" y="1158"/>
                  </a:lnTo>
                  <a:lnTo>
                    <a:pt x="1066" y="1163"/>
                  </a:lnTo>
                  <a:lnTo>
                    <a:pt x="1066" y="1167"/>
                  </a:lnTo>
                  <a:lnTo>
                    <a:pt x="1068" y="1173"/>
                  </a:lnTo>
                  <a:lnTo>
                    <a:pt x="1068" y="1179"/>
                  </a:lnTo>
                  <a:lnTo>
                    <a:pt x="1070" y="1182"/>
                  </a:lnTo>
                  <a:lnTo>
                    <a:pt x="1070" y="1188"/>
                  </a:lnTo>
                  <a:lnTo>
                    <a:pt x="1072" y="1194"/>
                  </a:lnTo>
                  <a:lnTo>
                    <a:pt x="1072" y="1198"/>
                  </a:lnTo>
                  <a:lnTo>
                    <a:pt x="1074" y="1203"/>
                  </a:lnTo>
                  <a:lnTo>
                    <a:pt x="1074" y="1209"/>
                  </a:lnTo>
                  <a:lnTo>
                    <a:pt x="1076" y="1215"/>
                  </a:lnTo>
                  <a:lnTo>
                    <a:pt x="1076" y="1219"/>
                  </a:lnTo>
                  <a:lnTo>
                    <a:pt x="1078" y="1222"/>
                  </a:lnTo>
                  <a:lnTo>
                    <a:pt x="1078" y="1226"/>
                  </a:lnTo>
                  <a:lnTo>
                    <a:pt x="1080" y="1232"/>
                  </a:lnTo>
                  <a:lnTo>
                    <a:pt x="1082" y="1236"/>
                  </a:lnTo>
                  <a:lnTo>
                    <a:pt x="1084" y="1241"/>
                  </a:lnTo>
                  <a:lnTo>
                    <a:pt x="1084" y="1245"/>
                  </a:lnTo>
                  <a:lnTo>
                    <a:pt x="1085" y="1251"/>
                  </a:lnTo>
                  <a:lnTo>
                    <a:pt x="1087" y="1255"/>
                  </a:lnTo>
                  <a:lnTo>
                    <a:pt x="1089" y="1259"/>
                  </a:lnTo>
                  <a:lnTo>
                    <a:pt x="1091" y="1264"/>
                  </a:lnTo>
                  <a:lnTo>
                    <a:pt x="1093" y="1268"/>
                  </a:lnTo>
                  <a:lnTo>
                    <a:pt x="1095" y="1274"/>
                  </a:lnTo>
                  <a:lnTo>
                    <a:pt x="1095" y="1278"/>
                  </a:lnTo>
                  <a:lnTo>
                    <a:pt x="1099" y="1281"/>
                  </a:lnTo>
                  <a:lnTo>
                    <a:pt x="1101" y="1287"/>
                  </a:lnTo>
                  <a:lnTo>
                    <a:pt x="1103" y="1291"/>
                  </a:lnTo>
                  <a:lnTo>
                    <a:pt x="1104" y="1295"/>
                  </a:lnTo>
                  <a:lnTo>
                    <a:pt x="1106" y="1298"/>
                  </a:lnTo>
                  <a:lnTo>
                    <a:pt x="1108" y="1304"/>
                  </a:lnTo>
                  <a:lnTo>
                    <a:pt x="1110" y="1308"/>
                  </a:lnTo>
                  <a:lnTo>
                    <a:pt x="1112" y="1312"/>
                  </a:lnTo>
                  <a:lnTo>
                    <a:pt x="1116" y="1316"/>
                  </a:lnTo>
                  <a:lnTo>
                    <a:pt x="1118" y="1321"/>
                  </a:lnTo>
                  <a:lnTo>
                    <a:pt x="1124" y="1329"/>
                  </a:lnTo>
                  <a:lnTo>
                    <a:pt x="1127" y="1337"/>
                  </a:lnTo>
                  <a:lnTo>
                    <a:pt x="1133" y="1346"/>
                  </a:lnTo>
                  <a:lnTo>
                    <a:pt x="1139" y="1354"/>
                  </a:lnTo>
                  <a:lnTo>
                    <a:pt x="1144" y="1361"/>
                  </a:lnTo>
                  <a:lnTo>
                    <a:pt x="1150" y="1369"/>
                  </a:lnTo>
                  <a:lnTo>
                    <a:pt x="1156" y="1375"/>
                  </a:lnTo>
                  <a:lnTo>
                    <a:pt x="1162" y="1384"/>
                  </a:lnTo>
                  <a:lnTo>
                    <a:pt x="1169" y="1390"/>
                  </a:lnTo>
                  <a:lnTo>
                    <a:pt x="1175" y="1397"/>
                  </a:lnTo>
                  <a:lnTo>
                    <a:pt x="1182" y="1405"/>
                  </a:lnTo>
                  <a:lnTo>
                    <a:pt x="1188" y="1411"/>
                  </a:lnTo>
                  <a:lnTo>
                    <a:pt x="1196" y="1416"/>
                  </a:lnTo>
                  <a:lnTo>
                    <a:pt x="1203" y="1424"/>
                  </a:lnTo>
                  <a:lnTo>
                    <a:pt x="1209" y="1430"/>
                  </a:lnTo>
                  <a:lnTo>
                    <a:pt x="1217" y="1435"/>
                  </a:lnTo>
                  <a:lnTo>
                    <a:pt x="1224" y="1441"/>
                  </a:lnTo>
                  <a:lnTo>
                    <a:pt x="1232" y="1447"/>
                  </a:lnTo>
                  <a:lnTo>
                    <a:pt x="1239" y="1452"/>
                  </a:lnTo>
                  <a:lnTo>
                    <a:pt x="1247" y="1458"/>
                  </a:lnTo>
                  <a:lnTo>
                    <a:pt x="1255" y="1464"/>
                  </a:lnTo>
                  <a:lnTo>
                    <a:pt x="1262" y="1468"/>
                  </a:lnTo>
                  <a:lnTo>
                    <a:pt x="1270" y="1471"/>
                  </a:lnTo>
                  <a:lnTo>
                    <a:pt x="1278" y="1477"/>
                  </a:lnTo>
                  <a:lnTo>
                    <a:pt x="1285" y="1481"/>
                  </a:lnTo>
                  <a:lnTo>
                    <a:pt x="1293" y="1485"/>
                  </a:lnTo>
                  <a:lnTo>
                    <a:pt x="1300" y="1489"/>
                  </a:lnTo>
                  <a:lnTo>
                    <a:pt x="1308" y="1494"/>
                  </a:lnTo>
                  <a:lnTo>
                    <a:pt x="1314" y="1496"/>
                  </a:lnTo>
                  <a:lnTo>
                    <a:pt x="1321" y="1500"/>
                  </a:lnTo>
                  <a:lnTo>
                    <a:pt x="1329" y="1504"/>
                  </a:lnTo>
                  <a:lnTo>
                    <a:pt x="1336" y="1508"/>
                  </a:lnTo>
                  <a:lnTo>
                    <a:pt x="1344" y="1511"/>
                  </a:lnTo>
                  <a:lnTo>
                    <a:pt x="1350" y="1515"/>
                  </a:lnTo>
                  <a:lnTo>
                    <a:pt x="1357" y="1517"/>
                  </a:lnTo>
                  <a:lnTo>
                    <a:pt x="1365" y="1521"/>
                  </a:lnTo>
                  <a:lnTo>
                    <a:pt x="1371" y="1523"/>
                  </a:lnTo>
                  <a:lnTo>
                    <a:pt x="1378" y="1527"/>
                  </a:lnTo>
                  <a:lnTo>
                    <a:pt x="1384" y="1529"/>
                  </a:lnTo>
                  <a:lnTo>
                    <a:pt x="1392" y="1532"/>
                  </a:lnTo>
                  <a:lnTo>
                    <a:pt x="1397" y="1534"/>
                  </a:lnTo>
                  <a:lnTo>
                    <a:pt x="1405" y="1538"/>
                  </a:lnTo>
                  <a:lnTo>
                    <a:pt x="1411" y="1540"/>
                  </a:lnTo>
                  <a:lnTo>
                    <a:pt x="1418" y="1544"/>
                  </a:lnTo>
                  <a:lnTo>
                    <a:pt x="1424" y="1546"/>
                  </a:lnTo>
                  <a:lnTo>
                    <a:pt x="1432" y="1548"/>
                  </a:lnTo>
                  <a:lnTo>
                    <a:pt x="1437" y="1551"/>
                  </a:lnTo>
                  <a:lnTo>
                    <a:pt x="1443" y="1553"/>
                  </a:lnTo>
                  <a:lnTo>
                    <a:pt x="1451" y="1557"/>
                  </a:lnTo>
                  <a:lnTo>
                    <a:pt x="1456" y="1559"/>
                  </a:lnTo>
                  <a:lnTo>
                    <a:pt x="1464" y="1561"/>
                  </a:lnTo>
                  <a:lnTo>
                    <a:pt x="1470" y="1565"/>
                  </a:lnTo>
                  <a:lnTo>
                    <a:pt x="1477" y="1567"/>
                  </a:lnTo>
                  <a:lnTo>
                    <a:pt x="1483" y="1568"/>
                  </a:lnTo>
                  <a:lnTo>
                    <a:pt x="1489" y="1572"/>
                  </a:lnTo>
                  <a:lnTo>
                    <a:pt x="1496" y="1574"/>
                  </a:lnTo>
                  <a:lnTo>
                    <a:pt x="1502" y="1576"/>
                  </a:lnTo>
                  <a:lnTo>
                    <a:pt x="1508" y="1580"/>
                  </a:lnTo>
                  <a:lnTo>
                    <a:pt x="1515" y="1582"/>
                  </a:lnTo>
                  <a:lnTo>
                    <a:pt x="1521" y="1586"/>
                  </a:lnTo>
                  <a:lnTo>
                    <a:pt x="1527" y="1587"/>
                  </a:lnTo>
                  <a:lnTo>
                    <a:pt x="1534" y="1591"/>
                  </a:lnTo>
                  <a:lnTo>
                    <a:pt x="1540" y="1593"/>
                  </a:lnTo>
                  <a:lnTo>
                    <a:pt x="1546" y="1597"/>
                  </a:lnTo>
                  <a:lnTo>
                    <a:pt x="1551" y="1599"/>
                  </a:lnTo>
                  <a:lnTo>
                    <a:pt x="1557" y="1603"/>
                  </a:lnTo>
                  <a:lnTo>
                    <a:pt x="1565" y="1605"/>
                  </a:lnTo>
                  <a:lnTo>
                    <a:pt x="1570" y="1608"/>
                  </a:lnTo>
                  <a:lnTo>
                    <a:pt x="1574" y="1610"/>
                  </a:lnTo>
                  <a:lnTo>
                    <a:pt x="1580" y="1614"/>
                  </a:lnTo>
                  <a:lnTo>
                    <a:pt x="1586" y="1616"/>
                  </a:lnTo>
                  <a:lnTo>
                    <a:pt x="1591" y="1620"/>
                  </a:lnTo>
                  <a:lnTo>
                    <a:pt x="1595" y="1622"/>
                  </a:lnTo>
                  <a:lnTo>
                    <a:pt x="1601" y="1625"/>
                  </a:lnTo>
                  <a:lnTo>
                    <a:pt x="1606" y="1629"/>
                  </a:lnTo>
                  <a:lnTo>
                    <a:pt x="1612" y="1633"/>
                  </a:lnTo>
                  <a:lnTo>
                    <a:pt x="1616" y="1635"/>
                  </a:lnTo>
                  <a:lnTo>
                    <a:pt x="1620" y="1637"/>
                  </a:lnTo>
                  <a:lnTo>
                    <a:pt x="1625" y="1641"/>
                  </a:lnTo>
                  <a:lnTo>
                    <a:pt x="1629" y="1645"/>
                  </a:lnTo>
                  <a:lnTo>
                    <a:pt x="1637" y="1650"/>
                  </a:lnTo>
                  <a:lnTo>
                    <a:pt x="1646" y="1658"/>
                  </a:lnTo>
                  <a:lnTo>
                    <a:pt x="1652" y="1664"/>
                  </a:lnTo>
                  <a:lnTo>
                    <a:pt x="1658" y="1669"/>
                  </a:lnTo>
                  <a:lnTo>
                    <a:pt x="1665" y="1675"/>
                  </a:lnTo>
                  <a:lnTo>
                    <a:pt x="1671" y="1681"/>
                  </a:lnTo>
                  <a:lnTo>
                    <a:pt x="1677" y="1686"/>
                  </a:lnTo>
                  <a:lnTo>
                    <a:pt x="1684" y="1692"/>
                  </a:lnTo>
                  <a:lnTo>
                    <a:pt x="1690" y="1696"/>
                  </a:lnTo>
                  <a:lnTo>
                    <a:pt x="1696" y="1702"/>
                  </a:lnTo>
                  <a:lnTo>
                    <a:pt x="1702" y="1705"/>
                  </a:lnTo>
                  <a:lnTo>
                    <a:pt x="1709" y="1711"/>
                  </a:lnTo>
                  <a:lnTo>
                    <a:pt x="1715" y="1715"/>
                  </a:lnTo>
                  <a:lnTo>
                    <a:pt x="1721" y="1721"/>
                  </a:lnTo>
                  <a:lnTo>
                    <a:pt x="1728" y="1722"/>
                  </a:lnTo>
                  <a:lnTo>
                    <a:pt x="1734" y="1726"/>
                  </a:lnTo>
                  <a:lnTo>
                    <a:pt x="1741" y="1730"/>
                  </a:lnTo>
                  <a:lnTo>
                    <a:pt x="1749" y="1734"/>
                  </a:lnTo>
                  <a:lnTo>
                    <a:pt x="1757" y="1734"/>
                  </a:lnTo>
                  <a:lnTo>
                    <a:pt x="1764" y="1738"/>
                  </a:lnTo>
                  <a:lnTo>
                    <a:pt x="1770" y="1740"/>
                  </a:lnTo>
                  <a:lnTo>
                    <a:pt x="1778" y="1740"/>
                  </a:lnTo>
                  <a:lnTo>
                    <a:pt x="1785" y="1741"/>
                  </a:lnTo>
                  <a:lnTo>
                    <a:pt x="1793" y="1741"/>
                  </a:lnTo>
                  <a:lnTo>
                    <a:pt x="1800" y="1743"/>
                  </a:lnTo>
                  <a:lnTo>
                    <a:pt x="1810" y="1743"/>
                  </a:lnTo>
                  <a:lnTo>
                    <a:pt x="1818" y="1743"/>
                  </a:lnTo>
                  <a:lnTo>
                    <a:pt x="1825" y="1743"/>
                  </a:lnTo>
                  <a:lnTo>
                    <a:pt x="1833" y="1743"/>
                  </a:lnTo>
                  <a:lnTo>
                    <a:pt x="1842" y="1743"/>
                  </a:lnTo>
                  <a:lnTo>
                    <a:pt x="1850" y="1743"/>
                  </a:lnTo>
                  <a:lnTo>
                    <a:pt x="1857" y="1741"/>
                  </a:lnTo>
                  <a:lnTo>
                    <a:pt x="1865" y="1741"/>
                  </a:lnTo>
                  <a:lnTo>
                    <a:pt x="1875" y="1741"/>
                  </a:lnTo>
                  <a:lnTo>
                    <a:pt x="1882" y="1740"/>
                  </a:lnTo>
                  <a:lnTo>
                    <a:pt x="1890" y="1738"/>
                  </a:lnTo>
                  <a:lnTo>
                    <a:pt x="1894" y="1738"/>
                  </a:lnTo>
                  <a:lnTo>
                    <a:pt x="1899" y="1736"/>
                  </a:lnTo>
                  <a:lnTo>
                    <a:pt x="1903" y="1736"/>
                  </a:lnTo>
                  <a:lnTo>
                    <a:pt x="1907" y="1736"/>
                  </a:lnTo>
                  <a:lnTo>
                    <a:pt x="1915" y="1734"/>
                  </a:lnTo>
                  <a:lnTo>
                    <a:pt x="1924" y="1734"/>
                  </a:lnTo>
                  <a:lnTo>
                    <a:pt x="1932" y="1732"/>
                  </a:lnTo>
                  <a:lnTo>
                    <a:pt x="1939" y="1732"/>
                  </a:lnTo>
                  <a:lnTo>
                    <a:pt x="1947" y="1732"/>
                  </a:lnTo>
                  <a:lnTo>
                    <a:pt x="1953" y="1732"/>
                  </a:lnTo>
                  <a:lnTo>
                    <a:pt x="1960" y="1732"/>
                  </a:lnTo>
                  <a:lnTo>
                    <a:pt x="1968" y="1732"/>
                  </a:lnTo>
                  <a:lnTo>
                    <a:pt x="1973" y="1734"/>
                  </a:lnTo>
                  <a:lnTo>
                    <a:pt x="1979" y="1736"/>
                  </a:lnTo>
                  <a:lnTo>
                    <a:pt x="1985" y="1738"/>
                  </a:lnTo>
                  <a:lnTo>
                    <a:pt x="1991" y="1741"/>
                  </a:lnTo>
                  <a:lnTo>
                    <a:pt x="1994" y="1743"/>
                  </a:lnTo>
                  <a:lnTo>
                    <a:pt x="2000" y="1747"/>
                  </a:lnTo>
                  <a:lnTo>
                    <a:pt x="2002" y="1751"/>
                  </a:lnTo>
                  <a:lnTo>
                    <a:pt x="2008" y="1757"/>
                  </a:lnTo>
                  <a:lnTo>
                    <a:pt x="2010" y="1762"/>
                  </a:lnTo>
                  <a:lnTo>
                    <a:pt x="2011" y="1768"/>
                  </a:lnTo>
                  <a:lnTo>
                    <a:pt x="2013" y="1774"/>
                  </a:lnTo>
                  <a:lnTo>
                    <a:pt x="2015" y="1781"/>
                  </a:lnTo>
                  <a:lnTo>
                    <a:pt x="2013" y="1785"/>
                  </a:lnTo>
                  <a:lnTo>
                    <a:pt x="2013" y="1791"/>
                  </a:lnTo>
                  <a:lnTo>
                    <a:pt x="2013" y="1797"/>
                  </a:lnTo>
                  <a:lnTo>
                    <a:pt x="2011" y="1802"/>
                  </a:lnTo>
                  <a:lnTo>
                    <a:pt x="2008" y="1806"/>
                  </a:lnTo>
                  <a:lnTo>
                    <a:pt x="2006" y="1812"/>
                  </a:lnTo>
                  <a:lnTo>
                    <a:pt x="2000" y="1816"/>
                  </a:lnTo>
                  <a:lnTo>
                    <a:pt x="1996" y="1819"/>
                  </a:lnTo>
                  <a:lnTo>
                    <a:pt x="1989" y="1823"/>
                  </a:lnTo>
                  <a:lnTo>
                    <a:pt x="1981" y="1825"/>
                  </a:lnTo>
                  <a:lnTo>
                    <a:pt x="1973" y="1827"/>
                  </a:lnTo>
                  <a:lnTo>
                    <a:pt x="1966" y="1829"/>
                  </a:lnTo>
                  <a:lnTo>
                    <a:pt x="1960" y="1829"/>
                  </a:lnTo>
                  <a:lnTo>
                    <a:pt x="1956" y="1831"/>
                  </a:lnTo>
                  <a:lnTo>
                    <a:pt x="1951" y="1831"/>
                  </a:lnTo>
                  <a:lnTo>
                    <a:pt x="1945" y="1831"/>
                  </a:lnTo>
                  <a:lnTo>
                    <a:pt x="1941" y="1831"/>
                  </a:lnTo>
                  <a:lnTo>
                    <a:pt x="1935" y="1831"/>
                  </a:lnTo>
                  <a:lnTo>
                    <a:pt x="1930" y="1831"/>
                  </a:lnTo>
                  <a:lnTo>
                    <a:pt x="1926" y="1833"/>
                  </a:lnTo>
                  <a:lnTo>
                    <a:pt x="1918" y="1831"/>
                  </a:lnTo>
                  <a:lnTo>
                    <a:pt x="1915" y="1831"/>
                  </a:lnTo>
                  <a:lnTo>
                    <a:pt x="1909" y="1831"/>
                  </a:lnTo>
                  <a:lnTo>
                    <a:pt x="1903" y="1831"/>
                  </a:lnTo>
                  <a:lnTo>
                    <a:pt x="1897" y="1831"/>
                  </a:lnTo>
                  <a:lnTo>
                    <a:pt x="1892" y="1831"/>
                  </a:lnTo>
                  <a:lnTo>
                    <a:pt x="1886" y="1831"/>
                  </a:lnTo>
                  <a:lnTo>
                    <a:pt x="1880" y="1831"/>
                  </a:lnTo>
                  <a:lnTo>
                    <a:pt x="1875" y="1831"/>
                  </a:lnTo>
                  <a:lnTo>
                    <a:pt x="1869" y="1831"/>
                  </a:lnTo>
                  <a:lnTo>
                    <a:pt x="1863" y="1831"/>
                  </a:lnTo>
                  <a:lnTo>
                    <a:pt x="1857" y="1831"/>
                  </a:lnTo>
                  <a:lnTo>
                    <a:pt x="1852" y="1831"/>
                  </a:lnTo>
                  <a:lnTo>
                    <a:pt x="1846" y="1831"/>
                  </a:lnTo>
                  <a:lnTo>
                    <a:pt x="1840" y="1831"/>
                  </a:lnTo>
                  <a:lnTo>
                    <a:pt x="1837" y="1831"/>
                  </a:lnTo>
                  <a:lnTo>
                    <a:pt x="1831" y="1831"/>
                  </a:lnTo>
                  <a:lnTo>
                    <a:pt x="1825" y="1831"/>
                  </a:lnTo>
                  <a:lnTo>
                    <a:pt x="1819" y="1829"/>
                  </a:lnTo>
                  <a:lnTo>
                    <a:pt x="1814" y="1829"/>
                  </a:lnTo>
                  <a:lnTo>
                    <a:pt x="1810" y="1829"/>
                  </a:lnTo>
                  <a:lnTo>
                    <a:pt x="1804" y="1829"/>
                  </a:lnTo>
                  <a:lnTo>
                    <a:pt x="1800" y="1829"/>
                  </a:lnTo>
                  <a:lnTo>
                    <a:pt x="1795" y="1829"/>
                  </a:lnTo>
                  <a:lnTo>
                    <a:pt x="1791" y="1829"/>
                  </a:lnTo>
                  <a:lnTo>
                    <a:pt x="1785" y="1829"/>
                  </a:lnTo>
                  <a:lnTo>
                    <a:pt x="1781" y="1829"/>
                  </a:lnTo>
                  <a:lnTo>
                    <a:pt x="1776" y="1829"/>
                  </a:lnTo>
                  <a:lnTo>
                    <a:pt x="1772" y="1827"/>
                  </a:lnTo>
                  <a:lnTo>
                    <a:pt x="1768" y="1827"/>
                  </a:lnTo>
                  <a:lnTo>
                    <a:pt x="1762" y="1827"/>
                  </a:lnTo>
                  <a:lnTo>
                    <a:pt x="1759" y="1827"/>
                  </a:lnTo>
                  <a:lnTo>
                    <a:pt x="1755" y="1827"/>
                  </a:lnTo>
                  <a:lnTo>
                    <a:pt x="1749" y="1827"/>
                  </a:lnTo>
                  <a:lnTo>
                    <a:pt x="1745" y="1827"/>
                  </a:lnTo>
                  <a:lnTo>
                    <a:pt x="1741" y="1827"/>
                  </a:lnTo>
                  <a:lnTo>
                    <a:pt x="1736" y="1825"/>
                  </a:lnTo>
                  <a:lnTo>
                    <a:pt x="1732" y="1825"/>
                  </a:lnTo>
                  <a:lnTo>
                    <a:pt x="1728" y="1825"/>
                  </a:lnTo>
                  <a:lnTo>
                    <a:pt x="1724" y="1825"/>
                  </a:lnTo>
                  <a:lnTo>
                    <a:pt x="1719" y="1825"/>
                  </a:lnTo>
                  <a:lnTo>
                    <a:pt x="1715" y="1823"/>
                  </a:lnTo>
                  <a:lnTo>
                    <a:pt x="1711" y="1823"/>
                  </a:lnTo>
                  <a:lnTo>
                    <a:pt x="1707" y="1823"/>
                  </a:lnTo>
                  <a:lnTo>
                    <a:pt x="1702" y="1821"/>
                  </a:lnTo>
                  <a:lnTo>
                    <a:pt x="1698" y="1821"/>
                  </a:lnTo>
                  <a:lnTo>
                    <a:pt x="1694" y="1819"/>
                  </a:lnTo>
                  <a:lnTo>
                    <a:pt x="1690" y="1819"/>
                  </a:lnTo>
                  <a:lnTo>
                    <a:pt x="1684" y="1818"/>
                  </a:lnTo>
                  <a:lnTo>
                    <a:pt x="1679" y="1816"/>
                  </a:lnTo>
                  <a:lnTo>
                    <a:pt x="1675" y="1814"/>
                  </a:lnTo>
                  <a:lnTo>
                    <a:pt x="1671" y="1814"/>
                  </a:lnTo>
                  <a:lnTo>
                    <a:pt x="1665" y="1812"/>
                  </a:lnTo>
                  <a:lnTo>
                    <a:pt x="1660" y="1810"/>
                  </a:lnTo>
                  <a:lnTo>
                    <a:pt x="1656" y="1808"/>
                  </a:lnTo>
                  <a:lnTo>
                    <a:pt x="1650" y="1806"/>
                  </a:lnTo>
                  <a:lnTo>
                    <a:pt x="1646" y="1804"/>
                  </a:lnTo>
                  <a:lnTo>
                    <a:pt x="1641" y="1802"/>
                  </a:lnTo>
                  <a:lnTo>
                    <a:pt x="1637" y="1802"/>
                  </a:lnTo>
                  <a:lnTo>
                    <a:pt x="1631" y="1800"/>
                  </a:lnTo>
                  <a:lnTo>
                    <a:pt x="1625" y="1799"/>
                  </a:lnTo>
                  <a:lnTo>
                    <a:pt x="1622" y="1797"/>
                  </a:lnTo>
                  <a:lnTo>
                    <a:pt x="1616" y="1795"/>
                  </a:lnTo>
                  <a:lnTo>
                    <a:pt x="1612" y="1793"/>
                  </a:lnTo>
                  <a:lnTo>
                    <a:pt x="1606" y="1791"/>
                  </a:lnTo>
                  <a:lnTo>
                    <a:pt x="1603" y="1789"/>
                  </a:lnTo>
                  <a:lnTo>
                    <a:pt x="1597" y="1787"/>
                  </a:lnTo>
                  <a:lnTo>
                    <a:pt x="1591" y="1785"/>
                  </a:lnTo>
                  <a:lnTo>
                    <a:pt x="1587" y="1785"/>
                  </a:lnTo>
                  <a:lnTo>
                    <a:pt x="1582" y="1783"/>
                  </a:lnTo>
                  <a:lnTo>
                    <a:pt x="1578" y="1781"/>
                  </a:lnTo>
                  <a:lnTo>
                    <a:pt x="1572" y="1781"/>
                  </a:lnTo>
                  <a:lnTo>
                    <a:pt x="1567" y="1779"/>
                  </a:lnTo>
                  <a:lnTo>
                    <a:pt x="1563" y="1778"/>
                  </a:lnTo>
                  <a:lnTo>
                    <a:pt x="1557" y="1778"/>
                  </a:lnTo>
                  <a:lnTo>
                    <a:pt x="1553" y="1776"/>
                  </a:lnTo>
                  <a:lnTo>
                    <a:pt x="1549" y="1774"/>
                  </a:lnTo>
                  <a:lnTo>
                    <a:pt x="1544" y="1774"/>
                  </a:lnTo>
                  <a:lnTo>
                    <a:pt x="1540" y="1774"/>
                  </a:lnTo>
                  <a:lnTo>
                    <a:pt x="1536" y="1774"/>
                  </a:lnTo>
                  <a:lnTo>
                    <a:pt x="1530" y="1772"/>
                  </a:lnTo>
                  <a:lnTo>
                    <a:pt x="1527" y="1772"/>
                  </a:lnTo>
                  <a:lnTo>
                    <a:pt x="1521" y="1770"/>
                  </a:lnTo>
                  <a:lnTo>
                    <a:pt x="1517" y="1770"/>
                  </a:lnTo>
                  <a:lnTo>
                    <a:pt x="1511" y="1770"/>
                  </a:lnTo>
                  <a:lnTo>
                    <a:pt x="1508" y="1770"/>
                  </a:lnTo>
                  <a:lnTo>
                    <a:pt x="1504" y="1770"/>
                  </a:lnTo>
                  <a:lnTo>
                    <a:pt x="1498" y="1770"/>
                  </a:lnTo>
                  <a:lnTo>
                    <a:pt x="1494" y="1770"/>
                  </a:lnTo>
                  <a:lnTo>
                    <a:pt x="1490" y="1770"/>
                  </a:lnTo>
                  <a:lnTo>
                    <a:pt x="1485" y="1772"/>
                  </a:lnTo>
                  <a:lnTo>
                    <a:pt x="1481" y="1772"/>
                  </a:lnTo>
                  <a:lnTo>
                    <a:pt x="1475" y="1772"/>
                  </a:lnTo>
                  <a:lnTo>
                    <a:pt x="1471" y="1774"/>
                  </a:lnTo>
                  <a:lnTo>
                    <a:pt x="1468" y="1774"/>
                  </a:lnTo>
                  <a:lnTo>
                    <a:pt x="1464" y="1776"/>
                  </a:lnTo>
                  <a:lnTo>
                    <a:pt x="1458" y="1776"/>
                  </a:lnTo>
                  <a:lnTo>
                    <a:pt x="1452" y="1778"/>
                  </a:lnTo>
                  <a:lnTo>
                    <a:pt x="1449" y="1778"/>
                  </a:lnTo>
                  <a:lnTo>
                    <a:pt x="1443" y="1779"/>
                  </a:lnTo>
                  <a:lnTo>
                    <a:pt x="1439" y="1779"/>
                  </a:lnTo>
                  <a:lnTo>
                    <a:pt x="1433" y="1781"/>
                  </a:lnTo>
                  <a:lnTo>
                    <a:pt x="1430" y="1781"/>
                  </a:lnTo>
                  <a:lnTo>
                    <a:pt x="1424" y="1785"/>
                  </a:lnTo>
                  <a:lnTo>
                    <a:pt x="1418" y="1785"/>
                  </a:lnTo>
                  <a:lnTo>
                    <a:pt x="1414" y="1787"/>
                  </a:lnTo>
                  <a:lnTo>
                    <a:pt x="1409" y="1789"/>
                  </a:lnTo>
                  <a:lnTo>
                    <a:pt x="1405" y="1791"/>
                  </a:lnTo>
                  <a:lnTo>
                    <a:pt x="1399" y="1795"/>
                  </a:lnTo>
                  <a:lnTo>
                    <a:pt x="1394" y="1797"/>
                  </a:lnTo>
                  <a:lnTo>
                    <a:pt x="1388" y="1799"/>
                  </a:lnTo>
                  <a:lnTo>
                    <a:pt x="1384" y="1800"/>
                  </a:lnTo>
                  <a:lnTo>
                    <a:pt x="1376" y="1802"/>
                  </a:lnTo>
                  <a:lnTo>
                    <a:pt x="1371" y="1806"/>
                  </a:lnTo>
                  <a:lnTo>
                    <a:pt x="1365" y="1808"/>
                  </a:lnTo>
                  <a:lnTo>
                    <a:pt x="1359" y="1810"/>
                  </a:lnTo>
                  <a:lnTo>
                    <a:pt x="1352" y="1812"/>
                  </a:lnTo>
                  <a:lnTo>
                    <a:pt x="1346" y="1814"/>
                  </a:lnTo>
                  <a:lnTo>
                    <a:pt x="1338" y="1818"/>
                  </a:lnTo>
                  <a:lnTo>
                    <a:pt x="1333" y="1821"/>
                  </a:lnTo>
                  <a:lnTo>
                    <a:pt x="1327" y="1823"/>
                  </a:lnTo>
                  <a:lnTo>
                    <a:pt x="1319" y="1825"/>
                  </a:lnTo>
                  <a:lnTo>
                    <a:pt x="1314" y="1829"/>
                  </a:lnTo>
                  <a:lnTo>
                    <a:pt x="1306" y="1831"/>
                  </a:lnTo>
                  <a:lnTo>
                    <a:pt x="1300" y="1835"/>
                  </a:lnTo>
                  <a:lnTo>
                    <a:pt x="1293" y="1837"/>
                  </a:lnTo>
                  <a:lnTo>
                    <a:pt x="1287" y="1840"/>
                  </a:lnTo>
                  <a:lnTo>
                    <a:pt x="1279" y="1844"/>
                  </a:lnTo>
                  <a:lnTo>
                    <a:pt x="1274" y="1846"/>
                  </a:lnTo>
                  <a:lnTo>
                    <a:pt x="1266" y="1848"/>
                  </a:lnTo>
                  <a:lnTo>
                    <a:pt x="1259" y="1852"/>
                  </a:lnTo>
                  <a:lnTo>
                    <a:pt x="1253" y="1856"/>
                  </a:lnTo>
                  <a:lnTo>
                    <a:pt x="1245" y="1857"/>
                  </a:lnTo>
                  <a:lnTo>
                    <a:pt x="1239" y="1861"/>
                  </a:lnTo>
                  <a:lnTo>
                    <a:pt x="1232" y="1863"/>
                  </a:lnTo>
                  <a:lnTo>
                    <a:pt x="1226" y="1867"/>
                  </a:lnTo>
                  <a:lnTo>
                    <a:pt x="1219" y="1869"/>
                  </a:lnTo>
                  <a:lnTo>
                    <a:pt x="1213" y="1873"/>
                  </a:lnTo>
                  <a:lnTo>
                    <a:pt x="1205" y="1875"/>
                  </a:lnTo>
                  <a:lnTo>
                    <a:pt x="1200" y="1878"/>
                  </a:lnTo>
                  <a:lnTo>
                    <a:pt x="1192" y="1880"/>
                  </a:lnTo>
                  <a:lnTo>
                    <a:pt x="1186" y="1884"/>
                  </a:lnTo>
                  <a:lnTo>
                    <a:pt x="1181" y="1888"/>
                  </a:lnTo>
                  <a:lnTo>
                    <a:pt x="1175" y="1892"/>
                  </a:lnTo>
                  <a:lnTo>
                    <a:pt x="1167" y="1894"/>
                  </a:lnTo>
                  <a:lnTo>
                    <a:pt x="1162" y="1895"/>
                  </a:lnTo>
                  <a:lnTo>
                    <a:pt x="1154" y="1897"/>
                  </a:lnTo>
                  <a:lnTo>
                    <a:pt x="1148" y="1901"/>
                  </a:lnTo>
                  <a:lnTo>
                    <a:pt x="1141" y="1903"/>
                  </a:lnTo>
                  <a:lnTo>
                    <a:pt x="1135" y="1905"/>
                  </a:lnTo>
                  <a:lnTo>
                    <a:pt x="1129" y="1909"/>
                  </a:lnTo>
                  <a:lnTo>
                    <a:pt x="1124" y="1911"/>
                  </a:lnTo>
                  <a:lnTo>
                    <a:pt x="1116" y="1913"/>
                  </a:lnTo>
                  <a:lnTo>
                    <a:pt x="1112" y="1914"/>
                  </a:lnTo>
                  <a:lnTo>
                    <a:pt x="1104" y="1916"/>
                  </a:lnTo>
                  <a:lnTo>
                    <a:pt x="1099" y="1918"/>
                  </a:lnTo>
                  <a:lnTo>
                    <a:pt x="1091" y="1920"/>
                  </a:lnTo>
                  <a:lnTo>
                    <a:pt x="1087" y="1922"/>
                  </a:lnTo>
                  <a:lnTo>
                    <a:pt x="1080" y="1924"/>
                  </a:lnTo>
                  <a:lnTo>
                    <a:pt x="1074" y="1926"/>
                  </a:lnTo>
                  <a:lnTo>
                    <a:pt x="1066" y="1926"/>
                  </a:lnTo>
                  <a:lnTo>
                    <a:pt x="1061" y="1928"/>
                  </a:lnTo>
                  <a:lnTo>
                    <a:pt x="1053" y="1930"/>
                  </a:lnTo>
                  <a:lnTo>
                    <a:pt x="1047" y="1930"/>
                  </a:lnTo>
                  <a:lnTo>
                    <a:pt x="1040" y="1930"/>
                  </a:lnTo>
                  <a:lnTo>
                    <a:pt x="1034" y="1932"/>
                  </a:lnTo>
                  <a:lnTo>
                    <a:pt x="1027" y="1932"/>
                  </a:lnTo>
                  <a:lnTo>
                    <a:pt x="1021" y="1934"/>
                  </a:lnTo>
                  <a:lnTo>
                    <a:pt x="1013" y="1934"/>
                  </a:lnTo>
                  <a:lnTo>
                    <a:pt x="1006" y="1934"/>
                  </a:lnTo>
                  <a:lnTo>
                    <a:pt x="998" y="1934"/>
                  </a:lnTo>
                  <a:lnTo>
                    <a:pt x="990" y="1934"/>
                  </a:lnTo>
                  <a:lnTo>
                    <a:pt x="983" y="1932"/>
                  </a:lnTo>
                  <a:lnTo>
                    <a:pt x="975" y="1932"/>
                  </a:lnTo>
                  <a:lnTo>
                    <a:pt x="968" y="1932"/>
                  </a:lnTo>
                  <a:lnTo>
                    <a:pt x="960" y="1932"/>
                  </a:lnTo>
                  <a:lnTo>
                    <a:pt x="956" y="1930"/>
                  </a:lnTo>
                  <a:lnTo>
                    <a:pt x="952" y="1930"/>
                  </a:lnTo>
                  <a:lnTo>
                    <a:pt x="947" y="1928"/>
                  </a:lnTo>
                  <a:lnTo>
                    <a:pt x="943" y="1928"/>
                  </a:lnTo>
                  <a:lnTo>
                    <a:pt x="939" y="1926"/>
                  </a:lnTo>
                  <a:lnTo>
                    <a:pt x="935" y="1926"/>
                  </a:lnTo>
                  <a:lnTo>
                    <a:pt x="930" y="1924"/>
                  </a:lnTo>
                  <a:lnTo>
                    <a:pt x="926" y="1924"/>
                  </a:lnTo>
                  <a:lnTo>
                    <a:pt x="922" y="1922"/>
                  </a:lnTo>
                  <a:lnTo>
                    <a:pt x="918" y="1920"/>
                  </a:lnTo>
                  <a:lnTo>
                    <a:pt x="912" y="1920"/>
                  </a:lnTo>
                  <a:lnTo>
                    <a:pt x="909" y="1918"/>
                  </a:lnTo>
                  <a:lnTo>
                    <a:pt x="905" y="1916"/>
                  </a:lnTo>
                  <a:lnTo>
                    <a:pt x="901" y="1916"/>
                  </a:lnTo>
                  <a:lnTo>
                    <a:pt x="895" y="1914"/>
                  </a:lnTo>
                  <a:lnTo>
                    <a:pt x="892" y="1914"/>
                  </a:lnTo>
                  <a:lnTo>
                    <a:pt x="888" y="1913"/>
                  </a:lnTo>
                  <a:lnTo>
                    <a:pt x="882" y="1911"/>
                  </a:lnTo>
                  <a:lnTo>
                    <a:pt x="878" y="1909"/>
                  </a:lnTo>
                  <a:lnTo>
                    <a:pt x="873" y="1907"/>
                  </a:lnTo>
                  <a:lnTo>
                    <a:pt x="869" y="1905"/>
                  </a:lnTo>
                  <a:lnTo>
                    <a:pt x="863" y="1903"/>
                  </a:lnTo>
                  <a:lnTo>
                    <a:pt x="859" y="1901"/>
                  </a:lnTo>
                  <a:lnTo>
                    <a:pt x="855" y="1899"/>
                  </a:lnTo>
                  <a:lnTo>
                    <a:pt x="852" y="1897"/>
                  </a:lnTo>
                  <a:lnTo>
                    <a:pt x="846" y="1895"/>
                  </a:lnTo>
                  <a:lnTo>
                    <a:pt x="842" y="1894"/>
                  </a:lnTo>
                  <a:lnTo>
                    <a:pt x="838" y="1892"/>
                  </a:lnTo>
                  <a:lnTo>
                    <a:pt x="833" y="1890"/>
                  </a:lnTo>
                  <a:lnTo>
                    <a:pt x="829" y="1888"/>
                  </a:lnTo>
                  <a:lnTo>
                    <a:pt x="823" y="1886"/>
                  </a:lnTo>
                  <a:lnTo>
                    <a:pt x="819" y="1884"/>
                  </a:lnTo>
                  <a:lnTo>
                    <a:pt x="815" y="1880"/>
                  </a:lnTo>
                  <a:lnTo>
                    <a:pt x="810" y="1878"/>
                  </a:lnTo>
                  <a:lnTo>
                    <a:pt x="806" y="1875"/>
                  </a:lnTo>
                  <a:lnTo>
                    <a:pt x="802" y="1873"/>
                  </a:lnTo>
                  <a:lnTo>
                    <a:pt x="796" y="1871"/>
                  </a:lnTo>
                  <a:lnTo>
                    <a:pt x="793" y="1867"/>
                  </a:lnTo>
                  <a:lnTo>
                    <a:pt x="789" y="1865"/>
                  </a:lnTo>
                  <a:lnTo>
                    <a:pt x="785" y="1861"/>
                  </a:lnTo>
                  <a:lnTo>
                    <a:pt x="779" y="1857"/>
                  </a:lnTo>
                  <a:lnTo>
                    <a:pt x="776" y="1856"/>
                  </a:lnTo>
                  <a:lnTo>
                    <a:pt x="772" y="1852"/>
                  </a:lnTo>
                  <a:lnTo>
                    <a:pt x="768" y="1850"/>
                  </a:lnTo>
                  <a:lnTo>
                    <a:pt x="758" y="1844"/>
                  </a:lnTo>
                  <a:lnTo>
                    <a:pt x="751" y="1837"/>
                  </a:lnTo>
                  <a:lnTo>
                    <a:pt x="747" y="1833"/>
                  </a:lnTo>
                  <a:lnTo>
                    <a:pt x="741" y="1829"/>
                  </a:lnTo>
                  <a:lnTo>
                    <a:pt x="738" y="1825"/>
                  </a:lnTo>
                  <a:lnTo>
                    <a:pt x="734" y="1823"/>
                  </a:lnTo>
                  <a:lnTo>
                    <a:pt x="724" y="1814"/>
                  </a:lnTo>
                  <a:lnTo>
                    <a:pt x="719" y="1806"/>
                  </a:lnTo>
                  <a:lnTo>
                    <a:pt x="711" y="1799"/>
                  </a:lnTo>
                  <a:lnTo>
                    <a:pt x="703" y="1791"/>
                  </a:lnTo>
                  <a:lnTo>
                    <a:pt x="699" y="1785"/>
                  </a:lnTo>
                  <a:lnTo>
                    <a:pt x="698" y="1781"/>
                  </a:lnTo>
                  <a:lnTo>
                    <a:pt x="694" y="1778"/>
                  </a:lnTo>
                  <a:lnTo>
                    <a:pt x="692" y="1774"/>
                  </a:lnTo>
                  <a:lnTo>
                    <a:pt x="686" y="1768"/>
                  </a:lnTo>
                  <a:lnTo>
                    <a:pt x="684" y="1764"/>
                  </a:lnTo>
                  <a:lnTo>
                    <a:pt x="680" y="1759"/>
                  </a:lnTo>
                  <a:lnTo>
                    <a:pt x="677" y="1753"/>
                  </a:lnTo>
                  <a:lnTo>
                    <a:pt x="675" y="1747"/>
                  </a:lnTo>
                  <a:lnTo>
                    <a:pt x="671" y="1743"/>
                  </a:lnTo>
                  <a:lnTo>
                    <a:pt x="667" y="1738"/>
                  </a:lnTo>
                  <a:lnTo>
                    <a:pt x="665" y="1734"/>
                  </a:lnTo>
                  <a:lnTo>
                    <a:pt x="663" y="1726"/>
                  </a:lnTo>
                  <a:lnTo>
                    <a:pt x="660" y="1722"/>
                  </a:lnTo>
                  <a:lnTo>
                    <a:pt x="658" y="1717"/>
                  </a:lnTo>
                  <a:lnTo>
                    <a:pt x="654" y="1711"/>
                  </a:lnTo>
                  <a:lnTo>
                    <a:pt x="652" y="1705"/>
                  </a:lnTo>
                  <a:lnTo>
                    <a:pt x="650" y="1700"/>
                  </a:lnTo>
                  <a:lnTo>
                    <a:pt x="648" y="1694"/>
                  </a:lnTo>
                  <a:lnTo>
                    <a:pt x="646" y="1690"/>
                  </a:lnTo>
                  <a:lnTo>
                    <a:pt x="642" y="1683"/>
                  </a:lnTo>
                  <a:lnTo>
                    <a:pt x="641" y="1679"/>
                  </a:lnTo>
                  <a:lnTo>
                    <a:pt x="637" y="1671"/>
                  </a:lnTo>
                  <a:lnTo>
                    <a:pt x="635" y="1667"/>
                  </a:lnTo>
                  <a:lnTo>
                    <a:pt x="633" y="1660"/>
                  </a:lnTo>
                  <a:lnTo>
                    <a:pt x="631" y="1654"/>
                  </a:lnTo>
                  <a:lnTo>
                    <a:pt x="629" y="1650"/>
                  </a:lnTo>
                  <a:lnTo>
                    <a:pt x="627" y="1645"/>
                  </a:lnTo>
                  <a:lnTo>
                    <a:pt x="625" y="1637"/>
                  </a:lnTo>
                  <a:lnTo>
                    <a:pt x="623" y="1631"/>
                  </a:lnTo>
                  <a:lnTo>
                    <a:pt x="622" y="1625"/>
                  </a:lnTo>
                  <a:lnTo>
                    <a:pt x="620" y="1620"/>
                  </a:lnTo>
                  <a:lnTo>
                    <a:pt x="618" y="1614"/>
                  </a:lnTo>
                  <a:lnTo>
                    <a:pt x="616" y="1608"/>
                  </a:lnTo>
                  <a:lnTo>
                    <a:pt x="614" y="1603"/>
                  </a:lnTo>
                  <a:lnTo>
                    <a:pt x="614" y="1597"/>
                  </a:lnTo>
                  <a:lnTo>
                    <a:pt x="612" y="1589"/>
                  </a:lnTo>
                  <a:lnTo>
                    <a:pt x="610" y="1584"/>
                  </a:lnTo>
                  <a:lnTo>
                    <a:pt x="608" y="1578"/>
                  </a:lnTo>
                  <a:lnTo>
                    <a:pt x="606" y="1572"/>
                  </a:lnTo>
                  <a:lnTo>
                    <a:pt x="604" y="1565"/>
                  </a:lnTo>
                  <a:lnTo>
                    <a:pt x="604" y="1559"/>
                  </a:lnTo>
                  <a:lnTo>
                    <a:pt x="603" y="1553"/>
                  </a:lnTo>
                  <a:lnTo>
                    <a:pt x="603" y="1548"/>
                  </a:lnTo>
                  <a:lnTo>
                    <a:pt x="601" y="1540"/>
                  </a:lnTo>
                  <a:lnTo>
                    <a:pt x="599" y="1536"/>
                  </a:lnTo>
                  <a:lnTo>
                    <a:pt x="599" y="1529"/>
                  </a:lnTo>
                  <a:lnTo>
                    <a:pt x="597" y="1523"/>
                  </a:lnTo>
                  <a:lnTo>
                    <a:pt x="597" y="1517"/>
                  </a:lnTo>
                  <a:lnTo>
                    <a:pt x="595" y="1511"/>
                  </a:lnTo>
                  <a:lnTo>
                    <a:pt x="595" y="1506"/>
                  </a:lnTo>
                  <a:lnTo>
                    <a:pt x="595" y="1500"/>
                  </a:lnTo>
                  <a:lnTo>
                    <a:pt x="593" y="1494"/>
                  </a:lnTo>
                  <a:lnTo>
                    <a:pt x="593" y="1489"/>
                  </a:lnTo>
                  <a:lnTo>
                    <a:pt x="591" y="1481"/>
                  </a:lnTo>
                  <a:lnTo>
                    <a:pt x="591" y="1477"/>
                  </a:lnTo>
                  <a:lnTo>
                    <a:pt x="591" y="1470"/>
                  </a:lnTo>
                  <a:lnTo>
                    <a:pt x="591" y="1464"/>
                  </a:lnTo>
                  <a:lnTo>
                    <a:pt x="591" y="1458"/>
                  </a:lnTo>
                  <a:lnTo>
                    <a:pt x="591" y="1452"/>
                  </a:lnTo>
                  <a:lnTo>
                    <a:pt x="589" y="1447"/>
                  </a:lnTo>
                  <a:lnTo>
                    <a:pt x="589" y="1441"/>
                  </a:lnTo>
                  <a:lnTo>
                    <a:pt x="587" y="1435"/>
                  </a:lnTo>
                  <a:lnTo>
                    <a:pt x="587" y="1430"/>
                  </a:lnTo>
                  <a:lnTo>
                    <a:pt x="587" y="1426"/>
                  </a:lnTo>
                  <a:lnTo>
                    <a:pt x="587" y="1420"/>
                  </a:lnTo>
                  <a:lnTo>
                    <a:pt x="587" y="1414"/>
                  </a:lnTo>
                  <a:lnTo>
                    <a:pt x="587" y="1409"/>
                  </a:lnTo>
                  <a:lnTo>
                    <a:pt x="587" y="1403"/>
                  </a:lnTo>
                  <a:lnTo>
                    <a:pt x="587" y="1397"/>
                  </a:lnTo>
                  <a:lnTo>
                    <a:pt x="587" y="1392"/>
                  </a:lnTo>
                  <a:lnTo>
                    <a:pt x="587" y="1388"/>
                  </a:lnTo>
                  <a:lnTo>
                    <a:pt x="587" y="1382"/>
                  </a:lnTo>
                  <a:lnTo>
                    <a:pt x="587" y="1376"/>
                  </a:lnTo>
                  <a:lnTo>
                    <a:pt x="587" y="1371"/>
                  </a:lnTo>
                  <a:lnTo>
                    <a:pt x="587" y="1367"/>
                  </a:lnTo>
                  <a:lnTo>
                    <a:pt x="587" y="1361"/>
                  </a:lnTo>
                  <a:lnTo>
                    <a:pt x="587" y="1357"/>
                  </a:lnTo>
                  <a:lnTo>
                    <a:pt x="587" y="1352"/>
                  </a:lnTo>
                  <a:lnTo>
                    <a:pt x="587" y="1348"/>
                  </a:lnTo>
                  <a:lnTo>
                    <a:pt x="587" y="1342"/>
                  </a:lnTo>
                  <a:lnTo>
                    <a:pt x="587" y="1338"/>
                  </a:lnTo>
                  <a:lnTo>
                    <a:pt x="587" y="1333"/>
                  </a:lnTo>
                  <a:lnTo>
                    <a:pt x="589" y="1329"/>
                  </a:lnTo>
                  <a:lnTo>
                    <a:pt x="589" y="1323"/>
                  </a:lnTo>
                  <a:lnTo>
                    <a:pt x="589" y="1319"/>
                  </a:lnTo>
                  <a:lnTo>
                    <a:pt x="589" y="1316"/>
                  </a:lnTo>
                  <a:lnTo>
                    <a:pt x="589" y="1310"/>
                  </a:lnTo>
                  <a:lnTo>
                    <a:pt x="589" y="1306"/>
                  </a:lnTo>
                  <a:lnTo>
                    <a:pt x="591" y="1300"/>
                  </a:lnTo>
                  <a:lnTo>
                    <a:pt x="591" y="1297"/>
                  </a:lnTo>
                  <a:lnTo>
                    <a:pt x="591" y="1293"/>
                  </a:lnTo>
                  <a:lnTo>
                    <a:pt x="591" y="1287"/>
                  </a:lnTo>
                  <a:lnTo>
                    <a:pt x="591" y="1283"/>
                  </a:lnTo>
                  <a:lnTo>
                    <a:pt x="591" y="1279"/>
                  </a:lnTo>
                  <a:lnTo>
                    <a:pt x="593" y="1276"/>
                  </a:lnTo>
                  <a:lnTo>
                    <a:pt x="593" y="1266"/>
                  </a:lnTo>
                  <a:lnTo>
                    <a:pt x="595" y="1260"/>
                  </a:lnTo>
                  <a:lnTo>
                    <a:pt x="595" y="1251"/>
                  </a:lnTo>
                  <a:lnTo>
                    <a:pt x="595" y="1243"/>
                  </a:lnTo>
                  <a:lnTo>
                    <a:pt x="595" y="1236"/>
                  </a:lnTo>
                  <a:lnTo>
                    <a:pt x="597" y="1228"/>
                  </a:lnTo>
                  <a:lnTo>
                    <a:pt x="597" y="1221"/>
                  </a:lnTo>
                  <a:lnTo>
                    <a:pt x="597" y="1215"/>
                  </a:lnTo>
                  <a:lnTo>
                    <a:pt x="599" y="1207"/>
                  </a:lnTo>
                  <a:lnTo>
                    <a:pt x="599" y="1200"/>
                  </a:lnTo>
                  <a:lnTo>
                    <a:pt x="599" y="1192"/>
                  </a:lnTo>
                  <a:lnTo>
                    <a:pt x="599" y="1186"/>
                  </a:lnTo>
                  <a:lnTo>
                    <a:pt x="599" y="1181"/>
                  </a:lnTo>
                  <a:lnTo>
                    <a:pt x="599" y="1173"/>
                  </a:lnTo>
                  <a:lnTo>
                    <a:pt x="599" y="1167"/>
                  </a:lnTo>
                  <a:lnTo>
                    <a:pt x="597" y="1160"/>
                  </a:lnTo>
                  <a:lnTo>
                    <a:pt x="597" y="1154"/>
                  </a:lnTo>
                  <a:lnTo>
                    <a:pt x="597" y="1148"/>
                  </a:lnTo>
                  <a:lnTo>
                    <a:pt x="595" y="1143"/>
                  </a:lnTo>
                  <a:lnTo>
                    <a:pt x="593" y="1137"/>
                  </a:lnTo>
                  <a:lnTo>
                    <a:pt x="591" y="1129"/>
                  </a:lnTo>
                  <a:lnTo>
                    <a:pt x="589" y="1125"/>
                  </a:lnTo>
                  <a:lnTo>
                    <a:pt x="587" y="1118"/>
                  </a:lnTo>
                  <a:lnTo>
                    <a:pt x="585" y="1112"/>
                  </a:lnTo>
                  <a:lnTo>
                    <a:pt x="582" y="1106"/>
                  </a:lnTo>
                  <a:lnTo>
                    <a:pt x="580" y="1103"/>
                  </a:lnTo>
                  <a:lnTo>
                    <a:pt x="576" y="1095"/>
                  </a:lnTo>
                  <a:lnTo>
                    <a:pt x="574" y="1091"/>
                  </a:lnTo>
                  <a:lnTo>
                    <a:pt x="570" y="1086"/>
                  </a:lnTo>
                  <a:lnTo>
                    <a:pt x="568" y="1080"/>
                  </a:lnTo>
                  <a:lnTo>
                    <a:pt x="564" y="1074"/>
                  </a:lnTo>
                  <a:lnTo>
                    <a:pt x="561" y="1070"/>
                  </a:lnTo>
                  <a:lnTo>
                    <a:pt x="557" y="1067"/>
                  </a:lnTo>
                  <a:lnTo>
                    <a:pt x="555" y="1061"/>
                  </a:lnTo>
                  <a:lnTo>
                    <a:pt x="549" y="1055"/>
                  </a:lnTo>
                  <a:lnTo>
                    <a:pt x="545" y="1051"/>
                  </a:lnTo>
                  <a:lnTo>
                    <a:pt x="542" y="1046"/>
                  </a:lnTo>
                  <a:lnTo>
                    <a:pt x="538" y="1042"/>
                  </a:lnTo>
                  <a:lnTo>
                    <a:pt x="534" y="1036"/>
                  </a:lnTo>
                  <a:lnTo>
                    <a:pt x="530" y="1032"/>
                  </a:lnTo>
                  <a:lnTo>
                    <a:pt x="526" y="1028"/>
                  </a:lnTo>
                  <a:lnTo>
                    <a:pt x="523" y="1025"/>
                  </a:lnTo>
                  <a:lnTo>
                    <a:pt x="517" y="1019"/>
                  </a:lnTo>
                  <a:lnTo>
                    <a:pt x="513" y="1015"/>
                  </a:lnTo>
                  <a:lnTo>
                    <a:pt x="507" y="1011"/>
                  </a:lnTo>
                  <a:lnTo>
                    <a:pt x="504" y="1008"/>
                  </a:lnTo>
                  <a:lnTo>
                    <a:pt x="498" y="1004"/>
                  </a:lnTo>
                  <a:lnTo>
                    <a:pt x="494" y="1002"/>
                  </a:lnTo>
                  <a:lnTo>
                    <a:pt x="490" y="998"/>
                  </a:lnTo>
                  <a:lnTo>
                    <a:pt x="485" y="994"/>
                  </a:lnTo>
                  <a:lnTo>
                    <a:pt x="479" y="990"/>
                  </a:lnTo>
                  <a:lnTo>
                    <a:pt x="475" y="987"/>
                  </a:lnTo>
                  <a:lnTo>
                    <a:pt x="469" y="983"/>
                  </a:lnTo>
                  <a:lnTo>
                    <a:pt x="466" y="979"/>
                  </a:lnTo>
                  <a:lnTo>
                    <a:pt x="460" y="975"/>
                  </a:lnTo>
                  <a:lnTo>
                    <a:pt x="456" y="973"/>
                  </a:lnTo>
                  <a:lnTo>
                    <a:pt x="450" y="970"/>
                  </a:lnTo>
                  <a:lnTo>
                    <a:pt x="447" y="968"/>
                  </a:lnTo>
                  <a:lnTo>
                    <a:pt x="441" y="964"/>
                  </a:lnTo>
                  <a:lnTo>
                    <a:pt x="435" y="960"/>
                  </a:lnTo>
                  <a:lnTo>
                    <a:pt x="431" y="958"/>
                  </a:lnTo>
                  <a:lnTo>
                    <a:pt x="426" y="956"/>
                  </a:lnTo>
                  <a:lnTo>
                    <a:pt x="422" y="952"/>
                  </a:lnTo>
                  <a:lnTo>
                    <a:pt x="416" y="951"/>
                  </a:lnTo>
                  <a:lnTo>
                    <a:pt x="412" y="947"/>
                  </a:lnTo>
                  <a:lnTo>
                    <a:pt x="407" y="945"/>
                  </a:lnTo>
                  <a:lnTo>
                    <a:pt x="401" y="943"/>
                  </a:lnTo>
                  <a:lnTo>
                    <a:pt x="397" y="939"/>
                  </a:lnTo>
                  <a:lnTo>
                    <a:pt x="393" y="937"/>
                  </a:lnTo>
                  <a:lnTo>
                    <a:pt x="388" y="935"/>
                  </a:lnTo>
                  <a:lnTo>
                    <a:pt x="382" y="933"/>
                  </a:lnTo>
                  <a:lnTo>
                    <a:pt x="378" y="932"/>
                  </a:lnTo>
                  <a:lnTo>
                    <a:pt x="372" y="930"/>
                  </a:lnTo>
                  <a:lnTo>
                    <a:pt x="369" y="928"/>
                  </a:lnTo>
                  <a:lnTo>
                    <a:pt x="365" y="926"/>
                  </a:lnTo>
                  <a:lnTo>
                    <a:pt x="359" y="924"/>
                  </a:lnTo>
                  <a:lnTo>
                    <a:pt x="355" y="922"/>
                  </a:lnTo>
                  <a:lnTo>
                    <a:pt x="350" y="920"/>
                  </a:lnTo>
                  <a:lnTo>
                    <a:pt x="346" y="918"/>
                  </a:lnTo>
                  <a:lnTo>
                    <a:pt x="342" y="918"/>
                  </a:lnTo>
                  <a:lnTo>
                    <a:pt x="336" y="916"/>
                  </a:lnTo>
                  <a:lnTo>
                    <a:pt x="333" y="914"/>
                  </a:lnTo>
                  <a:lnTo>
                    <a:pt x="329" y="913"/>
                  </a:lnTo>
                  <a:lnTo>
                    <a:pt x="323" y="913"/>
                  </a:lnTo>
                  <a:lnTo>
                    <a:pt x="319" y="911"/>
                  </a:lnTo>
                  <a:lnTo>
                    <a:pt x="315" y="909"/>
                  </a:lnTo>
                  <a:lnTo>
                    <a:pt x="306" y="909"/>
                  </a:lnTo>
                  <a:lnTo>
                    <a:pt x="300" y="907"/>
                  </a:lnTo>
                  <a:lnTo>
                    <a:pt x="291" y="905"/>
                  </a:lnTo>
                  <a:lnTo>
                    <a:pt x="283" y="903"/>
                  </a:lnTo>
                  <a:lnTo>
                    <a:pt x="275" y="901"/>
                  </a:lnTo>
                  <a:lnTo>
                    <a:pt x="268" y="901"/>
                  </a:lnTo>
                  <a:lnTo>
                    <a:pt x="260" y="897"/>
                  </a:lnTo>
                  <a:lnTo>
                    <a:pt x="255" y="897"/>
                  </a:lnTo>
                  <a:lnTo>
                    <a:pt x="245" y="895"/>
                  </a:lnTo>
                  <a:lnTo>
                    <a:pt x="239" y="894"/>
                  </a:lnTo>
                  <a:lnTo>
                    <a:pt x="232" y="892"/>
                  </a:lnTo>
                  <a:lnTo>
                    <a:pt x="226" y="890"/>
                  </a:lnTo>
                  <a:lnTo>
                    <a:pt x="218" y="888"/>
                  </a:lnTo>
                  <a:lnTo>
                    <a:pt x="211" y="886"/>
                  </a:lnTo>
                  <a:lnTo>
                    <a:pt x="203" y="882"/>
                  </a:lnTo>
                  <a:lnTo>
                    <a:pt x="196" y="880"/>
                  </a:lnTo>
                  <a:lnTo>
                    <a:pt x="188" y="876"/>
                  </a:lnTo>
                  <a:lnTo>
                    <a:pt x="182" y="874"/>
                  </a:lnTo>
                  <a:lnTo>
                    <a:pt x="175" y="871"/>
                  </a:lnTo>
                  <a:lnTo>
                    <a:pt x="167" y="867"/>
                  </a:lnTo>
                  <a:lnTo>
                    <a:pt x="161" y="863"/>
                  </a:lnTo>
                  <a:lnTo>
                    <a:pt x="156" y="859"/>
                  </a:lnTo>
                  <a:lnTo>
                    <a:pt x="148" y="854"/>
                  </a:lnTo>
                  <a:lnTo>
                    <a:pt x="142" y="850"/>
                  </a:lnTo>
                  <a:lnTo>
                    <a:pt x="137" y="844"/>
                  </a:lnTo>
                  <a:lnTo>
                    <a:pt x="133" y="838"/>
                  </a:lnTo>
                  <a:lnTo>
                    <a:pt x="127" y="833"/>
                  </a:lnTo>
                  <a:lnTo>
                    <a:pt x="123" y="827"/>
                  </a:lnTo>
                  <a:lnTo>
                    <a:pt x="118" y="821"/>
                  </a:lnTo>
                  <a:lnTo>
                    <a:pt x="116" y="816"/>
                  </a:lnTo>
                  <a:lnTo>
                    <a:pt x="112" y="808"/>
                  </a:lnTo>
                  <a:lnTo>
                    <a:pt x="112" y="802"/>
                  </a:lnTo>
                  <a:lnTo>
                    <a:pt x="108" y="795"/>
                  </a:lnTo>
                  <a:lnTo>
                    <a:pt x="108" y="789"/>
                  </a:lnTo>
                  <a:lnTo>
                    <a:pt x="108" y="781"/>
                  </a:lnTo>
                  <a:lnTo>
                    <a:pt x="108" y="776"/>
                  </a:lnTo>
                  <a:lnTo>
                    <a:pt x="108" y="770"/>
                  </a:lnTo>
                  <a:lnTo>
                    <a:pt x="110" y="764"/>
                  </a:lnTo>
                  <a:lnTo>
                    <a:pt x="110" y="757"/>
                  </a:lnTo>
                  <a:lnTo>
                    <a:pt x="112" y="753"/>
                  </a:lnTo>
                  <a:lnTo>
                    <a:pt x="114" y="749"/>
                  </a:lnTo>
                  <a:lnTo>
                    <a:pt x="116" y="745"/>
                  </a:lnTo>
                  <a:lnTo>
                    <a:pt x="121" y="738"/>
                  </a:lnTo>
                  <a:lnTo>
                    <a:pt x="129" y="736"/>
                  </a:lnTo>
                  <a:lnTo>
                    <a:pt x="133" y="734"/>
                  </a:lnTo>
                  <a:lnTo>
                    <a:pt x="139" y="736"/>
                  </a:lnTo>
                  <a:lnTo>
                    <a:pt x="142" y="736"/>
                  </a:lnTo>
                  <a:lnTo>
                    <a:pt x="148" y="738"/>
                  </a:lnTo>
                  <a:lnTo>
                    <a:pt x="152" y="740"/>
                  </a:lnTo>
                  <a:lnTo>
                    <a:pt x="158" y="741"/>
                  </a:lnTo>
                  <a:lnTo>
                    <a:pt x="161" y="743"/>
                  </a:lnTo>
                  <a:lnTo>
                    <a:pt x="167" y="747"/>
                  </a:lnTo>
                  <a:lnTo>
                    <a:pt x="171" y="749"/>
                  </a:lnTo>
                  <a:lnTo>
                    <a:pt x="175" y="753"/>
                  </a:lnTo>
                  <a:lnTo>
                    <a:pt x="178" y="755"/>
                  </a:lnTo>
                  <a:lnTo>
                    <a:pt x="182" y="757"/>
                  </a:lnTo>
                  <a:lnTo>
                    <a:pt x="190" y="760"/>
                  </a:lnTo>
                  <a:lnTo>
                    <a:pt x="196" y="762"/>
                  </a:lnTo>
                  <a:lnTo>
                    <a:pt x="196" y="760"/>
                  </a:lnTo>
                  <a:lnTo>
                    <a:pt x="194" y="757"/>
                  </a:lnTo>
                  <a:lnTo>
                    <a:pt x="192" y="751"/>
                  </a:lnTo>
                  <a:lnTo>
                    <a:pt x="188" y="745"/>
                  </a:lnTo>
                  <a:lnTo>
                    <a:pt x="184" y="740"/>
                  </a:lnTo>
                  <a:lnTo>
                    <a:pt x="182" y="736"/>
                  </a:lnTo>
                  <a:lnTo>
                    <a:pt x="178" y="732"/>
                  </a:lnTo>
                  <a:lnTo>
                    <a:pt x="177" y="728"/>
                  </a:lnTo>
                  <a:lnTo>
                    <a:pt x="171" y="719"/>
                  </a:lnTo>
                  <a:lnTo>
                    <a:pt x="167" y="711"/>
                  </a:lnTo>
                  <a:lnTo>
                    <a:pt x="163" y="703"/>
                  </a:lnTo>
                  <a:lnTo>
                    <a:pt x="161" y="698"/>
                  </a:lnTo>
                  <a:lnTo>
                    <a:pt x="159" y="690"/>
                  </a:lnTo>
                  <a:lnTo>
                    <a:pt x="159" y="686"/>
                  </a:lnTo>
                  <a:lnTo>
                    <a:pt x="159" y="681"/>
                  </a:lnTo>
                  <a:lnTo>
                    <a:pt x="161" y="677"/>
                  </a:lnTo>
                  <a:lnTo>
                    <a:pt x="165" y="673"/>
                  </a:lnTo>
                  <a:lnTo>
                    <a:pt x="171" y="669"/>
                  </a:lnTo>
                  <a:lnTo>
                    <a:pt x="175" y="663"/>
                  </a:lnTo>
                  <a:lnTo>
                    <a:pt x="180" y="660"/>
                  </a:lnTo>
                  <a:lnTo>
                    <a:pt x="186" y="654"/>
                  </a:lnTo>
                  <a:lnTo>
                    <a:pt x="194" y="650"/>
                  </a:lnTo>
                  <a:lnTo>
                    <a:pt x="199" y="646"/>
                  </a:lnTo>
                  <a:lnTo>
                    <a:pt x="207" y="646"/>
                  </a:lnTo>
                  <a:lnTo>
                    <a:pt x="213" y="648"/>
                  </a:lnTo>
                  <a:lnTo>
                    <a:pt x="218" y="654"/>
                  </a:lnTo>
                  <a:lnTo>
                    <a:pt x="222" y="658"/>
                  </a:lnTo>
                  <a:lnTo>
                    <a:pt x="224" y="662"/>
                  </a:lnTo>
                  <a:lnTo>
                    <a:pt x="226" y="667"/>
                  </a:lnTo>
                  <a:lnTo>
                    <a:pt x="228" y="673"/>
                  </a:lnTo>
                  <a:lnTo>
                    <a:pt x="230" y="679"/>
                  </a:lnTo>
                  <a:lnTo>
                    <a:pt x="232" y="684"/>
                  </a:lnTo>
                  <a:lnTo>
                    <a:pt x="234" y="690"/>
                  </a:lnTo>
                  <a:lnTo>
                    <a:pt x="236" y="698"/>
                  </a:lnTo>
                  <a:lnTo>
                    <a:pt x="237" y="703"/>
                  </a:lnTo>
                  <a:lnTo>
                    <a:pt x="237" y="709"/>
                  </a:lnTo>
                  <a:lnTo>
                    <a:pt x="239" y="715"/>
                  </a:lnTo>
                  <a:lnTo>
                    <a:pt x="241" y="719"/>
                  </a:lnTo>
                  <a:lnTo>
                    <a:pt x="241" y="724"/>
                  </a:lnTo>
                  <a:lnTo>
                    <a:pt x="243" y="728"/>
                  </a:lnTo>
                  <a:lnTo>
                    <a:pt x="245" y="730"/>
                  </a:lnTo>
                  <a:lnTo>
                    <a:pt x="245" y="734"/>
                  </a:lnTo>
                  <a:lnTo>
                    <a:pt x="247" y="732"/>
                  </a:lnTo>
                  <a:lnTo>
                    <a:pt x="251" y="728"/>
                  </a:lnTo>
                  <a:lnTo>
                    <a:pt x="251" y="726"/>
                  </a:lnTo>
                  <a:lnTo>
                    <a:pt x="253" y="722"/>
                  </a:lnTo>
                  <a:lnTo>
                    <a:pt x="253" y="717"/>
                  </a:lnTo>
                  <a:lnTo>
                    <a:pt x="255" y="713"/>
                  </a:lnTo>
                  <a:lnTo>
                    <a:pt x="255" y="707"/>
                  </a:lnTo>
                  <a:lnTo>
                    <a:pt x="255" y="701"/>
                  </a:lnTo>
                  <a:lnTo>
                    <a:pt x="256" y="696"/>
                  </a:lnTo>
                  <a:lnTo>
                    <a:pt x="256" y="690"/>
                  </a:lnTo>
                  <a:lnTo>
                    <a:pt x="256" y="684"/>
                  </a:lnTo>
                  <a:lnTo>
                    <a:pt x="256" y="679"/>
                  </a:lnTo>
                  <a:lnTo>
                    <a:pt x="256" y="673"/>
                  </a:lnTo>
                  <a:lnTo>
                    <a:pt x="256" y="669"/>
                  </a:lnTo>
                  <a:lnTo>
                    <a:pt x="256" y="663"/>
                  </a:lnTo>
                  <a:lnTo>
                    <a:pt x="256" y="658"/>
                  </a:lnTo>
                  <a:lnTo>
                    <a:pt x="255" y="652"/>
                  </a:lnTo>
                  <a:lnTo>
                    <a:pt x="255" y="648"/>
                  </a:lnTo>
                  <a:lnTo>
                    <a:pt x="255" y="644"/>
                  </a:lnTo>
                  <a:lnTo>
                    <a:pt x="255" y="641"/>
                  </a:lnTo>
                  <a:lnTo>
                    <a:pt x="255" y="637"/>
                  </a:lnTo>
                  <a:lnTo>
                    <a:pt x="255" y="633"/>
                  </a:lnTo>
                  <a:lnTo>
                    <a:pt x="255" y="625"/>
                  </a:lnTo>
                  <a:lnTo>
                    <a:pt x="255" y="622"/>
                  </a:lnTo>
                  <a:lnTo>
                    <a:pt x="258" y="616"/>
                  </a:lnTo>
                  <a:lnTo>
                    <a:pt x="262" y="614"/>
                  </a:lnTo>
                  <a:lnTo>
                    <a:pt x="264" y="612"/>
                  </a:lnTo>
                  <a:lnTo>
                    <a:pt x="268" y="610"/>
                  </a:lnTo>
                  <a:lnTo>
                    <a:pt x="272" y="610"/>
                  </a:lnTo>
                  <a:lnTo>
                    <a:pt x="275" y="610"/>
                  </a:lnTo>
                  <a:lnTo>
                    <a:pt x="279" y="608"/>
                  </a:lnTo>
                  <a:lnTo>
                    <a:pt x="285" y="608"/>
                  </a:lnTo>
                  <a:lnTo>
                    <a:pt x="289" y="608"/>
                  </a:lnTo>
                  <a:lnTo>
                    <a:pt x="294" y="610"/>
                  </a:lnTo>
                  <a:lnTo>
                    <a:pt x="298" y="610"/>
                  </a:lnTo>
                  <a:lnTo>
                    <a:pt x="304" y="612"/>
                  </a:lnTo>
                  <a:lnTo>
                    <a:pt x="308" y="614"/>
                  </a:lnTo>
                  <a:lnTo>
                    <a:pt x="312" y="616"/>
                  </a:lnTo>
                  <a:lnTo>
                    <a:pt x="319" y="620"/>
                  </a:lnTo>
                  <a:lnTo>
                    <a:pt x="325" y="627"/>
                  </a:lnTo>
                  <a:lnTo>
                    <a:pt x="327" y="629"/>
                  </a:lnTo>
                  <a:lnTo>
                    <a:pt x="329" y="635"/>
                  </a:lnTo>
                  <a:lnTo>
                    <a:pt x="329" y="639"/>
                  </a:lnTo>
                  <a:lnTo>
                    <a:pt x="331" y="643"/>
                  </a:lnTo>
                  <a:lnTo>
                    <a:pt x="331" y="648"/>
                  </a:lnTo>
                  <a:lnTo>
                    <a:pt x="331" y="654"/>
                  </a:lnTo>
                  <a:lnTo>
                    <a:pt x="329" y="660"/>
                  </a:lnTo>
                  <a:lnTo>
                    <a:pt x="329" y="663"/>
                  </a:lnTo>
                  <a:lnTo>
                    <a:pt x="327" y="669"/>
                  </a:lnTo>
                  <a:lnTo>
                    <a:pt x="327" y="675"/>
                  </a:lnTo>
                  <a:lnTo>
                    <a:pt x="325" y="681"/>
                  </a:lnTo>
                  <a:lnTo>
                    <a:pt x="323" y="686"/>
                  </a:lnTo>
                  <a:lnTo>
                    <a:pt x="321" y="690"/>
                  </a:lnTo>
                  <a:lnTo>
                    <a:pt x="319" y="696"/>
                  </a:lnTo>
                  <a:lnTo>
                    <a:pt x="317" y="701"/>
                  </a:lnTo>
                  <a:lnTo>
                    <a:pt x="317" y="707"/>
                  </a:lnTo>
                  <a:lnTo>
                    <a:pt x="313" y="715"/>
                  </a:lnTo>
                  <a:lnTo>
                    <a:pt x="312" y="722"/>
                  </a:lnTo>
                  <a:lnTo>
                    <a:pt x="310" y="730"/>
                  </a:lnTo>
                  <a:lnTo>
                    <a:pt x="310" y="736"/>
                  </a:lnTo>
                  <a:lnTo>
                    <a:pt x="310" y="743"/>
                  </a:lnTo>
                  <a:lnTo>
                    <a:pt x="312" y="749"/>
                  </a:lnTo>
                  <a:lnTo>
                    <a:pt x="313" y="755"/>
                  </a:lnTo>
                  <a:lnTo>
                    <a:pt x="317" y="760"/>
                  </a:lnTo>
                  <a:lnTo>
                    <a:pt x="319" y="766"/>
                  </a:lnTo>
                  <a:lnTo>
                    <a:pt x="323" y="772"/>
                  </a:lnTo>
                  <a:lnTo>
                    <a:pt x="327" y="778"/>
                  </a:lnTo>
                  <a:lnTo>
                    <a:pt x="333" y="785"/>
                  </a:lnTo>
                  <a:lnTo>
                    <a:pt x="338" y="791"/>
                  </a:lnTo>
                  <a:lnTo>
                    <a:pt x="344" y="797"/>
                  </a:lnTo>
                  <a:lnTo>
                    <a:pt x="350" y="802"/>
                  </a:lnTo>
                  <a:lnTo>
                    <a:pt x="357" y="810"/>
                  </a:lnTo>
                  <a:lnTo>
                    <a:pt x="365" y="816"/>
                  </a:lnTo>
                  <a:lnTo>
                    <a:pt x="372" y="821"/>
                  </a:lnTo>
                  <a:lnTo>
                    <a:pt x="376" y="825"/>
                  </a:lnTo>
                  <a:lnTo>
                    <a:pt x="380" y="829"/>
                  </a:lnTo>
                  <a:lnTo>
                    <a:pt x="384" y="831"/>
                  </a:lnTo>
                  <a:lnTo>
                    <a:pt x="390" y="835"/>
                  </a:lnTo>
                  <a:lnTo>
                    <a:pt x="393" y="838"/>
                  </a:lnTo>
                  <a:lnTo>
                    <a:pt x="397" y="842"/>
                  </a:lnTo>
                  <a:lnTo>
                    <a:pt x="403" y="846"/>
                  </a:lnTo>
                  <a:lnTo>
                    <a:pt x="407" y="850"/>
                  </a:lnTo>
                  <a:lnTo>
                    <a:pt x="412" y="852"/>
                  </a:lnTo>
                  <a:lnTo>
                    <a:pt x="418" y="855"/>
                  </a:lnTo>
                  <a:lnTo>
                    <a:pt x="422" y="859"/>
                  </a:lnTo>
                  <a:lnTo>
                    <a:pt x="428" y="863"/>
                  </a:lnTo>
                  <a:lnTo>
                    <a:pt x="433" y="867"/>
                  </a:lnTo>
                  <a:lnTo>
                    <a:pt x="437" y="869"/>
                  </a:lnTo>
                  <a:lnTo>
                    <a:pt x="443" y="873"/>
                  </a:lnTo>
                  <a:lnTo>
                    <a:pt x="448" y="874"/>
                  </a:lnTo>
                  <a:lnTo>
                    <a:pt x="456" y="876"/>
                  </a:lnTo>
                  <a:lnTo>
                    <a:pt x="464" y="880"/>
                  </a:lnTo>
                  <a:lnTo>
                    <a:pt x="471" y="880"/>
                  </a:lnTo>
                  <a:lnTo>
                    <a:pt x="479" y="882"/>
                  </a:lnTo>
                  <a:lnTo>
                    <a:pt x="487" y="882"/>
                  </a:lnTo>
                  <a:lnTo>
                    <a:pt x="494" y="882"/>
                  </a:lnTo>
                  <a:lnTo>
                    <a:pt x="498" y="880"/>
                  </a:lnTo>
                  <a:lnTo>
                    <a:pt x="506" y="880"/>
                  </a:lnTo>
                  <a:lnTo>
                    <a:pt x="509" y="876"/>
                  </a:lnTo>
                  <a:lnTo>
                    <a:pt x="515" y="873"/>
                  </a:lnTo>
                  <a:lnTo>
                    <a:pt x="515" y="867"/>
                  </a:lnTo>
                  <a:lnTo>
                    <a:pt x="517" y="863"/>
                  </a:lnTo>
                  <a:lnTo>
                    <a:pt x="519" y="859"/>
                  </a:lnTo>
                  <a:lnTo>
                    <a:pt x="519" y="855"/>
                  </a:lnTo>
                  <a:lnTo>
                    <a:pt x="519" y="848"/>
                  </a:lnTo>
                  <a:lnTo>
                    <a:pt x="519" y="842"/>
                  </a:lnTo>
                  <a:lnTo>
                    <a:pt x="517" y="833"/>
                  </a:lnTo>
                  <a:lnTo>
                    <a:pt x="515" y="825"/>
                  </a:lnTo>
                  <a:lnTo>
                    <a:pt x="513" y="821"/>
                  </a:lnTo>
                  <a:lnTo>
                    <a:pt x="511" y="816"/>
                  </a:lnTo>
                  <a:lnTo>
                    <a:pt x="509" y="810"/>
                  </a:lnTo>
                  <a:lnTo>
                    <a:pt x="507" y="806"/>
                  </a:lnTo>
                  <a:lnTo>
                    <a:pt x="506" y="800"/>
                  </a:lnTo>
                  <a:lnTo>
                    <a:pt x="504" y="795"/>
                  </a:lnTo>
                  <a:lnTo>
                    <a:pt x="502" y="789"/>
                  </a:lnTo>
                  <a:lnTo>
                    <a:pt x="500" y="785"/>
                  </a:lnTo>
                  <a:lnTo>
                    <a:pt x="498" y="778"/>
                  </a:lnTo>
                  <a:lnTo>
                    <a:pt x="494" y="774"/>
                  </a:lnTo>
                  <a:lnTo>
                    <a:pt x="492" y="766"/>
                  </a:lnTo>
                  <a:lnTo>
                    <a:pt x="490" y="760"/>
                  </a:lnTo>
                  <a:lnTo>
                    <a:pt x="488" y="755"/>
                  </a:lnTo>
                  <a:lnTo>
                    <a:pt x="487" y="749"/>
                  </a:lnTo>
                  <a:lnTo>
                    <a:pt x="485" y="743"/>
                  </a:lnTo>
                  <a:lnTo>
                    <a:pt x="483" y="738"/>
                  </a:lnTo>
                  <a:lnTo>
                    <a:pt x="481" y="732"/>
                  </a:lnTo>
                  <a:lnTo>
                    <a:pt x="477" y="724"/>
                  </a:lnTo>
                  <a:lnTo>
                    <a:pt x="475" y="719"/>
                  </a:lnTo>
                  <a:lnTo>
                    <a:pt x="473" y="713"/>
                  </a:lnTo>
                  <a:lnTo>
                    <a:pt x="471" y="707"/>
                  </a:lnTo>
                  <a:lnTo>
                    <a:pt x="469" y="700"/>
                  </a:lnTo>
                  <a:lnTo>
                    <a:pt x="468" y="694"/>
                  </a:lnTo>
                  <a:lnTo>
                    <a:pt x="466" y="688"/>
                  </a:lnTo>
                  <a:lnTo>
                    <a:pt x="464" y="681"/>
                  </a:lnTo>
                  <a:lnTo>
                    <a:pt x="460" y="677"/>
                  </a:lnTo>
                  <a:lnTo>
                    <a:pt x="460" y="669"/>
                  </a:lnTo>
                  <a:lnTo>
                    <a:pt x="458" y="663"/>
                  </a:lnTo>
                  <a:lnTo>
                    <a:pt x="456" y="658"/>
                  </a:lnTo>
                  <a:lnTo>
                    <a:pt x="454" y="652"/>
                  </a:lnTo>
                  <a:lnTo>
                    <a:pt x="452" y="646"/>
                  </a:lnTo>
                  <a:lnTo>
                    <a:pt x="452" y="641"/>
                  </a:lnTo>
                  <a:lnTo>
                    <a:pt x="450" y="635"/>
                  </a:lnTo>
                  <a:lnTo>
                    <a:pt x="448" y="629"/>
                  </a:lnTo>
                  <a:lnTo>
                    <a:pt x="448" y="622"/>
                  </a:lnTo>
                  <a:lnTo>
                    <a:pt x="448" y="618"/>
                  </a:lnTo>
                  <a:lnTo>
                    <a:pt x="447" y="610"/>
                  </a:lnTo>
                  <a:lnTo>
                    <a:pt x="445" y="605"/>
                  </a:lnTo>
                  <a:lnTo>
                    <a:pt x="445" y="601"/>
                  </a:lnTo>
                  <a:lnTo>
                    <a:pt x="445" y="595"/>
                  </a:lnTo>
                  <a:lnTo>
                    <a:pt x="445" y="589"/>
                  </a:lnTo>
                  <a:lnTo>
                    <a:pt x="443" y="584"/>
                  </a:lnTo>
                  <a:lnTo>
                    <a:pt x="443" y="578"/>
                  </a:lnTo>
                  <a:lnTo>
                    <a:pt x="443" y="574"/>
                  </a:lnTo>
                  <a:lnTo>
                    <a:pt x="443" y="568"/>
                  </a:lnTo>
                  <a:lnTo>
                    <a:pt x="443" y="563"/>
                  </a:lnTo>
                  <a:lnTo>
                    <a:pt x="443" y="559"/>
                  </a:lnTo>
                  <a:lnTo>
                    <a:pt x="445" y="555"/>
                  </a:lnTo>
                  <a:lnTo>
                    <a:pt x="445" y="549"/>
                  </a:lnTo>
                  <a:lnTo>
                    <a:pt x="445" y="546"/>
                  </a:lnTo>
                  <a:lnTo>
                    <a:pt x="445" y="540"/>
                  </a:lnTo>
                  <a:lnTo>
                    <a:pt x="445" y="536"/>
                  </a:lnTo>
                  <a:lnTo>
                    <a:pt x="445" y="527"/>
                  </a:lnTo>
                  <a:lnTo>
                    <a:pt x="445" y="519"/>
                  </a:lnTo>
                  <a:lnTo>
                    <a:pt x="445" y="511"/>
                  </a:lnTo>
                  <a:lnTo>
                    <a:pt x="447" y="504"/>
                  </a:lnTo>
                  <a:lnTo>
                    <a:pt x="447" y="496"/>
                  </a:lnTo>
                  <a:lnTo>
                    <a:pt x="447" y="490"/>
                  </a:lnTo>
                  <a:lnTo>
                    <a:pt x="447" y="485"/>
                  </a:lnTo>
                  <a:lnTo>
                    <a:pt x="447" y="479"/>
                  </a:lnTo>
                  <a:lnTo>
                    <a:pt x="447" y="471"/>
                  </a:lnTo>
                  <a:lnTo>
                    <a:pt x="447" y="468"/>
                  </a:lnTo>
                  <a:lnTo>
                    <a:pt x="445" y="462"/>
                  </a:lnTo>
                  <a:lnTo>
                    <a:pt x="443" y="458"/>
                  </a:lnTo>
                  <a:lnTo>
                    <a:pt x="441" y="452"/>
                  </a:lnTo>
                  <a:lnTo>
                    <a:pt x="439" y="449"/>
                  </a:lnTo>
                  <a:lnTo>
                    <a:pt x="435" y="443"/>
                  </a:lnTo>
                  <a:lnTo>
                    <a:pt x="431" y="439"/>
                  </a:lnTo>
                  <a:lnTo>
                    <a:pt x="426" y="433"/>
                  </a:lnTo>
                  <a:lnTo>
                    <a:pt x="420" y="428"/>
                  </a:lnTo>
                  <a:lnTo>
                    <a:pt x="412" y="422"/>
                  </a:lnTo>
                  <a:lnTo>
                    <a:pt x="405" y="416"/>
                  </a:lnTo>
                  <a:lnTo>
                    <a:pt x="399" y="414"/>
                  </a:lnTo>
                  <a:lnTo>
                    <a:pt x="393" y="411"/>
                  </a:lnTo>
                  <a:lnTo>
                    <a:pt x="390" y="407"/>
                  </a:lnTo>
                  <a:lnTo>
                    <a:pt x="384" y="405"/>
                  </a:lnTo>
                  <a:lnTo>
                    <a:pt x="378" y="399"/>
                  </a:lnTo>
                  <a:lnTo>
                    <a:pt x="372" y="395"/>
                  </a:lnTo>
                  <a:lnTo>
                    <a:pt x="367" y="392"/>
                  </a:lnTo>
                  <a:lnTo>
                    <a:pt x="359" y="388"/>
                  </a:lnTo>
                  <a:lnTo>
                    <a:pt x="353" y="384"/>
                  </a:lnTo>
                  <a:lnTo>
                    <a:pt x="346" y="378"/>
                  </a:lnTo>
                  <a:lnTo>
                    <a:pt x="338" y="374"/>
                  </a:lnTo>
                  <a:lnTo>
                    <a:pt x="333" y="371"/>
                  </a:lnTo>
                  <a:lnTo>
                    <a:pt x="325" y="365"/>
                  </a:lnTo>
                  <a:lnTo>
                    <a:pt x="317" y="361"/>
                  </a:lnTo>
                  <a:lnTo>
                    <a:pt x="310" y="355"/>
                  </a:lnTo>
                  <a:lnTo>
                    <a:pt x="302" y="352"/>
                  </a:lnTo>
                  <a:lnTo>
                    <a:pt x="293" y="348"/>
                  </a:lnTo>
                  <a:lnTo>
                    <a:pt x="285" y="342"/>
                  </a:lnTo>
                  <a:lnTo>
                    <a:pt x="277" y="338"/>
                  </a:lnTo>
                  <a:lnTo>
                    <a:pt x="270" y="335"/>
                  </a:lnTo>
                  <a:lnTo>
                    <a:pt x="266" y="331"/>
                  </a:lnTo>
                  <a:lnTo>
                    <a:pt x="262" y="329"/>
                  </a:lnTo>
                  <a:lnTo>
                    <a:pt x="256" y="327"/>
                  </a:lnTo>
                  <a:lnTo>
                    <a:pt x="253" y="323"/>
                  </a:lnTo>
                  <a:lnTo>
                    <a:pt x="245" y="319"/>
                  </a:lnTo>
                  <a:lnTo>
                    <a:pt x="237" y="314"/>
                  </a:lnTo>
                  <a:lnTo>
                    <a:pt x="228" y="310"/>
                  </a:lnTo>
                  <a:lnTo>
                    <a:pt x="220" y="304"/>
                  </a:lnTo>
                  <a:lnTo>
                    <a:pt x="213" y="300"/>
                  </a:lnTo>
                  <a:lnTo>
                    <a:pt x="205" y="297"/>
                  </a:lnTo>
                  <a:lnTo>
                    <a:pt x="196" y="291"/>
                  </a:lnTo>
                  <a:lnTo>
                    <a:pt x="188" y="287"/>
                  </a:lnTo>
                  <a:lnTo>
                    <a:pt x="180" y="281"/>
                  </a:lnTo>
                  <a:lnTo>
                    <a:pt x="173" y="277"/>
                  </a:lnTo>
                  <a:lnTo>
                    <a:pt x="167" y="272"/>
                  </a:lnTo>
                  <a:lnTo>
                    <a:pt x="159" y="268"/>
                  </a:lnTo>
                  <a:lnTo>
                    <a:pt x="152" y="264"/>
                  </a:lnTo>
                  <a:lnTo>
                    <a:pt x="146" y="260"/>
                  </a:lnTo>
                  <a:lnTo>
                    <a:pt x="139" y="257"/>
                  </a:lnTo>
                  <a:lnTo>
                    <a:pt x="133" y="253"/>
                  </a:lnTo>
                  <a:lnTo>
                    <a:pt x="125" y="249"/>
                  </a:lnTo>
                  <a:lnTo>
                    <a:pt x="120" y="245"/>
                  </a:lnTo>
                  <a:lnTo>
                    <a:pt x="114" y="241"/>
                  </a:lnTo>
                  <a:lnTo>
                    <a:pt x="108" y="238"/>
                  </a:lnTo>
                  <a:lnTo>
                    <a:pt x="104" y="234"/>
                  </a:lnTo>
                  <a:lnTo>
                    <a:pt x="99" y="232"/>
                  </a:lnTo>
                  <a:lnTo>
                    <a:pt x="95" y="228"/>
                  </a:lnTo>
                  <a:lnTo>
                    <a:pt x="89" y="224"/>
                  </a:lnTo>
                  <a:lnTo>
                    <a:pt x="85" y="220"/>
                  </a:lnTo>
                  <a:lnTo>
                    <a:pt x="82" y="219"/>
                  </a:lnTo>
                  <a:lnTo>
                    <a:pt x="74" y="213"/>
                  </a:lnTo>
                  <a:lnTo>
                    <a:pt x="66" y="207"/>
                  </a:lnTo>
                  <a:lnTo>
                    <a:pt x="59" y="200"/>
                  </a:lnTo>
                  <a:lnTo>
                    <a:pt x="53" y="194"/>
                  </a:lnTo>
                  <a:lnTo>
                    <a:pt x="45" y="186"/>
                  </a:lnTo>
                  <a:lnTo>
                    <a:pt x="42" y="181"/>
                  </a:lnTo>
                  <a:lnTo>
                    <a:pt x="36" y="173"/>
                  </a:lnTo>
                  <a:lnTo>
                    <a:pt x="32" y="167"/>
                  </a:lnTo>
                  <a:lnTo>
                    <a:pt x="28" y="160"/>
                  </a:lnTo>
                  <a:lnTo>
                    <a:pt x="23" y="152"/>
                  </a:lnTo>
                  <a:lnTo>
                    <a:pt x="21" y="148"/>
                  </a:lnTo>
                  <a:lnTo>
                    <a:pt x="19" y="143"/>
                  </a:lnTo>
                  <a:lnTo>
                    <a:pt x="17" y="139"/>
                  </a:lnTo>
                  <a:lnTo>
                    <a:pt x="15" y="133"/>
                  </a:lnTo>
                  <a:lnTo>
                    <a:pt x="13" y="127"/>
                  </a:lnTo>
                  <a:lnTo>
                    <a:pt x="11" y="123"/>
                  </a:lnTo>
                  <a:lnTo>
                    <a:pt x="9" y="118"/>
                  </a:lnTo>
                  <a:lnTo>
                    <a:pt x="9" y="114"/>
                  </a:lnTo>
                  <a:lnTo>
                    <a:pt x="5" y="108"/>
                  </a:lnTo>
                  <a:lnTo>
                    <a:pt x="5" y="104"/>
                  </a:lnTo>
                  <a:lnTo>
                    <a:pt x="4" y="99"/>
                  </a:lnTo>
                  <a:lnTo>
                    <a:pt x="4" y="93"/>
                  </a:lnTo>
                  <a:lnTo>
                    <a:pt x="2" y="89"/>
                  </a:lnTo>
                  <a:lnTo>
                    <a:pt x="2" y="85"/>
                  </a:lnTo>
                  <a:lnTo>
                    <a:pt x="2" y="80"/>
                  </a:lnTo>
                  <a:lnTo>
                    <a:pt x="2" y="76"/>
                  </a:lnTo>
                  <a:lnTo>
                    <a:pt x="0" y="70"/>
                  </a:lnTo>
                  <a:lnTo>
                    <a:pt x="0" y="66"/>
                  </a:lnTo>
                  <a:lnTo>
                    <a:pt x="0" y="61"/>
                  </a:lnTo>
                  <a:lnTo>
                    <a:pt x="0" y="57"/>
                  </a:lnTo>
                  <a:lnTo>
                    <a:pt x="0" y="51"/>
                  </a:lnTo>
                  <a:lnTo>
                    <a:pt x="0" y="47"/>
                  </a:lnTo>
                  <a:lnTo>
                    <a:pt x="0" y="44"/>
                  </a:lnTo>
                  <a:lnTo>
                    <a:pt x="2" y="40"/>
                  </a:lnTo>
                  <a:lnTo>
                    <a:pt x="4" y="32"/>
                  </a:lnTo>
                  <a:lnTo>
                    <a:pt x="5" y="27"/>
                  </a:lnTo>
                  <a:lnTo>
                    <a:pt x="11" y="21"/>
                  </a:lnTo>
                  <a:lnTo>
                    <a:pt x="15" y="17"/>
                  </a:lnTo>
                  <a:lnTo>
                    <a:pt x="19" y="11"/>
                  </a:lnTo>
                  <a:lnTo>
                    <a:pt x="26" y="8"/>
                  </a:lnTo>
                  <a:lnTo>
                    <a:pt x="32" y="4"/>
                  </a:lnTo>
                  <a:lnTo>
                    <a:pt x="40" y="2"/>
                  </a:lnTo>
                  <a:lnTo>
                    <a:pt x="43" y="0"/>
                  </a:lnTo>
                  <a:lnTo>
                    <a:pt x="47" y="0"/>
                  </a:lnTo>
                  <a:lnTo>
                    <a:pt x="51" y="0"/>
                  </a:lnTo>
                  <a:lnTo>
                    <a:pt x="57" y="0"/>
                  </a:lnTo>
                  <a:lnTo>
                    <a:pt x="61" y="0"/>
                  </a:lnTo>
                  <a:lnTo>
                    <a:pt x="64" y="0"/>
                  </a:lnTo>
                  <a:lnTo>
                    <a:pt x="70" y="0"/>
                  </a:lnTo>
                  <a:lnTo>
                    <a:pt x="74" y="0"/>
                  </a:lnTo>
                  <a:lnTo>
                    <a:pt x="80" y="0"/>
                  </a:lnTo>
                  <a:lnTo>
                    <a:pt x="83" y="0"/>
                  </a:lnTo>
                  <a:lnTo>
                    <a:pt x="89" y="0"/>
                  </a:lnTo>
                  <a:lnTo>
                    <a:pt x="95" y="0"/>
                  </a:lnTo>
                  <a:lnTo>
                    <a:pt x="99" y="0"/>
                  </a:lnTo>
                  <a:lnTo>
                    <a:pt x="104" y="0"/>
                  </a:lnTo>
                  <a:lnTo>
                    <a:pt x="110" y="2"/>
                  </a:lnTo>
                  <a:lnTo>
                    <a:pt x="116" y="2"/>
                  </a:lnTo>
                  <a:lnTo>
                    <a:pt x="120" y="2"/>
                  </a:lnTo>
                  <a:lnTo>
                    <a:pt x="125" y="4"/>
                  </a:lnTo>
                  <a:lnTo>
                    <a:pt x="131" y="4"/>
                  </a:lnTo>
                  <a:lnTo>
                    <a:pt x="137" y="4"/>
                  </a:lnTo>
                  <a:lnTo>
                    <a:pt x="140" y="4"/>
                  </a:lnTo>
                  <a:lnTo>
                    <a:pt x="146" y="6"/>
                  </a:lnTo>
                  <a:lnTo>
                    <a:pt x="152" y="6"/>
                  </a:lnTo>
                  <a:lnTo>
                    <a:pt x="158" y="8"/>
                  </a:lnTo>
                  <a:lnTo>
                    <a:pt x="161" y="8"/>
                  </a:lnTo>
                  <a:lnTo>
                    <a:pt x="167" y="8"/>
                  </a:lnTo>
                  <a:lnTo>
                    <a:pt x="171" y="9"/>
                  </a:lnTo>
                  <a:lnTo>
                    <a:pt x="177" y="9"/>
                  </a:lnTo>
                  <a:lnTo>
                    <a:pt x="180" y="9"/>
                  </a:lnTo>
                  <a:lnTo>
                    <a:pt x="186" y="11"/>
                  </a:lnTo>
                  <a:lnTo>
                    <a:pt x="190" y="11"/>
                  </a:lnTo>
                  <a:lnTo>
                    <a:pt x="196" y="13"/>
                  </a:lnTo>
                  <a:lnTo>
                    <a:pt x="203" y="13"/>
                  </a:lnTo>
                  <a:lnTo>
                    <a:pt x="211" y="13"/>
                  </a:lnTo>
                  <a:lnTo>
                    <a:pt x="218" y="13"/>
                  </a:lnTo>
                  <a:lnTo>
                    <a:pt x="226" y="15"/>
                  </a:lnTo>
                  <a:lnTo>
                    <a:pt x="232" y="15"/>
                  </a:lnTo>
                  <a:lnTo>
                    <a:pt x="237" y="15"/>
                  </a:lnTo>
                  <a:lnTo>
                    <a:pt x="241" y="15"/>
                  </a:lnTo>
                  <a:lnTo>
                    <a:pt x="247" y="15"/>
                  </a:lnTo>
                  <a:lnTo>
                    <a:pt x="253" y="15"/>
                  </a:lnTo>
                  <a:lnTo>
                    <a:pt x="255"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0" name="Freeform 8"/>
            <p:cNvSpPr/>
            <p:nvPr/>
          </p:nvSpPr>
          <p:spPr>
            <a:xfrm>
              <a:off x="1123920" y="1010880"/>
              <a:ext cx="128520" cy="249480"/>
            </a:xfrm>
            <a:custGeom>
              <a:avLst/>
              <a:gdLst>
                <a:gd name="textAreaLeft" fmla="*/ 0 w 128520"/>
                <a:gd name="textAreaRight" fmla="*/ 128880 w 128520"/>
                <a:gd name="textAreaTop" fmla="*/ 0 h 249480"/>
                <a:gd name="textAreaBottom" fmla="*/ 249840 h 249480"/>
              </a:gdLst>
              <a:ahLst/>
              <a:rect l="textAreaLeft" t="textAreaTop" r="textAreaRight" b="textAreaBottom"/>
              <a:pathLst>
                <a:path w="108" h="177">
                  <a:moveTo>
                    <a:pt x="48" y="6"/>
                  </a:moveTo>
                  <a:lnTo>
                    <a:pt x="48" y="6"/>
                  </a:lnTo>
                  <a:lnTo>
                    <a:pt x="44" y="7"/>
                  </a:lnTo>
                  <a:lnTo>
                    <a:pt x="38" y="11"/>
                  </a:lnTo>
                  <a:lnTo>
                    <a:pt x="30" y="19"/>
                  </a:lnTo>
                  <a:lnTo>
                    <a:pt x="25" y="25"/>
                  </a:lnTo>
                  <a:lnTo>
                    <a:pt x="17" y="34"/>
                  </a:lnTo>
                  <a:lnTo>
                    <a:pt x="13" y="38"/>
                  </a:lnTo>
                  <a:lnTo>
                    <a:pt x="10" y="42"/>
                  </a:lnTo>
                  <a:lnTo>
                    <a:pt x="8" y="46"/>
                  </a:lnTo>
                  <a:lnTo>
                    <a:pt x="6" y="51"/>
                  </a:lnTo>
                  <a:lnTo>
                    <a:pt x="2" y="55"/>
                  </a:lnTo>
                  <a:lnTo>
                    <a:pt x="2" y="59"/>
                  </a:lnTo>
                  <a:lnTo>
                    <a:pt x="0" y="65"/>
                  </a:lnTo>
                  <a:lnTo>
                    <a:pt x="0" y="68"/>
                  </a:lnTo>
                  <a:lnTo>
                    <a:pt x="0" y="74"/>
                  </a:lnTo>
                  <a:lnTo>
                    <a:pt x="0" y="78"/>
                  </a:lnTo>
                  <a:lnTo>
                    <a:pt x="0" y="84"/>
                  </a:lnTo>
                  <a:lnTo>
                    <a:pt x="2" y="87"/>
                  </a:lnTo>
                  <a:lnTo>
                    <a:pt x="2" y="91"/>
                  </a:lnTo>
                  <a:lnTo>
                    <a:pt x="2" y="97"/>
                  </a:lnTo>
                  <a:lnTo>
                    <a:pt x="4" y="101"/>
                  </a:lnTo>
                  <a:lnTo>
                    <a:pt x="6" y="106"/>
                  </a:lnTo>
                  <a:lnTo>
                    <a:pt x="8" y="112"/>
                  </a:lnTo>
                  <a:lnTo>
                    <a:pt x="10" y="116"/>
                  </a:lnTo>
                  <a:lnTo>
                    <a:pt x="13" y="122"/>
                  </a:lnTo>
                  <a:lnTo>
                    <a:pt x="15" y="127"/>
                  </a:lnTo>
                  <a:lnTo>
                    <a:pt x="19" y="131"/>
                  </a:lnTo>
                  <a:lnTo>
                    <a:pt x="21" y="135"/>
                  </a:lnTo>
                  <a:lnTo>
                    <a:pt x="23" y="141"/>
                  </a:lnTo>
                  <a:lnTo>
                    <a:pt x="27" y="144"/>
                  </a:lnTo>
                  <a:lnTo>
                    <a:pt x="30" y="152"/>
                  </a:lnTo>
                  <a:lnTo>
                    <a:pt x="38" y="160"/>
                  </a:lnTo>
                  <a:lnTo>
                    <a:pt x="44" y="167"/>
                  </a:lnTo>
                  <a:lnTo>
                    <a:pt x="49" y="171"/>
                  </a:lnTo>
                  <a:lnTo>
                    <a:pt x="55" y="175"/>
                  </a:lnTo>
                  <a:lnTo>
                    <a:pt x="63" y="177"/>
                  </a:lnTo>
                  <a:lnTo>
                    <a:pt x="69" y="175"/>
                  </a:lnTo>
                  <a:lnTo>
                    <a:pt x="76" y="175"/>
                  </a:lnTo>
                  <a:lnTo>
                    <a:pt x="82" y="173"/>
                  </a:lnTo>
                  <a:lnTo>
                    <a:pt x="89" y="171"/>
                  </a:lnTo>
                  <a:lnTo>
                    <a:pt x="95" y="165"/>
                  </a:lnTo>
                  <a:lnTo>
                    <a:pt x="101" y="161"/>
                  </a:lnTo>
                  <a:lnTo>
                    <a:pt x="105" y="156"/>
                  </a:lnTo>
                  <a:lnTo>
                    <a:pt x="108" y="148"/>
                  </a:lnTo>
                  <a:lnTo>
                    <a:pt x="108" y="142"/>
                  </a:lnTo>
                  <a:lnTo>
                    <a:pt x="108" y="139"/>
                  </a:lnTo>
                  <a:lnTo>
                    <a:pt x="108" y="133"/>
                  </a:lnTo>
                  <a:lnTo>
                    <a:pt x="108" y="127"/>
                  </a:lnTo>
                  <a:lnTo>
                    <a:pt x="108" y="122"/>
                  </a:lnTo>
                  <a:lnTo>
                    <a:pt x="107" y="116"/>
                  </a:lnTo>
                  <a:lnTo>
                    <a:pt x="107" y="108"/>
                  </a:lnTo>
                  <a:lnTo>
                    <a:pt x="105" y="104"/>
                  </a:lnTo>
                  <a:lnTo>
                    <a:pt x="103" y="99"/>
                  </a:lnTo>
                  <a:lnTo>
                    <a:pt x="101" y="93"/>
                  </a:lnTo>
                  <a:lnTo>
                    <a:pt x="99" y="87"/>
                  </a:lnTo>
                  <a:lnTo>
                    <a:pt x="97" y="84"/>
                  </a:lnTo>
                  <a:lnTo>
                    <a:pt x="91" y="76"/>
                  </a:lnTo>
                  <a:lnTo>
                    <a:pt x="86" y="72"/>
                  </a:lnTo>
                  <a:lnTo>
                    <a:pt x="80" y="70"/>
                  </a:lnTo>
                  <a:lnTo>
                    <a:pt x="72" y="68"/>
                  </a:lnTo>
                  <a:lnTo>
                    <a:pt x="65" y="68"/>
                  </a:lnTo>
                  <a:lnTo>
                    <a:pt x="61" y="68"/>
                  </a:lnTo>
                  <a:lnTo>
                    <a:pt x="53" y="68"/>
                  </a:lnTo>
                  <a:lnTo>
                    <a:pt x="49" y="68"/>
                  </a:lnTo>
                  <a:lnTo>
                    <a:pt x="46" y="70"/>
                  </a:lnTo>
                  <a:lnTo>
                    <a:pt x="44" y="66"/>
                  </a:lnTo>
                  <a:lnTo>
                    <a:pt x="44" y="61"/>
                  </a:lnTo>
                  <a:lnTo>
                    <a:pt x="42" y="57"/>
                  </a:lnTo>
                  <a:lnTo>
                    <a:pt x="42" y="53"/>
                  </a:lnTo>
                  <a:lnTo>
                    <a:pt x="42" y="47"/>
                  </a:lnTo>
                  <a:lnTo>
                    <a:pt x="44" y="46"/>
                  </a:lnTo>
                  <a:lnTo>
                    <a:pt x="48" y="40"/>
                  </a:lnTo>
                  <a:lnTo>
                    <a:pt x="55" y="36"/>
                  </a:lnTo>
                  <a:lnTo>
                    <a:pt x="61" y="32"/>
                  </a:lnTo>
                  <a:lnTo>
                    <a:pt x="69" y="27"/>
                  </a:lnTo>
                  <a:lnTo>
                    <a:pt x="72" y="21"/>
                  </a:lnTo>
                  <a:lnTo>
                    <a:pt x="74" y="15"/>
                  </a:lnTo>
                  <a:lnTo>
                    <a:pt x="72" y="7"/>
                  </a:lnTo>
                  <a:lnTo>
                    <a:pt x="69" y="2"/>
                  </a:lnTo>
                  <a:lnTo>
                    <a:pt x="61" y="0"/>
                  </a:lnTo>
                  <a:lnTo>
                    <a:pt x="55" y="2"/>
                  </a:lnTo>
                  <a:lnTo>
                    <a:pt x="49" y="4"/>
                  </a:lnTo>
                  <a:lnTo>
                    <a:pt x="4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1" name="Freeform 9"/>
            <p:cNvSpPr/>
            <p:nvPr/>
          </p:nvSpPr>
          <p:spPr>
            <a:xfrm>
              <a:off x="1298160" y="932040"/>
              <a:ext cx="162000" cy="249480"/>
            </a:xfrm>
            <a:custGeom>
              <a:avLst/>
              <a:gdLst>
                <a:gd name="textAreaLeft" fmla="*/ 0 w 162000"/>
                <a:gd name="textAreaRight" fmla="*/ 162360 w 162000"/>
                <a:gd name="textAreaTop" fmla="*/ 0 h 249480"/>
                <a:gd name="textAreaBottom" fmla="*/ 249840 h 249480"/>
              </a:gdLst>
              <a:ahLst/>
              <a:rect l="textAreaLeft" t="textAreaTop" r="textAreaRight" b="textAreaBottom"/>
              <a:pathLst>
                <a:path w="135" h="175">
                  <a:moveTo>
                    <a:pt x="14" y="0"/>
                  </a:moveTo>
                  <a:lnTo>
                    <a:pt x="16" y="0"/>
                  </a:lnTo>
                  <a:lnTo>
                    <a:pt x="23" y="0"/>
                  </a:lnTo>
                  <a:lnTo>
                    <a:pt x="27" y="0"/>
                  </a:lnTo>
                  <a:lnTo>
                    <a:pt x="33" y="0"/>
                  </a:lnTo>
                  <a:lnTo>
                    <a:pt x="37" y="0"/>
                  </a:lnTo>
                  <a:lnTo>
                    <a:pt x="44" y="2"/>
                  </a:lnTo>
                  <a:lnTo>
                    <a:pt x="50" y="2"/>
                  </a:lnTo>
                  <a:lnTo>
                    <a:pt x="58" y="4"/>
                  </a:lnTo>
                  <a:lnTo>
                    <a:pt x="63" y="5"/>
                  </a:lnTo>
                  <a:lnTo>
                    <a:pt x="71" y="7"/>
                  </a:lnTo>
                  <a:lnTo>
                    <a:pt x="77" y="11"/>
                  </a:lnTo>
                  <a:lnTo>
                    <a:pt x="84" y="15"/>
                  </a:lnTo>
                  <a:lnTo>
                    <a:pt x="90" y="19"/>
                  </a:lnTo>
                  <a:lnTo>
                    <a:pt x="96" y="24"/>
                  </a:lnTo>
                  <a:lnTo>
                    <a:pt x="99" y="28"/>
                  </a:lnTo>
                  <a:lnTo>
                    <a:pt x="105" y="36"/>
                  </a:lnTo>
                  <a:lnTo>
                    <a:pt x="109" y="42"/>
                  </a:lnTo>
                  <a:lnTo>
                    <a:pt x="115" y="49"/>
                  </a:lnTo>
                  <a:lnTo>
                    <a:pt x="116" y="55"/>
                  </a:lnTo>
                  <a:lnTo>
                    <a:pt x="122" y="62"/>
                  </a:lnTo>
                  <a:lnTo>
                    <a:pt x="124" y="70"/>
                  </a:lnTo>
                  <a:lnTo>
                    <a:pt x="128" y="80"/>
                  </a:lnTo>
                  <a:lnTo>
                    <a:pt x="130" y="87"/>
                  </a:lnTo>
                  <a:lnTo>
                    <a:pt x="132" y="95"/>
                  </a:lnTo>
                  <a:lnTo>
                    <a:pt x="134" y="102"/>
                  </a:lnTo>
                  <a:lnTo>
                    <a:pt x="134" y="110"/>
                  </a:lnTo>
                  <a:lnTo>
                    <a:pt x="135" y="118"/>
                  </a:lnTo>
                  <a:lnTo>
                    <a:pt x="135" y="125"/>
                  </a:lnTo>
                  <a:lnTo>
                    <a:pt x="135" y="131"/>
                  </a:lnTo>
                  <a:lnTo>
                    <a:pt x="135" y="139"/>
                  </a:lnTo>
                  <a:lnTo>
                    <a:pt x="134" y="142"/>
                  </a:lnTo>
                  <a:lnTo>
                    <a:pt x="134" y="148"/>
                  </a:lnTo>
                  <a:lnTo>
                    <a:pt x="132" y="152"/>
                  </a:lnTo>
                  <a:lnTo>
                    <a:pt x="130" y="156"/>
                  </a:lnTo>
                  <a:lnTo>
                    <a:pt x="126" y="163"/>
                  </a:lnTo>
                  <a:lnTo>
                    <a:pt x="122" y="169"/>
                  </a:lnTo>
                  <a:lnTo>
                    <a:pt x="116" y="171"/>
                  </a:lnTo>
                  <a:lnTo>
                    <a:pt x="109" y="173"/>
                  </a:lnTo>
                  <a:lnTo>
                    <a:pt x="103" y="173"/>
                  </a:lnTo>
                  <a:lnTo>
                    <a:pt x="97" y="175"/>
                  </a:lnTo>
                  <a:lnTo>
                    <a:pt x="92" y="173"/>
                  </a:lnTo>
                  <a:lnTo>
                    <a:pt x="84" y="173"/>
                  </a:lnTo>
                  <a:lnTo>
                    <a:pt x="77" y="169"/>
                  </a:lnTo>
                  <a:lnTo>
                    <a:pt x="71" y="165"/>
                  </a:lnTo>
                  <a:lnTo>
                    <a:pt x="63" y="161"/>
                  </a:lnTo>
                  <a:lnTo>
                    <a:pt x="58" y="156"/>
                  </a:lnTo>
                  <a:lnTo>
                    <a:pt x="50" y="150"/>
                  </a:lnTo>
                  <a:lnTo>
                    <a:pt x="46" y="144"/>
                  </a:lnTo>
                  <a:lnTo>
                    <a:pt x="44" y="139"/>
                  </a:lnTo>
                  <a:lnTo>
                    <a:pt x="42" y="135"/>
                  </a:lnTo>
                  <a:lnTo>
                    <a:pt x="40" y="129"/>
                  </a:lnTo>
                  <a:lnTo>
                    <a:pt x="39" y="125"/>
                  </a:lnTo>
                  <a:lnTo>
                    <a:pt x="37" y="120"/>
                  </a:lnTo>
                  <a:lnTo>
                    <a:pt x="35" y="116"/>
                  </a:lnTo>
                  <a:lnTo>
                    <a:pt x="33" y="110"/>
                  </a:lnTo>
                  <a:lnTo>
                    <a:pt x="33" y="106"/>
                  </a:lnTo>
                  <a:lnTo>
                    <a:pt x="33" y="101"/>
                  </a:lnTo>
                  <a:lnTo>
                    <a:pt x="31" y="97"/>
                  </a:lnTo>
                  <a:lnTo>
                    <a:pt x="31" y="93"/>
                  </a:lnTo>
                  <a:lnTo>
                    <a:pt x="33" y="87"/>
                  </a:lnTo>
                  <a:lnTo>
                    <a:pt x="33" y="80"/>
                  </a:lnTo>
                  <a:lnTo>
                    <a:pt x="37" y="74"/>
                  </a:lnTo>
                  <a:lnTo>
                    <a:pt x="40" y="66"/>
                  </a:lnTo>
                  <a:lnTo>
                    <a:pt x="46" y="64"/>
                  </a:lnTo>
                  <a:lnTo>
                    <a:pt x="54" y="61"/>
                  </a:lnTo>
                  <a:lnTo>
                    <a:pt x="61" y="59"/>
                  </a:lnTo>
                  <a:lnTo>
                    <a:pt x="67" y="57"/>
                  </a:lnTo>
                  <a:lnTo>
                    <a:pt x="75" y="55"/>
                  </a:lnTo>
                  <a:lnTo>
                    <a:pt x="78" y="53"/>
                  </a:lnTo>
                  <a:lnTo>
                    <a:pt x="78" y="51"/>
                  </a:lnTo>
                  <a:lnTo>
                    <a:pt x="75" y="45"/>
                  </a:lnTo>
                  <a:lnTo>
                    <a:pt x="67" y="42"/>
                  </a:lnTo>
                  <a:lnTo>
                    <a:pt x="63" y="38"/>
                  </a:lnTo>
                  <a:lnTo>
                    <a:pt x="58" y="36"/>
                  </a:lnTo>
                  <a:lnTo>
                    <a:pt x="54" y="32"/>
                  </a:lnTo>
                  <a:lnTo>
                    <a:pt x="50" y="32"/>
                  </a:lnTo>
                  <a:lnTo>
                    <a:pt x="42" y="30"/>
                  </a:lnTo>
                  <a:lnTo>
                    <a:pt x="37" y="28"/>
                  </a:lnTo>
                  <a:lnTo>
                    <a:pt x="27" y="28"/>
                  </a:lnTo>
                  <a:lnTo>
                    <a:pt x="19" y="26"/>
                  </a:lnTo>
                  <a:lnTo>
                    <a:pt x="12" y="24"/>
                  </a:lnTo>
                  <a:lnTo>
                    <a:pt x="6" y="24"/>
                  </a:lnTo>
                  <a:lnTo>
                    <a:pt x="2" y="21"/>
                  </a:lnTo>
                  <a:lnTo>
                    <a:pt x="0" y="19"/>
                  </a:lnTo>
                  <a:lnTo>
                    <a:pt x="0" y="13"/>
                  </a:lnTo>
                  <a:lnTo>
                    <a:pt x="6" y="7"/>
                  </a:lnTo>
                  <a:lnTo>
                    <a:pt x="12" y="2"/>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2" name="Freeform 10"/>
            <p:cNvSpPr/>
            <p:nvPr/>
          </p:nvSpPr>
          <p:spPr>
            <a:xfrm>
              <a:off x="1257840" y="1297800"/>
              <a:ext cx="162000" cy="277920"/>
            </a:xfrm>
            <a:custGeom>
              <a:avLst/>
              <a:gdLst>
                <a:gd name="textAreaLeft" fmla="*/ 0 w 162000"/>
                <a:gd name="textAreaRight" fmla="*/ 162360 w 162000"/>
                <a:gd name="textAreaTop" fmla="*/ 0 h 277920"/>
                <a:gd name="textAreaBottom" fmla="*/ 278280 h 277920"/>
              </a:gdLst>
              <a:ahLst/>
              <a:rect l="textAreaLeft" t="textAreaTop" r="textAreaRight" b="textAreaBottom"/>
              <a:pathLst>
                <a:path w="135" h="196">
                  <a:moveTo>
                    <a:pt x="92" y="33"/>
                  </a:moveTo>
                  <a:lnTo>
                    <a:pt x="90" y="31"/>
                  </a:lnTo>
                  <a:lnTo>
                    <a:pt x="88" y="27"/>
                  </a:lnTo>
                  <a:lnTo>
                    <a:pt x="82" y="21"/>
                  </a:lnTo>
                  <a:lnTo>
                    <a:pt x="76" y="16"/>
                  </a:lnTo>
                  <a:lnTo>
                    <a:pt x="73" y="14"/>
                  </a:lnTo>
                  <a:lnTo>
                    <a:pt x="69" y="10"/>
                  </a:lnTo>
                  <a:lnTo>
                    <a:pt x="63" y="8"/>
                  </a:lnTo>
                  <a:lnTo>
                    <a:pt x="59" y="4"/>
                  </a:lnTo>
                  <a:lnTo>
                    <a:pt x="55" y="2"/>
                  </a:lnTo>
                  <a:lnTo>
                    <a:pt x="52" y="2"/>
                  </a:lnTo>
                  <a:lnTo>
                    <a:pt x="46" y="0"/>
                  </a:lnTo>
                  <a:lnTo>
                    <a:pt x="42" y="2"/>
                  </a:lnTo>
                  <a:lnTo>
                    <a:pt x="34" y="2"/>
                  </a:lnTo>
                  <a:lnTo>
                    <a:pt x="27" y="8"/>
                  </a:lnTo>
                  <a:lnTo>
                    <a:pt x="21" y="10"/>
                  </a:lnTo>
                  <a:lnTo>
                    <a:pt x="19" y="14"/>
                  </a:lnTo>
                  <a:lnTo>
                    <a:pt x="15" y="18"/>
                  </a:lnTo>
                  <a:lnTo>
                    <a:pt x="12" y="23"/>
                  </a:lnTo>
                  <a:lnTo>
                    <a:pt x="10" y="29"/>
                  </a:lnTo>
                  <a:lnTo>
                    <a:pt x="6" y="35"/>
                  </a:lnTo>
                  <a:lnTo>
                    <a:pt x="4" y="42"/>
                  </a:lnTo>
                  <a:lnTo>
                    <a:pt x="2" y="48"/>
                  </a:lnTo>
                  <a:lnTo>
                    <a:pt x="0" y="56"/>
                  </a:lnTo>
                  <a:lnTo>
                    <a:pt x="0" y="65"/>
                  </a:lnTo>
                  <a:lnTo>
                    <a:pt x="0" y="69"/>
                  </a:lnTo>
                  <a:lnTo>
                    <a:pt x="0" y="73"/>
                  </a:lnTo>
                  <a:lnTo>
                    <a:pt x="0" y="76"/>
                  </a:lnTo>
                  <a:lnTo>
                    <a:pt x="0" y="82"/>
                  </a:lnTo>
                  <a:lnTo>
                    <a:pt x="0" y="90"/>
                  </a:lnTo>
                  <a:lnTo>
                    <a:pt x="0" y="97"/>
                  </a:lnTo>
                  <a:lnTo>
                    <a:pt x="0" y="101"/>
                  </a:lnTo>
                  <a:lnTo>
                    <a:pt x="2" y="105"/>
                  </a:lnTo>
                  <a:lnTo>
                    <a:pt x="2" y="111"/>
                  </a:lnTo>
                  <a:lnTo>
                    <a:pt x="4" y="115"/>
                  </a:lnTo>
                  <a:lnTo>
                    <a:pt x="6" y="122"/>
                  </a:lnTo>
                  <a:lnTo>
                    <a:pt x="8" y="132"/>
                  </a:lnTo>
                  <a:lnTo>
                    <a:pt x="10" y="135"/>
                  </a:lnTo>
                  <a:lnTo>
                    <a:pt x="12" y="139"/>
                  </a:lnTo>
                  <a:lnTo>
                    <a:pt x="14" y="143"/>
                  </a:lnTo>
                  <a:lnTo>
                    <a:pt x="15" y="149"/>
                  </a:lnTo>
                  <a:lnTo>
                    <a:pt x="19" y="154"/>
                  </a:lnTo>
                  <a:lnTo>
                    <a:pt x="23" y="162"/>
                  </a:lnTo>
                  <a:lnTo>
                    <a:pt x="27" y="168"/>
                  </a:lnTo>
                  <a:lnTo>
                    <a:pt x="33" y="175"/>
                  </a:lnTo>
                  <a:lnTo>
                    <a:pt x="36" y="179"/>
                  </a:lnTo>
                  <a:lnTo>
                    <a:pt x="42" y="185"/>
                  </a:lnTo>
                  <a:lnTo>
                    <a:pt x="48" y="189"/>
                  </a:lnTo>
                  <a:lnTo>
                    <a:pt x="53" y="192"/>
                  </a:lnTo>
                  <a:lnTo>
                    <a:pt x="57" y="194"/>
                  </a:lnTo>
                  <a:lnTo>
                    <a:pt x="65" y="194"/>
                  </a:lnTo>
                  <a:lnTo>
                    <a:pt x="71" y="194"/>
                  </a:lnTo>
                  <a:lnTo>
                    <a:pt x="76" y="196"/>
                  </a:lnTo>
                  <a:lnTo>
                    <a:pt x="82" y="194"/>
                  </a:lnTo>
                  <a:lnTo>
                    <a:pt x="88" y="192"/>
                  </a:lnTo>
                  <a:lnTo>
                    <a:pt x="92" y="191"/>
                  </a:lnTo>
                  <a:lnTo>
                    <a:pt x="99" y="187"/>
                  </a:lnTo>
                  <a:lnTo>
                    <a:pt x="103" y="183"/>
                  </a:lnTo>
                  <a:lnTo>
                    <a:pt x="109" y="179"/>
                  </a:lnTo>
                  <a:lnTo>
                    <a:pt x="112" y="175"/>
                  </a:lnTo>
                  <a:lnTo>
                    <a:pt x="118" y="172"/>
                  </a:lnTo>
                  <a:lnTo>
                    <a:pt x="120" y="168"/>
                  </a:lnTo>
                  <a:lnTo>
                    <a:pt x="124" y="162"/>
                  </a:lnTo>
                  <a:lnTo>
                    <a:pt x="126" y="158"/>
                  </a:lnTo>
                  <a:lnTo>
                    <a:pt x="130" y="154"/>
                  </a:lnTo>
                  <a:lnTo>
                    <a:pt x="131" y="149"/>
                  </a:lnTo>
                  <a:lnTo>
                    <a:pt x="133" y="145"/>
                  </a:lnTo>
                  <a:lnTo>
                    <a:pt x="133" y="141"/>
                  </a:lnTo>
                  <a:lnTo>
                    <a:pt x="135" y="135"/>
                  </a:lnTo>
                  <a:lnTo>
                    <a:pt x="135" y="132"/>
                  </a:lnTo>
                  <a:lnTo>
                    <a:pt x="135" y="128"/>
                  </a:lnTo>
                  <a:lnTo>
                    <a:pt x="133" y="122"/>
                  </a:lnTo>
                  <a:lnTo>
                    <a:pt x="133" y="118"/>
                  </a:lnTo>
                  <a:lnTo>
                    <a:pt x="133" y="115"/>
                  </a:lnTo>
                  <a:lnTo>
                    <a:pt x="131" y="111"/>
                  </a:lnTo>
                  <a:lnTo>
                    <a:pt x="130" y="105"/>
                  </a:lnTo>
                  <a:lnTo>
                    <a:pt x="130" y="101"/>
                  </a:lnTo>
                  <a:lnTo>
                    <a:pt x="126" y="97"/>
                  </a:lnTo>
                  <a:lnTo>
                    <a:pt x="126" y="92"/>
                  </a:lnTo>
                  <a:lnTo>
                    <a:pt x="122" y="88"/>
                  </a:lnTo>
                  <a:lnTo>
                    <a:pt x="122" y="84"/>
                  </a:lnTo>
                  <a:lnTo>
                    <a:pt x="118" y="78"/>
                  </a:lnTo>
                  <a:lnTo>
                    <a:pt x="116" y="75"/>
                  </a:lnTo>
                  <a:lnTo>
                    <a:pt x="112" y="69"/>
                  </a:lnTo>
                  <a:lnTo>
                    <a:pt x="111" y="65"/>
                  </a:lnTo>
                  <a:lnTo>
                    <a:pt x="109" y="61"/>
                  </a:lnTo>
                  <a:lnTo>
                    <a:pt x="105" y="56"/>
                  </a:lnTo>
                  <a:lnTo>
                    <a:pt x="103" y="52"/>
                  </a:lnTo>
                  <a:lnTo>
                    <a:pt x="101" y="48"/>
                  </a:lnTo>
                  <a:lnTo>
                    <a:pt x="95" y="40"/>
                  </a:lnTo>
                  <a:lnTo>
                    <a:pt x="93" y="37"/>
                  </a:lnTo>
                  <a:lnTo>
                    <a:pt x="92"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6699"/>
                </a:solidFill>
                <a:latin typeface="Comic Sans MS"/>
              </a:rPr>
              <a:t>SINAV KAYGISI YAŞIYOR MUSUNUZ?</a:t>
            </a:r>
            <a:endParaRPr b="0" lang="en-US" sz="3600" spc="-1" strike="noStrike">
              <a:solidFill>
                <a:srgbClr val="000000"/>
              </a:solidFill>
              <a:latin typeface="Comic Sans MS"/>
            </a:endParaRPr>
          </a:p>
        </p:txBody>
      </p:sp>
      <p:sp>
        <p:nvSpPr>
          <p:cNvPr id="194" name="PlaceHolder 2"/>
          <p:cNvSpPr>
            <a:spLocks noGrp="1"/>
          </p:cNvSpPr>
          <p:nvPr>
            <p:ph/>
          </p:nvPr>
        </p:nvSpPr>
        <p:spPr>
          <a:xfrm>
            <a:off x="3419280" y="1599840"/>
            <a:ext cx="5724360" cy="492444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Sınavdan bir önceki gece uyuyamıyorsanız,</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Sınavda heyecanlanıp çok iyi çalışmış olduğunuz ve bildiğiniz halde başarılı olamıyorsanız,</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Sınav sırasında midenizde, karın bölgenizde gerilme ya da rahatsızlık oluyorsa,</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Sınav sırasında soğuk terleme ve baş ağrıları çekiyorsanız,</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Sınav sırasında zihninizin donduğunu bulanıklaştığını ve tam olarak düşünemediğinizi hissediyorsanız,</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Sınav sırasında bildiklerinizi de unutuyorsanız,</a:t>
            </a:r>
            <a:endParaRPr b="0" lang="en-US" sz="2400" spc="-1" strike="noStrike">
              <a:solidFill>
                <a:srgbClr val="000000"/>
              </a:solidFill>
              <a:latin typeface="Comic Sans MS"/>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95" name="Picture 4" descr="MCj03981490000[1]"/>
          <p:cNvPicPr/>
          <p:nvPr/>
        </p:nvPicPr>
        <p:blipFill>
          <a:blip r:embed="rId1"/>
          <a:stretch/>
        </p:blipFill>
        <p:spPr>
          <a:xfrm>
            <a:off x="179280" y="213372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843280" y="1599840"/>
            <a:ext cx="5976720" cy="492444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Soruları olduğundan daha zor gibi algılıyor ve aslında basit olan cevapları kaçırıyorsanız,</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Dikkatsizlik yüzünden çok sayıda hata yapıyorsanız,</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Hiç beklemediğiniz halde sınavdan çok kötü bir not aldıysanız,</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Çalışmanıza rağmen kötü notlar alıyor ve kendinize olan güveninizi yitiriyorsanız,</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Sınav zamanları size kabus gibi geliyorsa...</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Comic Sans MS"/>
              </a:rPr>
              <a:t>        </a:t>
            </a:r>
            <a:r>
              <a:rPr b="1" lang="tr-TR" sz="2400" spc="-1" strike="noStrike">
                <a:solidFill>
                  <a:srgbClr val="ff66cc"/>
                </a:solidFill>
                <a:latin typeface="Comic Sans MS"/>
              </a:rPr>
              <a:t>SINAV KAYGISI YAŞIYOR OLABİLİRSİNİZ!..</a:t>
            </a:r>
            <a:endParaRPr b="0" lang="en-US" sz="2400" spc="-1" strike="noStrike">
              <a:solidFill>
                <a:srgbClr val="000000"/>
              </a:solidFill>
              <a:latin typeface="Comic Sans MS"/>
            </a:endParaRPr>
          </a:p>
        </p:txBody>
      </p:sp>
      <p:sp>
        <p:nvSpPr>
          <p:cNvPr id="197" name="PlaceHolder 2"/>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6699"/>
                </a:solidFill>
                <a:latin typeface="Comic Sans MS"/>
              </a:rPr>
              <a:t>SINAV KAYGISI YAŞIYOR MUSUNUZ?</a:t>
            </a:r>
            <a:endParaRPr b="0" lang="en-US" sz="4000" spc="-1" strike="noStrike">
              <a:solidFill>
                <a:srgbClr val="000000"/>
              </a:solidFill>
              <a:latin typeface="Comic Sans MS"/>
            </a:endParaRPr>
          </a:p>
        </p:txBody>
      </p:sp>
      <p:pic>
        <p:nvPicPr>
          <p:cNvPr id="198" name="Picture 4" descr="j0078719"/>
          <p:cNvPicPr/>
          <p:nvPr/>
        </p:nvPicPr>
        <p:blipFill>
          <a:blip r:embed="rId1"/>
          <a:stretch/>
        </p:blipFill>
        <p:spPr>
          <a:xfrm>
            <a:off x="250920" y="1773360"/>
            <a:ext cx="2305080" cy="432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560" y="980640"/>
            <a:ext cx="7561080" cy="2290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703dff"/>
                </a:solidFill>
                <a:latin typeface="Arial"/>
              </a:rPr>
              <a:t>	</a:t>
            </a:r>
            <a:r>
              <a:rPr b="1" lang="tr-TR" sz="3200" spc="-1" strike="noStrike">
                <a:solidFill>
                  <a:srgbClr val="703dff"/>
                </a:solidFill>
                <a:latin typeface="Arial"/>
              </a:rPr>
              <a:t>	</a:t>
            </a:r>
            <a:r>
              <a:rPr b="1" lang="tr-TR" sz="3200" spc="-1" strike="noStrike">
                <a:solidFill>
                  <a:srgbClr val="703dff"/>
                </a:solidFill>
                <a:latin typeface="Arial"/>
              </a:rPr>
              <a:t>	</a:t>
            </a:r>
            <a:r>
              <a:rPr b="1" lang="en-US" sz="4000" spc="-1" strike="noStrike">
                <a:solidFill>
                  <a:srgbClr val="703dff"/>
                </a:solidFill>
                <a:latin typeface="Arial"/>
              </a:rPr>
              <a:t>Kaygı Nedir?</a:t>
            </a:r>
            <a:r>
              <a:rPr b="0" lang="en-US" sz="4000" spc="-1" strike="noStrike">
                <a:solidFill>
                  <a:srgbClr val="000000"/>
                </a:solidFill>
                <a:latin typeface="Arial"/>
              </a:rPr>
              <a:t> </a:t>
            </a:r>
            <a:br>
              <a:rPr sz="4000"/>
            </a:br>
            <a:r>
              <a:rPr b="0" lang="tr-TR" sz="4000" spc="-1" strike="noStrike">
                <a:solidFill>
                  <a:srgbClr val="000000"/>
                </a:solidFill>
                <a:latin typeface="Arial"/>
              </a:rPr>
              <a:t>H</a:t>
            </a:r>
            <a:r>
              <a:rPr b="0" lang="en-US" sz="4000" spc="-1" strike="noStrike">
                <a:solidFill>
                  <a:srgbClr val="000000"/>
                </a:solidFill>
                <a:latin typeface="Arial"/>
                <a:ea typeface="Arial"/>
              </a:rPr>
              <a:t>erhangi bir stresli durumda yaşanan doğal bir duygudur ve yaşamın doğal bir parçasıdır</a:t>
            </a:r>
            <a:r>
              <a:rPr b="0" lang="tr-TR" sz="4000" spc="-1" strike="noStrike">
                <a:solidFill>
                  <a:srgbClr val="000000"/>
                </a:solidFill>
                <a:latin typeface="Arial"/>
              </a:rPr>
              <a:t>.</a:t>
            </a:r>
            <a:endParaRPr b="0" lang="en-US" sz="4000" spc="-1" strike="noStrike">
              <a:solidFill>
                <a:srgbClr val="000000"/>
              </a:solidFill>
              <a:latin typeface="Comic Sans MS"/>
            </a:endParaRPr>
          </a:p>
        </p:txBody>
      </p:sp>
      <p:pic>
        <p:nvPicPr>
          <p:cNvPr id="161" name="Picture 4" descr="bs00554_"/>
          <p:cNvPicPr/>
          <p:nvPr/>
        </p:nvPicPr>
        <p:blipFill>
          <a:blip r:embed="rId1"/>
          <a:stretch/>
        </p:blipFill>
        <p:spPr>
          <a:xfrm>
            <a:off x="5651640" y="3213000"/>
            <a:ext cx="2376360" cy="2260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omic Sans MS"/>
              </a:rPr>
              <a:t>Sınav Kaygısı Nedeniyle Gözlenen Olumsuz Duygu,Düşünce ve Davranışlar:</a:t>
            </a:r>
            <a:endParaRPr b="0" lang="en-US" sz="28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Sınavı bilgi değerlendirmesi olarak değil de kişilik değerlendirmesi olarak görme,</a:t>
            </a:r>
            <a:endParaRPr b="0" lang="en-US" sz="2800" spc="-1" strike="noStrike">
              <a:solidFill>
                <a:srgbClr val="000000"/>
              </a:solidFill>
              <a:latin typeface="Comic Sans MS"/>
            </a:endParaRPr>
          </a:p>
          <a:p>
            <a:pPr marL="298440" indent="-2984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Derslere çalışmaya rağmen yetersizlik duygusu içerisinde olmak,</a:t>
            </a:r>
            <a:endParaRPr b="0" lang="en-US" sz="2800" spc="-1" strike="noStrike">
              <a:solidFill>
                <a:srgbClr val="000000"/>
              </a:solidFill>
              <a:latin typeface="Comic Sans MS"/>
            </a:endParaRPr>
          </a:p>
          <a:p>
            <a:pPr marL="298440" indent="-2984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Çalışırken dikkat dağınıklığı, unutkanlık,öğrenilen bilgilerin birbirlerine karıştırılması,</a:t>
            </a:r>
            <a:endParaRPr b="0" lang="en-US" sz="2800" spc="-1" strike="noStrike">
              <a:solidFill>
                <a:srgbClr val="000000"/>
              </a:solidFill>
              <a:latin typeface="Comic Sans MS"/>
            </a:endParaRPr>
          </a:p>
          <a:p>
            <a:pPr marL="298440" indent="-2984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Çok çalışmaktan dolayı beynin dolduğunu düşünerek bunalmak,</a:t>
            </a:r>
            <a:endParaRPr b="0" lang="en-US" sz="2800" spc="-1" strike="noStrike">
              <a:solidFill>
                <a:srgbClr val="000000"/>
              </a:solidFill>
              <a:latin typeface="Comic Sans MS"/>
            </a:endParaRPr>
          </a:p>
          <a:p>
            <a:pPr marL="298440" indent="-2984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Aşırı huzursuzluk,gerginlik,endişe ve sıkıntı hali,</a:t>
            </a:r>
            <a:endParaRPr b="0" lang="en-US" sz="2800" spc="-1" strike="noStrike">
              <a:solidFill>
                <a:srgbClr val="000000"/>
              </a:solidFill>
              <a:latin typeface="Comic Sans MS"/>
            </a:endParaRPr>
          </a:p>
        </p:txBody>
      </p:sp>
    </p:spTree>
  </p:cSld>
  <p:transition>
    <p:wipe dir="d"/>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37">
                                  <p:stCondLst>
                                    <p:cond delay="0"/>
                                  </p:stCondLst>
                                  <p:childTnLst>
                                    <p:set>
                                      <p:cBhvr>
                                        <p:cTn id="77" dur="1" fill="hold">
                                          <p:stCondLst>
                                            <p:cond delay="0"/>
                                          </p:stCondLst>
                                        </p:cTn>
                                        <p:tgtEl>
                                          <p:spTgt spid="199"/>
                                        </p:tgtEl>
                                        <p:attrNameLst>
                                          <p:attrName>style.visibility</p:attrName>
                                        </p:attrNameLst>
                                      </p:cBhvr>
                                      <p:to>
                                        <p:strVal val="visible"/>
                                      </p:to>
                                    </p:set>
                                    <p:animEffect filter="fade" transition="in">
                                      <p:cBhvr additive="repl">
                                        <p:cTn id="78" dur="1000"/>
                                        <p:tgtEl>
                                          <p:spTgt spid="199"/>
                                        </p:tgtEl>
                                      </p:cBhvr>
                                    </p:animEffect>
                                    <p:anim calcmode="lin" valueType="num">
                                      <p:cBhvr additive="repl">
                                        <p:cTn id="79" dur="1000" fill="hold"/>
                                        <p:tgtEl>
                                          <p:spTgt spid="199"/>
                                        </p:tgtEl>
                                        <p:attrNameLst>
                                          <p:attrName>ppt_x</p:attrName>
                                        </p:attrNameLst>
                                      </p:cBhvr>
                                      <p:tavLst>
                                        <p:tav tm="0">
                                          <p:val>
                                            <p:strVal val="#ppt_x"/>
                                          </p:val>
                                        </p:tav>
                                        <p:tav tm="100000">
                                          <p:val>
                                            <p:strVal val="#ppt_x"/>
                                          </p:val>
                                        </p:tav>
                                      </p:tavLst>
                                    </p:anim>
                                    <p:anim calcmode="lin" valueType="num">
                                      <p:cBhvr additive="repl">
                                        <p:cTn id="80" dur="898" fill="hold"/>
                                        <p:tgtEl>
                                          <p:spTgt spid="199"/>
                                        </p:tgtEl>
                                        <p:attrNameLst>
                                          <p:attrName>ppt_y</p:attrName>
                                        </p:attrNameLst>
                                      </p:cBhvr>
                                      <p:tavLst>
                                        <p:tav tm="0">
                                          <p:val>
                                            <p:strVal val="#ppt_y+1"/>
                                          </p:val>
                                        </p:tav>
                                        <p:tav tm="100000">
                                          <p:val>
                                            <p:strVal val="#ppt_y-.03"/>
                                          </p:val>
                                        </p:tav>
                                      </p:tavLst>
                                    </p:anim>
                                    <p:anim calcmode="lin" valueType="num">
                                      <p:cBhvr additive="repl">
                                        <p:cTn id="81" dur="100" fill="hold">
                                          <p:stCondLst>
                                            <p:cond delay="898"/>
                                          </p:stCondLst>
                                        </p:cTn>
                                        <p:tgtEl>
                                          <p:spTgt spid="199"/>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7">
                                  <p:stCondLst>
                                    <p:cond delay="0"/>
                                  </p:stCondLst>
                                  <p:childTnLst>
                                    <p:set>
                                      <p:cBhvr>
                                        <p:cTn id="85" dur="1" fill="hold">
                                          <p:stCondLst>
                                            <p:cond delay="0"/>
                                          </p:stCondLst>
                                        </p:cTn>
                                        <p:tgtEl>
                                          <p:spTgt spid="200">
                                            <p:txEl>
                                              <p:pRg st="0" end="0"/>
                                            </p:txEl>
                                          </p:spTgt>
                                        </p:tgtEl>
                                        <p:attrNameLst>
                                          <p:attrName>style.visibility</p:attrName>
                                        </p:attrNameLst>
                                      </p:cBhvr>
                                      <p:to>
                                        <p:strVal val="visible"/>
                                      </p:to>
                                    </p:set>
                                    <p:animEffect filter="fade" transition="in">
                                      <p:cBhvr additive="repl">
                                        <p:cTn id="86" dur="1000"/>
                                        <p:tgtEl>
                                          <p:spTgt spid="200">
                                            <p:txEl>
                                              <p:pRg st="0" end="0"/>
                                            </p:txEl>
                                          </p:spTgt>
                                        </p:tgtEl>
                                      </p:cBhvr>
                                    </p:animEffect>
                                    <p:anim calcmode="lin" valueType="num">
                                      <p:cBhvr additive="repl">
                                        <p:cTn id="87" dur="1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repl">
                                        <p:cTn id="88" dur="898" fill="hold"/>
                                        <p:tgtEl>
                                          <p:spTgt spid="200">
                                            <p:txEl>
                                              <p:pRg st="0" end="0"/>
                                            </p:txEl>
                                          </p:spTgt>
                                        </p:tgtEl>
                                        <p:attrNameLst>
                                          <p:attrName>ppt_y</p:attrName>
                                        </p:attrNameLst>
                                      </p:cBhvr>
                                      <p:tavLst>
                                        <p:tav tm="0">
                                          <p:val>
                                            <p:strVal val="#ppt_y+1"/>
                                          </p:val>
                                        </p:tav>
                                        <p:tav tm="100000">
                                          <p:val>
                                            <p:strVal val="#ppt_y-.03"/>
                                          </p:val>
                                        </p:tav>
                                      </p:tavLst>
                                    </p:anim>
                                    <p:anim calcmode="lin" valueType="num">
                                      <p:cBhvr additive="repl">
                                        <p:cTn id="89" dur="100" fill="hold">
                                          <p:stCondLst>
                                            <p:cond delay="898"/>
                                          </p:stCondLst>
                                        </p:cTn>
                                        <p:tgtEl>
                                          <p:spTgt spid="20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7">
                                  <p:stCondLst>
                                    <p:cond delay="0"/>
                                  </p:stCondLst>
                                  <p:childTnLst>
                                    <p:set>
                                      <p:cBhvr>
                                        <p:cTn id="93" dur="1" fill="hold">
                                          <p:stCondLst>
                                            <p:cond delay="0"/>
                                          </p:stCondLst>
                                        </p:cTn>
                                        <p:tgtEl>
                                          <p:spTgt spid="200">
                                            <p:txEl>
                                              <p:pRg st="1" end="1"/>
                                            </p:txEl>
                                          </p:spTgt>
                                        </p:tgtEl>
                                        <p:attrNameLst>
                                          <p:attrName>style.visibility</p:attrName>
                                        </p:attrNameLst>
                                      </p:cBhvr>
                                      <p:to>
                                        <p:strVal val="visible"/>
                                      </p:to>
                                    </p:set>
                                    <p:animEffect filter="fade" transition="in">
                                      <p:cBhvr additive="repl">
                                        <p:cTn id="94" dur="1000"/>
                                        <p:tgtEl>
                                          <p:spTgt spid="200">
                                            <p:txEl>
                                              <p:pRg st="1" end="1"/>
                                            </p:txEl>
                                          </p:spTgt>
                                        </p:tgtEl>
                                      </p:cBhvr>
                                    </p:animEffect>
                                    <p:anim calcmode="lin" valueType="num">
                                      <p:cBhvr additive="repl">
                                        <p:cTn id="95" dur="1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repl">
                                        <p:cTn id="96" dur="898" fill="hold"/>
                                        <p:tgtEl>
                                          <p:spTgt spid="200">
                                            <p:txEl>
                                              <p:pRg st="1" end="1"/>
                                            </p:txEl>
                                          </p:spTgt>
                                        </p:tgtEl>
                                        <p:attrNameLst>
                                          <p:attrName>ppt_y</p:attrName>
                                        </p:attrNameLst>
                                      </p:cBhvr>
                                      <p:tavLst>
                                        <p:tav tm="0">
                                          <p:val>
                                            <p:strVal val="#ppt_y+1"/>
                                          </p:val>
                                        </p:tav>
                                        <p:tav tm="100000">
                                          <p:val>
                                            <p:strVal val="#ppt_y-.03"/>
                                          </p:val>
                                        </p:tav>
                                      </p:tavLst>
                                    </p:anim>
                                    <p:anim calcmode="lin" valueType="num">
                                      <p:cBhvr additive="repl">
                                        <p:cTn id="97" dur="100" fill="hold">
                                          <p:stCondLst>
                                            <p:cond delay="898"/>
                                          </p:stCondLst>
                                        </p:cTn>
                                        <p:tgtEl>
                                          <p:spTgt spid="20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7">
                                  <p:stCondLst>
                                    <p:cond delay="0"/>
                                  </p:stCondLst>
                                  <p:childTnLst>
                                    <p:set>
                                      <p:cBhvr>
                                        <p:cTn id="101" dur="1" fill="hold">
                                          <p:stCondLst>
                                            <p:cond delay="0"/>
                                          </p:stCondLst>
                                        </p:cTn>
                                        <p:tgtEl>
                                          <p:spTgt spid="200">
                                            <p:txEl>
                                              <p:pRg st="2" end="2"/>
                                            </p:txEl>
                                          </p:spTgt>
                                        </p:tgtEl>
                                        <p:attrNameLst>
                                          <p:attrName>style.visibility</p:attrName>
                                        </p:attrNameLst>
                                      </p:cBhvr>
                                      <p:to>
                                        <p:strVal val="visible"/>
                                      </p:to>
                                    </p:set>
                                    <p:animEffect filter="fade" transition="in">
                                      <p:cBhvr additive="repl">
                                        <p:cTn id="102" dur="1000"/>
                                        <p:tgtEl>
                                          <p:spTgt spid="200">
                                            <p:txEl>
                                              <p:pRg st="2" end="2"/>
                                            </p:txEl>
                                          </p:spTgt>
                                        </p:tgtEl>
                                      </p:cBhvr>
                                    </p:animEffect>
                                    <p:anim calcmode="lin" valueType="num">
                                      <p:cBhvr additive="repl">
                                        <p:cTn id="103" dur="1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repl">
                                        <p:cTn id="104" dur="898" fill="hold"/>
                                        <p:tgtEl>
                                          <p:spTgt spid="200">
                                            <p:txEl>
                                              <p:pRg st="2" end="2"/>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898"/>
                                          </p:stCondLst>
                                        </p:cTn>
                                        <p:tgtEl>
                                          <p:spTgt spid="20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7">
                                  <p:stCondLst>
                                    <p:cond delay="0"/>
                                  </p:stCondLst>
                                  <p:childTnLst>
                                    <p:set>
                                      <p:cBhvr>
                                        <p:cTn id="109" dur="1" fill="hold">
                                          <p:stCondLst>
                                            <p:cond delay="0"/>
                                          </p:stCondLst>
                                        </p:cTn>
                                        <p:tgtEl>
                                          <p:spTgt spid="200">
                                            <p:txEl>
                                              <p:pRg st="3" end="3"/>
                                            </p:txEl>
                                          </p:spTgt>
                                        </p:tgtEl>
                                        <p:attrNameLst>
                                          <p:attrName>style.visibility</p:attrName>
                                        </p:attrNameLst>
                                      </p:cBhvr>
                                      <p:to>
                                        <p:strVal val="visible"/>
                                      </p:to>
                                    </p:set>
                                    <p:animEffect filter="fade" transition="in">
                                      <p:cBhvr additive="repl">
                                        <p:cTn id="110" dur="1000"/>
                                        <p:tgtEl>
                                          <p:spTgt spid="200">
                                            <p:txEl>
                                              <p:pRg st="3" end="3"/>
                                            </p:txEl>
                                          </p:spTgt>
                                        </p:tgtEl>
                                      </p:cBhvr>
                                    </p:animEffect>
                                    <p:anim calcmode="lin" valueType="num">
                                      <p:cBhvr additive="repl">
                                        <p:cTn id="111" dur="10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repl">
                                        <p:cTn id="112" dur="898" fill="hold"/>
                                        <p:tgtEl>
                                          <p:spTgt spid="200">
                                            <p:txEl>
                                              <p:pRg st="3" end="3"/>
                                            </p:txEl>
                                          </p:spTgt>
                                        </p:tgtEl>
                                        <p:attrNameLst>
                                          <p:attrName>ppt_y</p:attrName>
                                        </p:attrNameLst>
                                      </p:cBhvr>
                                      <p:tavLst>
                                        <p:tav tm="0">
                                          <p:val>
                                            <p:strVal val="#ppt_y+1"/>
                                          </p:val>
                                        </p:tav>
                                        <p:tav tm="100000">
                                          <p:val>
                                            <p:strVal val="#ppt_y-.03"/>
                                          </p:val>
                                        </p:tav>
                                      </p:tavLst>
                                    </p:anim>
                                    <p:anim calcmode="lin" valueType="num">
                                      <p:cBhvr additive="repl">
                                        <p:cTn id="113" dur="100" fill="hold">
                                          <p:stCondLst>
                                            <p:cond delay="898"/>
                                          </p:stCondLst>
                                        </p:cTn>
                                        <p:tgtEl>
                                          <p:spTgt spid="20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7">
                                  <p:stCondLst>
                                    <p:cond delay="0"/>
                                  </p:stCondLst>
                                  <p:childTnLst>
                                    <p:set>
                                      <p:cBhvr>
                                        <p:cTn id="117" dur="1" fill="hold">
                                          <p:stCondLst>
                                            <p:cond delay="0"/>
                                          </p:stCondLst>
                                        </p:cTn>
                                        <p:tgtEl>
                                          <p:spTgt spid="200">
                                            <p:txEl>
                                              <p:pRg st="4" end="4"/>
                                            </p:txEl>
                                          </p:spTgt>
                                        </p:tgtEl>
                                        <p:attrNameLst>
                                          <p:attrName>style.visibility</p:attrName>
                                        </p:attrNameLst>
                                      </p:cBhvr>
                                      <p:to>
                                        <p:strVal val="visible"/>
                                      </p:to>
                                    </p:set>
                                    <p:animEffect filter="fade" transition="in">
                                      <p:cBhvr additive="repl">
                                        <p:cTn id="118" dur="1000"/>
                                        <p:tgtEl>
                                          <p:spTgt spid="200">
                                            <p:txEl>
                                              <p:pRg st="4" end="4"/>
                                            </p:txEl>
                                          </p:spTgt>
                                        </p:tgtEl>
                                      </p:cBhvr>
                                    </p:animEffect>
                                    <p:anim calcmode="lin" valueType="num">
                                      <p:cBhvr additive="repl">
                                        <p:cTn id="119" dur="10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repl">
                                        <p:cTn id="120" dur="898" fill="hold"/>
                                        <p:tgtEl>
                                          <p:spTgt spid="200">
                                            <p:txEl>
                                              <p:pRg st="4" end="4"/>
                                            </p:txEl>
                                          </p:spTgt>
                                        </p:tgtEl>
                                        <p:attrNameLst>
                                          <p:attrName>ppt_y</p:attrName>
                                        </p:attrNameLst>
                                      </p:cBhvr>
                                      <p:tavLst>
                                        <p:tav tm="0">
                                          <p:val>
                                            <p:strVal val="#ppt_y+1"/>
                                          </p:val>
                                        </p:tav>
                                        <p:tav tm="100000">
                                          <p:val>
                                            <p:strVal val="#ppt_y-.03"/>
                                          </p:val>
                                        </p:tav>
                                      </p:tavLst>
                                    </p:anim>
                                    <p:anim calcmode="lin" valueType="num">
                                      <p:cBhvr additive="repl">
                                        <p:cTn id="121" dur="100" fill="hold">
                                          <p:stCondLst>
                                            <p:cond delay="898"/>
                                          </p:stCondLst>
                                        </p:cTn>
                                        <p:tgtEl>
                                          <p:spTgt spid="20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50560" y="404280"/>
            <a:ext cx="8435880" cy="569124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Önceki başarısızlıklardan dolayı yeni denemelerde de başarısız olacağı düşüncesi,</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Önemli sayılan, kendine değer verilen insanların sevgi ve ilgilerini kaybetm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Başarısızlığı bir facia,mahvoluş,her şeyin sonu olarak görmek,</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Sınavı kazanmayı,üniversiteye girmeyi yasalaştırmak, mutlaka olması gerekiyormuş gibi düşünmek,</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Sınavı kazanmayı tek amacıymış gibi görmek,</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Sınavı kazanamama durumunda nasıl üzüleceğini düşünmek,</a:t>
            </a:r>
            <a:endParaRPr b="0" lang="en-US" sz="2800" spc="-1" strike="noStrike">
              <a:solidFill>
                <a:srgbClr val="000000"/>
              </a:solidFill>
              <a:latin typeface="Comic Sans MS"/>
            </a:endParaRPr>
          </a:p>
        </p:txBody>
      </p:sp>
    </p:spTree>
  </p:cSld>
  <p:transition>
    <p:wipe dir="d"/>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201">
                                            <p:txEl>
                                              <p:pRg st="0" end="0"/>
                                            </p:txEl>
                                          </p:spTgt>
                                        </p:tgtEl>
                                        <p:attrNameLst>
                                          <p:attrName>style.visibility</p:attrName>
                                        </p:attrNameLst>
                                      </p:cBhvr>
                                      <p:to>
                                        <p:strVal val="visible"/>
                                      </p:to>
                                    </p:set>
                                    <p:animEffect filter="fade" transition="in">
                                      <p:cBhvr additive="repl">
                                        <p:cTn id="128" dur="1000"/>
                                        <p:tgtEl>
                                          <p:spTgt spid="201">
                                            <p:txEl>
                                              <p:pRg st="0" end="0"/>
                                            </p:txEl>
                                          </p:spTgt>
                                        </p:tgtEl>
                                      </p:cBhvr>
                                    </p:animEffect>
                                    <p:anim calcmode="lin" valueType="num">
                                      <p:cBhvr additive="repl">
                                        <p:cTn id="129"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130" dur="898" fill="hold"/>
                                        <p:tgtEl>
                                          <p:spTgt spid="201">
                                            <p:txEl>
                                              <p:pRg st="0" end="0"/>
                                            </p:txEl>
                                          </p:spTgt>
                                        </p:tgtEl>
                                        <p:attrNameLst>
                                          <p:attrName>ppt_y</p:attrName>
                                        </p:attrNameLst>
                                      </p:cBhvr>
                                      <p:tavLst>
                                        <p:tav tm="0">
                                          <p:val>
                                            <p:strVal val="#ppt_y+1"/>
                                          </p:val>
                                        </p:tav>
                                        <p:tav tm="100000">
                                          <p:val>
                                            <p:strVal val="#ppt_y-.03"/>
                                          </p:val>
                                        </p:tav>
                                      </p:tavLst>
                                    </p:anim>
                                    <p:anim calcmode="lin" valueType="num">
                                      <p:cBhvr additive="repl">
                                        <p:cTn id="131" dur="100" fill="hold">
                                          <p:stCondLst>
                                            <p:cond delay="898"/>
                                          </p:stCondLst>
                                        </p:cTn>
                                        <p:tgtEl>
                                          <p:spTgt spid="20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7">
                                  <p:stCondLst>
                                    <p:cond delay="0"/>
                                  </p:stCondLst>
                                  <p:childTnLst>
                                    <p:set>
                                      <p:cBhvr>
                                        <p:cTn id="135" dur="1" fill="hold">
                                          <p:stCondLst>
                                            <p:cond delay="0"/>
                                          </p:stCondLst>
                                        </p:cTn>
                                        <p:tgtEl>
                                          <p:spTgt spid="201">
                                            <p:txEl>
                                              <p:pRg st="1" end="1"/>
                                            </p:txEl>
                                          </p:spTgt>
                                        </p:tgtEl>
                                        <p:attrNameLst>
                                          <p:attrName>style.visibility</p:attrName>
                                        </p:attrNameLst>
                                      </p:cBhvr>
                                      <p:to>
                                        <p:strVal val="visible"/>
                                      </p:to>
                                    </p:set>
                                    <p:animEffect filter="fade" transition="in">
                                      <p:cBhvr additive="repl">
                                        <p:cTn id="136" dur="1000"/>
                                        <p:tgtEl>
                                          <p:spTgt spid="201">
                                            <p:txEl>
                                              <p:pRg st="1" end="1"/>
                                            </p:txEl>
                                          </p:spTgt>
                                        </p:tgtEl>
                                      </p:cBhvr>
                                    </p:animEffect>
                                    <p:anim calcmode="lin" valueType="num">
                                      <p:cBhvr additive="repl">
                                        <p:cTn id="137" dur="10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repl">
                                        <p:cTn id="138" dur="898" fill="hold"/>
                                        <p:tgtEl>
                                          <p:spTgt spid="201">
                                            <p:txEl>
                                              <p:pRg st="1" end="1"/>
                                            </p:txEl>
                                          </p:spTgt>
                                        </p:tgtEl>
                                        <p:attrNameLst>
                                          <p:attrName>ppt_y</p:attrName>
                                        </p:attrNameLst>
                                      </p:cBhvr>
                                      <p:tavLst>
                                        <p:tav tm="0">
                                          <p:val>
                                            <p:strVal val="#ppt_y+1"/>
                                          </p:val>
                                        </p:tav>
                                        <p:tav tm="100000">
                                          <p:val>
                                            <p:strVal val="#ppt_y-.03"/>
                                          </p:val>
                                        </p:tav>
                                      </p:tavLst>
                                    </p:anim>
                                    <p:anim calcmode="lin" valueType="num">
                                      <p:cBhvr additive="repl">
                                        <p:cTn id="139" dur="100" fill="hold">
                                          <p:stCondLst>
                                            <p:cond delay="898"/>
                                          </p:stCondLst>
                                        </p:cTn>
                                        <p:tgtEl>
                                          <p:spTgt spid="20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7">
                                  <p:stCondLst>
                                    <p:cond delay="0"/>
                                  </p:stCondLst>
                                  <p:childTnLst>
                                    <p:set>
                                      <p:cBhvr>
                                        <p:cTn id="143" dur="1" fill="hold">
                                          <p:stCondLst>
                                            <p:cond delay="0"/>
                                          </p:stCondLst>
                                        </p:cTn>
                                        <p:tgtEl>
                                          <p:spTgt spid="201">
                                            <p:txEl>
                                              <p:pRg st="2" end="2"/>
                                            </p:txEl>
                                          </p:spTgt>
                                        </p:tgtEl>
                                        <p:attrNameLst>
                                          <p:attrName>style.visibility</p:attrName>
                                        </p:attrNameLst>
                                      </p:cBhvr>
                                      <p:to>
                                        <p:strVal val="visible"/>
                                      </p:to>
                                    </p:set>
                                    <p:animEffect filter="fade" transition="in">
                                      <p:cBhvr additive="repl">
                                        <p:cTn id="144" dur="1000"/>
                                        <p:tgtEl>
                                          <p:spTgt spid="201">
                                            <p:txEl>
                                              <p:pRg st="2" end="2"/>
                                            </p:txEl>
                                          </p:spTgt>
                                        </p:tgtEl>
                                      </p:cBhvr>
                                    </p:animEffect>
                                    <p:anim calcmode="lin" valueType="num">
                                      <p:cBhvr additive="repl">
                                        <p:cTn id="145" dur="10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repl">
                                        <p:cTn id="146" dur="898" fill="hold"/>
                                        <p:tgtEl>
                                          <p:spTgt spid="201">
                                            <p:txEl>
                                              <p:pRg st="2" end="2"/>
                                            </p:txEl>
                                          </p:spTgt>
                                        </p:tgtEl>
                                        <p:attrNameLst>
                                          <p:attrName>ppt_y</p:attrName>
                                        </p:attrNameLst>
                                      </p:cBhvr>
                                      <p:tavLst>
                                        <p:tav tm="0">
                                          <p:val>
                                            <p:strVal val="#ppt_y+1"/>
                                          </p:val>
                                        </p:tav>
                                        <p:tav tm="100000">
                                          <p:val>
                                            <p:strVal val="#ppt_y-.03"/>
                                          </p:val>
                                        </p:tav>
                                      </p:tavLst>
                                    </p:anim>
                                    <p:anim calcmode="lin" valueType="num">
                                      <p:cBhvr additive="repl">
                                        <p:cTn id="147" dur="100" fill="hold">
                                          <p:stCondLst>
                                            <p:cond delay="898"/>
                                          </p:stCondLst>
                                        </p:cTn>
                                        <p:tgtEl>
                                          <p:spTgt spid="20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7">
                                  <p:stCondLst>
                                    <p:cond delay="0"/>
                                  </p:stCondLst>
                                  <p:childTnLst>
                                    <p:set>
                                      <p:cBhvr>
                                        <p:cTn id="151" dur="1" fill="hold">
                                          <p:stCondLst>
                                            <p:cond delay="0"/>
                                          </p:stCondLst>
                                        </p:cTn>
                                        <p:tgtEl>
                                          <p:spTgt spid="201">
                                            <p:txEl>
                                              <p:pRg st="3" end="3"/>
                                            </p:txEl>
                                          </p:spTgt>
                                        </p:tgtEl>
                                        <p:attrNameLst>
                                          <p:attrName>style.visibility</p:attrName>
                                        </p:attrNameLst>
                                      </p:cBhvr>
                                      <p:to>
                                        <p:strVal val="visible"/>
                                      </p:to>
                                    </p:set>
                                    <p:animEffect filter="fade" transition="in">
                                      <p:cBhvr additive="repl">
                                        <p:cTn id="152" dur="1000"/>
                                        <p:tgtEl>
                                          <p:spTgt spid="201">
                                            <p:txEl>
                                              <p:pRg st="3" end="3"/>
                                            </p:txEl>
                                          </p:spTgt>
                                        </p:tgtEl>
                                      </p:cBhvr>
                                    </p:animEffect>
                                    <p:anim calcmode="lin" valueType="num">
                                      <p:cBhvr additive="repl">
                                        <p:cTn id="153" dur="10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repl">
                                        <p:cTn id="154" dur="898" fill="hold"/>
                                        <p:tgtEl>
                                          <p:spTgt spid="201">
                                            <p:txEl>
                                              <p:pRg st="3" end="3"/>
                                            </p:txEl>
                                          </p:spTgt>
                                        </p:tgtEl>
                                        <p:attrNameLst>
                                          <p:attrName>ppt_y</p:attrName>
                                        </p:attrNameLst>
                                      </p:cBhvr>
                                      <p:tavLst>
                                        <p:tav tm="0">
                                          <p:val>
                                            <p:strVal val="#ppt_y+1"/>
                                          </p:val>
                                        </p:tav>
                                        <p:tav tm="100000">
                                          <p:val>
                                            <p:strVal val="#ppt_y-.03"/>
                                          </p:val>
                                        </p:tav>
                                      </p:tavLst>
                                    </p:anim>
                                    <p:anim calcmode="lin" valueType="num">
                                      <p:cBhvr additive="repl">
                                        <p:cTn id="155" dur="100" fill="hold">
                                          <p:stCondLst>
                                            <p:cond delay="898"/>
                                          </p:stCondLst>
                                        </p:cTn>
                                        <p:tgtEl>
                                          <p:spTgt spid="20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201">
                                            <p:txEl>
                                              <p:pRg st="4" end="4"/>
                                            </p:txEl>
                                          </p:spTgt>
                                        </p:tgtEl>
                                        <p:attrNameLst>
                                          <p:attrName>style.visibility</p:attrName>
                                        </p:attrNameLst>
                                      </p:cBhvr>
                                      <p:to>
                                        <p:strVal val="visible"/>
                                      </p:to>
                                    </p:set>
                                    <p:animEffect filter="fade" transition="in">
                                      <p:cBhvr additive="repl">
                                        <p:cTn id="160" dur="1000"/>
                                        <p:tgtEl>
                                          <p:spTgt spid="201">
                                            <p:txEl>
                                              <p:pRg st="4" end="4"/>
                                            </p:txEl>
                                          </p:spTgt>
                                        </p:tgtEl>
                                      </p:cBhvr>
                                    </p:animEffect>
                                    <p:anim calcmode="lin" valueType="num">
                                      <p:cBhvr additive="repl">
                                        <p:cTn id="161" dur="10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repl">
                                        <p:cTn id="162" dur="898" fill="hold"/>
                                        <p:tgtEl>
                                          <p:spTgt spid="201">
                                            <p:txEl>
                                              <p:pRg st="4" end="4"/>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20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7">
                                  <p:stCondLst>
                                    <p:cond delay="0"/>
                                  </p:stCondLst>
                                  <p:childTnLst>
                                    <p:set>
                                      <p:cBhvr>
                                        <p:cTn id="167" dur="1" fill="hold">
                                          <p:stCondLst>
                                            <p:cond delay="0"/>
                                          </p:stCondLst>
                                        </p:cTn>
                                        <p:tgtEl>
                                          <p:spTgt spid="201">
                                            <p:txEl>
                                              <p:pRg st="5" end="5"/>
                                            </p:txEl>
                                          </p:spTgt>
                                        </p:tgtEl>
                                        <p:attrNameLst>
                                          <p:attrName>style.visibility</p:attrName>
                                        </p:attrNameLst>
                                      </p:cBhvr>
                                      <p:to>
                                        <p:strVal val="visible"/>
                                      </p:to>
                                    </p:set>
                                    <p:animEffect filter="fade" transition="in">
                                      <p:cBhvr additive="repl">
                                        <p:cTn id="168" dur="1000"/>
                                        <p:tgtEl>
                                          <p:spTgt spid="201">
                                            <p:txEl>
                                              <p:pRg st="5" end="5"/>
                                            </p:txEl>
                                          </p:spTgt>
                                        </p:tgtEl>
                                      </p:cBhvr>
                                    </p:animEffect>
                                    <p:anim calcmode="lin" valueType="num">
                                      <p:cBhvr additive="repl">
                                        <p:cTn id="169" dur="1000" fill="hold"/>
                                        <p:tgtEl>
                                          <p:spTgt spid="201">
                                            <p:txEl>
                                              <p:pRg st="5" end="5"/>
                                            </p:txEl>
                                          </p:spTgt>
                                        </p:tgtEl>
                                        <p:attrNameLst>
                                          <p:attrName>ppt_x</p:attrName>
                                        </p:attrNameLst>
                                      </p:cBhvr>
                                      <p:tavLst>
                                        <p:tav tm="0">
                                          <p:val>
                                            <p:strVal val="#ppt_x"/>
                                          </p:val>
                                        </p:tav>
                                        <p:tav tm="100000">
                                          <p:val>
                                            <p:strVal val="#ppt_x"/>
                                          </p:val>
                                        </p:tav>
                                      </p:tavLst>
                                    </p:anim>
                                    <p:anim calcmode="lin" valueType="num">
                                      <p:cBhvr additive="repl">
                                        <p:cTn id="170" dur="898" fill="hold"/>
                                        <p:tgtEl>
                                          <p:spTgt spid="201">
                                            <p:txEl>
                                              <p:pRg st="5" end="5"/>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898"/>
                                          </p:stCondLst>
                                        </p:cTn>
                                        <p:tgtEl>
                                          <p:spTgt spid="20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333360"/>
            <a:ext cx="8362800" cy="5400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	</a:t>
            </a:r>
            <a:r>
              <a:rPr b="0" lang="tr-TR" sz="3200" spc="-1" strike="noStrike">
                <a:solidFill>
                  <a:srgbClr val="000000"/>
                </a:solidFill>
                <a:latin typeface="Comic Sans MS"/>
              </a:rPr>
              <a:t>	</a:t>
            </a:r>
            <a:r>
              <a:rPr b="0" lang="tr-TR" sz="3200" spc="-1" strike="noStrike">
                <a:solidFill>
                  <a:srgbClr val="000000"/>
                </a:solidFill>
                <a:latin typeface="Comic Sans MS"/>
              </a:rPr>
              <a:t>Bütün bu nedenlerden dolayı, sınav yaklaştıkça yaşanan bir panik duygusu yaratı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Kaygı esnasında soluk alıp vermemiz hızlanır, terlemeye başlarız,kelimeler boğazımızda kalır,midemiz bulanmaya başlar ve bunlar hafif tedirginlik duygusuyla bizi rahatsız eder, o andaki performansımızı olumsuz etkiler. </a:t>
            </a:r>
            <a:endParaRPr b="0" lang="en-US" sz="3200" spc="-1" strike="noStrike">
              <a:solidFill>
                <a:srgbClr val="000000"/>
              </a:solidFill>
              <a:latin typeface="Comic Sans MS"/>
            </a:endParaRPr>
          </a:p>
        </p:txBody>
      </p:sp>
    </p:spTree>
  </p:cSld>
  <p:transition>
    <p:strips dir="rd"/>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202">
                                            <p:txEl>
                                              <p:pRg st="1" end="1"/>
                                            </p:txEl>
                                          </p:spTgt>
                                        </p:tgtEl>
                                        <p:attrNameLst>
                                          <p:attrName>style.visibility</p:attrName>
                                        </p:attrNameLst>
                                      </p:cBhvr>
                                      <p:to>
                                        <p:strVal val="visible"/>
                                      </p:to>
                                    </p:set>
                                    <p:animEffect filter="fade" transition="in">
                                      <p:cBhvr additive="repl">
                                        <p:cTn id="178" dur="1000">
                                          <p:stCondLst>
                                            <p:cond delay="0"/>
                                          </p:stCondLst>
                                        </p:cTn>
                                        <p:tgtEl>
                                          <p:spTgt spid="202">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202">
                                            <p:txEl>
                                              <p:pRg st="2" end="2"/>
                                            </p:txEl>
                                          </p:spTgt>
                                        </p:tgtEl>
                                        <p:attrNameLst>
                                          <p:attrName>style.visibility</p:attrName>
                                        </p:attrNameLst>
                                      </p:cBhvr>
                                      <p:to>
                                        <p:strVal val="visible"/>
                                      </p:to>
                                    </p:set>
                                    <p:animEffect filter="fade" transition="in">
                                      <p:cBhvr additive="repl">
                                        <p:cTn id="183" dur="1000">
                                          <p:stCondLst>
                                            <p:cond delay="0"/>
                                          </p:stCondLst>
                                        </p:cTn>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24000" y="404280"/>
            <a:ext cx="8362800" cy="5691240"/>
          </a:xfrm>
          <a:prstGeom prst="rect">
            <a:avLst/>
          </a:prstGeom>
          <a:noFill/>
          <a:ln w="0">
            <a:noFill/>
          </a:ln>
        </p:spPr>
        <p:txBody>
          <a:bodyPr anchor="t">
            <a:normAutofit/>
          </a:bodyPr>
          <a:p>
            <a:pPr marL="343080" indent="-34308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Kaslarımız gerilmeye başlar,el ve ayaklarda üşüme, avuç içlerinde terleme olur. </a:t>
            </a:r>
            <a:endParaRPr b="0" lang="en-US" sz="3200" spc="-1" strike="noStrike">
              <a:solidFill>
                <a:srgbClr val="000000"/>
              </a:solidFill>
              <a:latin typeface="Comic Sans MS"/>
            </a:endParaRPr>
          </a:p>
          <a:p>
            <a:pPr marL="343080" indent="-34308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Nefes alıp vermede düzensizlik,kesik kesik nefes alma,</a:t>
            </a:r>
            <a:endParaRPr b="0" lang="en-US" sz="3200" spc="-1" strike="noStrike">
              <a:solidFill>
                <a:srgbClr val="000000"/>
              </a:solidFill>
              <a:latin typeface="Comic Sans MS"/>
            </a:endParaRPr>
          </a:p>
          <a:p>
            <a:pPr marL="343080" indent="-34308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Gerginlik,kalp çarpıntısı,bel  ağrısı, mide ağrısı, ishal ya da kabızlık, sürekli tuvalete gitme ihtiyacı hissetmesi, sürekli yorgunluk, sürekli baş ağrısı, boyun kaslarının gergin olması vb.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203">
                                            <p:txEl>
                                              <p:pRg st="0" end="0"/>
                                            </p:txEl>
                                          </p:spTgt>
                                        </p:tgtEl>
                                        <p:attrNameLst>
                                          <p:attrName>style.visibility</p:attrName>
                                        </p:attrNameLst>
                                      </p:cBhvr>
                                      <p:to>
                                        <p:strVal val="visible"/>
                                      </p:to>
                                    </p:set>
                                    <p:animEffect filter="dissolve" transition="in">
                                      <p:cBhvr additive="repl">
                                        <p:cTn id="190" dur="500"/>
                                        <p:tgtEl>
                                          <p:spTgt spid="203">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203">
                                            <p:txEl>
                                              <p:pRg st="1" end="1"/>
                                            </p:txEl>
                                          </p:spTgt>
                                        </p:tgtEl>
                                        <p:attrNameLst>
                                          <p:attrName>style.visibility</p:attrName>
                                        </p:attrNameLst>
                                      </p:cBhvr>
                                      <p:to>
                                        <p:strVal val="visible"/>
                                      </p:to>
                                    </p:set>
                                    <p:animEffect filter="dissolve" transition="in">
                                      <p:cBhvr additive="repl">
                                        <p:cTn id="195" dur="500"/>
                                        <p:tgtEl>
                                          <p:spTgt spid="203">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203">
                                            <p:txEl>
                                              <p:pRg st="2" end="2"/>
                                            </p:txEl>
                                          </p:spTgt>
                                        </p:tgtEl>
                                        <p:attrNameLst>
                                          <p:attrName>style.visibility</p:attrName>
                                        </p:attrNameLst>
                                      </p:cBhvr>
                                      <p:to>
                                        <p:strVal val="visible"/>
                                      </p:to>
                                    </p:set>
                                    <p:animEffect filter="dissolve" transition="in">
                                      <p:cBhvr additive="repl">
                                        <p:cTn id="200" dur="500"/>
                                        <p:tgtEl>
                                          <p:spTgt spid="2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24000" y="404280"/>
            <a:ext cx="8362800" cy="5691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Kaygı esnasında organizmada gözlenen  bu olumsuz değişiklikler bizim o andaki aktivitemizi olumsuz etkiler. Bu gibi belirtiler bedensel hastalıkların belirtileri de olabilir.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Bu belirtiler bireyde uzun zamandır gözlenmiş ve onun günlük yaşamını etkiler dereceye gelmişse, bireyin bir doktora gidip muayene olmasında yarar vardı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04">
                                            <p:txEl>
                                              <p:pRg st="0" end="0"/>
                                            </p:txEl>
                                          </p:spTgt>
                                        </p:tgtEl>
                                        <p:attrNameLst>
                                          <p:attrName>style.visibility</p:attrName>
                                        </p:attrNameLst>
                                      </p:cBhvr>
                                      <p:to>
                                        <p:strVal val="visible"/>
                                      </p:to>
                                    </p:set>
                                    <p:animEffect filter="dissolve" transition="in">
                                      <p:cBhvr additive="repl">
                                        <p:cTn id="207" dur="500"/>
                                        <p:tgtEl>
                                          <p:spTgt spid="204">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04">
                                            <p:txEl>
                                              <p:pRg st="1" end="1"/>
                                            </p:txEl>
                                          </p:spTgt>
                                        </p:tgtEl>
                                        <p:attrNameLst>
                                          <p:attrName>style.visibility</p:attrName>
                                        </p:attrNameLst>
                                      </p:cBhvr>
                                      <p:to>
                                        <p:strVal val="visible"/>
                                      </p:to>
                                    </p:set>
                                    <p:animEffect filter="dissolve" transition="in">
                                      <p:cBhvr additive="repl">
                                        <p:cTn id="212"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333000"/>
            <a:ext cx="8302680" cy="80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0000"/>
                </a:solidFill>
                <a:latin typeface="Comic Sans MS"/>
              </a:rPr>
              <a:t>Sınav Kaygısını Artıran Nedenler</a:t>
            </a:r>
            <a:endParaRPr b="0" lang="en-US" sz="3600" spc="-1" strike="noStrike">
              <a:solidFill>
                <a:srgbClr val="000000"/>
              </a:solidFill>
              <a:latin typeface="Comic Sans MS"/>
            </a:endParaRPr>
          </a:p>
        </p:txBody>
      </p:sp>
      <p:sp>
        <p:nvSpPr>
          <p:cNvPr id="206" name="PlaceHolder 2"/>
          <p:cNvSpPr>
            <a:spLocks noGrp="1"/>
          </p:cNvSpPr>
          <p:nvPr>
            <p:ph/>
          </p:nvPr>
        </p:nvSpPr>
        <p:spPr>
          <a:xfrm>
            <a:off x="457200" y="1125360"/>
            <a:ext cx="8229600" cy="5732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Mükemmeliyetçi yaklaşım</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Yüksek beklenti düzeyi</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Kötü çalışma alışkanlıkları</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Fizyolojik ihtiyaçları karşılamamak (uykusuzluk, yanlış beslenme v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685800" y="836640"/>
            <a:ext cx="7696080" cy="464976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Felaket yorumları içeren düşünceler</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Görev ve sorumlulukları ertelem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Çevrenin görüşleri hakkında endiş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Kişinin kendisi hakkındaki endişeleri</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188640"/>
            <a:ext cx="6870600" cy="86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00"/>
                </a:solidFill>
                <a:latin typeface="Comic Sans MS"/>
              </a:rPr>
              <a:t>Sınav Kaygısının Etkileri</a:t>
            </a:r>
            <a:endParaRPr b="0" lang="en-US" sz="4000" spc="-1" strike="noStrike">
              <a:solidFill>
                <a:srgbClr val="000000"/>
              </a:solidFill>
              <a:latin typeface="Comic Sans MS"/>
            </a:endParaRPr>
          </a:p>
        </p:txBody>
      </p:sp>
      <p:sp>
        <p:nvSpPr>
          <p:cNvPr id="209" name="PlaceHolder 2"/>
          <p:cNvSpPr>
            <a:spLocks noGrp="1"/>
          </p:cNvSpPr>
          <p:nvPr>
            <p:ph/>
          </p:nvPr>
        </p:nvSpPr>
        <p:spPr>
          <a:xfrm>
            <a:off x="685800" y="1196640"/>
            <a:ext cx="7696080" cy="4289400"/>
          </a:xfrm>
          <a:prstGeom prst="rect">
            <a:avLst/>
          </a:prstGeom>
          <a:noFill/>
          <a:ln w="0">
            <a:noFill/>
          </a:ln>
        </p:spPr>
        <p:txBody>
          <a:bodyPr anchor="t">
            <a:normAutofit fontScale="83000"/>
          </a:bodyPr>
          <a:p>
            <a:pPr marL="284400" indent="-2844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Öğrenilen bilgiler transfer edilemez</a:t>
            </a:r>
            <a:endParaRPr b="0" lang="en-US" sz="2800" spc="-1" strike="noStrike">
              <a:solidFill>
                <a:srgbClr val="000000"/>
              </a:solidFill>
              <a:latin typeface="Comic Sans MS"/>
            </a:endParaRPr>
          </a:p>
          <a:p>
            <a:pPr marL="284400" indent="-2844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Okuduğunu anlama ve düşünceleri organize etmede zorluk yaşanır</a:t>
            </a:r>
            <a:endParaRPr b="0" lang="en-US" sz="2800" spc="-1" strike="noStrike">
              <a:solidFill>
                <a:srgbClr val="000000"/>
              </a:solidFill>
              <a:latin typeface="Comic Sans MS"/>
            </a:endParaRPr>
          </a:p>
          <a:p>
            <a:pPr marL="284400" indent="-2844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Dikkatte daralma ve azalma olur, dikkat sınavın içeriğine değil, sınavın kendisine ve bağlı olarak yaşananlara odaklanır</a:t>
            </a:r>
            <a:endParaRPr b="0" lang="en-US" sz="2800" spc="-1" strike="noStrike">
              <a:solidFill>
                <a:srgbClr val="000000"/>
              </a:solidFill>
              <a:latin typeface="Comic Sans MS"/>
            </a:endParaRPr>
          </a:p>
          <a:p>
            <a:pPr marL="284400" indent="-2844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Zihinsel beceriler zayıflar, bilgilerin hatırlanması engellenir</a:t>
            </a:r>
            <a:endParaRPr b="0" lang="en-US" sz="2800" spc="-1" strike="noStrike">
              <a:solidFill>
                <a:srgbClr val="000000"/>
              </a:solidFill>
              <a:latin typeface="Comic Sans MS"/>
            </a:endParaRPr>
          </a:p>
          <a:p>
            <a:pPr marL="284400" indent="-2844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Enerji tükenir ve israf edilmiş olur</a:t>
            </a:r>
            <a:endParaRPr b="0" lang="en-US" sz="2800" spc="-1" strike="noStrike">
              <a:solidFill>
                <a:srgbClr val="000000"/>
              </a:solidFill>
              <a:latin typeface="Comic Sans MS"/>
            </a:endParaRPr>
          </a:p>
          <a:p>
            <a:pPr marL="284400" indent="-2844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Fiziksel rahatsızlıkların ortaya çıkmasına neden olur.</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75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Comic Sans MS"/>
              </a:rPr>
              <a:t>Kaygı İle Başa Çıkma Yolları</a:t>
            </a:r>
            <a:endParaRPr b="0" lang="en-US" sz="3200" spc="-1" strike="noStrike">
              <a:solidFill>
                <a:srgbClr val="000000"/>
              </a:solidFill>
              <a:latin typeface="Comic Sans MS"/>
            </a:endParaRPr>
          </a:p>
        </p:txBody>
      </p:sp>
      <p:sp>
        <p:nvSpPr>
          <p:cNvPr id="211" name="PlaceHolder 2"/>
          <p:cNvSpPr>
            <a:spLocks noGrp="1"/>
          </p:cNvSpPr>
          <p:nvPr>
            <p:ph/>
          </p:nvPr>
        </p:nvSpPr>
        <p:spPr>
          <a:xfrm>
            <a:off x="250560" y="1197000"/>
            <a:ext cx="8218440" cy="5184720"/>
          </a:xfrm>
          <a:prstGeom prst="rect">
            <a:avLst/>
          </a:prstGeom>
          <a:noFill/>
          <a:ln w="0">
            <a:noFill/>
          </a:ln>
        </p:spPr>
        <p:txBody>
          <a:bodyPr anchor="t">
            <a:normAutofit fontScale="97000"/>
          </a:bodyPr>
          <a:p>
            <a:pPr marL="332640" indent="-3326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Comic Sans MS"/>
              </a:rPr>
              <a:t>Kaygı ile başa çıkma yollarını iki aşamada inceleyeceğiz. </a:t>
            </a:r>
            <a:endParaRPr b="0" lang="en-US" sz="2800" spc="-1" strike="noStrike">
              <a:solidFill>
                <a:srgbClr val="000000"/>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omic Sans MS"/>
              </a:rPr>
              <a:t>   </a:t>
            </a:r>
            <a:r>
              <a:rPr b="1" lang="tr-TR" sz="2800" spc="-1" strike="noStrike">
                <a:solidFill>
                  <a:srgbClr val="ff0000"/>
                </a:solidFill>
                <a:latin typeface="Comic Sans MS"/>
              </a:rPr>
              <a:t>1.Düşünsel Olarak</a:t>
            </a:r>
            <a:endParaRPr b="0" lang="en-US" sz="2800" spc="-1" strike="noStrike">
              <a:solidFill>
                <a:srgbClr val="000000"/>
              </a:solidFill>
              <a:latin typeface="Comic Sans MS"/>
            </a:endParaRPr>
          </a:p>
          <a:p>
            <a:pPr marL="332640" indent="-3326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mic Sans MS"/>
              </a:rPr>
              <a:t>Düşünce biçimimiz herkesçe kabul edilebilen objektif gerçeklere dayanmalıdır. Olayları yorumlayış tarzımız çevremizdekilerce  de kabul edilebilir olmalı.</a:t>
            </a:r>
            <a:endParaRPr b="0" lang="en-US" sz="2800" spc="-1" strike="noStrike">
              <a:solidFill>
                <a:srgbClr val="000000"/>
              </a:solidFill>
              <a:latin typeface="Comic Sans MS"/>
            </a:endParaRPr>
          </a:p>
          <a:p>
            <a:pPr marL="332640" indent="-3326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mic Sans MS"/>
              </a:rPr>
              <a:t>Olayları değerlendirme tarzınız ve yaklaşımınız sorunu çözmeye yardımcı olmalı ve hedeflediğiniz kısa ve uzun vadeli amaçlarınıza katkı sağlamalıdır.</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49">
                                  <p:stCondLst>
                                    <p:cond delay="0"/>
                                  </p:stCondLst>
                                  <p:childTnLst>
                                    <p:set>
                                      <p:cBhvr>
                                        <p:cTn id="218" dur="1" fill="hold">
                                          <p:stCondLst>
                                            <p:cond delay="0"/>
                                          </p:stCondLst>
                                        </p:cTn>
                                        <p:tgtEl>
                                          <p:spTgt spid="210"/>
                                        </p:tgtEl>
                                        <p:attrNameLst>
                                          <p:attrName>style.visibility</p:attrName>
                                        </p:attrNameLst>
                                      </p:cBhvr>
                                      <p:to>
                                        <p:strVal val="visible"/>
                                      </p:to>
                                    </p:set>
                                    <p:anim calcmode="lin" valueType="num">
                                      <p:cBhvr additive="repl">
                                        <p:cTn id="219" dur="500" fill="hold"/>
                                        <p:tgtEl>
                                          <p:spTgt spid="210"/>
                                        </p:tgtEl>
                                        <p:attrNameLst>
                                          <p:attrName>ppt_w</p:attrName>
                                        </p:attrNameLst>
                                      </p:cBhvr>
                                      <p:tavLst>
                                        <p:tav tm="0">
                                          <p:val>
                                            <p:fltVal val="0"/>
                                          </p:val>
                                        </p:tav>
                                        <p:tav tm="100000">
                                          <p:val>
                                            <p:strVal val="#ppt_w"/>
                                          </p:val>
                                        </p:tav>
                                      </p:tavLst>
                                    </p:anim>
                                    <p:anim calcmode="lin" valueType="num">
                                      <p:cBhvr additive="repl">
                                        <p:cTn id="220" dur="500" fill="hold"/>
                                        <p:tgtEl>
                                          <p:spTgt spid="210"/>
                                        </p:tgtEl>
                                        <p:attrNameLst>
                                          <p:attrName>ppt_h</p:attrName>
                                        </p:attrNameLst>
                                      </p:cBhvr>
                                      <p:tavLst>
                                        <p:tav tm="0">
                                          <p:val>
                                            <p:fltVal val="0"/>
                                          </p:val>
                                        </p:tav>
                                        <p:tav tm="100000">
                                          <p:val>
                                            <p:strVal val="#ppt_h"/>
                                          </p:val>
                                        </p:tav>
                                      </p:tavLst>
                                    </p:anim>
                                    <p:anim calcmode="lin" valueType="num">
                                      <p:cBhvr additive="repl">
                                        <p:cTn id="221" dur="500" fill="hold"/>
                                        <p:tgtEl>
                                          <p:spTgt spid="210"/>
                                        </p:tgtEl>
                                        <p:attrNameLst>
                                          <p:attrName>r</p:attrName>
                                        </p:attrNameLst>
                                      </p:cBhvr>
                                      <p:tavLst>
                                        <p:tav tm="0">
                                          <p:val>
                                            <p:strVal val="360"/>
                                          </p:val>
                                        </p:tav>
                                        <p:tav tm="100000">
                                          <p:val>
                                            <p:strVal val="0"/>
                                          </p:val>
                                        </p:tav>
                                      </p:tavLst>
                                    </p:anim>
                                    <p:animEffect filter="fade" transition="in">
                                      <p:cBhvr additive="repl">
                                        <p:cTn id="222" dur="500"/>
                                        <p:tgtEl>
                                          <p:spTgt spid="21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9">
                                  <p:stCondLst>
                                    <p:cond delay="0"/>
                                  </p:stCondLst>
                                  <p:iterate type="lt">
                                    <p:tmAbs val="50"/>
                                  </p:iterate>
                                  <p:childTnLst>
                                    <p:set>
                                      <p:cBhvr>
                                        <p:cTn id="226" dur="1" fill="hold">
                                          <p:stCondLst>
                                            <p:cond delay="0"/>
                                          </p:stCondLst>
                                        </p:cTn>
                                        <p:tgtEl>
                                          <p:spTgt spid="211">
                                            <p:txEl>
                                              <p:pRg st="0" end="0"/>
                                            </p:txEl>
                                          </p:spTgt>
                                        </p:tgtEl>
                                        <p:attrNameLst>
                                          <p:attrName>style.visibility</p:attrName>
                                        </p:attrNameLst>
                                      </p:cBhvr>
                                      <p:to>
                                        <p:strVal val="visible"/>
                                      </p:to>
                                    </p:set>
                                    <p:anim calcmode="lin" valueType="num">
                                      <p:cBhvr additive="repl">
                                        <p:cTn id="227" dur="500" fill="hold"/>
                                        <p:tgtEl>
                                          <p:spTgt spid="211">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211">
                                            <p:txEl>
                                              <p:pRg st="0" end="0"/>
                                            </p:txEl>
                                          </p:spTgt>
                                        </p:tgtEl>
                                        <p:attrNameLst>
                                          <p:attrName>ppt_h</p:attrName>
                                        </p:attrNameLst>
                                      </p:cBhvr>
                                      <p:tavLst>
                                        <p:tav tm="0">
                                          <p:val>
                                            <p:fltVal val="0"/>
                                          </p:val>
                                        </p:tav>
                                        <p:tav tm="100000">
                                          <p:val>
                                            <p:strVal val="#ppt_h"/>
                                          </p:val>
                                        </p:tav>
                                      </p:tavLst>
                                    </p:anim>
                                    <p:anim calcmode="lin" valueType="num">
                                      <p:cBhvr additive="repl">
                                        <p:cTn id="229" dur="500" fill="hold"/>
                                        <p:tgtEl>
                                          <p:spTgt spid="211">
                                            <p:txEl>
                                              <p:pRg st="0" end="0"/>
                                            </p:txEl>
                                          </p:spTgt>
                                        </p:tgtEl>
                                        <p:attrNameLst>
                                          <p:attrName>r</p:attrName>
                                        </p:attrNameLst>
                                      </p:cBhvr>
                                      <p:tavLst>
                                        <p:tav tm="0">
                                          <p:val>
                                            <p:strVal val="360"/>
                                          </p:val>
                                        </p:tav>
                                        <p:tav tm="100000">
                                          <p:val>
                                            <p:strVal val="0"/>
                                          </p:val>
                                        </p:tav>
                                      </p:tavLst>
                                    </p:anim>
                                    <p:animEffect filter="fade" transition="in">
                                      <p:cBhvr additive="repl">
                                        <p:cTn id="230" dur="500"/>
                                        <p:tgtEl>
                                          <p:spTgt spid="211">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9">
                                  <p:stCondLst>
                                    <p:cond delay="0"/>
                                  </p:stCondLst>
                                  <p:iterate type="lt">
                                    <p:tmAbs val="50"/>
                                  </p:iterate>
                                  <p:childTnLst>
                                    <p:set>
                                      <p:cBhvr>
                                        <p:cTn id="234" dur="1" fill="hold">
                                          <p:stCondLst>
                                            <p:cond delay="0"/>
                                          </p:stCondLst>
                                        </p:cTn>
                                        <p:tgtEl>
                                          <p:spTgt spid="211">
                                            <p:txEl>
                                              <p:pRg st="1" end="1"/>
                                            </p:txEl>
                                          </p:spTgt>
                                        </p:tgtEl>
                                        <p:attrNameLst>
                                          <p:attrName>style.visibility</p:attrName>
                                        </p:attrNameLst>
                                      </p:cBhvr>
                                      <p:to>
                                        <p:strVal val="visible"/>
                                      </p:to>
                                    </p:set>
                                    <p:anim calcmode="lin" valueType="num">
                                      <p:cBhvr additive="repl">
                                        <p:cTn id="235" dur="500" fill="hold"/>
                                        <p:tgtEl>
                                          <p:spTgt spid="211">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211">
                                            <p:txEl>
                                              <p:pRg st="1" end="1"/>
                                            </p:txEl>
                                          </p:spTgt>
                                        </p:tgtEl>
                                        <p:attrNameLst>
                                          <p:attrName>ppt_h</p:attrName>
                                        </p:attrNameLst>
                                      </p:cBhvr>
                                      <p:tavLst>
                                        <p:tav tm="0">
                                          <p:val>
                                            <p:fltVal val="0"/>
                                          </p:val>
                                        </p:tav>
                                        <p:tav tm="100000">
                                          <p:val>
                                            <p:strVal val="#ppt_h"/>
                                          </p:val>
                                        </p:tav>
                                      </p:tavLst>
                                    </p:anim>
                                    <p:anim calcmode="lin" valueType="num">
                                      <p:cBhvr additive="repl">
                                        <p:cTn id="237" dur="500" fill="hold"/>
                                        <p:tgtEl>
                                          <p:spTgt spid="211">
                                            <p:txEl>
                                              <p:pRg st="1" end="1"/>
                                            </p:txEl>
                                          </p:spTgt>
                                        </p:tgtEl>
                                        <p:attrNameLst>
                                          <p:attrName>r</p:attrName>
                                        </p:attrNameLst>
                                      </p:cBhvr>
                                      <p:tavLst>
                                        <p:tav tm="0">
                                          <p:val>
                                            <p:strVal val="360"/>
                                          </p:val>
                                        </p:tav>
                                        <p:tav tm="100000">
                                          <p:val>
                                            <p:strVal val="0"/>
                                          </p:val>
                                        </p:tav>
                                      </p:tavLst>
                                    </p:anim>
                                    <p:animEffect filter="fade" transition="in">
                                      <p:cBhvr additive="repl">
                                        <p:cTn id="238" dur="500"/>
                                        <p:tgtEl>
                                          <p:spTgt spid="211">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9">
                                  <p:stCondLst>
                                    <p:cond delay="0"/>
                                  </p:stCondLst>
                                  <p:iterate type="lt">
                                    <p:tmAbs val="50"/>
                                  </p:iterate>
                                  <p:childTnLst>
                                    <p:set>
                                      <p:cBhvr>
                                        <p:cTn id="242" dur="1" fill="hold">
                                          <p:stCondLst>
                                            <p:cond delay="0"/>
                                          </p:stCondLst>
                                        </p:cTn>
                                        <p:tgtEl>
                                          <p:spTgt spid="211">
                                            <p:txEl>
                                              <p:pRg st="2" end="2"/>
                                            </p:txEl>
                                          </p:spTgt>
                                        </p:tgtEl>
                                        <p:attrNameLst>
                                          <p:attrName>style.visibility</p:attrName>
                                        </p:attrNameLst>
                                      </p:cBhvr>
                                      <p:to>
                                        <p:strVal val="visible"/>
                                      </p:to>
                                    </p:set>
                                    <p:anim calcmode="lin" valueType="num">
                                      <p:cBhvr additive="repl">
                                        <p:cTn id="243" dur="500" fill="hold"/>
                                        <p:tgtEl>
                                          <p:spTgt spid="211">
                                            <p:txEl>
                                              <p:pRg st="2" end="2"/>
                                            </p:txEl>
                                          </p:spTgt>
                                        </p:tgtEl>
                                        <p:attrNameLst>
                                          <p:attrName>ppt_w</p:attrName>
                                        </p:attrNameLst>
                                      </p:cBhvr>
                                      <p:tavLst>
                                        <p:tav tm="0">
                                          <p:val>
                                            <p:fltVal val="0"/>
                                          </p:val>
                                        </p:tav>
                                        <p:tav tm="100000">
                                          <p:val>
                                            <p:strVal val="#ppt_w"/>
                                          </p:val>
                                        </p:tav>
                                      </p:tavLst>
                                    </p:anim>
                                    <p:anim calcmode="lin" valueType="num">
                                      <p:cBhvr additive="repl">
                                        <p:cTn id="244" dur="500" fill="hold"/>
                                        <p:tgtEl>
                                          <p:spTgt spid="211">
                                            <p:txEl>
                                              <p:pRg st="2" end="2"/>
                                            </p:txEl>
                                          </p:spTgt>
                                        </p:tgtEl>
                                        <p:attrNameLst>
                                          <p:attrName>ppt_h</p:attrName>
                                        </p:attrNameLst>
                                      </p:cBhvr>
                                      <p:tavLst>
                                        <p:tav tm="0">
                                          <p:val>
                                            <p:fltVal val="0"/>
                                          </p:val>
                                        </p:tav>
                                        <p:tav tm="100000">
                                          <p:val>
                                            <p:strVal val="#ppt_h"/>
                                          </p:val>
                                        </p:tav>
                                      </p:tavLst>
                                    </p:anim>
                                    <p:anim calcmode="lin" valueType="num">
                                      <p:cBhvr additive="repl">
                                        <p:cTn id="245" dur="500" fill="hold"/>
                                        <p:tgtEl>
                                          <p:spTgt spid="211">
                                            <p:txEl>
                                              <p:pRg st="2" end="2"/>
                                            </p:txEl>
                                          </p:spTgt>
                                        </p:tgtEl>
                                        <p:attrNameLst>
                                          <p:attrName>r</p:attrName>
                                        </p:attrNameLst>
                                      </p:cBhvr>
                                      <p:tavLst>
                                        <p:tav tm="0">
                                          <p:val>
                                            <p:strVal val="360"/>
                                          </p:val>
                                        </p:tav>
                                        <p:tav tm="100000">
                                          <p:val>
                                            <p:strVal val="0"/>
                                          </p:val>
                                        </p:tav>
                                      </p:tavLst>
                                    </p:anim>
                                    <p:animEffect filter="fade" transition="in">
                                      <p:cBhvr additive="repl">
                                        <p:cTn id="246" dur="500"/>
                                        <p:tgtEl>
                                          <p:spTgt spid="211">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9">
                                  <p:stCondLst>
                                    <p:cond delay="0"/>
                                  </p:stCondLst>
                                  <p:iterate type="lt">
                                    <p:tmAbs val="50"/>
                                  </p:iterate>
                                  <p:childTnLst>
                                    <p:set>
                                      <p:cBhvr>
                                        <p:cTn id="250" dur="1" fill="hold">
                                          <p:stCondLst>
                                            <p:cond delay="0"/>
                                          </p:stCondLst>
                                        </p:cTn>
                                        <p:tgtEl>
                                          <p:spTgt spid="211">
                                            <p:txEl>
                                              <p:pRg st="3" end="3"/>
                                            </p:txEl>
                                          </p:spTgt>
                                        </p:tgtEl>
                                        <p:attrNameLst>
                                          <p:attrName>style.visibility</p:attrName>
                                        </p:attrNameLst>
                                      </p:cBhvr>
                                      <p:to>
                                        <p:strVal val="visible"/>
                                      </p:to>
                                    </p:set>
                                    <p:anim calcmode="lin" valueType="num">
                                      <p:cBhvr additive="repl">
                                        <p:cTn id="251" dur="500" fill="hold"/>
                                        <p:tgtEl>
                                          <p:spTgt spid="211">
                                            <p:txEl>
                                              <p:pRg st="3" end="3"/>
                                            </p:txEl>
                                          </p:spTgt>
                                        </p:tgtEl>
                                        <p:attrNameLst>
                                          <p:attrName>ppt_w</p:attrName>
                                        </p:attrNameLst>
                                      </p:cBhvr>
                                      <p:tavLst>
                                        <p:tav tm="0">
                                          <p:val>
                                            <p:fltVal val="0"/>
                                          </p:val>
                                        </p:tav>
                                        <p:tav tm="100000">
                                          <p:val>
                                            <p:strVal val="#ppt_w"/>
                                          </p:val>
                                        </p:tav>
                                      </p:tavLst>
                                    </p:anim>
                                    <p:anim calcmode="lin" valueType="num">
                                      <p:cBhvr additive="repl">
                                        <p:cTn id="252" dur="500" fill="hold"/>
                                        <p:tgtEl>
                                          <p:spTgt spid="211">
                                            <p:txEl>
                                              <p:pRg st="3" end="3"/>
                                            </p:txEl>
                                          </p:spTgt>
                                        </p:tgtEl>
                                        <p:attrNameLst>
                                          <p:attrName>ppt_h</p:attrName>
                                        </p:attrNameLst>
                                      </p:cBhvr>
                                      <p:tavLst>
                                        <p:tav tm="0">
                                          <p:val>
                                            <p:fltVal val="0"/>
                                          </p:val>
                                        </p:tav>
                                        <p:tav tm="100000">
                                          <p:val>
                                            <p:strVal val="#ppt_h"/>
                                          </p:val>
                                        </p:tav>
                                      </p:tavLst>
                                    </p:anim>
                                    <p:anim calcmode="lin" valueType="num">
                                      <p:cBhvr additive="repl">
                                        <p:cTn id="253" dur="500" fill="hold"/>
                                        <p:tgtEl>
                                          <p:spTgt spid="211">
                                            <p:txEl>
                                              <p:pRg st="3" end="3"/>
                                            </p:txEl>
                                          </p:spTgt>
                                        </p:tgtEl>
                                        <p:attrNameLst>
                                          <p:attrName>r</p:attrName>
                                        </p:attrNameLst>
                                      </p:cBhvr>
                                      <p:tavLst>
                                        <p:tav tm="0">
                                          <p:val>
                                            <p:strVal val="360"/>
                                          </p:val>
                                        </p:tav>
                                        <p:tav tm="100000">
                                          <p:val>
                                            <p:strVal val="0"/>
                                          </p:val>
                                        </p:tav>
                                      </p:tavLst>
                                    </p:anim>
                                    <p:animEffect filter="fade" transition="in">
                                      <p:cBhvr additive="repl">
                                        <p:cTn id="254"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250560" y="476280"/>
            <a:ext cx="8435880" cy="5619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Olayları yorumlayışınız  sizi duygusal gerginliğe sürüklememeli, rahat ve huzurlu hissetmenizi sağlamalı.</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Tek bir olaya dayalı genellemeler yapmadan,gerçekçi kanıtlarla sonuca varmaya çalışın.</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Sizi kaygılandıran sınavlar değil, sizin sınava ve sonuçlarına yakıştırdığınız farklı anlamlar ve sınav hakkında ürettiğiniz olumsuz düşünceler olduğunu kabullenmenizdir.</a:t>
            </a:r>
            <a:endParaRPr b="0" lang="en-US" sz="3200" spc="-1" strike="noStrike">
              <a:solidFill>
                <a:srgbClr val="000000"/>
              </a:solidFill>
              <a:latin typeface="Comic Sans MS"/>
            </a:endParaRPr>
          </a:p>
        </p:txBody>
      </p:sp>
    </p:spTree>
  </p:cSld>
  <p:transition>
    <p:pull dir="rd"/>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23" presetSubtype="16">
                                  <p:stCondLst>
                                    <p:cond delay="400"/>
                                  </p:stCondLst>
                                  <p:childTnLst>
                                    <p:set>
                                      <p:cBhvr>
                                        <p:cTn id="260" dur="1" fill="hold">
                                          <p:stCondLst>
                                            <p:cond delay="0"/>
                                          </p:stCondLst>
                                        </p:cTn>
                                        <p:tgtEl>
                                          <p:spTgt spid="212">
                                            <p:txEl>
                                              <p:pRg st="0" end="0"/>
                                            </p:txEl>
                                          </p:spTgt>
                                        </p:tgtEl>
                                        <p:attrNameLst>
                                          <p:attrName>style.visibility</p:attrName>
                                        </p:attrNameLst>
                                      </p:cBhvr>
                                      <p:to>
                                        <p:strVal val="visible"/>
                                      </p:to>
                                    </p:set>
                                    <p:anim calcmode="lin" valueType="num">
                                      <p:cBhvr additive="repl">
                                        <p:cTn id="261" dur="500" fill="hold"/>
                                        <p:tgtEl>
                                          <p:spTgt spid="212">
                                            <p:txEl>
                                              <p:pRg st="0" end="0"/>
                                            </p:txEl>
                                          </p:spTgt>
                                        </p:tgtEl>
                                        <p:attrNameLst>
                                          <p:attrName>ppt_w</p:attrName>
                                        </p:attrNameLst>
                                      </p:cBhvr>
                                      <p:tavLst>
                                        <p:tav tm="0">
                                          <p:val>
                                            <p:fltVal val="0"/>
                                          </p:val>
                                        </p:tav>
                                        <p:tav tm="100000">
                                          <p:val>
                                            <p:strVal val="#ppt_w"/>
                                          </p:val>
                                        </p:tav>
                                      </p:tavLst>
                                    </p:anim>
                                    <p:anim calcmode="lin" valueType="num">
                                      <p:cBhvr additive="repl">
                                        <p:cTn id="262" dur="500" fill="hold"/>
                                        <p:tgtEl>
                                          <p:spTgt spid="2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3" presetSubtype="16">
                                  <p:stCondLst>
                                    <p:cond delay="0"/>
                                  </p:stCondLst>
                                  <p:childTnLst>
                                    <p:set>
                                      <p:cBhvr>
                                        <p:cTn id="266" dur="1" fill="hold">
                                          <p:stCondLst>
                                            <p:cond delay="0"/>
                                          </p:stCondLst>
                                        </p:cTn>
                                        <p:tgtEl>
                                          <p:spTgt spid="212">
                                            <p:txEl>
                                              <p:pRg st="1" end="1"/>
                                            </p:txEl>
                                          </p:spTgt>
                                        </p:tgtEl>
                                        <p:attrNameLst>
                                          <p:attrName>style.visibility</p:attrName>
                                        </p:attrNameLst>
                                      </p:cBhvr>
                                      <p:to>
                                        <p:strVal val="visible"/>
                                      </p:to>
                                    </p:set>
                                    <p:anim calcmode="lin" valueType="num">
                                      <p:cBhvr additive="repl">
                                        <p:cTn id="267" dur="500" fill="hold"/>
                                        <p:tgtEl>
                                          <p:spTgt spid="212">
                                            <p:txEl>
                                              <p:pRg st="1" end="1"/>
                                            </p:txEl>
                                          </p:spTgt>
                                        </p:tgtEl>
                                        <p:attrNameLst>
                                          <p:attrName>ppt_w</p:attrName>
                                        </p:attrNameLst>
                                      </p:cBhvr>
                                      <p:tavLst>
                                        <p:tav tm="0">
                                          <p:val>
                                            <p:fltVal val="0"/>
                                          </p:val>
                                        </p:tav>
                                        <p:tav tm="100000">
                                          <p:val>
                                            <p:strVal val="#ppt_w"/>
                                          </p:val>
                                        </p:tav>
                                      </p:tavLst>
                                    </p:anim>
                                    <p:anim calcmode="lin" valueType="num">
                                      <p:cBhvr additive="repl">
                                        <p:cTn id="268" dur="500" fill="hold"/>
                                        <p:tgtEl>
                                          <p:spTgt spid="21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3" presetSubtype="16">
                                  <p:stCondLst>
                                    <p:cond delay="0"/>
                                  </p:stCondLst>
                                  <p:childTnLst>
                                    <p:set>
                                      <p:cBhvr>
                                        <p:cTn id="272" dur="1" fill="hold">
                                          <p:stCondLst>
                                            <p:cond delay="0"/>
                                          </p:stCondLst>
                                        </p:cTn>
                                        <p:tgtEl>
                                          <p:spTgt spid="212">
                                            <p:txEl>
                                              <p:pRg st="2" end="2"/>
                                            </p:txEl>
                                          </p:spTgt>
                                        </p:tgtEl>
                                        <p:attrNameLst>
                                          <p:attrName>style.visibility</p:attrName>
                                        </p:attrNameLst>
                                      </p:cBhvr>
                                      <p:to>
                                        <p:strVal val="visible"/>
                                      </p:to>
                                    </p:set>
                                    <p:anim calcmode="lin" valueType="num">
                                      <p:cBhvr additive="repl">
                                        <p:cTn id="273" dur="500" fill="hold"/>
                                        <p:tgtEl>
                                          <p:spTgt spid="212">
                                            <p:txEl>
                                              <p:pRg st="2" end="2"/>
                                            </p:txEl>
                                          </p:spTgt>
                                        </p:tgtEl>
                                        <p:attrNameLst>
                                          <p:attrName>ppt_w</p:attrName>
                                        </p:attrNameLst>
                                      </p:cBhvr>
                                      <p:tavLst>
                                        <p:tav tm="0">
                                          <p:val>
                                            <p:fltVal val="0"/>
                                          </p:val>
                                        </p:tav>
                                        <p:tav tm="100000">
                                          <p:val>
                                            <p:strVal val="#ppt_w"/>
                                          </p:val>
                                        </p:tav>
                                      </p:tavLst>
                                    </p:anim>
                                    <p:anim calcmode="lin" valueType="num">
                                      <p:cBhvr additive="repl">
                                        <p:cTn id="274" dur="500" fill="hold"/>
                                        <p:tgtEl>
                                          <p:spTgt spid="212">
                                            <p:txEl>
                                              <p:pRg st="2" end="2"/>
                                            </p:txEl>
                                          </p:spTgt>
                                        </p:tgtEl>
                                        <p:attrNameLst>
                                          <p:attrName>ppt_h</p:attrName>
                                        </p:attrNameLst>
                                      </p:cBhvr>
                                      <p:tavLst>
                                        <p:tav tm="0">
                                          <p:val>
                                            <p:fltVal val="0"/>
                                          </p:val>
                                        </p:tav>
                                        <p:tav tm="100000">
                                          <p:val>
                                            <p:strVal val="#ppt_h"/>
                                          </p:val>
                                        </p:tav>
                                      </p:tavLst>
                                    </p:anim>
                                  </p:childTnLst>
                                </p:cTn>
                              </p:par>
                              <p:par>
                                <p:cTn id="275" nodeType="withEffect" fill="hold" presetClass="exit" presetID="23" presetSubtype="32">
                                  <p:stCondLst>
                                    <p:cond delay="0"/>
                                  </p:stCondLst>
                                  <p:childTnLst>
                                    <p:anim calcmode="lin" valueType="num">
                                      <p:cBhvr additive="repl">
                                        <p:cTn id="276" dur="500" fill="hold"/>
                                        <p:tgtEl>
                                          <p:spTgt spid="212">
                                            <p:txEl>
                                              <p:pRg st="0" end="0"/>
                                            </p:txEl>
                                          </p:spTgt>
                                        </p:tgtEl>
                                        <p:attrNameLst>
                                          <p:attrName>ppt_w</p:attrName>
                                        </p:attrNameLst>
                                      </p:cBhvr>
                                      <p:tavLst>
                                        <p:tav tm="0">
                                          <p:val>
                                            <p:strVal val="#ppt_w"/>
                                          </p:val>
                                        </p:tav>
                                        <p:tav tm="100000">
                                          <p:val>
                                            <p:fltVal val="0"/>
                                          </p:val>
                                        </p:tav>
                                      </p:tavLst>
                                    </p:anim>
                                    <p:anim calcmode="lin" valueType="num">
                                      <p:cBhvr additive="repl">
                                        <p:cTn id="277" dur="500" fill="hold"/>
                                        <p:tgtEl>
                                          <p:spTgt spid="212">
                                            <p:txEl>
                                              <p:pRg st="0" end="0"/>
                                            </p:txEl>
                                          </p:spTgt>
                                        </p:tgtEl>
                                        <p:attrNameLst>
                                          <p:attrName>ppt_h</p:attrName>
                                        </p:attrNameLst>
                                      </p:cBhvr>
                                      <p:tavLst>
                                        <p:tav tm="0">
                                          <p:val>
                                            <p:strVal val="#ppt_h"/>
                                          </p:val>
                                        </p:tav>
                                        <p:tav tm="100000">
                                          <p:val>
                                            <p:fltVal val="0"/>
                                          </p:val>
                                        </p:tav>
                                      </p:tavLst>
                                    </p:anim>
                                    <p:set>
                                      <p:cBhvr>
                                        <p:cTn id="278" dur="1" fill="hold">
                                          <p:stCondLst>
                                            <p:cond delay="499"/>
                                          </p:stCondLst>
                                        </p:cTn>
                                        <p:tgtEl>
                                          <p:spTgt spid="212">
                                            <p:txEl>
                                              <p:pRg st="0" end="0"/>
                                            </p:txEl>
                                          </p:spTgt>
                                        </p:tgtEl>
                                        <p:attrNameLst>
                                          <p:attrName>style.visibility</p:attrName>
                                        </p:attrNameLst>
                                      </p:cBhvr>
                                      <p:to>
                                        <p:strVal val="hidden"/>
                                      </p:to>
                                    </p:set>
                                  </p:childTnLst>
                                </p:cTn>
                              </p:par>
                              <p:par>
                                <p:cTn id="279" nodeType="withEffect" fill="hold" presetClass="exit" presetID="23" presetSubtype="32">
                                  <p:stCondLst>
                                    <p:cond delay="0"/>
                                  </p:stCondLst>
                                  <p:childTnLst>
                                    <p:anim calcmode="lin" valueType="num">
                                      <p:cBhvr additive="repl">
                                        <p:cTn id="280" dur="500" fill="hold"/>
                                        <p:tgtEl>
                                          <p:spTgt spid="212">
                                            <p:txEl>
                                              <p:pRg st="1" end="1"/>
                                            </p:txEl>
                                          </p:spTgt>
                                        </p:tgtEl>
                                        <p:attrNameLst>
                                          <p:attrName>ppt_w</p:attrName>
                                        </p:attrNameLst>
                                      </p:cBhvr>
                                      <p:tavLst>
                                        <p:tav tm="0">
                                          <p:val>
                                            <p:strVal val="#ppt_w"/>
                                          </p:val>
                                        </p:tav>
                                        <p:tav tm="100000">
                                          <p:val>
                                            <p:fltVal val="0"/>
                                          </p:val>
                                        </p:tav>
                                      </p:tavLst>
                                    </p:anim>
                                    <p:anim calcmode="lin" valueType="num">
                                      <p:cBhvr additive="repl">
                                        <p:cTn id="281" dur="500" fill="hold"/>
                                        <p:tgtEl>
                                          <p:spTgt spid="212">
                                            <p:txEl>
                                              <p:pRg st="1" end="1"/>
                                            </p:txEl>
                                          </p:spTgt>
                                        </p:tgtEl>
                                        <p:attrNameLst>
                                          <p:attrName>ppt_h</p:attrName>
                                        </p:attrNameLst>
                                      </p:cBhvr>
                                      <p:tavLst>
                                        <p:tav tm="0">
                                          <p:val>
                                            <p:strVal val="#ppt_h"/>
                                          </p:val>
                                        </p:tav>
                                        <p:tav tm="100000">
                                          <p:val>
                                            <p:fltVal val="0"/>
                                          </p:val>
                                        </p:tav>
                                      </p:tavLst>
                                    </p:anim>
                                    <p:set>
                                      <p:cBhvr>
                                        <p:cTn id="282" dur="1" fill="hold">
                                          <p:stCondLst>
                                            <p:cond delay="499"/>
                                          </p:stCondLst>
                                        </p:cTn>
                                        <p:tgtEl>
                                          <p:spTgt spid="212">
                                            <p:txEl>
                                              <p:pRg st="1" end="1"/>
                                            </p:txEl>
                                          </p:spTgt>
                                        </p:tgtEl>
                                        <p:attrNameLst>
                                          <p:attrName>style.visibility</p:attrName>
                                        </p:attrNameLst>
                                      </p:cBhvr>
                                      <p:to>
                                        <p:strVal val="hidden"/>
                                      </p:to>
                                    </p:set>
                                  </p:childTnLst>
                                </p:cTn>
                              </p:par>
                              <p:par>
                                <p:cTn id="283" nodeType="withEffect" fill="hold" presetClass="exit" presetID="23" presetSubtype="32">
                                  <p:stCondLst>
                                    <p:cond delay="0"/>
                                  </p:stCondLst>
                                  <p:childTnLst>
                                    <p:anim calcmode="lin" valueType="num">
                                      <p:cBhvr additive="repl">
                                        <p:cTn id="284" dur="500" fill="hold"/>
                                        <p:tgtEl>
                                          <p:spTgt spid="212">
                                            <p:txEl>
                                              <p:pRg st="2" end="2"/>
                                            </p:txEl>
                                          </p:spTgt>
                                        </p:tgtEl>
                                        <p:attrNameLst>
                                          <p:attrName>ppt_w</p:attrName>
                                        </p:attrNameLst>
                                      </p:cBhvr>
                                      <p:tavLst>
                                        <p:tav tm="0">
                                          <p:val>
                                            <p:strVal val="#ppt_w"/>
                                          </p:val>
                                        </p:tav>
                                        <p:tav tm="100000">
                                          <p:val>
                                            <p:fltVal val="0"/>
                                          </p:val>
                                        </p:tav>
                                      </p:tavLst>
                                    </p:anim>
                                    <p:anim calcmode="lin" valueType="num">
                                      <p:cBhvr additive="repl">
                                        <p:cTn id="285" dur="500" fill="hold"/>
                                        <p:tgtEl>
                                          <p:spTgt spid="212">
                                            <p:txEl>
                                              <p:pRg st="2" end="2"/>
                                            </p:txEl>
                                          </p:spTgt>
                                        </p:tgtEl>
                                        <p:attrNameLst>
                                          <p:attrName>ppt_h</p:attrName>
                                        </p:attrNameLst>
                                      </p:cBhvr>
                                      <p:tavLst>
                                        <p:tav tm="0">
                                          <p:val>
                                            <p:strVal val="#ppt_h"/>
                                          </p:val>
                                        </p:tav>
                                        <p:tav tm="100000">
                                          <p:val>
                                            <p:fltVal val="0"/>
                                          </p:val>
                                        </p:tav>
                                      </p:tavLst>
                                    </p:anim>
                                    <p:set>
                                      <p:cBhvr>
                                        <p:cTn id="286" dur="1" fill="hold">
                                          <p:stCondLst>
                                            <p:cond delay="499"/>
                                          </p:stCondLst>
                                        </p:cTn>
                                        <p:tgtEl>
                                          <p:spTgt spid="21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549000"/>
            <a:ext cx="4824360" cy="5546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   </a:t>
            </a:r>
            <a:r>
              <a:rPr b="0" lang="tr-TR" sz="3200" spc="-1" strike="noStrike">
                <a:solidFill>
                  <a:srgbClr val="703dff"/>
                </a:solidFill>
                <a:latin typeface="Comic Sans MS"/>
              </a:rPr>
              <a:t>Kaygı;</a:t>
            </a:r>
            <a:endParaRPr b="0" lang="en-US" sz="32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Başka bir ifadeyle kaygı kişinin bir uyaranla karşı karşıya kaldığında yaşadığı, bedensel, duygusal ve zihinsel değişimlerle kendini gösteren bir uyarılmışlık durumudur.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63" name="Picture 4" descr="pe01670_"/>
          <p:cNvPicPr/>
          <p:nvPr/>
        </p:nvPicPr>
        <p:blipFill>
          <a:blip r:embed="rId1"/>
          <a:stretch/>
        </p:blipFill>
        <p:spPr>
          <a:xfrm>
            <a:off x="4606920" y="2281320"/>
            <a:ext cx="3774960" cy="2874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5280" y="333000"/>
            <a:ext cx="8291520" cy="57625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Sınavlarda uygulanan testler kişilik testleri değil, bilgi ve başarı testleridir. Dolayısıyla  sınavlar kişiliğinizin değerlendirilmesi değil, bilgilerinizin ölçülmesidir. Sınavı bir kişilik değerlendirmesi olarak değil, yetenek ve bilgilerinizi  sınama imkanı olarak görü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Geçmiş başarılarınıza üzülmek yerine  gelecekte başarılı olmanın yollarını arayı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Önceki başarısızlıkların devam etmesi kural değildir. Geçmiş başarısızlıklarınızın nedenini  arayın,gidermek için gerekli tedbirleri alın.</a:t>
            </a:r>
            <a:endParaRPr b="0" lang="en-US" sz="2800" spc="-1" strike="noStrike">
              <a:solidFill>
                <a:srgbClr val="000000"/>
              </a:solidFill>
              <a:latin typeface="Comic Sans MS"/>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4" presetSubtype="10">
                                  <p:stCondLst>
                                    <p:cond delay="0"/>
                                  </p:stCondLst>
                                  <p:childTnLst>
                                    <p:set>
                                      <p:cBhvr>
                                        <p:cTn id="292" dur="1" fill="hold">
                                          <p:stCondLst>
                                            <p:cond delay="0"/>
                                          </p:stCondLst>
                                        </p:cTn>
                                        <p:tgtEl>
                                          <p:spTgt spid="213">
                                            <p:txEl>
                                              <p:pRg st="0" end="0"/>
                                            </p:txEl>
                                          </p:spTgt>
                                        </p:tgtEl>
                                        <p:attrNameLst>
                                          <p:attrName>style.visibility</p:attrName>
                                        </p:attrNameLst>
                                      </p:cBhvr>
                                      <p:to>
                                        <p:strVal val="visible"/>
                                      </p:to>
                                    </p:set>
                                    <p:animEffect filter="randombar(horizontal)" transition="in">
                                      <p:cBhvr additive="repl">
                                        <p:cTn id="293" dur="500"/>
                                        <p:tgtEl>
                                          <p:spTgt spid="213">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4" presetSubtype="10">
                                  <p:stCondLst>
                                    <p:cond delay="0"/>
                                  </p:stCondLst>
                                  <p:childTnLst>
                                    <p:set>
                                      <p:cBhvr>
                                        <p:cTn id="297" dur="1" fill="hold">
                                          <p:stCondLst>
                                            <p:cond delay="0"/>
                                          </p:stCondLst>
                                        </p:cTn>
                                        <p:tgtEl>
                                          <p:spTgt spid="213">
                                            <p:txEl>
                                              <p:pRg st="1" end="1"/>
                                            </p:txEl>
                                          </p:spTgt>
                                        </p:tgtEl>
                                        <p:attrNameLst>
                                          <p:attrName>style.visibility</p:attrName>
                                        </p:attrNameLst>
                                      </p:cBhvr>
                                      <p:to>
                                        <p:strVal val="visible"/>
                                      </p:to>
                                    </p:set>
                                    <p:animEffect filter="randombar(horizontal)" transition="in">
                                      <p:cBhvr additive="repl">
                                        <p:cTn id="298" dur="500"/>
                                        <p:tgtEl>
                                          <p:spTgt spid="213">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213">
                                            <p:txEl>
                                              <p:pRg st="2" end="2"/>
                                            </p:txEl>
                                          </p:spTgt>
                                        </p:tgtEl>
                                        <p:attrNameLst>
                                          <p:attrName>style.visibility</p:attrName>
                                        </p:attrNameLst>
                                      </p:cBhvr>
                                      <p:to>
                                        <p:strVal val="visible"/>
                                      </p:to>
                                    </p:set>
                                    <p:animEffect filter="randombar(horizontal)" transition="in">
                                      <p:cBhvr additive="repl">
                                        <p:cTn id="303" dur="5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85800" y="1052640"/>
            <a:ext cx="7696080" cy="4433760"/>
          </a:xfrm>
          <a:prstGeom prst="rect">
            <a:avLst/>
          </a:prstGeom>
          <a:noFill/>
          <a:ln w="0">
            <a:noFill/>
          </a:ln>
        </p:spPr>
        <p:txBody>
          <a:bodyPr anchor="t">
            <a:normAutofit fontScale="97000"/>
          </a:bodyPr>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Geçmiş başarısızlığınıza üzülmek yerine, gelecekte başarılı olmanın yollarını arayın.</a:t>
            </a:r>
            <a:endParaRPr b="0" lang="en-US" sz="3200" spc="-1" strike="noStrike">
              <a:solidFill>
                <a:srgbClr val="000000"/>
              </a:solidFill>
              <a:latin typeface="Comic Sans MS"/>
            </a:endParaRPr>
          </a:p>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Sınavları bir ölüm-kalım savaşı olarak görmeyin.</a:t>
            </a:r>
            <a:endParaRPr b="0" lang="en-US" sz="3200" spc="-1" strike="noStrike">
              <a:solidFill>
                <a:srgbClr val="000000"/>
              </a:solidFill>
              <a:latin typeface="Comic Sans MS"/>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Sürekli başarılı olma, üstün olma,yenme çabası içerisinde olmayı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476280"/>
            <a:ext cx="8362800" cy="561672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Yaşam sizin için sürekli bir değişen ve gelişen süreçtir. Bu süreçte başarı kadar başarısızlıklar da olacaktır. Başarısızlıkların tüm yaşamımızı etkilemesine izin vermeyi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İsteklerinizi ve tercihlerinizi mutlaka yerine getirilmesi gereken yasa-kanun haline getirmeyin. “Mutlaka fen lisesine(üniversiteye vb.) girmeliyim, mutlaka şu bölümü kazanmalıyım” vb. düşüncelere kapılmayalım.</a:t>
            </a:r>
            <a:endParaRPr b="0" lang="en-US" sz="3200" spc="-1" strike="noStrike">
              <a:solidFill>
                <a:srgbClr val="000000"/>
              </a:solidFill>
              <a:latin typeface="Comic Sans MS"/>
            </a:endParaRPr>
          </a:p>
        </p:txBody>
      </p:sp>
    </p:spTree>
  </p:cSld>
  <p:transition>
    <p:split dir="in"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50">
                                  <p:stCondLst>
                                    <p:cond delay="0"/>
                                  </p:stCondLst>
                                  <p:childTnLst>
                                    <p:set>
                                      <p:cBhvr>
                                        <p:cTn id="309" dur="1" fill="hold">
                                          <p:stCondLst>
                                            <p:cond delay="0"/>
                                          </p:stCondLst>
                                        </p:cTn>
                                        <p:tgtEl>
                                          <p:spTgt spid="215">
                                            <p:txEl>
                                              <p:pRg st="0" end="0"/>
                                            </p:txEl>
                                          </p:spTgt>
                                        </p:tgtEl>
                                        <p:attrNameLst>
                                          <p:attrName>style.visibility</p:attrName>
                                        </p:attrNameLst>
                                      </p:cBhvr>
                                      <p:to>
                                        <p:strVal val="visible"/>
                                      </p:to>
                                    </p:set>
                                    <p:anim calcmode="lin" valueType="num">
                                      <p:cBhvr additive="repl">
                                        <p:cTn id="310" dur="1000" fill="hold"/>
                                        <p:tgtEl>
                                          <p:spTgt spid="215">
                                            <p:txEl>
                                              <p:pRg st="0" end="0"/>
                                            </p:txEl>
                                          </p:spTgt>
                                        </p:tgtEl>
                                        <p:attrNameLst>
                                          <p:attrName>ppt_w</p:attrName>
                                        </p:attrNameLst>
                                      </p:cBhvr>
                                      <p:tavLst>
                                        <p:tav tm="0">
                                          <p:val>
                                            <p:strVal val="#ppt_w+.3"/>
                                          </p:val>
                                        </p:tav>
                                        <p:tav tm="100000">
                                          <p:val>
                                            <p:strVal val="#ppt_w"/>
                                          </p:val>
                                        </p:tav>
                                      </p:tavLst>
                                    </p:anim>
                                    <p:anim calcmode="lin" valueType="num">
                                      <p:cBhvr additive="repl">
                                        <p:cTn id="311" dur="1000" fill="hold"/>
                                        <p:tgtEl>
                                          <p:spTgt spid="215">
                                            <p:txEl>
                                              <p:pRg st="0" end="0"/>
                                            </p:txEl>
                                          </p:spTgt>
                                        </p:tgtEl>
                                        <p:attrNameLst>
                                          <p:attrName>ppt_h</p:attrName>
                                        </p:attrNameLst>
                                      </p:cBhvr>
                                      <p:tavLst>
                                        <p:tav tm="0">
                                          <p:val>
                                            <p:strVal val="#ppt_h"/>
                                          </p:val>
                                        </p:tav>
                                        <p:tav tm="100000">
                                          <p:val>
                                            <p:strVal val="#ppt_h"/>
                                          </p:val>
                                        </p:tav>
                                      </p:tavLst>
                                    </p:anim>
                                    <p:animEffect filter="fade" transition="in">
                                      <p:cBhvr additive="repl">
                                        <p:cTn id="312" dur="1000"/>
                                        <p:tgtEl>
                                          <p:spTgt spid="215">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0">
                                  <p:stCondLst>
                                    <p:cond delay="0"/>
                                  </p:stCondLst>
                                  <p:childTnLst>
                                    <p:set>
                                      <p:cBhvr>
                                        <p:cTn id="316" dur="1" fill="hold">
                                          <p:stCondLst>
                                            <p:cond delay="0"/>
                                          </p:stCondLst>
                                        </p:cTn>
                                        <p:tgtEl>
                                          <p:spTgt spid="215">
                                            <p:txEl>
                                              <p:pRg st="2" end="2"/>
                                            </p:txEl>
                                          </p:spTgt>
                                        </p:tgtEl>
                                        <p:attrNameLst>
                                          <p:attrName>style.visibility</p:attrName>
                                        </p:attrNameLst>
                                      </p:cBhvr>
                                      <p:to>
                                        <p:strVal val="visible"/>
                                      </p:to>
                                    </p:set>
                                    <p:anim calcmode="lin" valueType="num">
                                      <p:cBhvr additive="repl">
                                        <p:cTn id="317" dur="1000" fill="hold"/>
                                        <p:tgtEl>
                                          <p:spTgt spid="215">
                                            <p:txEl>
                                              <p:pRg st="2" end="2"/>
                                            </p:txEl>
                                          </p:spTgt>
                                        </p:tgtEl>
                                        <p:attrNameLst>
                                          <p:attrName>ppt_w</p:attrName>
                                        </p:attrNameLst>
                                      </p:cBhvr>
                                      <p:tavLst>
                                        <p:tav tm="0">
                                          <p:val>
                                            <p:strVal val="#ppt_w+.3"/>
                                          </p:val>
                                        </p:tav>
                                        <p:tav tm="100000">
                                          <p:val>
                                            <p:strVal val="#ppt_w"/>
                                          </p:val>
                                        </p:tav>
                                      </p:tavLst>
                                    </p:anim>
                                    <p:anim calcmode="lin" valueType="num">
                                      <p:cBhvr additive="repl">
                                        <p:cTn id="318" dur="1000" fill="hold"/>
                                        <p:tgtEl>
                                          <p:spTgt spid="215">
                                            <p:txEl>
                                              <p:pRg st="2" end="2"/>
                                            </p:txEl>
                                          </p:spTgt>
                                        </p:tgtEl>
                                        <p:attrNameLst>
                                          <p:attrName>ppt_h</p:attrName>
                                        </p:attrNameLst>
                                      </p:cBhvr>
                                      <p:tavLst>
                                        <p:tav tm="0">
                                          <p:val>
                                            <p:strVal val="#ppt_h"/>
                                          </p:val>
                                        </p:tav>
                                        <p:tav tm="100000">
                                          <p:val>
                                            <p:strVal val="#ppt_h"/>
                                          </p:val>
                                        </p:tav>
                                      </p:tavLst>
                                    </p:anim>
                                    <p:animEffect filter="fade" transition="in">
                                      <p:cBhvr additive="repl">
                                        <p:cTn id="319" dur="10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Comic Sans MS"/>
              </a:rPr>
              <a:t>2.Sınav Kaygısıyla Başa Çıkmada Bedeni Kontrol Altına Alma</a:t>
            </a:r>
            <a:endParaRPr b="0" lang="en-US" sz="32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anchor="t">
            <a:normAutofit fontScale="89000"/>
          </a:bodyPr>
          <a:p>
            <a:pPr marL="305280" indent="-3052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Öncelikle düzenli ve yeterli beslenmeniz gerekir.</a:t>
            </a:r>
            <a:endParaRPr b="0" lang="en-US" sz="2800" spc="-1" strike="noStrike">
              <a:solidFill>
                <a:srgbClr val="000000"/>
              </a:solidFill>
              <a:latin typeface="Comic Sans MS"/>
            </a:endParaRPr>
          </a:p>
          <a:p>
            <a:pPr marL="305280" indent="-3052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Spor yapmaya zaman ayırın. Bedensel durumunuza göre fiziki egzersizler yapın.</a:t>
            </a:r>
            <a:endParaRPr b="0" lang="en-US" sz="2800" spc="-1" strike="noStrike">
              <a:solidFill>
                <a:srgbClr val="000000"/>
              </a:solidFill>
              <a:latin typeface="Comic Sans MS"/>
            </a:endParaRPr>
          </a:p>
          <a:p>
            <a:pPr marL="305280" indent="-3052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Yüksek kaygı esnasında beden kimyasında birtakım değişikler olur. Bu değişikliklerin kaynağı bedenin salgılamış olduğu kimyasal maddelerdir. Bu değişiklikler sonucu yaptığımız işler aksar. Bu da gevşeme tekniği ile giderilebilir.</a:t>
            </a:r>
            <a:endParaRPr b="0" lang="en-US" sz="2800" spc="-1" strike="noStrike">
              <a:solidFill>
                <a:srgbClr val="000000"/>
              </a:solidFill>
              <a:latin typeface="Comic Sans MS"/>
            </a:endParaRPr>
          </a:p>
        </p:txBody>
      </p:sp>
    </p:spTree>
  </p:cSld>
  <p:transition>
    <p:pull dir="rd"/>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39">
                                  <p:stCondLst>
                                    <p:cond delay="0"/>
                                  </p:stCondLst>
                                  <p:childTnLst>
                                    <p:set>
                                      <p:cBhvr>
                                        <p:cTn id="325" dur="1" fill="hold">
                                          <p:stCondLst>
                                            <p:cond delay="0"/>
                                          </p:stCondLst>
                                        </p:cTn>
                                        <p:tgtEl>
                                          <p:spTgt spid="216"/>
                                        </p:tgtEl>
                                        <p:attrNameLst>
                                          <p:attrName>style.visibility</p:attrName>
                                        </p:attrNameLst>
                                      </p:cBhvr>
                                      <p:to>
                                        <p:strVal val="visible"/>
                                      </p:to>
                                    </p:set>
                                    <p:anim calcmode="lin" valueType="num">
                                      <p:cBhvr additive="repl">
                                        <p:cTn id="326" dur="500" fill="hold"/>
                                        <p:tgtEl>
                                          <p:spTgt spid="2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7" dur="500" fill="hold"/>
                                        <p:tgtEl>
                                          <p:spTgt spid="2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8" dur="500" fill="hold"/>
                                        <p:tgtEl>
                                          <p:spTgt spid="2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9"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autoRev="1" nodeType="clickEffect" fill="hold" presetClass="emph" presetID="6">
                                  <p:stCondLst>
                                    <p:cond delay="0"/>
                                  </p:stCondLst>
                                  <p:childTnLst>
                                    <p:animScale>
                                      <p:cBhvr>
                                        <p:cTn id="333" dur="449" fill="hold">
                                          <p:stCondLst>
                                            <p:cond delay="0"/>
                                          </p:stCondLst>
                                        </p:cTn>
                                        <p:tgtEl>
                                          <p:spTgt spid="216"/>
                                        </p:tgtEl>
                                      </p:cBhvr>
                                      <p:to x="150000" y="150000"/>
                                    </p:animScale>
                                  </p:childTnLst>
                                </p:cTn>
                              </p:par>
                              <p:par>
                                <p:cTn id="334" nodeType="withEffect" fill="hold" presetClass="entr" presetID="23" presetSubtype="16">
                                  <p:stCondLst>
                                    <p:cond delay="400"/>
                                  </p:stCondLst>
                                  <p:childTnLst>
                                    <p:set>
                                      <p:cBhvr>
                                        <p:cTn id="335" dur="1" fill="hold">
                                          <p:stCondLst>
                                            <p:cond delay="0"/>
                                          </p:stCondLst>
                                        </p:cTn>
                                        <p:tgtEl>
                                          <p:spTgt spid="217">
                                            <p:txEl>
                                              <p:pRg st="0" end="0"/>
                                            </p:txEl>
                                          </p:spTgt>
                                        </p:tgtEl>
                                        <p:attrNameLst>
                                          <p:attrName>style.visibility</p:attrName>
                                        </p:attrNameLst>
                                      </p:cBhvr>
                                      <p:to>
                                        <p:strVal val="visible"/>
                                      </p:to>
                                    </p:set>
                                    <p:anim calcmode="lin" valueType="num">
                                      <p:cBhvr additive="repl">
                                        <p:cTn id="336" dur="5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337" dur="500" fill="hold"/>
                                        <p:tgtEl>
                                          <p:spTgt spid="21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3" presetSubtype="16">
                                  <p:stCondLst>
                                    <p:cond delay="0"/>
                                  </p:stCondLst>
                                  <p:childTnLst>
                                    <p:set>
                                      <p:cBhvr>
                                        <p:cTn id="341" dur="1" fill="hold">
                                          <p:stCondLst>
                                            <p:cond delay="0"/>
                                          </p:stCondLst>
                                        </p:cTn>
                                        <p:tgtEl>
                                          <p:spTgt spid="217">
                                            <p:txEl>
                                              <p:pRg st="1" end="1"/>
                                            </p:txEl>
                                          </p:spTgt>
                                        </p:tgtEl>
                                        <p:attrNameLst>
                                          <p:attrName>style.visibility</p:attrName>
                                        </p:attrNameLst>
                                      </p:cBhvr>
                                      <p:to>
                                        <p:strVal val="visible"/>
                                      </p:to>
                                    </p:set>
                                    <p:anim calcmode="lin" valueType="num">
                                      <p:cBhvr additive="repl">
                                        <p:cTn id="342" dur="500" fill="hold"/>
                                        <p:tgtEl>
                                          <p:spTgt spid="217">
                                            <p:txEl>
                                              <p:pRg st="1" end="1"/>
                                            </p:txEl>
                                          </p:spTgt>
                                        </p:tgtEl>
                                        <p:attrNameLst>
                                          <p:attrName>ppt_w</p:attrName>
                                        </p:attrNameLst>
                                      </p:cBhvr>
                                      <p:tavLst>
                                        <p:tav tm="0">
                                          <p:val>
                                            <p:fltVal val="0"/>
                                          </p:val>
                                        </p:tav>
                                        <p:tav tm="100000">
                                          <p:val>
                                            <p:strVal val="#ppt_w"/>
                                          </p:val>
                                        </p:tav>
                                      </p:tavLst>
                                    </p:anim>
                                    <p:anim calcmode="lin" valueType="num">
                                      <p:cBhvr additive="repl">
                                        <p:cTn id="343" dur="500" fill="hold"/>
                                        <p:tgtEl>
                                          <p:spTgt spid="21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3" presetSubtype="16">
                                  <p:stCondLst>
                                    <p:cond delay="0"/>
                                  </p:stCondLst>
                                  <p:childTnLst>
                                    <p:set>
                                      <p:cBhvr>
                                        <p:cTn id="347" dur="1" fill="hold">
                                          <p:stCondLst>
                                            <p:cond delay="0"/>
                                          </p:stCondLst>
                                        </p:cTn>
                                        <p:tgtEl>
                                          <p:spTgt spid="217">
                                            <p:txEl>
                                              <p:pRg st="2" end="2"/>
                                            </p:txEl>
                                          </p:spTgt>
                                        </p:tgtEl>
                                        <p:attrNameLst>
                                          <p:attrName>style.visibility</p:attrName>
                                        </p:attrNameLst>
                                      </p:cBhvr>
                                      <p:to>
                                        <p:strVal val="visible"/>
                                      </p:to>
                                    </p:set>
                                    <p:anim calcmode="lin" valueType="num">
                                      <p:cBhvr additive="repl">
                                        <p:cTn id="348" dur="500" fill="hold"/>
                                        <p:tgtEl>
                                          <p:spTgt spid="217">
                                            <p:txEl>
                                              <p:pRg st="2" end="2"/>
                                            </p:txEl>
                                          </p:spTgt>
                                        </p:tgtEl>
                                        <p:attrNameLst>
                                          <p:attrName>ppt_w</p:attrName>
                                        </p:attrNameLst>
                                      </p:cBhvr>
                                      <p:tavLst>
                                        <p:tav tm="0">
                                          <p:val>
                                            <p:fltVal val="0"/>
                                          </p:val>
                                        </p:tav>
                                        <p:tav tm="100000">
                                          <p:val>
                                            <p:strVal val="#ppt_w"/>
                                          </p:val>
                                        </p:tav>
                                      </p:tavLst>
                                    </p:anim>
                                    <p:anim calcmode="lin" valueType="num">
                                      <p:cBhvr additive="repl">
                                        <p:cTn id="349" dur="500" fill="hold"/>
                                        <p:tgtEl>
                                          <p:spTgt spid="21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xit" presetID="23" presetSubtype="32">
                                  <p:stCondLst>
                                    <p:cond delay="0"/>
                                  </p:stCondLst>
                                  <p:childTnLst>
                                    <p:anim calcmode="lin" valueType="num">
                                      <p:cBhvr additive="repl">
                                        <p:cTn id="353" dur="500" fill="hold"/>
                                        <p:tgtEl>
                                          <p:spTgt spid="216"/>
                                        </p:tgtEl>
                                        <p:attrNameLst>
                                          <p:attrName>ppt_w</p:attrName>
                                        </p:attrNameLst>
                                      </p:cBhvr>
                                      <p:tavLst>
                                        <p:tav tm="0">
                                          <p:val>
                                            <p:strVal val="#ppt_w"/>
                                          </p:val>
                                        </p:tav>
                                        <p:tav tm="100000">
                                          <p:val>
                                            <p:fltVal val="0"/>
                                          </p:val>
                                        </p:tav>
                                      </p:tavLst>
                                    </p:anim>
                                    <p:anim calcmode="lin" valueType="num">
                                      <p:cBhvr additive="repl">
                                        <p:cTn id="354" dur="500" fill="hold"/>
                                        <p:tgtEl>
                                          <p:spTgt spid="216"/>
                                        </p:tgtEl>
                                        <p:attrNameLst>
                                          <p:attrName>ppt_h</p:attrName>
                                        </p:attrNameLst>
                                      </p:cBhvr>
                                      <p:tavLst>
                                        <p:tav tm="0">
                                          <p:val>
                                            <p:strVal val="#ppt_h"/>
                                          </p:val>
                                        </p:tav>
                                        <p:tav tm="100000">
                                          <p:val>
                                            <p:fltVal val="0"/>
                                          </p:val>
                                        </p:tav>
                                      </p:tavLst>
                                    </p:anim>
                                    <p:set>
                                      <p:cBhvr>
                                        <p:cTn id="355" dur="1" fill="hold">
                                          <p:stCondLst>
                                            <p:cond delay="499"/>
                                          </p:stCondLst>
                                        </p:cTn>
                                        <p:tgtEl>
                                          <p:spTgt spid="216"/>
                                        </p:tgtEl>
                                        <p:attrNameLst>
                                          <p:attrName>style.visibility</p:attrName>
                                        </p:attrNameLst>
                                      </p:cBhvr>
                                      <p:to>
                                        <p:strVal val="hidden"/>
                                      </p:to>
                                    </p:set>
                                  </p:childTnLst>
                                </p:cTn>
                              </p:par>
                              <p:par>
                                <p:cTn id="356" nodeType="withEffect" fill="hold" presetClass="exit" presetID="23" presetSubtype="32">
                                  <p:stCondLst>
                                    <p:cond delay="0"/>
                                  </p:stCondLst>
                                  <p:childTnLst>
                                    <p:anim calcmode="lin" valueType="num">
                                      <p:cBhvr additive="repl">
                                        <p:cTn id="357" dur="500" fill="hold"/>
                                        <p:tgtEl>
                                          <p:spTgt spid="217">
                                            <p:txEl>
                                              <p:pRg st="0" end="0"/>
                                            </p:txEl>
                                          </p:spTgt>
                                        </p:tgtEl>
                                        <p:attrNameLst>
                                          <p:attrName>ppt_w</p:attrName>
                                        </p:attrNameLst>
                                      </p:cBhvr>
                                      <p:tavLst>
                                        <p:tav tm="0">
                                          <p:val>
                                            <p:strVal val="#ppt_w"/>
                                          </p:val>
                                        </p:tav>
                                        <p:tav tm="100000">
                                          <p:val>
                                            <p:fltVal val="0"/>
                                          </p:val>
                                        </p:tav>
                                      </p:tavLst>
                                    </p:anim>
                                    <p:anim calcmode="lin" valueType="num">
                                      <p:cBhvr additive="repl">
                                        <p:cTn id="358" dur="500" fill="hold"/>
                                        <p:tgtEl>
                                          <p:spTgt spid="217">
                                            <p:txEl>
                                              <p:pRg st="0" end="0"/>
                                            </p:txEl>
                                          </p:spTgt>
                                        </p:tgtEl>
                                        <p:attrNameLst>
                                          <p:attrName>ppt_h</p:attrName>
                                        </p:attrNameLst>
                                      </p:cBhvr>
                                      <p:tavLst>
                                        <p:tav tm="0">
                                          <p:val>
                                            <p:strVal val="#ppt_h"/>
                                          </p:val>
                                        </p:tav>
                                        <p:tav tm="100000">
                                          <p:val>
                                            <p:fltVal val="0"/>
                                          </p:val>
                                        </p:tav>
                                      </p:tavLst>
                                    </p:anim>
                                    <p:set>
                                      <p:cBhvr>
                                        <p:cTn id="359" dur="1" fill="hold">
                                          <p:stCondLst>
                                            <p:cond delay="499"/>
                                          </p:stCondLst>
                                        </p:cTn>
                                        <p:tgtEl>
                                          <p:spTgt spid="217">
                                            <p:txEl>
                                              <p:pRg st="0" end="0"/>
                                            </p:txEl>
                                          </p:spTgt>
                                        </p:tgtEl>
                                        <p:attrNameLst>
                                          <p:attrName>style.visibility</p:attrName>
                                        </p:attrNameLst>
                                      </p:cBhvr>
                                      <p:to>
                                        <p:strVal val="hidden"/>
                                      </p:to>
                                    </p:set>
                                  </p:childTnLst>
                                </p:cTn>
                              </p:par>
                              <p:par>
                                <p:cTn id="360" nodeType="withEffect" fill="hold" presetClass="exit" presetID="23" presetSubtype="32">
                                  <p:stCondLst>
                                    <p:cond delay="0"/>
                                  </p:stCondLst>
                                  <p:childTnLst>
                                    <p:anim calcmode="lin" valueType="num">
                                      <p:cBhvr additive="repl">
                                        <p:cTn id="361" dur="500" fill="hold"/>
                                        <p:tgtEl>
                                          <p:spTgt spid="217">
                                            <p:txEl>
                                              <p:pRg st="1" end="1"/>
                                            </p:txEl>
                                          </p:spTgt>
                                        </p:tgtEl>
                                        <p:attrNameLst>
                                          <p:attrName>ppt_w</p:attrName>
                                        </p:attrNameLst>
                                      </p:cBhvr>
                                      <p:tavLst>
                                        <p:tav tm="0">
                                          <p:val>
                                            <p:strVal val="#ppt_w"/>
                                          </p:val>
                                        </p:tav>
                                        <p:tav tm="100000">
                                          <p:val>
                                            <p:fltVal val="0"/>
                                          </p:val>
                                        </p:tav>
                                      </p:tavLst>
                                    </p:anim>
                                    <p:anim calcmode="lin" valueType="num">
                                      <p:cBhvr additive="repl">
                                        <p:cTn id="362" dur="500" fill="hold"/>
                                        <p:tgtEl>
                                          <p:spTgt spid="217">
                                            <p:txEl>
                                              <p:pRg st="1" end="1"/>
                                            </p:txEl>
                                          </p:spTgt>
                                        </p:tgtEl>
                                        <p:attrNameLst>
                                          <p:attrName>ppt_h</p:attrName>
                                        </p:attrNameLst>
                                      </p:cBhvr>
                                      <p:tavLst>
                                        <p:tav tm="0">
                                          <p:val>
                                            <p:strVal val="#ppt_h"/>
                                          </p:val>
                                        </p:tav>
                                        <p:tav tm="100000">
                                          <p:val>
                                            <p:fltVal val="0"/>
                                          </p:val>
                                        </p:tav>
                                      </p:tavLst>
                                    </p:anim>
                                    <p:set>
                                      <p:cBhvr>
                                        <p:cTn id="363" dur="1" fill="hold">
                                          <p:stCondLst>
                                            <p:cond delay="499"/>
                                          </p:stCondLst>
                                        </p:cTn>
                                        <p:tgtEl>
                                          <p:spTgt spid="217">
                                            <p:txEl>
                                              <p:pRg st="1" end="1"/>
                                            </p:txEl>
                                          </p:spTgt>
                                        </p:tgtEl>
                                        <p:attrNameLst>
                                          <p:attrName>style.visibility</p:attrName>
                                        </p:attrNameLst>
                                      </p:cBhvr>
                                      <p:to>
                                        <p:strVal val="hidden"/>
                                      </p:to>
                                    </p:set>
                                  </p:childTnLst>
                                </p:cTn>
                              </p:par>
                              <p:par>
                                <p:cTn id="364" nodeType="withEffect" fill="hold" presetClass="exit" presetID="23" presetSubtype="32">
                                  <p:stCondLst>
                                    <p:cond delay="0"/>
                                  </p:stCondLst>
                                  <p:childTnLst>
                                    <p:anim calcmode="lin" valueType="num">
                                      <p:cBhvr additive="repl">
                                        <p:cTn id="365" dur="500" fill="hold"/>
                                        <p:tgtEl>
                                          <p:spTgt spid="217">
                                            <p:txEl>
                                              <p:pRg st="2" end="2"/>
                                            </p:txEl>
                                          </p:spTgt>
                                        </p:tgtEl>
                                        <p:attrNameLst>
                                          <p:attrName>ppt_w</p:attrName>
                                        </p:attrNameLst>
                                      </p:cBhvr>
                                      <p:tavLst>
                                        <p:tav tm="0">
                                          <p:val>
                                            <p:strVal val="#ppt_w"/>
                                          </p:val>
                                        </p:tav>
                                        <p:tav tm="100000">
                                          <p:val>
                                            <p:fltVal val="0"/>
                                          </p:val>
                                        </p:tav>
                                      </p:tavLst>
                                    </p:anim>
                                    <p:anim calcmode="lin" valueType="num">
                                      <p:cBhvr additive="repl">
                                        <p:cTn id="366" dur="500" fill="hold"/>
                                        <p:tgtEl>
                                          <p:spTgt spid="217">
                                            <p:txEl>
                                              <p:pRg st="2" end="2"/>
                                            </p:txEl>
                                          </p:spTgt>
                                        </p:tgtEl>
                                        <p:attrNameLst>
                                          <p:attrName>ppt_h</p:attrName>
                                        </p:attrNameLst>
                                      </p:cBhvr>
                                      <p:tavLst>
                                        <p:tav tm="0">
                                          <p:val>
                                            <p:strVal val="#ppt_h"/>
                                          </p:val>
                                        </p:tav>
                                        <p:tav tm="100000">
                                          <p:val>
                                            <p:fltVal val="0"/>
                                          </p:val>
                                        </p:tav>
                                      </p:tavLst>
                                    </p:anim>
                                    <p:set>
                                      <p:cBhvr>
                                        <p:cTn id="367" dur="1" fill="hold">
                                          <p:stCondLst>
                                            <p:cond delay="499"/>
                                          </p:stCondLst>
                                        </p:cTn>
                                        <p:tgtEl>
                                          <p:spTgt spid="21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94800" y="152280"/>
            <a:ext cx="6861240" cy="1255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Comic Sans MS"/>
              </a:rPr>
              <a:t>Gevşeme Tekniği:</a:t>
            </a:r>
            <a:r>
              <a:rPr b="0" lang="tr-T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19" name="PlaceHolder 2"/>
          <p:cNvSpPr>
            <a:spLocks noGrp="1"/>
          </p:cNvSpPr>
          <p:nvPr>
            <p:ph/>
          </p:nvPr>
        </p:nvSpPr>
        <p:spPr>
          <a:xfrm>
            <a:off x="468000" y="1052280"/>
            <a:ext cx="8218440" cy="504324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Bedende yüksek kaygı sırasında ortaya çıkan zararlı kimyasal maddelerin giderilmesini sağlar.</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Bedeni kontrol altına almanın birinci yolu, doğru ve derin nefes almayı öğrenmektir. Böylece pratik bir rahatlama sağlanır.</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withEffect" fill="hold" presetClass="entr" presetID="10">
                                  <p:stCondLst>
                                    <p:cond delay="0"/>
                                  </p:stCondLst>
                                  <p:childTnLst>
                                    <p:set>
                                      <p:cBhvr>
                                        <p:cTn id="373" dur="1" fill="hold">
                                          <p:stCondLst>
                                            <p:cond delay="0"/>
                                          </p:stCondLst>
                                        </p:cTn>
                                        <p:tgtEl>
                                          <p:spTgt spid="218"/>
                                        </p:tgtEl>
                                        <p:attrNameLst>
                                          <p:attrName>style.visibility</p:attrName>
                                        </p:attrNameLst>
                                      </p:cBhvr>
                                      <p:to>
                                        <p:strVal val="visible"/>
                                      </p:to>
                                    </p:set>
                                    <p:animEffect filter="fade" transition="in">
                                      <p:cBhvr additive="repl">
                                        <p:cTn id="374" dur="2000"/>
                                        <p:tgtEl>
                                          <p:spTgt spid="21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219">
                                            <p:txEl>
                                              <p:pRg st="1" end="1"/>
                                            </p:txEl>
                                          </p:spTgt>
                                        </p:tgtEl>
                                        <p:attrNameLst>
                                          <p:attrName>style.visibility</p:attrName>
                                        </p:attrNameLst>
                                      </p:cBhvr>
                                      <p:to>
                                        <p:strVal val="visible"/>
                                      </p:to>
                                    </p:set>
                                    <p:animEffect filter="wipe(left)" transition="in">
                                      <p:cBhvr additive="repl">
                                        <p:cTn id="379" dur="500"/>
                                        <p:tgtEl>
                                          <p:spTgt spid="219">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219">
                                            <p:txEl>
                                              <p:pRg st="3" end="3"/>
                                            </p:txEl>
                                          </p:spTgt>
                                        </p:tgtEl>
                                        <p:attrNameLst>
                                          <p:attrName>style.visibility</p:attrName>
                                        </p:attrNameLst>
                                      </p:cBhvr>
                                      <p:to>
                                        <p:strVal val="visible"/>
                                      </p:to>
                                    </p:set>
                                    <p:animEffect filter="wipe(left)" transition="in">
                                      <p:cBhvr additive="repl">
                                        <p:cTn id="384" dur="500"/>
                                        <p:tgtEl>
                                          <p:spTgt spid="2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68000" y="765000"/>
            <a:ext cx="8218440" cy="511200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Doğru ve derin nefes vücutta damarların genişlemesini, bunun sonucu olarak da kanın (0ksijen) bedenin en uç ve derin noktalarına ulaşmasını sağlar.</a:t>
            </a:r>
            <a:endParaRPr b="0" lang="en-US" sz="3200" spc="-1" strike="noStrike">
              <a:solidFill>
                <a:srgbClr val="000000"/>
              </a:solidFill>
              <a:latin typeface="Comic Sans MS"/>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2200" indent="-3222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Vücuttaki oksijen oranının artması, yüksek kaygı nedeniyle ortaya çıkan zararlı biyokimyasal maddeleri yok eder. Böylece birey duygusal olarak kendini rahat, dengeli ve sağlıklı hisseder.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2">
                                  <p:stCondLst>
                                    <p:cond delay="0"/>
                                  </p:stCondLst>
                                  <p:childTnLst>
                                    <p:set>
                                      <p:cBhvr>
                                        <p:cTn id="390" dur="1" fill="hold">
                                          <p:stCondLst>
                                            <p:cond delay="0"/>
                                          </p:stCondLst>
                                        </p:cTn>
                                        <p:tgtEl>
                                          <p:spTgt spid="220">
                                            <p:txEl>
                                              <p:pRg st="0" end="0"/>
                                            </p:txEl>
                                          </p:spTgt>
                                        </p:tgtEl>
                                        <p:attrNameLst>
                                          <p:attrName>style.visibility</p:attrName>
                                        </p:attrNameLst>
                                      </p:cBhvr>
                                      <p:to>
                                        <p:strVal val="visible"/>
                                      </p:to>
                                    </p:set>
                                    <p:animEffect filter="fade" transition="in">
                                      <p:cBhvr additive="repl">
                                        <p:cTn id="391" dur="1000"/>
                                        <p:tgtEl>
                                          <p:spTgt spid="220">
                                            <p:txEl>
                                              <p:pRg st="0" end="0"/>
                                            </p:txEl>
                                          </p:spTgt>
                                        </p:tgtEl>
                                      </p:cBhvr>
                                    </p:animEffect>
                                    <p:anim calcmode="lin" valueType="num">
                                      <p:cBhvr additive="repl">
                                        <p:cTn id="392" dur="10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repl">
                                        <p:cTn id="393" dur="1000" fill="hold"/>
                                        <p:tgtEl>
                                          <p:spTgt spid="2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2">
                                  <p:stCondLst>
                                    <p:cond delay="0"/>
                                  </p:stCondLst>
                                  <p:childTnLst>
                                    <p:set>
                                      <p:cBhvr>
                                        <p:cTn id="397" dur="1" fill="hold">
                                          <p:stCondLst>
                                            <p:cond delay="0"/>
                                          </p:stCondLst>
                                        </p:cTn>
                                        <p:tgtEl>
                                          <p:spTgt spid="220">
                                            <p:txEl>
                                              <p:pRg st="2" end="2"/>
                                            </p:txEl>
                                          </p:spTgt>
                                        </p:tgtEl>
                                        <p:attrNameLst>
                                          <p:attrName>style.visibility</p:attrName>
                                        </p:attrNameLst>
                                      </p:cBhvr>
                                      <p:to>
                                        <p:strVal val="visible"/>
                                      </p:to>
                                    </p:set>
                                    <p:animEffect filter="fade" transition="in">
                                      <p:cBhvr additive="repl">
                                        <p:cTn id="398" dur="1000"/>
                                        <p:tgtEl>
                                          <p:spTgt spid="220">
                                            <p:txEl>
                                              <p:pRg st="2" end="2"/>
                                            </p:txEl>
                                          </p:spTgt>
                                        </p:tgtEl>
                                      </p:cBhvr>
                                    </p:animEffect>
                                    <p:anim calcmode="lin" valueType="num">
                                      <p:cBhvr additive="repl">
                                        <p:cTn id="399" dur="10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22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14320" y="152280"/>
            <a:ext cx="6742080" cy="951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Comic Sans MS"/>
              </a:rPr>
              <a:t>Doğru Nefes</a:t>
            </a:r>
            <a:endParaRPr b="0" lang="en-US" sz="3200" spc="-1" strike="noStrike">
              <a:solidFill>
                <a:srgbClr val="000000"/>
              </a:solidFill>
              <a:latin typeface="Comic Sans MS"/>
            </a:endParaRPr>
          </a:p>
        </p:txBody>
      </p:sp>
      <p:sp>
        <p:nvSpPr>
          <p:cNvPr id="222" name="PlaceHolder 2"/>
          <p:cNvSpPr>
            <a:spLocks noGrp="1"/>
          </p:cNvSpPr>
          <p:nvPr>
            <p:ph/>
          </p:nvPr>
        </p:nvSpPr>
        <p:spPr>
          <a:xfrm>
            <a:off x="468000" y="691920"/>
            <a:ext cx="8218440" cy="53290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Bu çalışmayı açık havada veya iyi havalandırılan bir odada yapın. </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Bol ve rahat giysiler tercih edin.</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Solunum çalışmasına başlamadan önce bir iki dakika gevşeyin. Gözlerinizi kapayın ve düşüncelerinizden sıyrılmaya çalışın.</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Nefes alırken ağır ve derin nefes alınmalıdır.</a:t>
            </a:r>
            <a:endParaRPr b="0" lang="en-US" sz="2800" spc="-1" strike="noStrike">
              <a:solidFill>
                <a:srgbClr val="000000"/>
              </a:solidFill>
              <a:latin typeface="Comic Sans MS"/>
            </a:endParaRPr>
          </a:p>
        </p:txBody>
      </p:sp>
    </p:spTree>
  </p:cSld>
  <p:transition>
    <p:push dir="r"/>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26">
                                  <p:stCondLst>
                                    <p:cond delay="0"/>
                                  </p:stCondLst>
                                  <p:childTnLst>
                                    <p:set>
                                      <p:cBhvr>
                                        <p:cTn id="406" dur="1" fill="hold">
                                          <p:stCondLst>
                                            <p:cond delay="0"/>
                                          </p:stCondLst>
                                        </p:cTn>
                                        <p:tgtEl>
                                          <p:spTgt spid="221"/>
                                        </p:tgtEl>
                                        <p:attrNameLst>
                                          <p:attrName>style.visibility</p:attrName>
                                        </p:attrNameLst>
                                      </p:cBhvr>
                                      <p:to>
                                        <p:strVal val="visible"/>
                                      </p:to>
                                    </p:set>
                                    <p:anim calcmode="lin" valueType="num">
                                      <p:cBhvr additive="repl">
                                        <p:cTn id="407" dur="2000" fill="hold"/>
                                        <p:tgtEl>
                                          <p:spTgt spid="221"/>
                                        </p:tgtEl>
                                        <p:attrNameLst>
                                          <p:attrName>ppt_w</p:attrName>
                                        </p:attrNameLst>
                                      </p:cBhvr>
                                      <p:tavLst>
                                        <p:tav tm="0">
                                          <p:val>
                                            <p:strVal val="#ppt_w"/>
                                          </p:val>
                                        </p:tav>
                                        <p:tav tm="100000">
                                          <p:val>
                                            <p:strVal val="#ppt_w"/>
                                          </p:val>
                                        </p:tav>
                                      </p:tavLst>
                                    </p:anim>
                                    <p:anim calcmode="lin" valueType="num">
                                      <p:cBhvr additive="repl">
                                        <p:cTn id="408" dur="2000" fill="hold"/>
                                        <p:tgtEl>
                                          <p:spTgt spid="22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09" dur="2000" fill="hold"/>
                                        <p:tgtEl>
                                          <p:spTgt spid="221"/>
                                        </p:tgtEl>
                                        <p:attrNameLst>
                                          <p:attrName>ppt_x</p:attrName>
                                        </p:attrNameLst>
                                      </p:cBhvr>
                                      <p:tavLst>
                                        <p:tav tm="0">
                                          <p:val>
                                            <p:strVal val="#ppt_x-.4"/>
                                          </p:val>
                                        </p:tav>
                                        <p:tav tm="100000">
                                          <p:val>
                                            <p:strVal val="#ppt_x"/>
                                          </p:val>
                                        </p:tav>
                                      </p:tavLst>
                                    </p:anim>
                                    <p:anim calcmode="lin" valueType="num">
                                      <p:cBhvr additive="repl">
                                        <p:cTn id="410" dur="2000" fill="hold"/>
                                        <p:tgtEl>
                                          <p:spTgt spid="22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0">
                                  <p:stCondLst>
                                    <p:cond delay="0"/>
                                  </p:stCondLst>
                                  <p:iterate type="lt">
                                    <p:tmAbs val="50"/>
                                  </p:iterate>
                                  <p:childTnLst>
                                    <p:set>
                                      <p:cBhvr>
                                        <p:cTn id="414" dur="1" fill="hold">
                                          <p:stCondLst>
                                            <p:cond delay="0"/>
                                          </p:stCondLst>
                                        </p:cTn>
                                        <p:tgtEl>
                                          <p:spTgt spid="222">
                                            <p:txEl>
                                              <p:pRg st="1" end="1"/>
                                            </p:txEl>
                                          </p:spTgt>
                                        </p:tgtEl>
                                        <p:attrNameLst>
                                          <p:attrName>style.visibility</p:attrName>
                                        </p:attrNameLst>
                                      </p:cBhvr>
                                      <p:to>
                                        <p:strVal val="visible"/>
                                      </p:to>
                                    </p:set>
                                    <p:animEffect filter="fade" transition="in">
                                      <p:cBhvr additive="repl">
                                        <p:cTn id="415" dur="500">
                                          <p:stCondLst>
                                            <p:cond delay="0"/>
                                          </p:stCondLst>
                                        </p:cTn>
                                        <p:tgtEl>
                                          <p:spTgt spid="222">
                                            <p:txEl>
                                              <p:pRg st="1" end="1"/>
                                            </p:txEl>
                                          </p:spTgt>
                                        </p:tgtEl>
                                      </p:cBhvr>
                                    </p:animEffect>
                                    <p:anim calcmode="lin" valueType="num">
                                      <p:cBhvr additive="repl">
                                        <p:cTn id="416" dur="500" fill="hold">
                                          <p:stCondLst>
                                            <p:cond delay="0"/>
                                          </p:stCondLst>
                                        </p:cTn>
                                        <p:tgtEl>
                                          <p:spTgt spid="222">
                                            <p:txEl>
                                              <p:pRg st="1" end="1"/>
                                            </p:txEl>
                                          </p:spTgt>
                                        </p:tgtEl>
                                        <p:attrNameLst>
                                          <p:attrName>ppt_x</p:attrName>
                                        </p:attrNameLst>
                                      </p:cBhvr>
                                      <p:tavLst>
                                        <p:tav tm="0">
                                          <p:val>
                                            <p:strVal val="#ppt_x-.1"/>
                                          </p:val>
                                        </p:tav>
                                        <p:tav tm="100000">
                                          <p:val>
                                            <p:strVal val="#ppt_x"/>
                                          </p:val>
                                        </p:tav>
                                      </p:tavLst>
                                    </p:anim>
                                    <p:anim calcmode="lin" valueType="num">
                                      <p:cBhvr additive="repl">
                                        <p:cTn id="417" dur="500" fill="hold">
                                          <p:stCondLst>
                                            <p:cond delay="0"/>
                                          </p:stCondLst>
                                        </p:cTn>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0">
                                  <p:stCondLst>
                                    <p:cond delay="0"/>
                                  </p:stCondLst>
                                  <p:iterate type="lt">
                                    <p:tmAbs val="50"/>
                                  </p:iterate>
                                  <p:childTnLst>
                                    <p:set>
                                      <p:cBhvr>
                                        <p:cTn id="421" dur="1" fill="hold">
                                          <p:stCondLst>
                                            <p:cond delay="0"/>
                                          </p:stCondLst>
                                        </p:cTn>
                                        <p:tgtEl>
                                          <p:spTgt spid="222">
                                            <p:txEl>
                                              <p:pRg st="3" end="3"/>
                                            </p:txEl>
                                          </p:spTgt>
                                        </p:tgtEl>
                                        <p:attrNameLst>
                                          <p:attrName>style.visibility</p:attrName>
                                        </p:attrNameLst>
                                      </p:cBhvr>
                                      <p:to>
                                        <p:strVal val="visible"/>
                                      </p:to>
                                    </p:set>
                                    <p:animEffect filter="fade" transition="in">
                                      <p:cBhvr additive="repl">
                                        <p:cTn id="422" dur="500">
                                          <p:stCondLst>
                                            <p:cond delay="0"/>
                                          </p:stCondLst>
                                        </p:cTn>
                                        <p:tgtEl>
                                          <p:spTgt spid="222">
                                            <p:txEl>
                                              <p:pRg st="3" end="3"/>
                                            </p:txEl>
                                          </p:spTgt>
                                        </p:tgtEl>
                                      </p:cBhvr>
                                    </p:animEffect>
                                    <p:anim calcmode="lin" valueType="num">
                                      <p:cBhvr additive="repl">
                                        <p:cTn id="423" dur="500" fill="hold">
                                          <p:stCondLst>
                                            <p:cond delay="0"/>
                                          </p:stCondLst>
                                        </p:cTn>
                                        <p:tgtEl>
                                          <p:spTgt spid="222">
                                            <p:txEl>
                                              <p:pRg st="3" end="3"/>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0">
                                  <p:stCondLst>
                                    <p:cond delay="0"/>
                                  </p:stCondLst>
                                  <p:iterate type="lt">
                                    <p:tmAbs val="50"/>
                                  </p:iterate>
                                  <p:childTnLst>
                                    <p:set>
                                      <p:cBhvr>
                                        <p:cTn id="428" dur="1" fill="hold">
                                          <p:stCondLst>
                                            <p:cond delay="0"/>
                                          </p:stCondLst>
                                        </p:cTn>
                                        <p:tgtEl>
                                          <p:spTgt spid="222">
                                            <p:txEl>
                                              <p:pRg st="5" end="5"/>
                                            </p:txEl>
                                          </p:spTgt>
                                        </p:tgtEl>
                                        <p:attrNameLst>
                                          <p:attrName>style.visibility</p:attrName>
                                        </p:attrNameLst>
                                      </p:cBhvr>
                                      <p:to>
                                        <p:strVal val="visible"/>
                                      </p:to>
                                    </p:set>
                                    <p:animEffect filter="fade" transition="in">
                                      <p:cBhvr additive="repl">
                                        <p:cTn id="429" dur="500">
                                          <p:stCondLst>
                                            <p:cond delay="0"/>
                                          </p:stCondLst>
                                        </p:cTn>
                                        <p:tgtEl>
                                          <p:spTgt spid="222">
                                            <p:txEl>
                                              <p:pRg st="5" end="5"/>
                                            </p:txEl>
                                          </p:spTgt>
                                        </p:tgtEl>
                                      </p:cBhvr>
                                    </p:animEffect>
                                    <p:anim calcmode="lin" valueType="num">
                                      <p:cBhvr additive="repl">
                                        <p:cTn id="430" dur="500" fill="hold">
                                          <p:stCondLst>
                                            <p:cond delay="0"/>
                                          </p:stCondLst>
                                        </p:cTn>
                                        <p:tgtEl>
                                          <p:spTgt spid="222">
                                            <p:txEl>
                                              <p:pRg st="5" end="5"/>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0">
                                  <p:stCondLst>
                                    <p:cond delay="0"/>
                                  </p:stCondLst>
                                  <p:iterate type="lt">
                                    <p:tmAbs val="50"/>
                                  </p:iterate>
                                  <p:childTnLst>
                                    <p:set>
                                      <p:cBhvr>
                                        <p:cTn id="435" dur="1" fill="hold">
                                          <p:stCondLst>
                                            <p:cond delay="0"/>
                                          </p:stCondLst>
                                        </p:cTn>
                                        <p:tgtEl>
                                          <p:spTgt spid="222">
                                            <p:txEl>
                                              <p:pRg st="7" end="7"/>
                                            </p:txEl>
                                          </p:spTgt>
                                        </p:tgtEl>
                                        <p:attrNameLst>
                                          <p:attrName>style.visibility</p:attrName>
                                        </p:attrNameLst>
                                      </p:cBhvr>
                                      <p:to>
                                        <p:strVal val="visible"/>
                                      </p:to>
                                    </p:set>
                                    <p:animEffect filter="fade" transition="in">
                                      <p:cBhvr additive="repl">
                                        <p:cTn id="436" dur="500">
                                          <p:stCondLst>
                                            <p:cond delay="0"/>
                                          </p:stCondLst>
                                        </p:cTn>
                                        <p:tgtEl>
                                          <p:spTgt spid="222">
                                            <p:txEl>
                                              <p:pRg st="7" end="7"/>
                                            </p:txEl>
                                          </p:spTgt>
                                        </p:tgtEl>
                                      </p:cBhvr>
                                    </p:animEffect>
                                    <p:anim calcmode="lin" valueType="num">
                                      <p:cBhvr additive="repl">
                                        <p:cTn id="437" dur="500" fill="hold">
                                          <p:stCondLst>
                                            <p:cond delay="0"/>
                                          </p:stCondLst>
                                        </p:cTn>
                                        <p:tgtEl>
                                          <p:spTgt spid="222">
                                            <p:txEl>
                                              <p:pRg st="7" end="7"/>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2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685800" y="836640"/>
            <a:ext cx="7696080" cy="518472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Burundan alınmalı ağız kesinlikle kapalı olmalıdır.</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Akciğerin tamamı kullanılmalıdır.</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Nefes alma egzersizine başlamadan önce sağ elinizi göbeğinizin altına, sol elinizi göğsünüzün üzerine koyun.</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Nefes almadan önce ciğerlerinizin tamamını boşaltın.</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260280"/>
            <a:ext cx="687060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0000"/>
                </a:solidFill>
                <a:latin typeface="Comic Sans MS"/>
              </a:rPr>
              <a:t>  </a:t>
            </a:r>
            <a:r>
              <a:rPr b="0" lang="tr-TR" sz="3600" spc="-1" strike="noStrike">
                <a:solidFill>
                  <a:srgbClr val="ff0000"/>
                </a:solidFill>
                <a:latin typeface="Comic Sans MS"/>
              </a:rPr>
              <a:t>Düzenli fizik egzersizi:</a:t>
            </a:r>
            <a:endParaRPr b="0" lang="en-US" sz="3600" spc="-1" strike="noStrike">
              <a:solidFill>
                <a:srgbClr val="000000"/>
              </a:solidFill>
              <a:latin typeface="Comic Sans MS"/>
            </a:endParaRPr>
          </a:p>
        </p:txBody>
      </p:sp>
      <p:sp>
        <p:nvSpPr>
          <p:cNvPr id="225" name="PlaceHolder 2"/>
          <p:cNvSpPr>
            <a:spLocks noGrp="1"/>
          </p:cNvSpPr>
          <p:nvPr>
            <p:ph/>
          </p:nvPr>
        </p:nvSpPr>
        <p:spPr>
          <a:xfrm>
            <a:off x="685800" y="1828440"/>
            <a:ext cx="7918560" cy="4264200"/>
          </a:xfrm>
          <a:prstGeom prst="rect">
            <a:avLst/>
          </a:prstGeom>
          <a:noFill/>
          <a:ln w="0">
            <a:noFill/>
          </a:ln>
        </p:spPr>
        <p:txBody>
          <a:bodyPr anchor="t">
            <a:normAutofit/>
          </a:bodyPr>
          <a:p>
            <a:pPr marL="343080" indent="-343080">
              <a:lnSpc>
                <a:spcPct val="90000"/>
              </a:lnSpc>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703dff"/>
                </a:solidFill>
                <a:latin typeface="Comic Sans MS"/>
              </a:rPr>
              <a:t>Fizik egzersizinin yararları:</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         Kas gevşemesi</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         Zihinsel gevşem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         Yapılan işte etkinliğin artması</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         Enerjide artış</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         Endişelerde azalma</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         Daha iyi sağlık</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         Duygusal rahatlık</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         Kendine güven artışı</a:t>
            </a:r>
            <a:endParaRPr b="0" lang="en-US" sz="2800" spc="-1" strike="noStrike">
              <a:solidFill>
                <a:srgbClr val="000000"/>
              </a:solidFill>
              <a:latin typeface="Comic Sans MS"/>
            </a:endParaRPr>
          </a:p>
        </p:txBody>
      </p:sp>
    </p:spTree>
  </p:cSld>
  <p:transition>
    <p:strips dir="rd"/>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44" dur="2000" fill="hold"/>
                                        <p:tgtEl>
                                          <p:spTgt spid="224"/>
                                        </p:tgtEl>
                                      </p:cBhvr>
                                    </p:animMotion>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225">
                                            <p:txEl>
                                              <p:pRg st="0" end="0"/>
                                            </p:txEl>
                                          </p:spTgt>
                                        </p:tgtEl>
                                        <p:attrNameLst>
                                          <p:attrName>style.visibility</p:attrName>
                                        </p:attrNameLst>
                                      </p:cBhvr>
                                      <p:to>
                                        <p:strVal val="visible"/>
                                      </p:to>
                                    </p:set>
                                    <p:animEffect filter="fade" transition="in">
                                      <p:cBhvr additive="repl">
                                        <p:cTn id="449" dur="1000">
                                          <p:stCondLst>
                                            <p:cond delay="0"/>
                                          </p:stCondLst>
                                        </p:cTn>
                                        <p:tgtEl>
                                          <p:spTgt spid="225">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225">
                                            <p:txEl>
                                              <p:pRg st="1" end="1"/>
                                            </p:txEl>
                                          </p:spTgt>
                                        </p:tgtEl>
                                        <p:attrNameLst>
                                          <p:attrName>style.visibility</p:attrName>
                                        </p:attrNameLst>
                                      </p:cBhvr>
                                      <p:to>
                                        <p:strVal val="visible"/>
                                      </p:to>
                                    </p:set>
                                    <p:animEffect filter="fade" transition="in">
                                      <p:cBhvr additive="repl">
                                        <p:cTn id="454" dur="1000">
                                          <p:stCondLst>
                                            <p:cond delay="0"/>
                                          </p:stCondLst>
                                        </p:cTn>
                                        <p:tgtEl>
                                          <p:spTgt spid="225">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dur="1" fill="hold">
                                          <p:stCondLst>
                                            <p:cond delay="0"/>
                                          </p:stCondLst>
                                        </p:cTn>
                                        <p:tgtEl>
                                          <p:spTgt spid="225">
                                            <p:txEl>
                                              <p:pRg st="2" end="2"/>
                                            </p:txEl>
                                          </p:spTgt>
                                        </p:tgtEl>
                                        <p:attrNameLst>
                                          <p:attrName>style.visibility</p:attrName>
                                        </p:attrNameLst>
                                      </p:cBhvr>
                                      <p:to>
                                        <p:strVal val="visible"/>
                                      </p:to>
                                    </p:set>
                                    <p:animEffect filter="fade" transition="in">
                                      <p:cBhvr additive="repl">
                                        <p:cTn id="459" dur="1000">
                                          <p:stCondLst>
                                            <p:cond delay="0"/>
                                          </p:stCondLst>
                                        </p:cTn>
                                        <p:tgtEl>
                                          <p:spTgt spid="225">
                                            <p:txEl>
                                              <p:pRg st="2" end="2"/>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225">
                                            <p:txEl>
                                              <p:pRg st="3" end="3"/>
                                            </p:txEl>
                                          </p:spTgt>
                                        </p:tgtEl>
                                        <p:attrNameLst>
                                          <p:attrName>style.visibility</p:attrName>
                                        </p:attrNameLst>
                                      </p:cBhvr>
                                      <p:to>
                                        <p:strVal val="visible"/>
                                      </p:to>
                                    </p:set>
                                    <p:animEffect filter="fade" transition="in">
                                      <p:cBhvr additive="repl">
                                        <p:cTn id="464" dur="1000">
                                          <p:stCondLst>
                                            <p:cond delay="0"/>
                                          </p:stCondLst>
                                        </p:cTn>
                                        <p:tgtEl>
                                          <p:spTgt spid="225">
                                            <p:txEl>
                                              <p:pRg st="3" end="3"/>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225">
                                            <p:txEl>
                                              <p:pRg st="4" end="4"/>
                                            </p:txEl>
                                          </p:spTgt>
                                        </p:tgtEl>
                                        <p:attrNameLst>
                                          <p:attrName>style.visibility</p:attrName>
                                        </p:attrNameLst>
                                      </p:cBhvr>
                                      <p:to>
                                        <p:strVal val="visible"/>
                                      </p:to>
                                    </p:set>
                                    <p:animEffect filter="fade" transition="in">
                                      <p:cBhvr additive="repl">
                                        <p:cTn id="469" dur="1000">
                                          <p:stCondLst>
                                            <p:cond delay="0"/>
                                          </p:stCondLst>
                                        </p:cTn>
                                        <p:tgtEl>
                                          <p:spTgt spid="225">
                                            <p:txEl>
                                              <p:pRg st="4" end="4"/>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0">
                                  <p:stCondLst>
                                    <p:cond delay="0"/>
                                  </p:stCondLst>
                                  <p:childTnLst>
                                    <p:set>
                                      <p:cBhvr>
                                        <p:cTn id="473" dur="1" fill="hold">
                                          <p:stCondLst>
                                            <p:cond delay="0"/>
                                          </p:stCondLst>
                                        </p:cTn>
                                        <p:tgtEl>
                                          <p:spTgt spid="225">
                                            <p:txEl>
                                              <p:pRg st="5" end="5"/>
                                            </p:txEl>
                                          </p:spTgt>
                                        </p:tgtEl>
                                        <p:attrNameLst>
                                          <p:attrName>style.visibility</p:attrName>
                                        </p:attrNameLst>
                                      </p:cBhvr>
                                      <p:to>
                                        <p:strVal val="visible"/>
                                      </p:to>
                                    </p:set>
                                    <p:animEffect filter="fade" transition="in">
                                      <p:cBhvr additive="repl">
                                        <p:cTn id="474" dur="1000">
                                          <p:stCondLst>
                                            <p:cond delay="0"/>
                                          </p:stCondLst>
                                        </p:cTn>
                                        <p:tgtEl>
                                          <p:spTgt spid="225">
                                            <p:txEl>
                                              <p:pRg st="5" end="5"/>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225">
                                            <p:txEl>
                                              <p:pRg st="6" end="6"/>
                                            </p:txEl>
                                          </p:spTgt>
                                        </p:tgtEl>
                                        <p:attrNameLst>
                                          <p:attrName>style.visibility</p:attrName>
                                        </p:attrNameLst>
                                      </p:cBhvr>
                                      <p:to>
                                        <p:strVal val="visible"/>
                                      </p:to>
                                    </p:set>
                                    <p:animEffect filter="fade" transition="in">
                                      <p:cBhvr additive="repl">
                                        <p:cTn id="479" dur="1000">
                                          <p:stCondLst>
                                            <p:cond delay="0"/>
                                          </p:stCondLst>
                                        </p:cTn>
                                        <p:tgtEl>
                                          <p:spTgt spid="225">
                                            <p:txEl>
                                              <p:pRg st="6" end="6"/>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0">
                                  <p:stCondLst>
                                    <p:cond delay="0"/>
                                  </p:stCondLst>
                                  <p:childTnLst>
                                    <p:set>
                                      <p:cBhvr>
                                        <p:cTn id="483" dur="1" fill="hold">
                                          <p:stCondLst>
                                            <p:cond delay="0"/>
                                          </p:stCondLst>
                                        </p:cTn>
                                        <p:tgtEl>
                                          <p:spTgt spid="225">
                                            <p:txEl>
                                              <p:pRg st="7" end="7"/>
                                            </p:txEl>
                                          </p:spTgt>
                                        </p:tgtEl>
                                        <p:attrNameLst>
                                          <p:attrName>style.visibility</p:attrName>
                                        </p:attrNameLst>
                                      </p:cBhvr>
                                      <p:to>
                                        <p:strVal val="visible"/>
                                      </p:to>
                                    </p:set>
                                    <p:animEffect filter="fade" transition="in">
                                      <p:cBhvr additive="repl">
                                        <p:cTn id="484" dur="1000">
                                          <p:stCondLst>
                                            <p:cond delay="0"/>
                                          </p:stCondLst>
                                        </p:cTn>
                                        <p:tgtEl>
                                          <p:spTgt spid="225">
                                            <p:txEl>
                                              <p:pRg st="7" end="7"/>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0">
                                  <p:stCondLst>
                                    <p:cond delay="0"/>
                                  </p:stCondLst>
                                  <p:childTnLst>
                                    <p:set>
                                      <p:cBhvr>
                                        <p:cTn id="488" dur="1" fill="hold">
                                          <p:stCondLst>
                                            <p:cond delay="0"/>
                                          </p:stCondLst>
                                        </p:cTn>
                                        <p:tgtEl>
                                          <p:spTgt spid="225">
                                            <p:txEl>
                                              <p:pRg st="8" end="8"/>
                                            </p:txEl>
                                          </p:spTgt>
                                        </p:tgtEl>
                                        <p:attrNameLst>
                                          <p:attrName>style.visibility</p:attrName>
                                        </p:attrNameLst>
                                      </p:cBhvr>
                                      <p:to>
                                        <p:strVal val="visible"/>
                                      </p:to>
                                    </p:set>
                                    <p:animEffect filter="fade" transition="in">
                                      <p:cBhvr additive="repl">
                                        <p:cTn id="489" dur="1000">
                                          <p:stCondLst>
                                            <p:cond delay="0"/>
                                          </p:stCondLst>
                                        </p:cTn>
                                        <p:tgtEl>
                                          <p:spTgt spid="22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24000" y="333000"/>
            <a:ext cx="8362800" cy="57625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Günde 10-20 dakika düzenli egzersiz yapmanın sınavlara hazırlanan öğrenciye sağlayacağı yararlardan birincisi kaygıyı azaltması, ikincisi öğrenmede etkinliğin artması.</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Gerginliğin damarlarda daralmaya neden olduğu için hücrelere giden kan miktarında azalma olur. Sınav stresini yaşayan öğrencinin durumu budur. </a:t>
            </a:r>
            <a:endParaRPr b="0" lang="en-US" sz="3200" spc="-1" strike="noStrike">
              <a:solidFill>
                <a:srgbClr val="000000"/>
              </a:solidFill>
              <a:latin typeface="Comic Sans MS"/>
            </a:endParaRPr>
          </a:p>
        </p:txBody>
      </p:sp>
    </p:spTree>
  </p:cSld>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42">
                                  <p:stCondLst>
                                    <p:cond delay="0"/>
                                  </p:stCondLst>
                                  <p:childTnLst>
                                    <p:set>
                                      <p:cBhvr>
                                        <p:cTn id="495" dur="1" fill="hold">
                                          <p:stCondLst>
                                            <p:cond delay="0"/>
                                          </p:stCondLst>
                                        </p:cTn>
                                        <p:tgtEl>
                                          <p:spTgt spid="226">
                                            <p:txEl>
                                              <p:pRg st="0" end="0"/>
                                            </p:txEl>
                                          </p:spTgt>
                                        </p:tgtEl>
                                        <p:attrNameLst>
                                          <p:attrName>style.visibility</p:attrName>
                                        </p:attrNameLst>
                                      </p:cBhvr>
                                      <p:to>
                                        <p:strVal val="visible"/>
                                      </p:to>
                                    </p:set>
                                    <p:animEffect filter="fade" transition="in">
                                      <p:cBhvr additive="repl">
                                        <p:cTn id="496" dur="1000"/>
                                        <p:tgtEl>
                                          <p:spTgt spid="226">
                                            <p:txEl>
                                              <p:pRg st="0" end="0"/>
                                            </p:txEl>
                                          </p:spTgt>
                                        </p:tgtEl>
                                      </p:cBhvr>
                                    </p:animEffect>
                                    <p:anim calcmode="lin" valueType="num">
                                      <p:cBhvr additive="repl">
                                        <p:cTn id="497" dur="1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repl">
                                        <p:cTn id="498" dur="1000" fill="hold"/>
                                        <p:tgtEl>
                                          <p:spTgt spid="22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2">
                                  <p:stCondLst>
                                    <p:cond delay="0"/>
                                  </p:stCondLst>
                                  <p:childTnLst>
                                    <p:set>
                                      <p:cBhvr>
                                        <p:cTn id="502" dur="1" fill="hold">
                                          <p:stCondLst>
                                            <p:cond delay="0"/>
                                          </p:stCondLst>
                                        </p:cTn>
                                        <p:tgtEl>
                                          <p:spTgt spid="226">
                                            <p:txEl>
                                              <p:pRg st="1" end="1"/>
                                            </p:txEl>
                                          </p:spTgt>
                                        </p:tgtEl>
                                        <p:attrNameLst>
                                          <p:attrName>style.visibility</p:attrName>
                                        </p:attrNameLst>
                                      </p:cBhvr>
                                      <p:to>
                                        <p:strVal val="visible"/>
                                      </p:to>
                                    </p:set>
                                    <p:animEffect filter="fade" transition="in">
                                      <p:cBhvr additive="repl">
                                        <p:cTn id="503" dur="1000"/>
                                        <p:tgtEl>
                                          <p:spTgt spid="226">
                                            <p:txEl>
                                              <p:pRg st="1" end="1"/>
                                            </p:txEl>
                                          </p:spTgt>
                                        </p:tgtEl>
                                      </p:cBhvr>
                                    </p:animEffect>
                                    <p:anim calcmode="lin" valueType="num">
                                      <p:cBhvr additive="repl">
                                        <p:cTn id="504" dur="1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repl">
                                        <p:cTn id="505" dur="1000" fill="hold"/>
                                        <p:tgtEl>
                                          <p:spTgt spid="22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250560" y="907560"/>
            <a:ext cx="8281800" cy="518796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Kaygı kaynağı belli olmayan ve uzun süren bir huzursuzluk halidir.</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Kaygı aslında kişiye rahatsızlık veren olayın kendisinden değil, o olayın kişi için taşıdığı anlamdan kaynaklanmaktadı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404640"/>
            <a:ext cx="8291520" cy="5329440"/>
          </a:xfrm>
          <a:prstGeom prst="rect">
            <a:avLst/>
          </a:prstGeom>
          <a:noFill/>
          <a:ln w="0">
            <a:noFill/>
          </a:ln>
        </p:spPr>
        <p:txBody>
          <a:bodyPr anchor="t">
            <a:normAutofit fontScale="97000"/>
          </a:bodyPr>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Bu da hücrelerin yetersiz beslenmesi demektir. Bu durumda vücutta salgılanan bazı maddeler öğrenmeyi zorlaştırır ve hücrelerin kapasitelerini tam manasıyla kullanamamasına neden olur. </a:t>
            </a:r>
            <a:endParaRPr b="0" lang="en-US" sz="3200" spc="-1" strike="noStrike">
              <a:solidFill>
                <a:srgbClr val="000000"/>
              </a:solidFill>
              <a:latin typeface="Comic Sans MS"/>
            </a:endParaRPr>
          </a:p>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Fizik egzersizi öğrenmeyi kolaylaştırır. Fiziksel egzersizden sonraki rahatlama sırasında salgılanan seratonin adındaki madde öğrenmek için gerekli olan zihinsel ortamın doğmasına neden olur. </a:t>
            </a:r>
            <a:endParaRPr b="0" lang="en-US" sz="3200" spc="-1" strike="noStrike">
              <a:solidFill>
                <a:srgbClr val="000000"/>
              </a:solidFill>
              <a:latin typeface="Comic Sans MS"/>
            </a:endParaRPr>
          </a:p>
        </p:txBody>
      </p:sp>
    </p:spTree>
  </p:cSld>
  <p:transition>
    <p:split dir="in" orient="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50">
                                  <p:stCondLst>
                                    <p:cond delay="0"/>
                                  </p:stCondLst>
                                  <p:childTnLst>
                                    <p:set>
                                      <p:cBhvr>
                                        <p:cTn id="511" dur="1" fill="hold">
                                          <p:stCondLst>
                                            <p:cond delay="0"/>
                                          </p:stCondLst>
                                        </p:cTn>
                                        <p:tgtEl>
                                          <p:spTgt spid="227">
                                            <p:txEl>
                                              <p:pRg st="0" end="0"/>
                                            </p:txEl>
                                          </p:spTgt>
                                        </p:tgtEl>
                                        <p:attrNameLst>
                                          <p:attrName>style.visibility</p:attrName>
                                        </p:attrNameLst>
                                      </p:cBhvr>
                                      <p:to>
                                        <p:strVal val="visible"/>
                                      </p:to>
                                    </p:set>
                                    <p:anim calcmode="lin" valueType="num">
                                      <p:cBhvr additive="repl">
                                        <p:cTn id="512" dur="1000" fill="hold"/>
                                        <p:tgtEl>
                                          <p:spTgt spid="227">
                                            <p:txEl>
                                              <p:pRg st="0" end="0"/>
                                            </p:txEl>
                                          </p:spTgt>
                                        </p:tgtEl>
                                        <p:attrNameLst>
                                          <p:attrName>ppt_w</p:attrName>
                                        </p:attrNameLst>
                                      </p:cBhvr>
                                      <p:tavLst>
                                        <p:tav tm="0">
                                          <p:val>
                                            <p:strVal val="#ppt_w+.3"/>
                                          </p:val>
                                        </p:tav>
                                        <p:tav tm="100000">
                                          <p:val>
                                            <p:strVal val="#ppt_w"/>
                                          </p:val>
                                        </p:tav>
                                      </p:tavLst>
                                    </p:anim>
                                    <p:anim calcmode="lin" valueType="num">
                                      <p:cBhvr additive="repl">
                                        <p:cTn id="513" dur="1000" fill="hold"/>
                                        <p:tgtEl>
                                          <p:spTgt spid="227">
                                            <p:txEl>
                                              <p:pRg st="0" end="0"/>
                                            </p:txEl>
                                          </p:spTgt>
                                        </p:tgtEl>
                                        <p:attrNameLst>
                                          <p:attrName>ppt_h</p:attrName>
                                        </p:attrNameLst>
                                      </p:cBhvr>
                                      <p:tavLst>
                                        <p:tav tm="0">
                                          <p:val>
                                            <p:strVal val="#ppt_h"/>
                                          </p:val>
                                        </p:tav>
                                        <p:tav tm="100000">
                                          <p:val>
                                            <p:strVal val="#ppt_h"/>
                                          </p:val>
                                        </p:tav>
                                      </p:tavLst>
                                    </p:anim>
                                    <p:animEffect filter="fade" transition="in">
                                      <p:cBhvr additive="repl">
                                        <p:cTn id="514" dur="1000"/>
                                        <p:tgtEl>
                                          <p:spTgt spid="227">
                                            <p:txEl>
                                              <p:pRg st="0" end="0"/>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0">
                                  <p:stCondLst>
                                    <p:cond delay="0"/>
                                  </p:stCondLst>
                                  <p:childTnLst>
                                    <p:set>
                                      <p:cBhvr>
                                        <p:cTn id="518" dur="1" fill="hold">
                                          <p:stCondLst>
                                            <p:cond delay="0"/>
                                          </p:stCondLst>
                                        </p:cTn>
                                        <p:tgtEl>
                                          <p:spTgt spid="227">
                                            <p:txEl>
                                              <p:pRg st="1" end="1"/>
                                            </p:txEl>
                                          </p:spTgt>
                                        </p:tgtEl>
                                        <p:attrNameLst>
                                          <p:attrName>style.visibility</p:attrName>
                                        </p:attrNameLst>
                                      </p:cBhvr>
                                      <p:to>
                                        <p:strVal val="visible"/>
                                      </p:to>
                                    </p:set>
                                    <p:anim calcmode="lin" valueType="num">
                                      <p:cBhvr additive="repl">
                                        <p:cTn id="519" dur="1000" fill="hold"/>
                                        <p:tgtEl>
                                          <p:spTgt spid="227">
                                            <p:txEl>
                                              <p:pRg st="1" end="1"/>
                                            </p:txEl>
                                          </p:spTgt>
                                        </p:tgtEl>
                                        <p:attrNameLst>
                                          <p:attrName>ppt_w</p:attrName>
                                        </p:attrNameLst>
                                      </p:cBhvr>
                                      <p:tavLst>
                                        <p:tav tm="0">
                                          <p:val>
                                            <p:strVal val="#ppt_w+.3"/>
                                          </p:val>
                                        </p:tav>
                                        <p:tav tm="100000">
                                          <p:val>
                                            <p:strVal val="#ppt_w"/>
                                          </p:val>
                                        </p:tav>
                                      </p:tavLst>
                                    </p:anim>
                                    <p:anim calcmode="lin" valueType="num">
                                      <p:cBhvr additive="repl">
                                        <p:cTn id="520" dur="1000" fill="hold"/>
                                        <p:tgtEl>
                                          <p:spTgt spid="227">
                                            <p:txEl>
                                              <p:pRg st="1" end="1"/>
                                            </p:txEl>
                                          </p:spTgt>
                                        </p:tgtEl>
                                        <p:attrNameLst>
                                          <p:attrName>ppt_h</p:attrName>
                                        </p:attrNameLst>
                                      </p:cBhvr>
                                      <p:tavLst>
                                        <p:tav tm="0">
                                          <p:val>
                                            <p:strVal val="#ppt_h"/>
                                          </p:val>
                                        </p:tav>
                                        <p:tav tm="100000">
                                          <p:val>
                                            <p:strVal val="#ppt_h"/>
                                          </p:val>
                                        </p:tav>
                                      </p:tavLst>
                                    </p:anim>
                                    <p:animEffect filter="fade" transition="in">
                                      <p:cBhvr additive="repl">
                                        <p:cTn id="521"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611280" y="1197000"/>
            <a:ext cx="8075520" cy="39607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Bir fizik egzersizi programı tamamlandığı zaman yorgunluk hissedilmemeli. Zıplayarak yapılan yorucu hareketlerden kaçınılmalı. Sağa sola eğilme. Öne eğilerek eli yere değdirme, dizleri bükerek yere eğilip hareketler yapı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4" presetSubtype="10">
                                  <p:stCondLst>
                                    <p:cond delay="0"/>
                                  </p:stCondLst>
                                  <p:childTnLst>
                                    <p:set>
                                      <p:cBhvr>
                                        <p:cTn id="527" dur="1" fill="hold">
                                          <p:stCondLst>
                                            <p:cond delay="0"/>
                                          </p:stCondLst>
                                        </p:cTn>
                                        <p:tgtEl>
                                          <p:spTgt spid="228">
                                            <p:txEl>
                                              <p:pRg st="0" end="0"/>
                                            </p:txEl>
                                          </p:spTgt>
                                        </p:tgtEl>
                                        <p:attrNameLst>
                                          <p:attrName>style.visibility</p:attrName>
                                        </p:attrNameLst>
                                      </p:cBhvr>
                                      <p:to>
                                        <p:strVal val="visible"/>
                                      </p:to>
                                    </p:set>
                                    <p:animEffect filter="randombar(horizontal)" transition="in">
                                      <p:cBhvr additive="repl">
                                        <p:cTn id="528"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4 Veri Yer Tutucusu"/>
          <p:cNvSpPr/>
          <p:nvPr/>
        </p:nvSpPr>
        <p:spPr>
          <a:xfrm>
            <a:off x="13716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CB4B3-6811-4D9D-BEDC-2ABECA17B282}" type="datetime">
              <a:rPr b="0" lang="tr-TR" sz="1400" spc="-1" strike="noStrike">
                <a:solidFill>
                  <a:srgbClr val="000000"/>
                </a:solidFill>
                <a:latin typeface="Comic Sans MS"/>
              </a:rPr>
              <a:t>30.07.26</a:t>
            </a:fld>
            <a:endParaRPr b="0" lang="en-US" sz="1400" spc="-1" strike="noStrike">
              <a:solidFill>
                <a:srgbClr val="000000"/>
              </a:solidFill>
              <a:latin typeface="Comic Sans MS"/>
            </a:endParaRPr>
          </a:p>
        </p:txBody>
      </p:sp>
      <p:sp>
        <p:nvSpPr>
          <p:cNvPr id="230" name="6 Slayt Numarası Yer Tutucusu"/>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AAF9-5DB6-4B10-BC1E-4508BBB11729}" type="slidenum">
              <a:rPr b="0" lang="tr-TR"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31" name="PlaceHolder 1"/>
          <p:cNvSpPr>
            <a:spLocks noGrp="1"/>
          </p:cNvSpPr>
          <p:nvPr>
            <p:ph type="title"/>
          </p:nvPr>
        </p:nvSpPr>
        <p:spPr>
          <a:xfrm>
            <a:off x="685440" y="151920"/>
            <a:ext cx="68706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6699"/>
                </a:solidFill>
                <a:latin typeface="Comic Sans MS"/>
              </a:rPr>
              <a:t>SINAV ÖNCESİNDE DİKKAT ETMENİZ GEREKENLER</a:t>
            </a:r>
            <a:endParaRPr b="0" lang="en-US" sz="3200" spc="-1" strike="noStrike">
              <a:solidFill>
                <a:srgbClr val="000000"/>
              </a:solidFill>
              <a:latin typeface="Comic Sans MS"/>
            </a:endParaRPr>
          </a:p>
        </p:txBody>
      </p:sp>
      <p:sp>
        <p:nvSpPr>
          <p:cNvPr id="232" name="PlaceHolder 2"/>
          <p:cNvSpPr>
            <a:spLocks noGrp="1"/>
          </p:cNvSpPr>
          <p:nvPr>
            <p:ph/>
          </p:nvPr>
        </p:nvSpPr>
        <p:spPr>
          <a:xfrm>
            <a:off x="685440" y="1484280"/>
            <a:ext cx="7558200" cy="46814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Son bir hafta uyku düzeninize dikkat edin. Erken yatmaya özen gösteri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Sınavla ilgili belgeleriniz tamam mı? Eksikleriniz var mı? Eksikleriniz varsa, ilgili kurumlardan bu eksikleri mutlaka gideri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Sınava gireceğiniz okulu mutlaka önceden görü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Sınav yerine ne çok erken ne de çok geç gidin. 1 saat önce sınav yerinde olmanız önerilir.</a:t>
            </a:r>
            <a:endParaRPr b="0" lang="en-US" sz="2800" spc="-1" strike="noStrike">
              <a:solidFill>
                <a:srgbClr val="000000"/>
              </a:solidFill>
              <a:latin typeface="Comic Sans M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4 Veri Yer Tutucusu"/>
          <p:cNvSpPr/>
          <p:nvPr/>
        </p:nvSpPr>
        <p:spPr>
          <a:xfrm>
            <a:off x="13716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8A495-4932-4BB3-9D6E-2CE65B2F17AA}" type="datetime">
              <a:rPr b="0" lang="tr-TR" sz="1400" spc="-1" strike="noStrike">
                <a:solidFill>
                  <a:srgbClr val="000000"/>
                </a:solidFill>
                <a:latin typeface="Comic Sans MS"/>
              </a:rPr>
              <a:t>30.07.26</a:t>
            </a:fld>
            <a:endParaRPr b="0" lang="en-US" sz="1400" spc="-1" strike="noStrike">
              <a:solidFill>
                <a:srgbClr val="000000"/>
              </a:solidFill>
              <a:latin typeface="Comic Sans MS"/>
            </a:endParaRPr>
          </a:p>
        </p:txBody>
      </p:sp>
      <p:sp>
        <p:nvSpPr>
          <p:cNvPr id="234" name="6 Slayt Numarası Yer Tutucusu"/>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C9D6-0BC6-4101-AA05-38C927A64A59}" type="slidenum">
              <a:rPr b="0" lang="tr-TR"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35" name="PlaceHolder 1"/>
          <p:cNvSpPr>
            <a:spLocks noGrp="1"/>
          </p:cNvSpPr>
          <p:nvPr>
            <p:ph/>
          </p:nvPr>
        </p:nvSpPr>
        <p:spPr>
          <a:xfrm>
            <a:off x="685800" y="475920"/>
            <a:ext cx="7773840" cy="50101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Sınav akşamı kullanacağınız araçları yedekli olarak hazırlayın.</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Sabah sınava yetişebileceğiniz saatte kalkın ve mutlaka kahvaltı yapın.</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Kahvaltıda genelde her gün yediğiniz yiyecekleri tercih edin.</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Evden çıkarken mutlaka gerekli belgelerinizi alıp almadığınızı kontrol edin.</a:t>
            </a:r>
            <a:endParaRPr b="0" lang="en-US" sz="2800" spc="-1" strike="noStrike">
              <a:solidFill>
                <a:srgbClr val="000000"/>
              </a:solidFill>
              <a:latin typeface="Comic Sans M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4 Veri Yer Tutucusu"/>
          <p:cNvSpPr/>
          <p:nvPr/>
        </p:nvSpPr>
        <p:spPr>
          <a:xfrm>
            <a:off x="13716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EE09-5B77-4D62-BB0B-939E3342CF3F}" type="datetime">
              <a:rPr b="0" lang="tr-TR" sz="1400" spc="-1" strike="noStrike">
                <a:solidFill>
                  <a:srgbClr val="000000"/>
                </a:solidFill>
                <a:latin typeface="Comic Sans MS"/>
              </a:rPr>
              <a:t>30.07.26</a:t>
            </a:fld>
            <a:endParaRPr b="0" lang="en-US" sz="1400" spc="-1" strike="noStrike">
              <a:solidFill>
                <a:srgbClr val="000000"/>
              </a:solidFill>
              <a:latin typeface="Comic Sans MS"/>
            </a:endParaRPr>
          </a:p>
        </p:txBody>
      </p:sp>
      <p:sp>
        <p:nvSpPr>
          <p:cNvPr id="237" name="6 Slayt Numarası Yer Tutucusu"/>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629C-EC3C-46F4-AC9B-24AD9E38DE88}" type="slidenum">
              <a:rPr b="0" lang="tr-TR"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38" name="PlaceHolder 1"/>
          <p:cNvSpPr>
            <a:spLocks noGrp="1"/>
          </p:cNvSpPr>
          <p:nvPr>
            <p:ph type="title"/>
          </p:nvPr>
        </p:nvSpPr>
        <p:spPr>
          <a:xfrm>
            <a:off x="685440" y="151920"/>
            <a:ext cx="68706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6699"/>
                </a:solidFill>
                <a:latin typeface="Comic Sans MS"/>
              </a:rPr>
              <a:t>SINAV ANINDA DİKKAT ETMEMİZ GEREKENLER...</a:t>
            </a:r>
            <a:endParaRPr b="0" lang="en-US" sz="3200" spc="-1" strike="noStrike">
              <a:solidFill>
                <a:srgbClr val="000000"/>
              </a:solidFill>
              <a:latin typeface="Comic Sans MS"/>
            </a:endParaRPr>
          </a:p>
        </p:txBody>
      </p:sp>
      <p:sp>
        <p:nvSpPr>
          <p:cNvPr id="239" name="PlaceHolder 2"/>
          <p:cNvSpPr>
            <a:spLocks noGrp="1"/>
          </p:cNvSpPr>
          <p:nvPr>
            <p:ph/>
          </p:nvPr>
        </p:nvSpPr>
        <p:spPr>
          <a:xfrm>
            <a:off x="684360" y="1844640"/>
            <a:ext cx="7991280" cy="4392720"/>
          </a:xfrm>
          <a:prstGeom prst="rect">
            <a:avLst/>
          </a:prstGeom>
          <a:noFill/>
          <a:ln w="0">
            <a:noFill/>
          </a:ln>
        </p:spPr>
        <p:txBody>
          <a:bodyPr lIns="92160" rIns="92160" tIns="46080" bIns="4608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Sadece sınava odaklanın. Zamanınızı kaygılanarak, şüpheye düşerek, kendinizi suçlayarak geçirmeyi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66cc"/>
                </a:solidFill>
                <a:latin typeface="Comic Sans MS"/>
              </a:rPr>
              <a:t>     ‘’</a:t>
            </a:r>
            <a:r>
              <a:rPr b="1" lang="tr-TR" sz="2400" spc="-1" strike="noStrike">
                <a:solidFill>
                  <a:srgbClr val="ff66cc"/>
                </a:solidFill>
                <a:latin typeface="Comic Sans MS"/>
              </a:rPr>
              <a:t>NE YAPABİLİRDİM?”</a:t>
            </a:r>
            <a:r>
              <a:rPr b="0" lang="tr-TR" sz="2400" spc="-1" strike="noStrike">
                <a:solidFill>
                  <a:srgbClr val="000000"/>
                </a:solidFill>
                <a:latin typeface="Comic Sans MS"/>
              </a:rPr>
              <a:t>DİYE DEĞİL,</a:t>
            </a:r>
            <a:r>
              <a:rPr b="1" lang="tr-TR" sz="2400" spc="-1" strike="noStrike">
                <a:solidFill>
                  <a:srgbClr val="ff66cc"/>
                </a:solidFill>
                <a:latin typeface="Comic Sans MS"/>
              </a:rPr>
              <a:t>“ŞU ANDA NE YAPABİLİRİM?”</a:t>
            </a:r>
            <a:r>
              <a:rPr b="0" lang="tr-TR" sz="2400" spc="-1" strike="noStrike">
                <a:solidFill>
                  <a:srgbClr val="000000"/>
                </a:solidFill>
                <a:latin typeface="Comic Sans MS"/>
              </a:rPr>
              <a:t>DİYE DÜŞÜNÜN!...</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Sınav esnasındaki endişenin her şeyi bulanık göstereceğini, bildiklerinizin zihninizde net olarak belirmesini önleyeceğini, hiçbir bilgiyi ucundan tutup kaldırmanıza izin vermeyeceğini unutmayın.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Kitapçık türünü kodlamayı unutmayın.</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5800" y="475920"/>
            <a:ext cx="7696080" cy="5473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Önce soruları içlerinden birine takılmadan bütün olarak bir inceleyin. İyi bildiğiniz konular, kolay çözebileceğiniz sorularla göz göze geleceksiniz.</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Soruları dikkatlice okuyu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Sorular için zamanınızı iyi ayarlayı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Anlamadığınız bir yer varsa, sınavı veren kişiden açıklamasını isteyi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Sorularla inatlaşmayı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3 Veri Yer Tutucusu"/>
          <p:cNvSpPr/>
          <p:nvPr/>
        </p:nvSpPr>
        <p:spPr>
          <a:xfrm>
            <a:off x="13716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EA9F-3884-486D-ABDE-25A1F675E11E}" type="datetime">
              <a:rPr b="0" lang="tr-TR" sz="1400" spc="-1" strike="noStrike">
                <a:solidFill>
                  <a:srgbClr val="000000"/>
                </a:solidFill>
                <a:latin typeface="Comic Sans MS"/>
              </a:rPr>
              <a:t>30.07.26</a:t>
            </a:fld>
            <a:endParaRPr b="0" lang="en-US" sz="1400" spc="-1" strike="noStrike">
              <a:solidFill>
                <a:srgbClr val="000000"/>
              </a:solidFill>
              <a:latin typeface="Comic Sans MS"/>
            </a:endParaRPr>
          </a:p>
        </p:txBody>
      </p:sp>
      <p:sp>
        <p:nvSpPr>
          <p:cNvPr id="242" name="5 Slayt Numarası Yer Tutucusu"/>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2A53-3349-420E-9CA2-7ABC5D763C3F}" type="slidenum">
              <a:rPr b="0" lang="tr-TR"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43" name="PlaceHolder 1"/>
          <p:cNvSpPr>
            <a:spLocks noGrp="1"/>
          </p:cNvSpPr>
          <p:nvPr>
            <p:ph/>
          </p:nvPr>
        </p:nvSpPr>
        <p:spPr>
          <a:xfrm>
            <a:off x="539640" y="475920"/>
            <a:ext cx="8375760" cy="5257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Çözümlerde şu sıralamayı izlemeniz yararlı olacaktır:</a:t>
            </a:r>
            <a:endParaRPr b="0" lang="en-US" sz="3200" spc="-1" strike="noStrike">
              <a:solidFill>
                <a:srgbClr val="000000"/>
              </a:solidFill>
              <a:latin typeface="Comic Sans MS"/>
            </a:endParaRPr>
          </a:p>
          <a:p>
            <a:pPr marL="343080" indent="-343080" algn="ctr">
              <a:lnSpc>
                <a:spcPct val="9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En iyi bildiğiniz konular</a:t>
            </a:r>
            <a:endParaRPr b="0" lang="en-US" sz="3200" spc="-1" strike="noStrike">
              <a:solidFill>
                <a:srgbClr val="000000"/>
              </a:solidFill>
              <a:latin typeface="Comic Sans MS"/>
            </a:endParaRPr>
          </a:p>
          <a:p>
            <a:pPr marL="343080" indent="-343080" algn="ctr">
              <a:lnSpc>
                <a:spcPct val="9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66cc"/>
                </a:solidFill>
                <a:latin typeface="Comic Sans MS"/>
              </a:rPr>
              <a:t>Kolay sorular</a:t>
            </a:r>
            <a:endParaRPr b="0" lang="en-US" sz="3200" spc="-1" strike="noStrike">
              <a:solidFill>
                <a:srgbClr val="000000"/>
              </a:solidFill>
              <a:latin typeface="Comic Sans MS"/>
            </a:endParaRPr>
          </a:p>
          <a:p>
            <a:pPr marL="343080" indent="-343080" algn="ctr">
              <a:lnSpc>
                <a:spcPct val="9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Çözümü, belli bir yoğunlaşma, işlemler dizisi, zaman isteyen sorular</a:t>
            </a:r>
            <a:endParaRPr b="0" lang="en-US" sz="3200" spc="-1" strike="noStrike">
              <a:solidFill>
                <a:srgbClr val="000000"/>
              </a:solidFill>
              <a:latin typeface="Comic Sans MS"/>
            </a:endParaRPr>
          </a:p>
          <a:p>
            <a:pPr marL="343080" indent="-343080" algn="ctr">
              <a:lnSpc>
                <a:spcPct val="9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66cc"/>
                </a:solidFill>
                <a:latin typeface="Comic Sans MS"/>
              </a:rPr>
              <a:t>Hatırlamak için kendinizi zorlayacağınız sorular</a:t>
            </a:r>
            <a:endParaRPr b="0" lang="en-US" sz="3200" spc="-1" strike="noStrike">
              <a:solidFill>
                <a:srgbClr val="000000"/>
              </a:solidFill>
              <a:latin typeface="Comic Sans MS"/>
            </a:endParaRPr>
          </a:p>
          <a:p>
            <a:pPr marL="343080" indent="-343080" algn="ctr">
              <a:lnSpc>
                <a:spcPct val="9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Cevapları hakkında yeterli bilgiye sahip olmadığınız sorular</a:t>
            </a:r>
            <a:endParaRPr b="0" lang="en-US" sz="3200" spc="-1" strike="noStrike">
              <a:solidFill>
                <a:srgbClr val="000000"/>
              </a:solidFill>
              <a:latin typeface="Comic Sans MS"/>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4 Veri Yer Tutucusu"/>
          <p:cNvSpPr/>
          <p:nvPr/>
        </p:nvSpPr>
        <p:spPr>
          <a:xfrm>
            <a:off x="13716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A8B4-EC59-4142-8A28-DD8F7D45FBE6}" type="datetime">
              <a:rPr b="0" lang="tr-TR" sz="1400" spc="-1" strike="noStrike">
                <a:solidFill>
                  <a:srgbClr val="000000"/>
                </a:solidFill>
                <a:latin typeface="Comic Sans MS"/>
              </a:rPr>
              <a:t>30.07.26</a:t>
            </a:fld>
            <a:endParaRPr b="0" lang="en-US" sz="1400" spc="-1" strike="noStrike">
              <a:solidFill>
                <a:srgbClr val="000000"/>
              </a:solidFill>
              <a:latin typeface="Comic Sans MS"/>
            </a:endParaRPr>
          </a:p>
        </p:txBody>
      </p:sp>
      <p:sp>
        <p:nvSpPr>
          <p:cNvPr id="245" name="6 Slayt Numarası Yer Tutucusu"/>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DFA0E-3D16-4EBE-820E-2A4A0F241E9E}" type="slidenum">
              <a:rPr b="0" lang="tr-TR"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46" name="PlaceHolder 1"/>
          <p:cNvSpPr>
            <a:spLocks noGrp="1"/>
          </p:cNvSpPr>
          <p:nvPr>
            <p:ph/>
          </p:nvPr>
        </p:nvSpPr>
        <p:spPr>
          <a:xfrm>
            <a:off x="610920" y="475920"/>
            <a:ext cx="7630920" cy="5545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Zaman zaman duruşunuzu, oturma pozisyonunuzu değiştirin, bu sizi rahatlatacaktır.</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Çok heyecanlanıp aklınıza bir sorunun cevabı gelmediğinde o soruyu geçin.</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Sınıf arkadaşlarınız sınavı erkenden bitirip çıkmaya başladığında panik olmayın,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	</a:t>
            </a:r>
            <a:r>
              <a:rPr b="0" lang="tr-TR" sz="2400" spc="-1" strike="noStrike">
                <a:solidFill>
                  <a:srgbClr val="000000"/>
                </a:solidFill>
                <a:latin typeface="Comic Sans MS"/>
              </a:rPr>
              <a:t>	</a:t>
            </a:r>
            <a:r>
              <a:rPr b="0" lang="tr-TR" sz="2400" spc="-1" strike="noStrike">
                <a:solidFill>
                  <a:srgbClr val="000000"/>
                </a:solidFill>
                <a:latin typeface="Comic Sans MS"/>
              </a:rPr>
              <a:t>unutmayın: </a:t>
            </a:r>
            <a:r>
              <a:rPr b="0" lang="tr-TR" sz="2400" spc="-1" strike="noStrike">
                <a:solidFill>
                  <a:srgbClr val="ff6699"/>
                </a:solidFill>
                <a:latin typeface="Comic Sans MS"/>
              </a:rPr>
              <a:t>“ERKEN BİTİRENLERE FAZLA PUAN VERİLMİYO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685800" y="549360"/>
            <a:ext cx="7696080" cy="54007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cc"/>
                </a:solidFill>
                <a:latin typeface="Comic Sans MS"/>
              </a:rPr>
              <a:t>BİZİ DİNLEDİĞİNİZ İÇİN </a:t>
            </a:r>
            <a:endParaRPr b="0" lang="en-US" sz="4400" spc="-1" strike="noStrike">
              <a:solidFill>
                <a:srgbClr val="000000"/>
              </a:solidFill>
              <a:latin typeface="Comic Sans MS"/>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cc"/>
                </a:solidFill>
                <a:latin typeface="Comic Sans MS"/>
              </a:rPr>
              <a:t>TEŞEKKÜR EDERİZ</a:t>
            </a:r>
            <a:endParaRPr b="0" lang="en-US" sz="4400" spc="-1" strike="noStrike">
              <a:solidFill>
                <a:srgbClr val="000000"/>
              </a:solidFill>
              <a:latin typeface="Comic Sans MS"/>
            </a:endParaRPr>
          </a:p>
          <a:p>
            <a:pPr marL="3430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cc"/>
                </a:solidFill>
                <a:latin typeface="Comic Sans MS"/>
              </a:rPr>
              <a:t>Bergama</a:t>
            </a:r>
            <a:endParaRPr b="0" lang="en-US" sz="36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cc"/>
                </a:solidFill>
                <a:latin typeface="Comic Sans MS"/>
              </a:rPr>
              <a:t>    </a:t>
            </a:r>
            <a:r>
              <a:rPr b="0" lang="tr-TR" sz="3600" spc="-1" strike="noStrike">
                <a:solidFill>
                  <a:srgbClr val="3333cc"/>
                </a:solidFill>
                <a:latin typeface="Comic Sans MS"/>
              </a:rPr>
              <a:t>Rehberlik ve Araştırma Merkezi</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88640"/>
            <a:ext cx="7486560" cy="1563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703dff"/>
                </a:solidFill>
                <a:latin typeface="Comic Sans MS"/>
              </a:rPr>
              <a:t>Kaygı ile Korkunun karşılaştırılması</a:t>
            </a:r>
            <a:endParaRPr b="0" lang="en-US" sz="4400" spc="-1" strike="noStrike">
              <a:solidFill>
                <a:srgbClr val="000000"/>
              </a:solidFill>
              <a:latin typeface="Comic Sans MS"/>
            </a:endParaRPr>
          </a:p>
        </p:txBody>
      </p:sp>
      <p:sp>
        <p:nvSpPr>
          <p:cNvPr id="166" name="PlaceHolder 2"/>
          <p:cNvSpPr>
            <a:spLocks noGrp="1"/>
          </p:cNvSpPr>
          <p:nvPr>
            <p:ph/>
          </p:nvPr>
        </p:nvSpPr>
        <p:spPr>
          <a:xfrm>
            <a:off x="685440" y="1628280"/>
            <a:ext cx="8062920" cy="424836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Kaygı; kişinin duygusal ya da düşünsel baskı altında olduğu zamanlarda ortaya çıkan bir tepkidir.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Kaygı korku değildir. Çünkü korkuda fiziksel varlığımızı tehdit eden unsurlar vardır. Kaygıda ise fiziksel varlığımıza yönelik bir tehlike yoktur.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250920" y="691920"/>
            <a:ext cx="8642160" cy="5761080"/>
          </a:xfrm>
          <a:prstGeom prst="rect">
            <a:avLst/>
          </a:prstGeom>
          <a:noFill/>
          <a:ln w="0">
            <a:noFill/>
          </a:ln>
        </p:spPr>
        <p:txBody>
          <a:bodyPr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Kaygıyı tamamen kendi olumsuz düşüncelerimiz sonucu üretiriz. Kaygının kaynağı belirsizdir. “Ben yılandan korkarım” da olduğu gibi korkunun kaynağı belirlidir. </a:t>
            </a:r>
            <a:endParaRPr b="0" lang="en-US" sz="3200" spc="-1" strike="noStrike">
              <a:solidFill>
                <a:srgbClr val="000000"/>
              </a:solidFill>
              <a:latin typeface="Comic Sans MS"/>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Korku daha kısa sürelidir,kaygı ise daha uzun süre devam eder. </a:t>
            </a:r>
            <a:endParaRPr b="0" lang="en-US" sz="3200" spc="-1" strike="noStrike">
              <a:solidFill>
                <a:srgbClr val="000000"/>
              </a:solidFill>
              <a:latin typeface="Comic Sans MS"/>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Korku kaygıdan daha şiddetlidir. </a:t>
            </a:r>
            <a:endParaRPr b="0" lang="en-US" sz="3200" spc="-1" strike="noStrike">
              <a:solidFill>
                <a:srgbClr val="000000"/>
              </a:solidFill>
              <a:latin typeface="Comic Sans MS"/>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	</a:t>
            </a:r>
            <a:r>
              <a:rPr b="0" lang="tr-TR" sz="3200" spc="-1" strike="noStrike">
                <a:solidFill>
                  <a:srgbClr val="000000"/>
                </a:solidFill>
                <a:latin typeface="Comic Sans MS"/>
              </a:rPr>
              <a:t>	</a:t>
            </a:r>
            <a:endParaRPr b="0" lang="en-US" sz="32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67"/>
                                        </p:tgtEl>
                                        <p:attrNameLst>
                                          <p:attrName>style.visibility</p:attrName>
                                        </p:attrNameLst>
                                      </p:cBhvr>
                                      <p:to>
                                        <p:strVal val="visible"/>
                                      </p:to>
                                    </p:set>
                                    <p:animEffect filter="fade" transition="in">
                                      <p:cBhvr additive="repl">
                                        <p:cTn id="7"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475920"/>
            <a:ext cx="8208720" cy="5257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3394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Hazırlanması gereken derslerin birikip ağırlaşması, sizden beklenenlerin fazlalığı ve bütün bunları nasıl yapacağınızı bilememeniz büyük bir yük oluşturur ve bu da zamanla bıkkınlık verir. Herkesin dönem dönem yaşadığı bu usanma ve karamsarlık son derece normaldir.</a:t>
            </a:r>
            <a:r>
              <a:rPr b="0" lang="tr-TR" sz="2000" spc="-1" strike="noStrike">
                <a:solidFill>
                  <a:srgbClr val="000000"/>
                </a:solidFill>
                <a:latin typeface="Comic Sans MS"/>
              </a:rPr>
              <a:t> </a:t>
            </a:r>
            <a:endParaRPr b="0" lang="en-US" sz="2000" spc="-1" strike="noStrike">
              <a:solidFill>
                <a:srgbClr val="000000"/>
              </a:solidFill>
              <a:latin typeface="Comic Sans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Normal olmayan ise, gereksiz olan bu duygular karşısında ümitsizliğe kapılmak, kendinizi çaresiz ve güçsüz hissederek çalışmayı ve mücadeleyi bırakmaktır. </a:t>
            </a:r>
            <a:endParaRPr b="0" lang="en-US" sz="2800" spc="-1" strike="noStrike">
              <a:solidFill>
                <a:srgbClr val="000000"/>
              </a:solidFill>
              <a:latin typeface="Comic Sans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333000"/>
            <a:ext cx="8362800" cy="554364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Genel olarak insanlar kaygıyı, gelecek ile ilgili karamsarlık, başarısızlık,endişe,umutsuzluk,karışıklık duygularıyla birlikte dile getirirler.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Sınav kaygısı da böyle başlar. “Sınavı kazanamazsam her şey biter,hayatım mahvolur,herkese rezil olurum” vb. düşüncelere kapılarak sınava girmeden kaygı hali başlar.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Sınav kaygısı, sınav sonucunda olumsuz bir sonuç umulduğu için olu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9">
                                  <p:stCondLst>
                                    <p:cond delay="0"/>
                                  </p:stCondLst>
                                  <p:iterate type="lt">
                                    <p:tmAbs val="50"/>
                                  </p:iterate>
                                  <p:childTnLst>
                                    <p:set>
                                      <p:cBhvr>
                                        <p:cTn id="13" dur="1" fill="hold">
                                          <p:stCondLst>
                                            <p:cond delay="0"/>
                                          </p:stCondLst>
                                        </p:cTn>
                                        <p:tgtEl>
                                          <p:spTgt spid="169">
                                            <p:txEl>
                                              <p:pRg st="0" end="0"/>
                                            </p:txEl>
                                          </p:spTgt>
                                        </p:tgtEl>
                                        <p:attrNameLst>
                                          <p:attrName>style.visibility</p:attrName>
                                        </p:attrNameLst>
                                      </p:cBhvr>
                                      <p:to>
                                        <p:strVal val="visible"/>
                                      </p:to>
                                    </p:set>
                                    <p:anim calcmode="lin" valueType="num">
                                      <p:cBhvr additive="repl">
                                        <p:cTn id="14"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16" dur="500" fill="hold"/>
                                        <p:tgtEl>
                                          <p:spTgt spid="169">
                                            <p:txEl>
                                              <p:pRg st="0" end="0"/>
                                            </p:txEl>
                                          </p:spTgt>
                                        </p:tgtEl>
                                        <p:attrNameLst>
                                          <p:attrName>r</p:attrName>
                                        </p:attrNameLst>
                                      </p:cBhvr>
                                      <p:tavLst>
                                        <p:tav tm="0">
                                          <p:val>
                                            <p:strVal val="360"/>
                                          </p:val>
                                        </p:tav>
                                        <p:tav tm="100000">
                                          <p:val>
                                            <p:strVal val="0"/>
                                          </p:val>
                                        </p:tav>
                                      </p:tavLst>
                                    </p:anim>
                                    <p:animEffect filter="fade" transition="in">
                                      <p:cBhvr additive="repl">
                                        <p:cTn id="17" dur="500"/>
                                        <p:tgtEl>
                                          <p:spTgt spid="169">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9">
                                  <p:stCondLst>
                                    <p:cond delay="0"/>
                                  </p:stCondLst>
                                  <p:iterate type="lt">
                                    <p:tmAbs val="50"/>
                                  </p:iterate>
                                  <p:childTnLst>
                                    <p:set>
                                      <p:cBhvr>
                                        <p:cTn id="21" dur="1" fill="hold">
                                          <p:stCondLst>
                                            <p:cond delay="0"/>
                                          </p:stCondLst>
                                        </p:cTn>
                                        <p:tgtEl>
                                          <p:spTgt spid="169">
                                            <p:txEl>
                                              <p:pRg st="1" end="1"/>
                                            </p:txEl>
                                          </p:spTgt>
                                        </p:tgtEl>
                                        <p:attrNameLst>
                                          <p:attrName>style.visibility</p:attrName>
                                        </p:attrNameLst>
                                      </p:cBhvr>
                                      <p:to>
                                        <p:strVal val="visible"/>
                                      </p:to>
                                    </p:set>
                                    <p:anim calcmode="lin" valueType="num">
                                      <p:cBhvr additive="repl">
                                        <p:cTn id="22"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23" dur="500" fill="hold"/>
                                        <p:tgtEl>
                                          <p:spTgt spid="169">
                                            <p:txEl>
                                              <p:pRg st="1" end="1"/>
                                            </p:txEl>
                                          </p:spTgt>
                                        </p:tgtEl>
                                        <p:attrNameLst>
                                          <p:attrName>ppt_h</p:attrName>
                                        </p:attrNameLst>
                                      </p:cBhvr>
                                      <p:tavLst>
                                        <p:tav tm="0">
                                          <p:val>
                                            <p:fltVal val="0"/>
                                          </p:val>
                                        </p:tav>
                                        <p:tav tm="100000">
                                          <p:val>
                                            <p:strVal val="#ppt_h"/>
                                          </p:val>
                                        </p:tav>
                                      </p:tavLst>
                                    </p:anim>
                                    <p:anim calcmode="lin" valueType="num">
                                      <p:cBhvr additive="repl">
                                        <p:cTn id="24" dur="500" fill="hold"/>
                                        <p:tgtEl>
                                          <p:spTgt spid="169">
                                            <p:txEl>
                                              <p:pRg st="1" end="1"/>
                                            </p:txEl>
                                          </p:spTgt>
                                        </p:tgtEl>
                                        <p:attrNameLst>
                                          <p:attrName>r</p:attrName>
                                        </p:attrNameLst>
                                      </p:cBhvr>
                                      <p:tavLst>
                                        <p:tav tm="0">
                                          <p:val>
                                            <p:strVal val="360"/>
                                          </p:val>
                                        </p:tav>
                                        <p:tav tm="100000">
                                          <p:val>
                                            <p:strVal val="0"/>
                                          </p:val>
                                        </p:tav>
                                      </p:tavLst>
                                    </p:anim>
                                    <p:animEffect filter="fade" transition="in">
                                      <p:cBhvr additive="repl">
                                        <p:cTn id="25" dur="500"/>
                                        <p:tgtEl>
                                          <p:spTgt spid="169">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9">
                                  <p:stCondLst>
                                    <p:cond delay="0"/>
                                  </p:stCondLst>
                                  <p:iterate type="lt">
                                    <p:tmAbs val="50"/>
                                  </p:iterate>
                                  <p:childTnLst>
                                    <p:set>
                                      <p:cBhvr>
                                        <p:cTn id="29" dur="1" fill="hold">
                                          <p:stCondLst>
                                            <p:cond delay="0"/>
                                          </p:stCondLst>
                                        </p:cTn>
                                        <p:tgtEl>
                                          <p:spTgt spid="169">
                                            <p:txEl>
                                              <p:pRg st="2" end="2"/>
                                            </p:txEl>
                                          </p:spTgt>
                                        </p:tgtEl>
                                        <p:attrNameLst>
                                          <p:attrName>style.visibility</p:attrName>
                                        </p:attrNameLst>
                                      </p:cBhvr>
                                      <p:to>
                                        <p:strVal val="visible"/>
                                      </p:to>
                                    </p:set>
                                    <p:anim calcmode="lin" valueType="num">
                                      <p:cBhvr additive="repl">
                                        <p:cTn id="30" dur="500" fill="hold"/>
                                        <p:tgtEl>
                                          <p:spTgt spid="169">
                                            <p:txEl>
                                              <p:pRg st="2" end="2"/>
                                            </p:txEl>
                                          </p:spTgt>
                                        </p:tgtEl>
                                        <p:attrNameLst>
                                          <p:attrName>ppt_w</p:attrName>
                                        </p:attrNameLst>
                                      </p:cBhvr>
                                      <p:tavLst>
                                        <p:tav tm="0">
                                          <p:val>
                                            <p:fltVal val="0"/>
                                          </p:val>
                                        </p:tav>
                                        <p:tav tm="100000">
                                          <p:val>
                                            <p:strVal val="#ppt_w"/>
                                          </p:val>
                                        </p:tav>
                                      </p:tavLst>
                                    </p:anim>
                                    <p:anim calcmode="lin" valueType="num">
                                      <p:cBhvr additive="repl">
                                        <p:cTn id="31" dur="500" fill="hold"/>
                                        <p:tgtEl>
                                          <p:spTgt spid="169">
                                            <p:txEl>
                                              <p:pRg st="2" end="2"/>
                                            </p:txEl>
                                          </p:spTgt>
                                        </p:tgtEl>
                                        <p:attrNameLst>
                                          <p:attrName>ppt_h</p:attrName>
                                        </p:attrNameLst>
                                      </p:cBhvr>
                                      <p:tavLst>
                                        <p:tav tm="0">
                                          <p:val>
                                            <p:fltVal val="0"/>
                                          </p:val>
                                        </p:tav>
                                        <p:tav tm="100000">
                                          <p:val>
                                            <p:strVal val="#ppt_h"/>
                                          </p:val>
                                        </p:tav>
                                      </p:tavLst>
                                    </p:anim>
                                    <p:anim calcmode="lin" valueType="num">
                                      <p:cBhvr additive="repl">
                                        <p:cTn id="32" dur="500" fill="hold"/>
                                        <p:tgtEl>
                                          <p:spTgt spid="169">
                                            <p:txEl>
                                              <p:pRg st="2" end="2"/>
                                            </p:txEl>
                                          </p:spTgt>
                                        </p:tgtEl>
                                        <p:attrNameLst>
                                          <p:attrName>r</p:attrName>
                                        </p:attrNameLst>
                                      </p:cBhvr>
                                      <p:tavLst>
                                        <p:tav tm="0">
                                          <p:val>
                                            <p:strVal val="360"/>
                                          </p:val>
                                        </p:tav>
                                        <p:tav tm="100000">
                                          <p:val>
                                            <p:strVal val="0"/>
                                          </p:val>
                                        </p:tav>
                                      </p:tavLst>
                                    </p:anim>
                                    <p:animEffect filter="fade" transition="in">
                                      <p:cBhvr additive="repl">
                                        <p:cTn id="33" dur="5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94800" y="152280"/>
            <a:ext cx="6861240" cy="1355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Kaygı Yararlı Olabilir mi?</a:t>
            </a:r>
            <a:endParaRPr b="0" lang="en-US" sz="3200" spc="-1" strike="noStrike">
              <a:solidFill>
                <a:srgbClr val="000000"/>
              </a:solidFill>
              <a:latin typeface="Comic Sans MS"/>
            </a:endParaRPr>
          </a:p>
        </p:txBody>
      </p:sp>
      <p:sp>
        <p:nvSpPr>
          <p:cNvPr id="171" name="PlaceHolder 2"/>
          <p:cNvSpPr>
            <a:spLocks noGrp="1"/>
          </p:cNvSpPr>
          <p:nvPr>
            <p:ph/>
          </p:nvPr>
        </p:nvSpPr>
        <p:spPr>
          <a:xfrm>
            <a:off x="250920" y="1267920"/>
            <a:ext cx="8137440" cy="4537080"/>
          </a:xfrm>
          <a:prstGeom prst="rect">
            <a:avLst/>
          </a:prstGeom>
          <a:noFill/>
          <a:ln w="0">
            <a:noFill/>
          </a:ln>
        </p:spPr>
        <p:txBody>
          <a:bodyPr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 </a:t>
            </a:r>
            <a:r>
              <a:rPr b="0" lang="tr-TR" sz="3200" spc="-1" strike="noStrike">
                <a:solidFill>
                  <a:srgbClr val="000000"/>
                </a:solidFill>
                <a:latin typeface="Comic Sans MS"/>
              </a:rPr>
              <a:t>Kaygının derecesi ve başarmayı amaçladığımız görevin zorluk seviyesi, kaygının zararlı ya da yararlı olduğunu belirler. </a:t>
            </a:r>
            <a:endParaRPr b="0" lang="en-US" sz="3200" spc="-1" strike="noStrike">
              <a:solidFill>
                <a:srgbClr val="000000"/>
              </a:solidFill>
              <a:latin typeface="Comic Sans MS"/>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Öğrenilen malzeme basit ve kolaysa, yüksek kaygı derecesi bunun çabuk öğrenilmesine yol açar. Öğrenilen malzeme karmaşık ve zorsa, o zaman yüksek kaygı öğrenmeyi zorlaştırır. </a:t>
            </a:r>
            <a:endParaRPr b="0" lang="en-US" sz="3200" spc="-1" strike="noStrike">
              <a:solidFill>
                <a:srgbClr val="000000"/>
              </a:solidFill>
              <a:latin typeface="Comic Sans MS"/>
            </a:endParaRPr>
          </a:p>
        </p:txBody>
      </p:sp>
    </p:spTree>
  </p:cSld>
  <p:transition>
    <p:comb dir="horz"/>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30">
                                  <p:stCondLst>
                                    <p:cond delay="0"/>
                                  </p:stCondLst>
                                  <p:childTnLst>
                                    <p:set>
                                      <p:cBhvr>
                                        <p:cTn id="39" dur="1" fill="hold">
                                          <p:stCondLst>
                                            <p:cond delay="0"/>
                                          </p:stCondLst>
                                        </p:cTn>
                                        <p:tgtEl>
                                          <p:spTgt spid="170"/>
                                        </p:tgtEl>
                                        <p:attrNameLst>
                                          <p:attrName>style.visibility</p:attrName>
                                        </p:attrNameLst>
                                      </p:cBhvr>
                                      <p:to>
                                        <p:strVal val="visible"/>
                                      </p:to>
                                    </p:set>
                                    <p:animEffect filter="fade" transition="in">
                                      <p:cBhvr additive="repl">
                                        <p:cTn id="40" dur="800"/>
                                        <p:tgtEl>
                                          <p:spTgt spid="170"/>
                                        </p:tgtEl>
                                      </p:cBhvr>
                                    </p:animEffect>
                                    <p:anim calcmode="lin" valueType="num">
                                      <p:cBhvr additive="repl">
                                        <p:cTn id="41" dur="800" fill="hold"/>
                                        <p:tgtEl>
                                          <p:spTgt spid="170"/>
                                        </p:tgtEl>
                                        <p:attrNameLst>
                                          <p:attrName>r</p:attrName>
                                        </p:attrNameLst>
                                      </p:cBhvr>
                                      <p:tavLst>
                                        <p:tav tm="0">
                                          <p:val>
                                            <p:strVal val="-90"/>
                                          </p:val>
                                        </p:tav>
                                        <p:tav tm="100000">
                                          <p:val>
                                            <p:strVal val="0"/>
                                          </p:val>
                                        </p:tav>
                                      </p:tavLst>
                                    </p:anim>
                                    <p:anim calcmode="lin" valueType="num">
                                      <p:cBhvr additive="repl">
                                        <p:cTn id="42" dur="800" fill="hold"/>
                                        <p:tgtEl>
                                          <p:spTgt spid="170"/>
                                        </p:tgtEl>
                                        <p:attrNameLst>
                                          <p:attrName>ppt_x</p:attrName>
                                        </p:attrNameLst>
                                      </p:cBhvr>
                                      <p:tavLst>
                                        <p:tav tm="0">
                                          <p:val>
                                            <p:strVal val="#ppt_x+0.4"/>
                                          </p:val>
                                        </p:tav>
                                        <p:tav tm="100000">
                                          <p:val>
                                            <p:strVal val="#ppt_x-0.05"/>
                                          </p:val>
                                        </p:tav>
                                      </p:tavLst>
                                    </p:anim>
                                    <p:anim calcmode="lin" valueType="num">
                                      <p:cBhvr additive="repl">
                                        <p:cTn id="43" dur="800" fill="hold"/>
                                        <p:tgtEl>
                                          <p:spTgt spid="170"/>
                                        </p:tgtEl>
                                        <p:attrNameLst>
                                          <p:attrName>ppt_y</p:attrName>
                                        </p:attrNameLst>
                                      </p:cBhvr>
                                      <p:tavLst>
                                        <p:tav tm="0">
                                          <p:val>
                                            <p:strVal val="#ppt_y-0.4"/>
                                          </p:val>
                                        </p:tav>
                                        <p:tav tm="100000">
                                          <p:val>
                                            <p:strVal val="#ppt_y+0.1"/>
                                          </p:val>
                                        </p:tav>
                                      </p:tavLst>
                                    </p:anim>
                                    <p:anim calcmode="lin" valueType="num">
                                      <p:cBhvr additive="repl">
                                        <p:cTn id="44" dur="200" fill="hold">
                                          <p:stCondLst>
                                            <p:cond delay="800"/>
                                          </p:stCondLst>
                                        </p:cTn>
                                        <p:tgtEl>
                                          <p:spTgt spid="170"/>
                                        </p:tgtEl>
                                        <p:attrNameLst>
                                          <p:attrName>ppt_x</p:attrName>
                                        </p:attrNameLst>
                                      </p:cBhvr>
                                      <p:tavLst>
                                        <p:tav tm="0">
                                          <p:val>
                                            <p:strVal val="#ppt_x-0.05"/>
                                          </p:val>
                                        </p:tav>
                                        <p:tav tm="100000">
                                          <p:val>
                                            <p:strVal val="#ppt_x"/>
                                          </p:val>
                                        </p:tav>
                                      </p:tavLst>
                                    </p:anim>
                                    <p:anim calcmode="lin" valueType="num">
                                      <p:cBhvr additive="repl">
                                        <p:cTn id="45" dur="200" fill="hold">
                                          <p:stCondLst>
                                            <p:cond delay="800"/>
                                          </p:stCondLst>
                                        </p:cTn>
                                        <p:tgtEl>
                                          <p:spTgt spid="170"/>
                                        </p:tgtEl>
                                        <p:attrNameLst>
                                          <p:attrName>ppt_y</p:attrName>
                                        </p:attrNameLst>
                                      </p:cBhvr>
                                      <p:tavLst>
                                        <p:tav tm="0">
                                          <p:val>
                                            <p:strVal val="#ppt_y+0.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171">
                                            <p:txEl>
                                              <p:pRg st="0" end="0"/>
                                            </p:txEl>
                                          </p:spTgt>
                                        </p:tgtEl>
                                        <p:attrNameLst>
                                          <p:attrName>style.visibility</p:attrName>
                                        </p:attrNameLst>
                                      </p:cBhvr>
                                      <p:to>
                                        <p:strVal val="visible"/>
                                      </p:to>
                                    </p:set>
                                    <p:animEffect filter="fade" transition="in">
                                      <p:cBhvr additive="repl">
                                        <p:cTn id="50" dur="1000"/>
                                        <p:tgtEl>
                                          <p:spTgt spid="171">
                                            <p:txEl>
                                              <p:pRg st="0" end="0"/>
                                            </p:txEl>
                                          </p:spTgt>
                                        </p:tgtEl>
                                      </p:cBhvr>
                                    </p:animEffect>
                                    <p:anim calcmode="lin" valueType="num">
                                      <p:cBhvr additive="repl">
                                        <p:cTn id="51"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7">
                                  <p:stCondLst>
                                    <p:cond delay="0"/>
                                  </p:stCondLst>
                                  <p:childTnLst>
                                    <p:set>
                                      <p:cBhvr>
                                        <p:cTn id="56" dur="1" fill="hold">
                                          <p:stCondLst>
                                            <p:cond delay="0"/>
                                          </p:stCondLst>
                                        </p:cTn>
                                        <p:tgtEl>
                                          <p:spTgt spid="171">
                                            <p:txEl>
                                              <p:pRg st="1" end="1"/>
                                            </p:txEl>
                                          </p:spTgt>
                                        </p:tgtEl>
                                        <p:attrNameLst>
                                          <p:attrName>style.visibility</p:attrName>
                                        </p:attrNameLst>
                                      </p:cBhvr>
                                      <p:to>
                                        <p:strVal val="visible"/>
                                      </p:to>
                                    </p:set>
                                    <p:animEffect filter="fade" transition="in">
                                      <p:cBhvr additive="repl">
                                        <p:cTn id="57" dur="1000"/>
                                        <p:tgtEl>
                                          <p:spTgt spid="171">
                                            <p:txEl>
                                              <p:pRg st="1" end="1"/>
                                            </p:txEl>
                                          </p:spTgt>
                                        </p:tgtEl>
                                      </p:cBhvr>
                                    </p:animEffect>
                                    <p:anim calcmode="lin" valueType="num">
                                      <p:cBhvr additive="repl">
                                        <p:cTn id="58" dur="1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17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NOVO</dc:creator>
  <dc:description/>
  <dc:language>en-US</dc:language>
  <cp:lastModifiedBy>LENOVO</cp:lastModifiedBy>
  <dcterms:modified xsi:type="dcterms:W3CDTF">2015-04-08T15:27:12Z</dcterms:modified>
  <cp:revision>32</cp:revision>
  <dc:subject/>
  <dc:title>PowerPoint Presentation</dc:title>
</cp:coreProperties>
</file>