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6.gif" ContentType="image/gif"/>
  <Override PartName="/ppt/media/image22.wmf" ContentType="image/x-wmf"/>
  <Override PartName="/ppt/media/image20.jpeg" ContentType="image/jpeg"/>
  <Override PartName="/ppt/media/image24.gif" ContentType="image/gif"/>
  <Override PartName="/ppt/media/image32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25.gif" ContentType="image/gif"/>
  <Override PartName="/ppt/media/image13.wmf" ContentType="image/x-wmf"/>
  <Override PartName="/ppt/media/image31.jpeg" ContentType="image/jpeg"/>
  <Override PartName="/ppt/media/image4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40.jpeg" ContentType="image/jpeg"/>
  <Override PartName="/ppt/media/image30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8.wmf" ContentType="image/x-wmf"/>
  <Override PartName="/ppt/media/image3.jpeg" ContentType="image/jpeg"/>
  <Override PartName="/ppt/media/image37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2CB-24A9-43A7-BE81-C4E8F190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326-01FB-47C8-8BC5-0169AA4F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A49-8567-4AE7-A5A6-EBEE5644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2C8-84DE-4D48-B31D-1852A439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E39-041A-44CF-B8FD-1C87DE9C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EAA-7ED3-49A7-A62E-E765335F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D98-8464-4F2E-9993-C568ED70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146-815F-47A1-B1A1-5C619313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756-0A7F-4CAF-A33F-FE54B1A3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FDA-FCC3-4B53-A3B2-DE09640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96C-1860-4294-A6A8-D00CFB7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763-8ABB-475F-82BA-E61C494B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53BD-58C1-415F-96BB-DD4159528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zeded.com/upload/anne-baba-cocuk2%5B1%5D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84360" y="1700280"/>
            <a:ext cx="453564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ınav Kaygısı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Önleme Yollar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AV KAYGISININ ETKİLERİ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Kaygılı Öğrenci Tipleri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ğrenilen bilgileri transfer edem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uduğunu anlama ve düşünceleri organize etmede zorluk yaş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kkatinde bir azalma olur , dikkatini sınavın içeriğine değil sınavın kendisine ve bağlı olarak yaşananlara odak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ihinsel becerileri zayıflar , bu da bilgilerin hatırlanmasını enge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jisi tükenir ve israf edilmiş ol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ürekli tedirgin olup, duygusal tepkileri abartıl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denini bilmediği korkular çek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lelerine bağımlıdır. Ailelerinden sürekli destek bek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736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BU ÖĞRENCİLERDEKİ FİZYOLOJİ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BELİRTİLER NELERDİ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inav_stresi"/>
          <p:cNvPicPr/>
          <p:nvPr/>
        </p:nvPicPr>
        <p:blipFill>
          <a:blip r:embed="rId1"/>
          <a:stretch/>
        </p:blipFill>
        <p:spPr>
          <a:xfrm>
            <a:off x="2771640" y="3213000"/>
            <a:ext cx="345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AV KAYGISININ FİZYOLOJİK BELİRTİLER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p atışlarında hızlan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ızlı nefes alıp-v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ginlik ve/veya sinirlilik h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leme ve/veya ti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in damağın kuru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e şikayet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ğırsak hareketlerinde değişme  (ishal-kabızlı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AV KAYGISININ FİZYOLOJİK BELİRTİLER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aş, şaşkınlı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ş ağrı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zursuz uyku, kabus gör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santrasyon bozukluk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ygı ve korku içeren düşünc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amdan uzaklaşmak ist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rgunluk belirtile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00360" y="4724280"/>
            <a:ext cx="3600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2960" y="-5300280"/>
            <a:ext cx="842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UYGUSAL VE FİZYOLOJİK BAKIMDAN BU DURUMDA OLAN ÖĞRENCİ KENDİNİ NASIL İFADE E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3384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ürekli Kaygı Taşıyan Öğrenci İfadeleri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ınava hazır değili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 bilgiler çok gereksiz ve saçm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ede ve ne zaman kullanacağım ki ?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ınavlar niye yapılıyor, ne gerek var ?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 bilgiler gelecekte benim işime yaramaz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ınava hazırlanmak için gerekli zamanım yok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zaten bu konuları anlamıyoru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iyorum bu sınavda başarılı olama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ınav kötü geçecek.”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5080" y="549360"/>
            <a:ext cx="2428920" cy="3593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089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aha yüksek kaygı yaşayan öğrenci ifadeleri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ba sınavı  kazanabilecek miyi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kadaşlarım kazanır da ben kazanamazsam, onların arasında nasıl  dolaşırım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m babam yemedi yedirdi, giymedi giydirdi,  benim için her şeyi  yaptılar. Bütün  ümitlerini bana bağladırlar, kazanamazsam onların  yüzüne nasıl bakarı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ha hazır değilim,  vakit de çok kısald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ınavı düşündükçe ruhum daralıyor, içim  sıkılıyor, ne yapabilirim k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famı toplayamıyorum,  okuduklarımı anlayamıy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iba sınavı kazanamayacağı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Çalışmak istediğimde bu  düşünceler akla geliyor ve çalışamıy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olacak benim hali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OKS"/>
          <p:cNvPicPr/>
          <p:nvPr/>
        </p:nvPicPr>
        <p:blipFill>
          <a:blip r:embed="rId1"/>
          <a:stretch/>
        </p:blipFill>
        <p:spPr>
          <a:xfrm>
            <a:off x="6877080" y="530064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OKS"/>
          <p:cNvPicPr/>
          <p:nvPr/>
        </p:nvPicPr>
        <p:blipFill>
          <a:blip r:embed="rId2"/>
          <a:stretch/>
        </p:blipFill>
        <p:spPr>
          <a:xfrm>
            <a:off x="6877080" y="549360"/>
            <a:ext cx="201456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447640" cy="223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27640" y="26028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19640" y="1413000"/>
            <a:ext cx="2016000" cy="1677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492360" y="378936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300720" y="4365720"/>
            <a:ext cx="2448000" cy="2303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50920" y="4581360"/>
            <a:ext cx="273672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-5307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 NOKTADA BİZE DÜŞEN NEDİR, NELERİ YAPMAMIZ GEREKİ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816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AYGI İLE BAŞEDİYORUZ…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Öğrenciler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Kaygıyla baş etmede bazı yaklaşım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ndini tanıma yoluyla kaygıyı yen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tekniğini gözden geçi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ikolojik-kaygının kontrol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11280" y="4149720"/>
            <a:ext cx="40957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İÇERİ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ygı ve sınav kaygısı ned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ınav kaygısının belirtileri nelerd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ınav kaygısının olası nedenleri nelerd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 nedenler nasıl kontrol edilebil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zlerin tutumu nasıl olmalıdı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Kendini tanıma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Öncelikle kendinizi tanıyı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yattan beklediklerinizi  sürekli tekrar edi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aygı duyduğunuz alanları tespit edin. Mesela sınava geç kalma korkusu taşıyan bir öğrenci gerekli önlemleri aldığı zaman geç kalmayacağını düşünerek bu kaygısını yenebili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linçaltımız her şeyi not eder. “Ben başarısızım, tembelim, heyecanlıyım, çok hata yapıyorum, sınavdan çok korkuyorum.” bu olumsuz düşünceleri aklınızdan geçirmeyin</a:t>
            </a: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YARARSIZ  VE YARARLI DÜ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Ş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ÜNCE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88000" y="4076640"/>
            <a:ext cx="1938600" cy="1938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4360" y="1773360"/>
            <a:ext cx="3095640" cy="1296720"/>
          </a:xfrm>
          <a:prstGeom prst="wedgeRectCallout">
            <a:avLst>
              <a:gd name="adj1" fmla="val 12000"/>
              <a:gd name="adj2" fmla="val 113523"/>
            </a:avLst>
          </a:prstGeom>
          <a:solidFill>
            <a:srgbClr val="ff0000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iyorum bu sınavda başarılı olamayacağı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73360"/>
            <a:ext cx="2808000" cy="1368360"/>
          </a:xfrm>
          <a:prstGeom prst="wedgeRectCallout">
            <a:avLst>
              <a:gd name="adj1" fmla="val -5453"/>
              <a:gd name="adj2" fmla="val 101277"/>
            </a:avLst>
          </a:prstGeom>
          <a:solidFill>
            <a:srgbClr val="ccff3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şarmak için elimden geleni yapacağı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76360" y="4149720"/>
            <a:ext cx="2154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YARARSIZ  VE YARARLI DÜ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Ş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ÜNCE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47640" y="4581360"/>
            <a:ext cx="1795680" cy="179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1773360"/>
            <a:ext cx="3311640" cy="1800000"/>
          </a:xfrm>
          <a:prstGeom prst="wedgeRectCallout">
            <a:avLst>
              <a:gd name="adj1" fmla="val 26365"/>
              <a:gd name="adj2" fmla="val 88361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 bilgiler çok gereksiz ve saçma. Nerede ve ne zaman kullanacağım k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773360"/>
            <a:ext cx="3529080" cy="1655640"/>
          </a:xfrm>
          <a:prstGeom prst="wedgeRectCallout">
            <a:avLst>
              <a:gd name="adj1" fmla="val -21976"/>
              <a:gd name="adj2" fmla="val 103976"/>
            </a:avLst>
          </a:prstGeom>
          <a:solidFill>
            <a:srgbClr val="ccff33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pabildiğimin en iyisini yapmamın bana ne yararı olabilir? Ne kaybeder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58080" y="442260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YARARSIZ  VE YARARLI DÜ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Ş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ÜNCE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443700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1773360"/>
            <a:ext cx="3095640" cy="1512720"/>
          </a:xfrm>
          <a:prstGeom prst="wedgeRectCallout">
            <a:avLst>
              <a:gd name="adj1" fmla="val 18305"/>
              <a:gd name="adj2" fmla="val 110125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ınava hazırlanmak için gerekli zamanım yok k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1628640"/>
            <a:ext cx="3313080" cy="2160720"/>
          </a:xfrm>
          <a:prstGeom prst="wedgeRectCallout">
            <a:avLst>
              <a:gd name="adj1" fmla="val -13680"/>
              <a:gd name="adj2" fmla="val 70203"/>
            </a:avLst>
          </a:prstGeom>
          <a:solidFill>
            <a:srgbClr val="ccff3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erli zamanımın olmadığı doğ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ak olan zamanımı en etkili şekilde nasıl kullanabilir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2000" y="436572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YARARSIZ  VE YARARLI DÜ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Ş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ÜNCE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24000" y="4508640"/>
            <a:ext cx="1727280" cy="1726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2349360"/>
            <a:ext cx="3311640" cy="1150920"/>
          </a:xfrm>
          <a:prstGeom prst="wedgeRectCallout">
            <a:avLst>
              <a:gd name="adj1" fmla="val 15486"/>
              <a:gd name="adj2" fmla="val 105587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ınavlar niye yapılıyor, ne gerek v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2492280"/>
            <a:ext cx="2520720" cy="1295640"/>
          </a:xfrm>
          <a:prstGeom prst="wedgeRectCallout">
            <a:avLst>
              <a:gd name="adj1" fmla="val -12847"/>
              <a:gd name="adj2" fmla="val 90194"/>
            </a:avLst>
          </a:prstGeom>
          <a:solidFill>
            <a:srgbClr val="ccff3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pmam gereken n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15084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YARARSIZ  VE YARARLI DÜ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Ş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ÜNCE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414828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9640" y="1989000"/>
            <a:ext cx="3527640" cy="1366920"/>
          </a:xfrm>
          <a:prstGeom prst="wedgeRectCallout">
            <a:avLst>
              <a:gd name="adj1" fmla="val 11162"/>
              <a:gd name="adj2" fmla="val 91694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Çok fazla konu var, hangi birine hazırlanabilirim k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628640"/>
            <a:ext cx="3887640" cy="2448000"/>
          </a:xfrm>
          <a:prstGeom prst="wedgeRectCallout">
            <a:avLst>
              <a:gd name="adj1" fmla="val 3166"/>
              <a:gd name="adj2" fmla="val 65175"/>
            </a:avLst>
          </a:prstGeom>
          <a:solidFill>
            <a:srgbClr val="ccff3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üm kaynakları çalışamasam bile, önemli bölümlere öncelik vererek sınava hazırlanabilirim, hiç olmazsa bu bölümlerden puan kazanırı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51640" y="4508640"/>
            <a:ext cx="172692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est tekniği açısından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ınav kitapçıkları dağıtıldığında aceleyle kitapçığı çözme telaşına düşmey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iyi olduğunuz bölümden başlayabilirsiniz. Ama şimdiye kadar denemediğiniz taktikler denemey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lama Tekniği ile soruları çözün. (Bilmediğiniz ve veya emin olmadığınız soruları geri dönüp bakmak üzere işaret koyun). Belli bir bölümü bitirdikten sonra ya da bütün sınavı bitirdikten sonr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84360" y="5589720"/>
            <a:ext cx="45957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est tekniği açısından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dece işaretlediğiniz soruları yeniden çözmek ve boş bırakıp bırakmadığınızı görmek için geri dönü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rulardaki;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eğildi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her zam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hiçbir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irlik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n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ço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n a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ibi vurguları önemseyin, bu vurguların farkında olu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matik ve Fen bölümünde genellikle basit hatalarla soru yanlış yapılır. (Örn: eksi,artı veya dört işlem hataları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ınavdan sonra en çok duyduğum şey, “şimdi getirsinler hepsini çözeyim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132000" y="4797360"/>
            <a:ext cx="3745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36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DOĞRU NEFES ALMA EGZERSİZ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İyi nefes almak iyi, nefes vermekle başlar.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Nefes almadan önce sol elinizi karnınızın üzerine, sağ elinizi göğsünüzün üzerine koyun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Nefes almadan önce ciğerinizi iyice boşalt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Burnunuzdan, sessiz, yavaş yavaş ve derin nefes alarak önce karnınızın, sonra da göğsünüzün şiştiğini hissed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Nefes aldığınız sürenin dört katı kadar süre nefesinizi tutmalısını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Nefes  aldığınız  sürenin   iki   katı   kadar  sürede nefesinizi ağzınızdan ve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588000" y="5300640"/>
            <a:ext cx="2232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5222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  <a:ea typeface="Arial"/>
              </a:rPr>
              <a:t>Günün farklı zamanlarında 40 - 50 kez bu şekilde nefes almak; adrenalin, noradrenalin ve nöropinefrin gibi maddelerin azalmasına ve kaybolmasına neden olur. Böylece bedende gevşeme sağlan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23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KAYGI NEDİR?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ygı kaynağı belirsiz korku ve tedirginlik durumudur  ve var oluşumuzdaki en temel duygulardan biri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260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KISACASI ÖĞRENCİLERİMİZE ŞUNLARI HATIRLATMALIYIZ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DEFLERİNİZİ BELİRLEY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ZIRLIK YA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YKU DÜZENİNİZE DİKKAT ED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LENMENİZE DİKKAT ED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OR YA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LUMLU DÜŞÜNÜ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K DENETİMİ YA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YAL GÜCÜNÜZÜ OLUMLU KULLA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VŞEME TEKNİKLERİNİ ÖĞREN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1600"/>
          <p:cNvPicPr/>
          <p:nvPr/>
        </p:nvPicPr>
        <p:blipFill>
          <a:blip r:embed="rId1"/>
          <a:stretch/>
        </p:blipFill>
        <p:spPr>
          <a:xfrm>
            <a:off x="6227640" y="1413000"/>
            <a:ext cx="29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başarılı_başarısız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2447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yi başarabileceğinizden emin olmazsanı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şarısız olacağınıza inanırsanız  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umsuz düşünceler geliştirirseniz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NDİNİZ HAKKINDA “ÖNYARGILI” OLURSUN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onyargı_ceviz"/>
          <p:cNvPicPr/>
          <p:nvPr/>
        </p:nvPicPr>
        <p:blipFill>
          <a:blip r:embed="rId1"/>
          <a:stretch/>
        </p:blipFill>
        <p:spPr>
          <a:xfrm>
            <a:off x="4356000" y="189000"/>
            <a:ext cx="4330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381636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şarısız olduğunuz konularla ilgili hemen ve anında olumlu sonuç beklemeyin, kendinize zaman tanıyın ve   sabırlı davran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büyük_işler"/>
          <p:cNvPicPr/>
          <p:nvPr/>
        </p:nvPicPr>
        <p:blipFill>
          <a:blip r:embed="rId1"/>
          <a:stretch/>
        </p:blipFill>
        <p:spPr>
          <a:xfrm>
            <a:off x="4356000" y="189000"/>
            <a:ext cx="4608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KAYGI İLE BAŞEDİYORUZ…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Velilerimiz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-babalar bu zor sınav döneminde çocuklarını her zaman desteklemeli,ilgi göstermeli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Çocuklarınızdan beklentileriniz gerçekçi olmalı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Çocuğunuza daima güvenin. Anne-baba olarak olumsuz düşüncelerinizi olumluya çevirmelis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Çocuklarınızı başkaları ile kıyaslamayını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a olan sevginizin her durum ve koşulda eksilmeyeceğini davranışlarınızla ve sözcüklerinizle anlatmalısını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Tam boyutlu görseli gö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5373720"/>
            <a:ext cx="3672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KAYGI İLE BAŞEDİYORUZ…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Velilerimiz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ınav sorumluluğunu çocuğunu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ırakmalısını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cin olumlu davranışlarını takdir etmelis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ınav döneminde sakin ve huzurlu bir ev ortamına sahip olan çocuklar;verimli,sakin ve başarıyla sonuçlanan bir sınav dönemi geçirecekler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4720" y="4292640"/>
            <a:ext cx="360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ütfen !!! Uzak durun 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zanamazsan doğru iş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yı sokaktan toplamıyoruz dershanelerimi zengin edeceğiz 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zanamazsan arkadaşlarının yüzüne nasıl bakacaksın; aile dostlarımızın hepsine rezil oluruz .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ancanın oğlundan neyin eksi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üzerime düşeni yaptım, artık ne yaparsan yap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 kadar düşük puan almayı nasıl beceriyorsun hayret ediyorum. Bu kafayla bu iş yürümez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2589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oğru ve yapıcı ifadeler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anın bir önceki sınava göre artmış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çıklarını kapatmaya başlamışsı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benim için her şeyden önemli ve değerlis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yatındaki bu önemli dönemde, sana istediğin desteği vermeye hazırı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in kendi üzerine düşenleri en iyi şekilde yapacağını biliyorum, ben de üzerime düşenleri yapmaya hazırı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56360" y="836640"/>
            <a:ext cx="2519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Öneril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üz yapılmamış sınavın sonucuyla ilgilenmeyini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manın planlanması, çocuğunuzun önünü görmesini sağlayacak ve sizleri rahatlatacakt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aşa kapılmaktan ve aceleci davranmaktan kaçınını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ınav öncesinde kesin kurallar koymayınız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in sakin ve olumlu tavırlarınız çocuğunuzun sakin ve mantıklı davranmasına katkıda bulunacakt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448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2665440" cy="6048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3132000" y="2924280"/>
            <a:ext cx="6012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Kaygınızı Kontrol Etmezseniz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Kaygınız Sizi Kontrol Edecekti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360" y="-52178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INAV KAYGISI NEDİR? 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ınav öncesinde yaşanan, stresin doğurduğu karmaşık, fizyolojik ve duygusal tepkilerdi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Sınav kaygısı, kaygının özel bir türüdür ve “öteki”lerin bireyi değerlendirme ortamlarında belirginleşir. ÖSS,SBS vb. sınavlar da bu ortamlardan biridi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932360" y="3789360"/>
            <a:ext cx="3384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Öğrenciye göre SINAV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ınav karizmadı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ınav her şeydi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ınav ne kadar iyi olduğunu gösteri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ınav ne kadar aptal olduğunu gösteri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zanırsan her şeysin, kazanmazsan hiçbir şe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00720" y="765000"/>
            <a:ext cx="259416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AV KAYGISININ NEDENLERİ 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manı iyi kullanam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uçları tahmin et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ınava gerçeğinden farklı anlamlar yük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ha önce yaşanmış başarısızlıkların tekrarlanabileceği endiş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çekçi olmayan düşünce biçim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le ve çevrenin beklentilerinin yüksek ol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dine güvensiz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ramsarlı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56360" y="5084640"/>
            <a:ext cx="240516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AV KAYGISININ NEDENLERİ 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gisizlik  ve hedefin belirsizliğ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çekçi olmayan hedef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ânsızlı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Çalışma metotlarını bilme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ışılacak kişilerin olma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kadaşların olumsuz telkin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ğrencinin önünde başarılı bir örnek olma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808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BU KAYGIYI TAŞIYAN ÖĞRENCİ TİPLERİ NASILDI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AV KAYGISININ ETKİLERİ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Kaygılı Öğrenci Tipleri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Çabuk üzülü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Çabuk heyecanlan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p gergin ve tedirgin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ygusal ve içlidir. Her şeyi büyütür, küçük şeyleri kendine dert e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ınavlarda heyecanlanır, sararır, solar, terl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ykuları düzensiz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ştiriye  hazırlıksız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ğenilmek  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3:50:07Z</dcterms:created>
  <dc:creator>PERFECT PC1</dc:creator>
  <dc:description/>
  <dc:language>en-US</dc:language>
  <cp:lastModifiedBy>Eylem Tatar</cp:lastModifiedBy>
  <dcterms:modified xsi:type="dcterms:W3CDTF">2010-09-06T11:01:39Z</dcterms:modified>
  <cp:revision>9</cp:revision>
  <dc:subject/>
  <dc:title>Slayt 1</dc:title>
</cp:coreProperties>
</file>