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media/carbrake.wav" ContentType="audio/x-wav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  <p:sldId id="270" r:id="rId42"/>
    <p:sldId id="271" r:id="rId43"/>
    <p:sldId id="272" r:id="rId44"/>
    <p:sldId id="273" r:id="rId45"/>
    <p:sldId id="274" r:id="rId46"/>
    <p:sldId id="275" r:id="rId47"/>
    <p:sldId id="276" r:id="rId48"/>
    <p:sldId id="277" r:id="rId49"/>
    <p:sldId id="278" r:id="rId50"/>
    <p:sldId id="279" r:id="rId51"/>
    <p:sldId id="280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slide" Target="slides/slide15.xml"/><Relationship Id="rId43" Type="http://schemas.openxmlformats.org/officeDocument/2006/relationships/slide" Target="slides/slide16.xml"/><Relationship Id="rId44" Type="http://schemas.openxmlformats.org/officeDocument/2006/relationships/slide" Target="slides/slide17.xml"/><Relationship Id="rId45" Type="http://schemas.openxmlformats.org/officeDocument/2006/relationships/slide" Target="slides/slide18.xml"/><Relationship Id="rId46" Type="http://schemas.openxmlformats.org/officeDocument/2006/relationships/slide" Target="slides/slide19.xml"/><Relationship Id="rId47" Type="http://schemas.openxmlformats.org/officeDocument/2006/relationships/slide" Target="slides/slide20.xml"/><Relationship Id="rId48" Type="http://schemas.openxmlformats.org/officeDocument/2006/relationships/slide" Target="slides/slide21.xml"/><Relationship Id="rId49" Type="http://schemas.openxmlformats.org/officeDocument/2006/relationships/slide" Target="slides/slide22.xml"/><Relationship Id="rId50" Type="http://schemas.openxmlformats.org/officeDocument/2006/relationships/slide" Target="slides/slide23.xml"/><Relationship Id="rId51" Type="http://schemas.openxmlformats.org/officeDocument/2006/relationships/slide" Target="slides/slide24.xml"/><Relationship Id="rId52" Type="http://schemas.openxmlformats.org/officeDocument/2006/relationships/slide" Target="slides/slide25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dt" idx="7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 type="ftr" idx="7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6"/>
          <p:cNvSpPr>
            <a:spLocks noGrp="1"/>
          </p:cNvSpPr>
          <p:nvPr>
            <p:ph type="sldNum" idx="7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C071-3D7F-4BA3-ADF4-46545C4753DF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E38E-EF46-4B4D-AE99-F77DEA0C83AF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39C0-AAB2-4E49-A409-7D797F3437DC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0D11-B1A0-49F9-A8D6-CFF821158F77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3A2D-C071-4279-BC42-79A3C87FF042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8E46-9F83-4FBA-8324-8E2CE79B7540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B53C-2178-4A24-A77E-518CFA22E38F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5FB2-1C32-4745-8A4B-9DE289ACD0BD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0CD8-9A1A-4E4C-BB8E-FC1DF1666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4938-0B91-427B-9042-D6F6EF9B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1E4854-D7FF-4CED-8274-E8B361F3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AA9F48-51CB-4EB6-B38B-77217D0A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411A88-9499-4783-80EA-EA04E5EA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AB0C26-1373-41DC-879F-67C387CB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59DFC7-BAF1-4452-B39D-9A950B08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C04A87-2CD4-4EB3-AEBE-94E9C274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10E82-6AF4-4DDC-9851-3EF89E3A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DE1CED-D83C-4E67-88D7-14859973B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E4A5EA-7B91-4CAA-889F-023597B75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270BC8-506E-435E-A5E5-0E901EA0C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0E84-B86D-441F-8F7A-4447B63F4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26FBEC-1CEB-4903-84C8-D647AF55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B4CD39-44EF-4731-9DF8-FBDED4FD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BE3A1F-9F64-412D-A317-751562AF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925807-31CC-4E7E-99DB-93393119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BB7028-FE4B-4E9B-BE3E-22C8D0EA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4C792F-E806-4BE5-B868-CD3F4871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BA5626-8DA9-4030-AD8E-436893B9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1EDB7F-3EB3-4B57-ACA1-992E28C0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C92BB7-234C-4555-87D6-0ACB2E56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6E3588-1A57-43AE-90AB-9DEA67ACE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4937-73E0-43E0-805C-F6531CC44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EB33CB-D97A-4FC5-AC5C-B1E641647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9E3FC-826F-47A9-AB49-D0AA4274B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DBE4E-D92B-415E-99E6-79361EDF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A2C979-1F8F-4C5E-903E-E96A83C2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726321-B1C2-42E8-9954-35CDFC8B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D4C68-77A0-41F7-9885-A3A14CC4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31D2E-92A2-4530-B690-AD710FD3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B3F84-32FD-4D80-B75B-0AA33EE7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D9FA68-A9D1-405E-BDBF-2B33578D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7237A-0266-4971-8E03-5C08AA19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4EC2-35DA-4D65-A4D8-467BEE89C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305A8F-2C9D-43C5-8EAB-A5D6C839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616C0E-1152-4E16-80B6-1AA6E111C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973C43-847A-4EFD-BE51-BBB741AD8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8C8E78-907B-4287-89D5-E2546E35D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16B494-4FE0-4D84-A4D1-173EC44D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DFB1FA-AAF2-450B-A5E5-485DF578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BB8893-AF9B-45F0-8431-1020DA51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4CF7E9-F051-40AD-BEC1-E4149322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8B91DD-3462-41BD-9980-6AC7C964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B6E8B9-8071-4E65-82E1-8FF74C84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48BA-A0B8-4E98-AC7B-9B18BEC6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08A552-D00A-4B93-AF2F-A995C338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A91B67-62A1-4383-B8D4-E041CA1D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BECE42-416B-46AB-AB88-5FD2A3E6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B845D3-7C6A-4D85-9A5B-2C128B512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091988-AEE2-448E-AEF4-ABD47A83B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ACF8DF-F27A-4C2A-B1E1-7704C4403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A71D38-0C24-4D59-B7A9-EDEDFB9B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9CA8D0-CED2-4C73-AFCF-6B752225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6E116E-BEDB-410F-AA30-77AF38EE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61FDB3-8BA4-4EB4-BE9B-3066792F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0CD0C-2109-4D7F-9101-7BCAB460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C3866F-CE36-4EC7-837D-60CF16D9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C9D6DB-30C2-45AB-B65A-55828403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C88D5A-90C7-407B-994A-586EC326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E732A8-4339-4926-8811-FFA54FF1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81768C-F70F-4E89-AB45-FFECBB94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88C725-CAA9-4935-84AA-B3F05A72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BBC1D1-D628-4A45-AAB6-9665BEEBD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E19EAE-B7B5-4E2E-A6D6-1F32974E7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6CAAD6-D1CC-4A1F-B159-1DFE73AA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79AC50-3550-4350-B959-C7D01356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4C55-941F-4CD6-94C4-4EA242AD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9BA78C-5F95-48A4-A21C-87E406A1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421FDF-0100-4B3B-A732-7927D720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DE0C5D-353A-4369-9845-DB10E4D1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26C2EA-B8DC-40EC-B25D-ADB667F3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6DABC6-8582-487F-9CD5-32E5A3F6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908536-F014-4D2F-ACC8-CCE81CF0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9BACB4-A319-4287-B39F-5CDE1F06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87335B-8A01-487A-8568-88A569BCF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E4509F-97D4-4001-9D7C-943AFCD60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258F4C-1EF2-4FA9-BCFE-3D605A6C5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664D-E43D-4BC6-9014-B1A3B17E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CE6A9C-EAEA-430F-B240-05D2D1CE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25D305-B163-4869-8192-7B613BE3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EE9CB9-7C63-4B78-B7C6-2A66C2C8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221221-8212-4E6F-B1F3-691532F3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5939DC-2C73-4197-A996-BE4EC2CF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043BC4-C109-4DDB-BB55-1368F8FE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1E7397-D63B-4693-9BC7-E86DFA61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6314F5-C255-4AFC-B9BD-A459846F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1CB0A7-872E-4752-BF03-1477A6CA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F8155F-13B6-4564-A326-89B67C26D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99EB7-CAE3-4225-93EA-CFF7319A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026B5A-B2FB-42CA-B103-31F0889F0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16AED3-259F-4AEF-801D-E054527B1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B45D2F-F94F-4EA9-92E4-ED519AE2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40880D-CA85-4E3F-93EF-7519208E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5E58D5-BE4D-4E57-87DA-CDC90FC1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A48611-A925-4E5D-98F1-BE30ED81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31F9CB-5CED-40D2-917E-6BEC5BE0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B51A9D-67CB-4202-A8D3-33E5E581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4D91EC-EDC3-4EE9-A6B1-B4C3A00E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9B092C-2674-4B6E-8D0E-8409DF17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DDBB3-4E1D-4022-9241-177D1A24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71CC35-FFCD-439D-AAB2-FD74B686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18930D-22A6-4AA9-8742-4FB7656A5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460969-C436-46FE-954A-6D05BE153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6E8AE0-153E-4B39-8846-CF8870704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9AE7F7-426B-4344-A9D7-B07C0BDF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FF956B-5C84-4E7F-80CB-CB1FC7AF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B6B1ED-BB87-4A48-BAE2-ACB6E2D8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55B30A-FEE6-437C-B97E-9C2895F3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894654-36EC-4768-8B8E-AE7D8335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71D595-B450-4EBF-9CAC-42495C93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C9FB-4717-4C6E-9D56-B31EF73F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DF08-689B-4997-849F-1D43B3CA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845681-30B0-4D38-9D74-FA892798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B595BA-7983-4BBF-9C7C-78188835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67CC10-E3F1-4403-B82D-54377534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551DA9-79B6-4596-8C4A-53E8F9C10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5F2320-B271-44BE-8AE2-2B828750E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DEC06A-7AF8-4E7F-9E14-7E39CE503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6267A1-6D9C-476F-803B-F6D13FA2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964B40-DA56-4BCF-9BC3-F40BEE57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75F843-AF65-40D4-BB75-96862A09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A40948-611B-472D-B7B4-C00006B9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200B-D18E-404F-A8E4-BFC2BB6B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0E2793-389E-48C6-9B30-EF1E2BC7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D8CBB0-78A9-4420-BD59-20D8261E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38E38E-5B12-4128-BEA0-99F24E2F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D5AA8B-893A-454D-BEDE-CEF24C96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57F175-3ADC-4FB8-8F5C-507FF26F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9F6DFE-98E6-4C28-94C9-DE5735F27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BEEABB-C370-453F-A2B4-B286884CF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000E18-E272-4EE4-AF60-502BE6104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A5CA40-4D49-40B1-9739-AA85FE55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F09FD7-4ECD-4EFE-8A8F-424A5C71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FD16-A34A-49B5-88FA-B365272F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9B0F4F-7661-49E2-90AE-B1F34E12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A83E96-D6FE-4CD3-AB18-5AFA3F10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50E0EA-A728-4C03-A461-5491CD6B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61FA85-99E8-471C-9BB0-396BD517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4367EE-E70A-4CDA-A953-78A51D06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4714AB-AF20-4E52-BA6B-21285928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ECAA3A-79AB-42C3-9FE4-530E5FA9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674C67-98E7-4586-AB3E-51F6292DF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1FCA05-F4FE-4584-842B-005A7203D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B5A801-1668-4A10-9041-E9C74EED7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1B3E-73BA-4F60-9811-4FCA0238B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EB5216-5C1B-44E6-AAC4-9A844048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552056-9342-4A5F-8961-3E4B6A72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23E481-5653-4EF7-AC86-E40332CD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E83E75-23EA-4ADF-BE78-3F072A85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0D2243-FDEF-4C7F-8DD3-77E5B853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4F7D35-9F95-4A3D-99DC-40F7375C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DF0E53-663C-421B-AD24-7EF04061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82B90B-F79E-4455-852E-D99E36BF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3DD34F-3D9C-4CE8-B230-55D24C05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953463-46F8-4D39-BF83-A487B3256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929F-62CE-4937-BEB9-6FF59ABF8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878A01-A1F3-4E0B-8313-2494A18C2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613C10-9378-4947-9A72-7F15667FD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10804B-8CE7-401A-8697-4DE6A488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D93993-0D1D-4C15-9FF1-1296D5AD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A9DA84-2C4B-4D69-A764-0CF71485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E04867-B1B9-475E-95E5-E2A027F4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C68168-D740-423B-B47B-E9B6B7E0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D5C83D-CE56-45EE-A4C5-3D2AFD2A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6C6304-37EF-4684-821D-4188D15D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59CFCF-459E-4D60-9032-93B42678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B7D24-28F7-4B52-A746-57378F386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50716A-D44B-41EA-9C8F-647ED7A0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4E1D11-C5D7-41C2-94E0-DE4F4E7E7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D0977A-48C4-4A35-B452-705A85C8E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C5F8F8-3BD6-477A-A06E-2CD0EC749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598138-6A34-4D4A-B994-13C85673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E321C0-F5B9-4812-B6F4-607784C2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255382-AC82-4913-8924-0D07B1F2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B3EBA4-F74F-4900-BB60-D2E44071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1C95F3-DC22-47C1-9BF0-C444184D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7A7EF0-0919-4E2C-8A50-AC471849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40A67-9AFB-48D2-8FC0-E3294667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3D3B00-78CB-484A-A5C8-AF7CE15B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D46B6E-2C0C-4271-8E03-55DD3F34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13E18A-41C5-4955-B679-B658C68D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0B2BBA-EC01-4C00-A4CA-05AB250EE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F74FAA-A051-4EBB-B2DA-3BAE26817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D6E0A0-F092-4882-A24B-4405790F6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F6684E-3AE3-4F8F-B8D0-30C80654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145155-9DCE-4D02-976D-1018CCF7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B99FBC-C286-4BCF-81D8-2E94B571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C11612-C7F4-4B7A-B44D-C2D52B08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AF151-3C44-4637-A2B8-770500BF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BC5A99-618D-495B-B9D6-F2634EAC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1DFAE1-A70F-40EE-9F9A-459D0134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D2B06C-092B-428C-BB07-B89C72BF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1B2B29-75FF-4A9A-B812-45C8D101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7D240E-7CB1-441F-B0E5-AED97E8F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DA6B01-30DD-4170-890F-FE1CBEFF5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0126C3-FE55-4471-B36A-5CE4265FA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16C94E-7582-445C-9F32-6CB24CD10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2A4BD8D-0346-47EA-A6FF-BD014BF0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F43B4D-BE77-4CB7-9F96-B10FC7FC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8A3DD-E510-406E-8E4F-82A96D1B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CA99FC-858B-4621-B24E-46CF38BE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F96BE3-FD8F-49EF-A194-EC323114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0CDB0E-4DC7-4793-AB4C-3659D8F0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05012B-6D9F-4E3E-9919-FE3825CB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16EA1A-C765-471C-9138-7A29DC45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2C2C81-6107-4EFE-BD93-1C7B7828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0DFAAC-60A7-4FBB-8AA6-21DFD132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5D567D-5FE2-49E6-A720-18436FAD2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DF8B53-DBB9-4D4F-B5AB-F4F742721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466893E-A728-463E-B576-44C130D72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5A81F-3B9F-4BAD-BEBF-D1D9C98D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7C46F49-F9BA-43B3-851D-2111F1A8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6E589E8-2480-4F0B-AC5E-FA8C90EC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2B49E87-49C6-4259-896A-8F8E3623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F3DA56E-42A7-43B8-85EC-614BD16A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462FFEA-AB87-4D45-AB47-838179E2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60A31B5-2938-4514-9C6A-05010F47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5266F78-05EF-4F58-B235-6B354FC3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FCAC777-8EB1-4003-8FB0-F3D7E3F8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A1754F0-8216-4A6F-9099-CDBBB9F9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36D83B3-AC88-449B-A1A6-611DDC6FD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86C3-75EB-490E-B871-72608ADC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7E4B4-77D4-463B-994C-7F8E9246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1AA511E-684F-4937-9C81-361320D6B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4F01F-179A-42F6-8780-A5354E9E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EDBC3-A862-4B83-9FA6-0386B5EC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2B69B-735A-49E1-8A80-8DBDD34B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97B0A-FE21-4C2C-AD2E-322F64D3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EBA20-E3E4-4A13-992A-63A90F701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24BCD-930C-4FD1-B343-AD0C57CD1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D7C43-89BD-4940-BAFA-2C375D474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8ABFA-8651-4A98-A287-60A1CBA5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AFE36-BC06-476A-B5C0-4C85F63B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6E8C-1EC8-4577-ABBE-97B929AC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9F335-8ECC-41FD-8CA0-BB8F667C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A1F12-373A-4616-AAE5-8B91BA13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A4FFF-DFDF-4560-B046-9088FA5A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30E53-31B5-4D6A-BCC8-2D19A539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8D51F-3B0D-4772-B18E-D891B7DC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55621-06B3-4E66-AEE2-DE5C2C7E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3610B-9C07-4170-8E68-9922460F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FE5D2-FA5A-478C-9D22-A34FE0C09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73641-FA63-4E82-886B-E81E3D175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3AE01-E07F-4FA3-9EAD-7326FF7AE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3C76-1A16-4A88-9EFB-17379257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C1642-8BA3-4DCF-9E6B-B192FA6A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CDCA3-9DE4-4F07-8E7D-7AA8977B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D3F04-F5F2-427A-AF04-1B7E3E5A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8F190-8116-4C20-92FD-69BCDF67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90004-F7BF-4744-AA5B-16874BAD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B4896-CDF5-4DEF-90C3-CB693E3E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F95CB-14F0-4700-95FB-89EF0173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353AC-9FAB-48AA-A39A-BEDF6045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0DA2D-84D3-41E0-AA84-A377E6C6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0530E-4AD4-4E24-A8BC-F2471EB5B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5DCD-41EB-4B00-8F9D-F1D4C66E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F7E5B-F5C7-4999-9D3A-2777ED685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235F8-61AC-48E5-BDDF-10F726D85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55A82-081A-45CC-9A97-C8F8CCA0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6108B-FFB2-406D-AF88-B6A78192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819BE-9CD2-41CA-AF6B-EF7F33A0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590A7-DC7A-4772-A9C4-E1516779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3AF59-F61A-4335-BF44-52F0689A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7E91A-E508-41D8-A15A-D9D11920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F4CAF-A6C9-4B4A-B08C-C199D08F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A02DC-A0E3-4DF0-A55C-286A8F11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6F7E-CFB9-4EDA-8B5C-04367C95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B7E38-443A-43D6-903F-AA49E65C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2E6AB-BDB4-4D04-B96C-E1C3E5CD1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E73C8-07E1-441C-92AF-D90436C19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47241-4495-4BF7-A725-62F2DE5C5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900EA-9B82-480C-BA1F-003A03E4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072A9-7AB5-4ED4-97DE-AB7A7AFE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82DE0-1397-4F9F-A036-AE426191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9AF0B-1CBE-462A-BF9E-C82CD870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C2EFF-458D-46A5-9179-91D2D82A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CA981-F053-4A28-BC7C-39DAEE91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4EC1-E119-4331-ACCA-3FD438CB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C058B-27CE-4B53-9B8F-AB15BB0D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450D6-2C89-4534-B33C-16A72325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156F1-2722-408B-A5C4-F6F65C97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502C9-D52D-4DEC-82DF-48B401699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82C76-BC65-4DE5-B6C8-A7B758602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015A0-C7A5-4421-94B4-D01750EEE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4F57B-3651-4E26-9CF6-DA83CDD0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416A7-62D8-424E-9208-DDE4C921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0481E-2012-43AD-A7CF-4B40DEB4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542AD-EE97-4EB3-9626-0A92544D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2809-ABF7-4069-9807-AAE6C25C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B0775-ED78-4CD8-8834-12BC2383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0F1D9-8266-4834-9C9D-D0A5D151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21CF9-B542-45D0-B765-D7F9E402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2220C-22DD-4BCF-8354-A7D7EC89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BBBD8-8572-49A2-8124-361BFAB3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57B1D-FB87-44DC-A68E-FF9B89557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BD53B0-2841-4B10-9D59-EC1C6E952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F9D57-7D75-483F-9C30-482243EB1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78B31A-A196-4A70-98CE-D1508E4F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F9B48C-A327-4769-98C8-FCC62788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CC0D-79CE-404B-9A2D-02C15B519CB4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475A-6022-46F1-8A48-4DB7D6778EB3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6ED7-4D34-49A7-BD1A-BD6664FFF69F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9F58-2B30-4BBE-9491-247F95692E36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A6E7-0B22-4A0F-BFC7-929D1EBE04D3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76AC-6345-421C-81D8-966B5B391052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6000"/>
          </a:bodyPr>
          <a:p>
            <a:pPr marL="344520" indent="-34452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6640" indent="-28800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912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740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6784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6784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6784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353D222-102C-4D18-8C86-710449DFD12B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6000"/>
          </a:bodyPr>
          <a:p>
            <a:pPr marL="344520" indent="-34452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6640" indent="-28800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912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740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6784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6784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6784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CB442D1-1925-477C-8524-2ED9D965E4EC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6000"/>
          </a:bodyPr>
          <a:p>
            <a:pPr marL="344520" indent="-34452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6640" indent="-28800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912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740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6784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6784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6784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CABBA53-2F23-4777-BC74-C26CCD04C436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6000"/>
          </a:bodyPr>
          <a:p>
            <a:pPr marL="344520" indent="-34452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6640" indent="-28800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912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740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6784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6784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6784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84019B8-D395-45FF-AEAB-A03FAE9DF54A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6000"/>
          </a:bodyPr>
          <a:p>
            <a:pPr marL="344520" indent="-34452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6640" indent="-28800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912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740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6784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6784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6784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1174803-8BBA-4D06-A290-D7F791D728C5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5C49-10BF-426C-B58D-103721B3AAF9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6000"/>
          </a:bodyPr>
          <a:p>
            <a:pPr marL="344520" indent="-34452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6640" indent="-28800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912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740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6784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6784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6784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8C539B2-A7C4-45A7-AFB8-265C022F984D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6000"/>
          </a:bodyPr>
          <a:p>
            <a:pPr marL="344520" indent="-34452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6640" indent="-28800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912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740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6784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6784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6784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85B840A-4167-4118-A11B-55CB8098D003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6000"/>
          </a:bodyPr>
          <a:p>
            <a:pPr marL="344520" indent="-34452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6640" indent="-28800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912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740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6784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6784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6784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CA3E1F5-800A-4256-B85E-1962C6C78BD7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6000"/>
          </a:bodyPr>
          <a:p>
            <a:pPr marL="344520" indent="-34452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6640" indent="-28800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912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740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6784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6784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6784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7DBD5DB-C6FF-4799-BA43-FF8A83584908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6000"/>
          </a:bodyPr>
          <a:p>
            <a:pPr marL="344520" indent="-34452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6640" indent="-28800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912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740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6784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6784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6784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2BA9DD6-ED55-4887-9A0D-E9046770CF23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6000"/>
          </a:bodyPr>
          <a:p>
            <a:pPr marL="344520" indent="-34452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6640" indent="-28800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912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740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6784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6784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6784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03205A9-33E6-4BA1-B7D0-F0F52FB2D951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6000"/>
          </a:bodyPr>
          <a:p>
            <a:pPr marL="344520" indent="-34452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6640" indent="-28800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912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740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6784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6784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6784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5552A40-E1BB-42F3-A1E2-6B7075C87D73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646F-46FE-450A-A861-EA07782A787C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CC7E-53B1-4D8B-8B9F-699E468ADF99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A0E6-0AD5-45B7-A265-DC4AF9137311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1082-8103-441E-A533-695434340A9E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D788-58D7-4267-83E5-17AB8BBE4FD0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6B78-C445-45D0-8816-3B2D1CC29C65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4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Rectangle 109"/>
          <p:cNvSpPr/>
          <p:nvPr/>
        </p:nvSpPr>
        <p:spPr>
          <a:xfrm>
            <a:off x="228600" y="380880"/>
            <a:ext cx="8686800" cy="6096240"/>
          </a:xfrm>
          <a:prstGeom prst="rect">
            <a:avLst/>
          </a:prstGeom>
          <a:solidFill>
            <a:srgbClr val="00cc99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cc0000"/>
                </a:solidFill>
                <a:latin typeface="Comic Sans MS"/>
              </a:rPr>
              <a:t>OKUL YÖNETİM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tr-TR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tr-TR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tr-TR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tr-TR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tr-TR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i="1" lang="tr-TR" sz="2000" spc="-1" strike="noStrike">
                <a:solidFill>
                  <a:srgbClr val="3333cc"/>
                </a:solidFill>
                <a:latin typeface="Brush Script MT"/>
              </a:rPr>
              <a:t>Dr. Mustafa Aydın BAŞ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Örgütler nasıl sınıflanabili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Karşılıklı yarar sağlayan örgütler (sendikalar, kulüpler, siyasal partiler, odalar...v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İşletmeler (banka, sigorta, mağaza..vb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Hizmet Örgütleri (hastane, okul,...v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Kamu yararına çalışan örgütler (polis, ordu,araştırma kuruluşları...v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Örgütlerin mülkiyetleri açısından sınıflandırılmas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Özel mülkiyete sahip örgüt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Kamu mülkiyetine sahip örgüt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Karma mülkiyete sahip örgüt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Örgütlerin topluma sağladıkları hizmetler açısından türleri nel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Ekonomik Örgüt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Politik Örgüt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Bütünleştirici Örgüt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Sürdürümcü Örgüt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Toplumun gereksinimini karşılamak için kurulan örgütler nel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Mal örgütleri (makina, gıda üretim v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Hizmet örgütleri (??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Güvenlik örgütleri (ordu, polis v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Meslek örgütleri (dernek, sendika v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Aracı örgütler (depolama, pazarlama v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Okul ne tür bir örgüttü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HİZMET ÖRGÜTÜ’ dü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oplumun eğitimsel ihtiyaçlarını karşılamak için kurulmuşt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osyal bir sistemd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itlesel eğitimi hedef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Okulları diğer örgütlerden ayıran özellikler nelerdi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ammaddesi ins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Çatışma halinde olan değerlerin mevcudiye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Okul ürününün kalitesinin değerlendirmesi z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Özel bir çevresinin olmas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Okulun çevresindeki tüm biçimsel veya doğal örgütlerden etkilenir ve etki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Çevredeki gruplar kendi yararları adına okulun düşünce bağımsızlığını sınırlama çabası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Okul kültür değişimini sağlayan temel örgü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Okul bürokratik bir ku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Okulun kendine özgü bir kişiliği v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Okul eğitiminin görevleri/işlevleri nelerdi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Sosyal-kültürel gör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Politik gör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Ekonomik gör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Bireysel gör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Okul Müdürünün Sorumluluklar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Okulun amaç ve felsefesini açıkla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Okulun politikasını saptamak ve tanıt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Okul etkinlik ve ihtiyaçlarını karşıla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Okulda katılımcı ve demokratik yötemi geliştirm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Okulda kişi ve gruplar arası ilişkiler kur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Öğretim ve eğitim etkinlikleri planla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Okul çevresi değerlerini incelemek ve destek al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Okul içi ve dışı öğelerle iletişim ve eşgüdü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tkili bir işletme yönetimi geliştirmek ve uygula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apılan çalışmaları sürekli izlemek ve değerlendirm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Okul Müdürünün yönetim süreçleri açısından Görev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Eğitim programlar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Öğrenci işl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İnsan kaynaklar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Genel hizmetler (Okul işletmes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Okul geliştir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94920" y="54000"/>
            <a:ext cx="849636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Okul Müdürünün Eğitim Programları Görevl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0" name=""/>
          <p:cNvGraphicFramePr/>
          <p:nvPr/>
        </p:nvGraphicFramePr>
        <p:xfrm>
          <a:off x="179280" y="836640"/>
          <a:ext cx="8748720" cy="5832360"/>
        </p:xfrm>
        <a:graphic>
          <a:graphicData uri="http://schemas.openxmlformats.org/drawingml/2006/table">
            <a:tbl>
              <a:tblPr/>
              <a:tblGrid>
                <a:gridCol w="8748720"/>
              </a:tblGrid>
              <a:tr h="868320">
                <a:tc>
                  <a:txBody>
                    <a:bodyPr lIns="45000" rIns="450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93680"/>
                          <a:tab algn="l" pos="387360"/>
                          <a:tab algn="l" pos="581040"/>
                          <a:tab algn="l" pos="774720"/>
                          <a:tab algn="l" pos="968400"/>
                          <a:tab algn="l" pos="1162080"/>
                          <a:tab algn="l" pos="1355760"/>
                          <a:tab algn="l" pos="1549440"/>
                          <a:tab algn="l" pos="1743120"/>
                          <a:tab algn="l" pos="1936800"/>
                          <a:tab algn="l" pos="2130480"/>
                          <a:tab algn="l" pos="2324160"/>
                          <a:tab algn="l" pos="2517840"/>
                          <a:tab algn="l" pos="2711520"/>
                          <a:tab algn="l" pos="2905200"/>
                          <a:tab algn="l" pos="3098880"/>
                          <a:tab algn="l" pos="3292560"/>
                          <a:tab algn="l" pos="3486240"/>
                          <a:tab algn="l" pos="3679920"/>
                          <a:tab algn="l" pos="38736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Kayıt, kabul, nakil, sınav, sınıf geçme, belge ve diploma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93680"/>
                          <a:tab algn="l" pos="387360"/>
                          <a:tab algn="l" pos="581040"/>
                          <a:tab algn="l" pos="774720"/>
                          <a:tab algn="l" pos="968400"/>
                          <a:tab algn="l" pos="1162080"/>
                          <a:tab algn="l" pos="1355760"/>
                          <a:tab algn="l" pos="1549440"/>
                          <a:tab algn="l" pos="1743120"/>
                          <a:tab algn="l" pos="1936800"/>
                          <a:tab algn="l" pos="2130480"/>
                          <a:tab algn="l" pos="2324160"/>
                          <a:tab algn="l" pos="2517840"/>
                          <a:tab algn="l" pos="2711520"/>
                          <a:tab algn="l" pos="2905200"/>
                          <a:tab algn="l" pos="3098880"/>
                          <a:tab algn="l" pos="3292560"/>
                          <a:tab algn="l" pos="3486240"/>
                          <a:tab algn="l" pos="3679920"/>
                          <a:tab algn="l" pos="38736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şlerini yapm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68320">
                <a:tc>
                  <a:txBody>
                    <a:bodyPr lIns="45000" rIns="450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93680"/>
                          <a:tab algn="l" pos="387360"/>
                          <a:tab algn="l" pos="581040"/>
                          <a:tab algn="l" pos="774720"/>
                          <a:tab algn="l" pos="968400"/>
                          <a:tab algn="l" pos="1162080"/>
                          <a:tab algn="l" pos="1355760"/>
                          <a:tab algn="l" pos="1549440"/>
                          <a:tab algn="l" pos="1743120"/>
                          <a:tab algn="l" pos="1936800"/>
                          <a:tab algn="l" pos="2130480"/>
                          <a:tab algn="l" pos="2324160"/>
                          <a:tab algn="l" pos="2517840"/>
                          <a:tab algn="l" pos="2711520"/>
                          <a:tab algn="l" pos="2905200"/>
                          <a:tab algn="l" pos="3098880"/>
                          <a:tab algn="l" pos="3292560"/>
                          <a:tab algn="l" pos="3486240"/>
                          <a:tab algn="l" pos="3679920"/>
                          <a:tab algn="l" pos="38736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Öğrenci ve okulun eğitim öğretim işleriyle ilgili istatistikleri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93680"/>
                          <a:tab algn="l" pos="387360"/>
                          <a:tab algn="l" pos="581040"/>
                          <a:tab algn="l" pos="774720"/>
                          <a:tab algn="l" pos="968400"/>
                          <a:tab algn="l" pos="1162080"/>
                          <a:tab algn="l" pos="1355760"/>
                          <a:tab algn="l" pos="1549440"/>
                          <a:tab algn="l" pos="1743120"/>
                          <a:tab algn="l" pos="1936800"/>
                          <a:tab algn="l" pos="2130480"/>
                          <a:tab algn="l" pos="2324160"/>
                          <a:tab algn="l" pos="2517840"/>
                          <a:tab algn="l" pos="2711520"/>
                          <a:tab algn="l" pos="2905200"/>
                          <a:tab algn="l" pos="3098880"/>
                          <a:tab algn="l" pos="3292560"/>
                          <a:tab algn="l" pos="3486240"/>
                          <a:tab algn="l" pos="3679920"/>
                          <a:tab algn="l" pos="38736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tm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44480">
                <a:tc>
                  <a:txBody>
                    <a:bodyPr lIns="45000" rIns="450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93680"/>
                          <a:tab algn="l" pos="387360"/>
                          <a:tab algn="l" pos="581040"/>
                          <a:tab algn="l" pos="774720"/>
                          <a:tab algn="l" pos="968400"/>
                          <a:tab algn="l" pos="1162080"/>
                          <a:tab algn="l" pos="1355760"/>
                          <a:tab algn="l" pos="1549440"/>
                          <a:tab algn="l" pos="1743120"/>
                          <a:tab algn="l" pos="1936800"/>
                          <a:tab algn="l" pos="2130480"/>
                          <a:tab algn="l" pos="2324160"/>
                          <a:tab algn="l" pos="2517840"/>
                          <a:tab algn="l" pos="2711520"/>
                          <a:tab algn="l" pos="2905200"/>
                          <a:tab algn="l" pos="3098880"/>
                          <a:tab algn="l" pos="3292560"/>
                          <a:tab algn="l" pos="3486240"/>
                          <a:tab algn="l" pos="3679920"/>
                          <a:tab algn="l" pos="38736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Çevredeki ilköğretim görmemiş yetişkinleri saptam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46280">
                <a:tc>
                  <a:txBody>
                    <a:bodyPr lIns="45000" rIns="450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93680"/>
                          <a:tab algn="l" pos="387360"/>
                          <a:tab algn="l" pos="581040"/>
                          <a:tab algn="l" pos="774720"/>
                          <a:tab algn="l" pos="968400"/>
                          <a:tab algn="l" pos="1162080"/>
                          <a:tab algn="l" pos="1355760"/>
                          <a:tab algn="l" pos="1549440"/>
                          <a:tab algn="l" pos="1743120"/>
                          <a:tab algn="l" pos="1936800"/>
                          <a:tab algn="l" pos="2130480"/>
                          <a:tab algn="l" pos="2324160"/>
                          <a:tab algn="l" pos="2517840"/>
                          <a:tab algn="l" pos="2711520"/>
                          <a:tab algn="l" pos="2905200"/>
                          <a:tab algn="l" pos="3098880"/>
                          <a:tab algn="l" pos="3292560"/>
                          <a:tab algn="l" pos="3486240"/>
                          <a:tab algn="l" pos="3679920"/>
                          <a:tab algn="l" pos="38736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Öğrenci işlerinde yeni teknolojileri sağlama ve kullanm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68320">
                <a:tc>
                  <a:txBody>
                    <a:bodyPr lIns="45000" rIns="450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93680"/>
                          <a:tab algn="l" pos="387360"/>
                          <a:tab algn="l" pos="581040"/>
                          <a:tab algn="l" pos="774720"/>
                          <a:tab algn="l" pos="968400"/>
                          <a:tab algn="l" pos="1162080"/>
                          <a:tab algn="l" pos="1355760"/>
                          <a:tab algn="l" pos="1549440"/>
                          <a:tab algn="l" pos="1743120"/>
                          <a:tab algn="l" pos="1936800"/>
                          <a:tab algn="l" pos="2130480"/>
                          <a:tab algn="l" pos="2324160"/>
                          <a:tab algn="l" pos="2517840"/>
                          <a:tab algn="l" pos="2711520"/>
                          <a:tab algn="l" pos="2905200"/>
                          <a:tab algn="l" pos="3098880"/>
                          <a:tab algn="l" pos="3292560"/>
                          <a:tab algn="l" pos="3486240"/>
                          <a:tab algn="l" pos="3679920"/>
                          <a:tab algn="l" pos="38736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Okul yönetimi yıllık planını hazırlamak, uygulamak 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93680"/>
                          <a:tab algn="l" pos="387360"/>
                          <a:tab algn="l" pos="581040"/>
                          <a:tab algn="l" pos="774720"/>
                          <a:tab algn="l" pos="968400"/>
                          <a:tab algn="l" pos="1162080"/>
                          <a:tab algn="l" pos="1355760"/>
                          <a:tab algn="l" pos="1549440"/>
                          <a:tab algn="l" pos="1743120"/>
                          <a:tab algn="l" pos="1936800"/>
                          <a:tab algn="l" pos="2130480"/>
                          <a:tab algn="l" pos="2324160"/>
                          <a:tab algn="l" pos="2517840"/>
                          <a:tab algn="l" pos="2711520"/>
                          <a:tab algn="l" pos="2905200"/>
                          <a:tab algn="l" pos="3098880"/>
                          <a:tab algn="l" pos="3292560"/>
                          <a:tab algn="l" pos="3486240"/>
                          <a:tab algn="l" pos="3679920"/>
                          <a:tab algn="l" pos="38736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nuçlarını izlem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68320">
                <a:tc>
                  <a:txBody>
                    <a:bodyPr lIns="45000" rIns="450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93680"/>
                          <a:tab algn="l" pos="387360"/>
                          <a:tab algn="l" pos="581040"/>
                          <a:tab algn="l" pos="774720"/>
                          <a:tab algn="l" pos="968400"/>
                          <a:tab algn="l" pos="1162080"/>
                          <a:tab algn="l" pos="1355760"/>
                          <a:tab algn="l" pos="1549440"/>
                          <a:tab algn="l" pos="1743120"/>
                          <a:tab algn="l" pos="1936800"/>
                          <a:tab algn="l" pos="2130480"/>
                          <a:tab algn="l" pos="2324160"/>
                          <a:tab algn="l" pos="2517840"/>
                          <a:tab algn="l" pos="2711520"/>
                          <a:tab algn="l" pos="2905200"/>
                          <a:tab algn="l" pos="3098880"/>
                          <a:tab algn="l" pos="3292560"/>
                          <a:tab algn="l" pos="3486240"/>
                          <a:tab algn="l" pos="3679920"/>
                          <a:tab algn="l" pos="38736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Eğitsel amaçlı araştırma, inceleme, gezi çalışmalarının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93680"/>
                          <a:tab algn="l" pos="387360"/>
                          <a:tab algn="l" pos="581040"/>
                          <a:tab algn="l" pos="774720"/>
                          <a:tab algn="l" pos="968400"/>
                          <a:tab algn="l" pos="1162080"/>
                          <a:tab algn="l" pos="1355760"/>
                          <a:tab algn="l" pos="1549440"/>
                          <a:tab algn="l" pos="1743120"/>
                          <a:tab algn="l" pos="1936800"/>
                          <a:tab algn="l" pos="2130480"/>
                          <a:tab algn="l" pos="2324160"/>
                          <a:tab algn="l" pos="2517840"/>
                          <a:tab algn="l" pos="2711520"/>
                          <a:tab algn="l" pos="2905200"/>
                          <a:tab algn="l" pos="3098880"/>
                          <a:tab algn="l" pos="3292560"/>
                          <a:tab algn="l" pos="3486240"/>
                          <a:tab algn="l" pos="3679920"/>
                          <a:tab algn="l" pos="38736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apılmasını sağlam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68320">
                <a:tc>
                  <a:txBody>
                    <a:bodyPr lIns="45000" rIns="450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93680"/>
                          <a:tab algn="l" pos="387360"/>
                          <a:tab algn="l" pos="581040"/>
                          <a:tab algn="l" pos="774720"/>
                          <a:tab algn="l" pos="968400"/>
                          <a:tab algn="l" pos="1162080"/>
                          <a:tab algn="l" pos="1355760"/>
                          <a:tab algn="l" pos="1549440"/>
                          <a:tab algn="l" pos="1743120"/>
                          <a:tab algn="l" pos="1936800"/>
                          <a:tab algn="l" pos="2130480"/>
                          <a:tab algn="l" pos="2324160"/>
                          <a:tab algn="l" pos="2517840"/>
                          <a:tab algn="l" pos="2711520"/>
                          <a:tab algn="l" pos="2905200"/>
                          <a:tab algn="l" pos="3098880"/>
                          <a:tab algn="l" pos="3292560"/>
                          <a:tab algn="l" pos="3486240"/>
                          <a:tab algn="l" pos="3679920"/>
                          <a:tab algn="l" pos="38736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Eğitim programlarının geliştirilmesi için araştırmala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93680"/>
                          <a:tab algn="l" pos="387360"/>
                          <a:tab algn="l" pos="581040"/>
                          <a:tab algn="l" pos="774720"/>
                          <a:tab algn="l" pos="968400"/>
                          <a:tab algn="l" pos="1162080"/>
                          <a:tab algn="l" pos="1355760"/>
                          <a:tab algn="l" pos="1549440"/>
                          <a:tab algn="l" pos="1743120"/>
                          <a:tab algn="l" pos="1936800"/>
                          <a:tab algn="l" pos="2130480"/>
                          <a:tab algn="l" pos="2324160"/>
                          <a:tab algn="l" pos="2517840"/>
                          <a:tab algn="l" pos="2711520"/>
                          <a:tab algn="l" pos="2905200"/>
                          <a:tab algn="l" pos="3098880"/>
                          <a:tab algn="l" pos="3292560"/>
                          <a:tab algn="l" pos="3486240"/>
                          <a:tab algn="l" pos="3679920"/>
                          <a:tab algn="l" pos="38736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luyla verileri toplama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Slayt Numarası Yer Tutucusu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26E1-E2FB-4529-B47A-B7596C300251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AutoShape 3">
            <a:hlinkClick r:id="" action="ppaction://hlinkshowjump?jump=nextslide"/>
          </p:cNvPr>
          <p:cNvSpPr/>
          <p:nvPr/>
        </p:nvSpPr>
        <p:spPr>
          <a:xfrm>
            <a:off x="8534520" y="662940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AutoShape 4">
            <a:hlinkClick r:id="" action="ppaction://hlinkshowjump?jump=previousslide"/>
          </p:cNvPr>
          <p:cNvSpPr/>
          <p:nvPr/>
        </p:nvSpPr>
        <p:spPr>
          <a:xfrm>
            <a:off x="8229600" y="662940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AutoShape 5">
            <a:hlinkClick r:id="" action="ppaction://hlinkshowjump?jump=firstslide"/>
          </p:cNvPr>
          <p:cNvSpPr/>
          <p:nvPr/>
        </p:nvSpPr>
        <p:spPr>
          <a:xfrm>
            <a:off x="8839080" y="662940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4400" y="3837"/>
                </a:moveTo>
                <a:lnTo>
                  <a:pt x="16976" y="6448"/>
                </a:ln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lnTo>
                  <a:pt x="21363" y="10800"/>
                </a:lnTo>
                <a:lnTo>
                  <a:pt x="19709" y="10800"/>
                </a:lnTo>
                <a:lnTo>
                  <a:pt x="19709" y="17989"/>
                </a:lnTo>
                <a:lnTo>
                  <a:pt x="9091" y="17989"/>
                </a:lnTo>
                <a:lnTo>
                  <a:pt x="9091" y="10800"/>
                </a:lnTo>
                <a:lnTo>
                  <a:pt x="7437" y="10800"/>
                </a:lnTo>
                <a:close/>
              </a:path>
              <a:path fill="darkenLess" w="28800" h="21600">
                <a:moveTo>
                  <a:pt x="16976" y="6448"/>
                </a:move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close/>
              </a:path>
              <a:path fill="darkenLess" w="28800" h="21600">
                <a:moveTo>
                  <a:pt x="13477" y="14299"/>
                </a:moveTo>
                <a:lnTo>
                  <a:pt x="15323" y="14299"/>
                </a:lnTo>
                <a:lnTo>
                  <a:pt x="15323" y="17989"/>
                </a:lnTo>
                <a:lnTo>
                  <a:pt x="19709" y="17989"/>
                </a:lnTo>
                <a:lnTo>
                  <a:pt x="19709" y="10800"/>
                </a:lnTo>
                <a:lnTo>
                  <a:pt x="9091" y="10800"/>
                </a:lnTo>
                <a:lnTo>
                  <a:pt x="9091" y="17989"/>
                </a:lnTo>
                <a:lnTo>
                  <a:pt x="134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AutoShape 6"/>
          <p:cNvSpPr/>
          <p:nvPr/>
        </p:nvSpPr>
        <p:spPr>
          <a:xfrm>
            <a:off x="7924680" y="662940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7"/>
          <p:cNvSpPr/>
          <p:nvPr/>
        </p:nvSpPr>
        <p:spPr>
          <a:xfrm>
            <a:off x="946800" y="217440"/>
            <a:ext cx="7305480" cy="42912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YÖNETİM</a:t>
            </a: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 ile </a:t>
            </a: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ÖRGÜT</a:t>
            </a: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 birbirinden ayrıl(a)maz iki kavramdı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Text Box 8"/>
          <p:cNvSpPr/>
          <p:nvPr/>
        </p:nvSpPr>
        <p:spPr>
          <a:xfrm>
            <a:off x="421920" y="1031760"/>
            <a:ext cx="8384400" cy="82548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Bir yerde örgütlenmeye gidilmiş, örgüt oluşmuş is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</a:rPr>
              <a:t>YÖNETSEL BİR SORUNUN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varlığından da söz edilebil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9"/>
          <p:cNvSpPr/>
          <p:nvPr/>
        </p:nvSpPr>
        <p:spPr>
          <a:xfrm>
            <a:off x="289440" y="2133720"/>
            <a:ext cx="8614440" cy="155700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ÖRGÜ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ortak amaç(lar)ı gerçekleştirmek üzere biraya gelmiş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güç ve eylemlerini bu yönde biraraya getirerek tümleştiren bireyler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etkileşimiyle ortaya çıkan ilişkiler ağıd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10"/>
          <p:cNvSpPr/>
          <p:nvPr/>
        </p:nvSpPr>
        <p:spPr>
          <a:xfrm>
            <a:off x="592920" y="4079880"/>
            <a:ext cx="8096400" cy="2594160"/>
          </a:xfrm>
          <a:prstGeom prst="rect">
            <a:avLst/>
          </a:prstGeom>
          <a:solidFill>
            <a:srgbClr val="ffffcc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cc0000"/>
                </a:solidFill>
                <a:latin typeface="Times New Roman"/>
              </a:rPr>
              <a:t>ÖRGÜTÜN ÖĞELER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cc0000"/>
                </a:solidFill>
                <a:latin typeface="Comic Sans MS"/>
              </a:rPr>
              <a:t>1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. Birden çok insa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tr-TR" sz="2000" spc="-1" strike="noStrike">
                <a:solidFill>
                  <a:srgbClr val="cc0000"/>
                </a:solidFill>
                <a:latin typeface="Comic Sans MS"/>
              </a:rPr>
              <a:t>2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. Ortaklaşan amaçla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tr-TR" sz="2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tr-TR" sz="2000" spc="-1" strike="noStrike">
                <a:solidFill>
                  <a:srgbClr val="cc0000"/>
                </a:solidFill>
                <a:latin typeface="Comic Sans MS"/>
              </a:rPr>
              <a:t>3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. Gönüllü katılım, dayanış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tr-TR" sz="2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tr-TR" sz="2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tr-TR" sz="2000" spc="-1" strike="noStrike">
                <a:solidFill>
                  <a:srgbClr val="cc0000"/>
                </a:solidFill>
                <a:latin typeface="Comic Sans MS"/>
              </a:rPr>
              <a:t>4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. Etkili iletiş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tr-TR" sz="2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tr-TR" sz="2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tr-TR" sz="2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tr-TR" sz="2000" spc="-1" strike="noStrike">
                <a:solidFill>
                  <a:srgbClr val="cc0000"/>
                </a:solidFill>
                <a:latin typeface="Comic Sans MS"/>
              </a:rPr>
              <a:t>5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. Amaçlara dönük düzenli eylem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tr-TR" sz="2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tr-TR" sz="2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tr-TR" sz="2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tr-TR" sz="2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tr-TR" sz="2000" spc="-1" strike="noStrike">
                <a:solidFill>
                  <a:srgbClr val="cc0000"/>
                </a:solidFill>
                <a:latin typeface="Comic Sans MS"/>
              </a:rPr>
              <a:t>6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. Dış çevreye uy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tr-TR" sz="2000" spc="-1" strike="noStrike">
                <a:solidFill>
                  <a:srgbClr val="cc0000"/>
                </a:solidFill>
                <a:latin typeface="Comic Sans MS"/>
              </a:rPr>
              <a:t>7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. Yasallı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Okul Müdürünün Öğrenci Hizmetleri Görevl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2" name=""/>
          <p:cNvGraphicFramePr/>
          <p:nvPr/>
        </p:nvGraphicFramePr>
        <p:xfrm>
          <a:off x="108000" y="981000"/>
          <a:ext cx="8856720" cy="5688000"/>
        </p:xfrm>
        <a:graphic>
          <a:graphicData uri="http://schemas.openxmlformats.org/drawingml/2006/table">
            <a:tbl>
              <a:tblPr/>
              <a:tblGrid>
                <a:gridCol w="8856720"/>
              </a:tblGrid>
              <a:tr h="561960">
                <a:tc>
                  <a:txBody>
                    <a:bodyPr lIns="45000" rIns="4500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Öğrenci işlerine yönelik yeni yöntemler geliştirme ve üst yönetime önerme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000" marR="45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Öğrencilere yönelik rehberlik hizmetlerini örgütlemek ve yürütme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 Eğitsel kollarla ilgili örgütleme ve denetlemeleri yapma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 Özel eğitime muhtaç ve yetenekli çocukların eğitimi için gerekli tedbirleri al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 Yetişkinlerin eğitim gereksinimini belirleme ve karşılanması önlem alma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 Öğrenci yetenek düzeyini saptamak, geliştirilmesi önlemlerini belirleme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 Öğretmenlerin öğrencileri değerlendirme çalışmalarını denetleme, geliştir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 Öğrenci sağlığı ve temizliği çalışmalarını örgütleme ve yürüt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 Öğrencileri mezuniyet sonrası eğitim programlarına yönelt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 Mezuniyet sonrası öğrencileri izle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07640" y="0"/>
            <a:ext cx="88549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Okul Müdürünün İnsan Kaynakları Görevl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4" name=""/>
          <p:cNvGraphicFramePr/>
          <p:nvPr/>
        </p:nvGraphicFramePr>
        <p:xfrm>
          <a:off x="106200" y="736560"/>
          <a:ext cx="8929800" cy="6077160"/>
        </p:xfrm>
        <a:graphic>
          <a:graphicData uri="http://schemas.openxmlformats.org/drawingml/2006/table">
            <a:tbl>
              <a:tblPr/>
              <a:tblGrid>
                <a:gridCol w="8929800"/>
              </a:tblGrid>
              <a:tr h="39996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 Okulun işgören gereksinimini üst yönetime bildirmek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 İşgörenin özlük işleriyle uğraşmak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 İşgören çalışmalarını planlama, etkili kullanımını sağlamak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 İşgörene yeni teknolojiler sağlama, kullanıma sunmak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 İşgörene verimli çalışma ortam ve imkanları sağlamak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İşgörenin etkililiği için yeni yöntemler geliştirme ve üst yönetimlere önermek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 İşgören için hizmetiçi eğitim imkanları sağlamak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 Verimi sürekli kılmanın yollarını araştırmak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680"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 Öğretmenlerin işbaşında yetişmesi için öğretici yönetici davranışı sergile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. Öğretmenlerin başarısını ortaya koyacak değerlendirmeler yapmak.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 Okul disiplinini sağlayıcı tedbirler almak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 Öğretmenlerin planlarını incelemek, denetlemek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 Öğretmenlerin sınıf içi çalışmalarını denetleme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 İşgörenler, eğitsel kollar vb. toplantılarla ilgili çalışmaları yapmak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-36360" y="-360"/>
            <a:ext cx="9216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Okul Müdürünün Genel Hizmetler Görevl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6" name=""/>
          <p:cNvGraphicFramePr/>
          <p:nvPr/>
        </p:nvGraphicFramePr>
        <p:xfrm>
          <a:off x="106200" y="838080"/>
          <a:ext cx="8929800" cy="5904000"/>
        </p:xfrm>
        <a:graphic>
          <a:graphicData uri="http://schemas.openxmlformats.org/drawingml/2006/table">
            <a:tbl>
              <a:tblPr/>
              <a:tblGrid>
                <a:gridCol w="8929800"/>
              </a:tblGrid>
              <a:tr h="50796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. İşlik, laboratuvar, kitaplık, çok amaçlı salon vb. mekanlarını kurma ve işletm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. Eğitim araç gereçlerini sağlama, kullanıma sunma ve denetle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. Tören ve anma günlerinin yapılması ile ilgili işleri yürüt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. Okul aile birliği, koruma derneği çalışmalarına katıl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. Okul çevre ilişkilerini sağla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. Okul bina ve bahçesinde uygun ve güvenli bir eğitim yapılması önlem. alm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. Bina, donatım ve eğitim araç. etkili kullanma,savurganlığı azaltıcı önl. al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 Bina yapım, onarım, donatım gereksi-nimlerini saptama, üst yönetime bildirm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. Okulun para kaynaklarını saptama, sağlama ve harekete geçir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. Okulun para kaynaklarını artırmak amacıyla çevre ile ilişki kur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. Döner sermaye işlerini (YİBO ve PİO’lar için) yapm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. Öğrenci barınma, beslenme, bakım temizlik, etüd çalışmaları vb. uğraş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68360" y="14400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Okul Müdürünün Okul Geliştirme Görevl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8" name=""/>
          <p:cNvGraphicFramePr/>
          <p:nvPr/>
        </p:nvGraphicFramePr>
        <p:xfrm>
          <a:off x="71280" y="1773360"/>
          <a:ext cx="9037800" cy="3095640"/>
        </p:xfrm>
        <a:graphic>
          <a:graphicData uri="http://schemas.openxmlformats.org/drawingml/2006/table">
            <a:tbl>
              <a:tblPr/>
              <a:tblGrid>
                <a:gridCol w="9037800"/>
              </a:tblGrid>
              <a:tr h="77472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. Okul için vizyon ve misyon geliştir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292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 Okul geliştirme planları hazırla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800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. Okul geliştirme ekipleri kurma, ekiplere liderlik ve rehberlik yapm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6000" spc="-1" strike="noStrike">
                <a:solidFill>
                  <a:srgbClr val="000000"/>
                </a:solidFill>
                <a:latin typeface="Arial"/>
              </a:rPr>
              <a:t>Yönetici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6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6000" spc="-1" strike="noStrike">
                <a:solidFill>
                  <a:srgbClr val="000000"/>
                </a:solidFill>
                <a:latin typeface="Arial"/>
              </a:rPr>
              <a:t>Lider ??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Okul Yöneticisi ve Liderl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Lider ve Yönet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tr-TR" sz="2800" spc="-1" strike="noStrike">
                <a:solidFill>
                  <a:srgbClr val="ff0000"/>
                </a:solidFill>
                <a:latin typeface="Arial"/>
              </a:rPr>
              <a:t>Hem yönetici hem lider olunabilir mi? Nasıl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Text Box 2"/>
          <p:cNvSpPr/>
          <p:nvPr/>
        </p:nvSpPr>
        <p:spPr>
          <a:xfrm>
            <a:off x="1237320" y="515880"/>
            <a:ext cx="7010640" cy="675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Comic Sans MS"/>
              </a:rPr>
              <a:t>OKUL YÖNETİMİ ANLAYIŞLARI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3"/>
          <p:cNvSpPr/>
          <p:nvPr/>
        </p:nvSpPr>
        <p:spPr>
          <a:xfrm>
            <a:off x="669960" y="1779480"/>
            <a:ext cx="7864560" cy="50000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tr-TR" sz="3300" spc="-1" strike="noStrike">
                <a:solidFill>
                  <a:srgbClr val="000000"/>
                </a:solidFill>
                <a:latin typeface="Monotype Corsiva"/>
              </a:rPr>
              <a:t>1. DEMOKRATİK  OKUL YÖNETİMİ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tr-TR" sz="3300" spc="-1" strike="noStrike">
                <a:solidFill>
                  <a:srgbClr val="000000"/>
                </a:solidFill>
                <a:latin typeface="Monotype Corsiva"/>
              </a:rPr>
              <a:t>2. OTOKRATİK SOKUL YÖNETİMİ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tr-TR" sz="3300" spc="-1" strike="noStrike">
                <a:solidFill>
                  <a:srgbClr val="000000"/>
                </a:solidFill>
                <a:latin typeface="Monotype Corsiva"/>
              </a:rPr>
              <a:t>3. SERBEST BIRAKICI O KUL YÖNETİMİ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" dur="500"/>
                                        <p:tgtEl>
                                          <p:spTgt spid="1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" dur="500"/>
                                        <p:tgtEl>
                                          <p:spTgt spid="1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9" dur="500"/>
                                        <p:tgtEl>
                                          <p:spTgt spid="1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Slayt Numarası Yer Tutucusu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16AE-C8E7-43A8-A0CB-22C254F43139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AutoShape 2">
            <a:hlinkClick r:id="" action="ppaction://hlinkshowjump?jump=nextslide"/>
          </p:cNvPr>
          <p:cNvSpPr/>
          <p:nvPr/>
        </p:nvSpPr>
        <p:spPr>
          <a:xfrm>
            <a:off x="8534520" y="662940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AutoShape 3">
            <a:hlinkClick r:id="" action="ppaction://hlinkshowjump?jump=previousslide"/>
          </p:cNvPr>
          <p:cNvSpPr/>
          <p:nvPr/>
        </p:nvSpPr>
        <p:spPr>
          <a:xfrm>
            <a:off x="8229600" y="662940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AutoShape 4">
            <a:hlinkClick r:id="" action="ppaction://hlinkshowjump?jump=firstslide"/>
          </p:cNvPr>
          <p:cNvSpPr/>
          <p:nvPr/>
        </p:nvSpPr>
        <p:spPr>
          <a:xfrm>
            <a:off x="8839080" y="662940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4400" y="3837"/>
                </a:moveTo>
                <a:lnTo>
                  <a:pt x="16976" y="6448"/>
                </a:ln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lnTo>
                  <a:pt x="21363" y="10800"/>
                </a:lnTo>
                <a:lnTo>
                  <a:pt x="19709" y="10800"/>
                </a:lnTo>
                <a:lnTo>
                  <a:pt x="19709" y="17989"/>
                </a:lnTo>
                <a:lnTo>
                  <a:pt x="9091" y="17989"/>
                </a:lnTo>
                <a:lnTo>
                  <a:pt x="9091" y="10800"/>
                </a:lnTo>
                <a:lnTo>
                  <a:pt x="7437" y="10800"/>
                </a:lnTo>
                <a:close/>
              </a:path>
              <a:path fill="darkenLess" w="28800" h="21600">
                <a:moveTo>
                  <a:pt x="16976" y="6448"/>
                </a:move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close/>
              </a:path>
              <a:path fill="darkenLess" w="28800" h="21600">
                <a:moveTo>
                  <a:pt x="13477" y="14299"/>
                </a:moveTo>
                <a:lnTo>
                  <a:pt x="15323" y="14299"/>
                </a:lnTo>
                <a:lnTo>
                  <a:pt x="15323" y="17989"/>
                </a:lnTo>
                <a:lnTo>
                  <a:pt x="19709" y="17989"/>
                </a:lnTo>
                <a:lnTo>
                  <a:pt x="19709" y="10800"/>
                </a:lnTo>
                <a:lnTo>
                  <a:pt x="9091" y="10800"/>
                </a:lnTo>
                <a:lnTo>
                  <a:pt x="9091" y="17989"/>
                </a:lnTo>
                <a:lnTo>
                  <a:pt x="134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AutoShape 5"/>
          <p:cNvSpPr/>
          <p:nvPr/>
        </p:nvSpPr>
        <p:spPr>
          <a:xfrm>
            <a:off x="7924680" y="662940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10"/>
          <p:cNvSpPr/>
          <p:nvPr/>
        </p:nvSpPr>
        <p:spPr>
          <a:xfrm>
            <a:off x="205920" y="345960"/>
            <a:ext cx="872568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Bir örgütte, önceden belirlenmiş amaçları gerçekleştirmeye yöne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işleri yapmak üzere biraya getirilmiş insanları  ve madde kaynakların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örgütleyip eşgüdümleyerek eyleme geçirme sürec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AutoShape 13"/>
          <p:cNvSpPr/>
          <p:nvPr/>
        </p:nvSpPr>
        <p:spPr>
          <a:xfrm>
            <a:off x="304920" y="1981080"/>
            <a:ext cx="8534160" cy="4572000"/>
          </a:xfrm>
          <a:prstGeom prst="flowChart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* GERÇEKLEŞTİRİLECEK AMAÇ(L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* İNSAN ve MADDE KAYNAKLARININ ÖRGÜTLENMES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* İŞBÖLÜMÜ İLE DAĞILAN İNSANLAR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BÜTÜNLEŞTİRİLMES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Slayt Numarası Yer Tutucusu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C00A-3B01-4730-9F72-A09FC1214327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AutoShape 2">
            <a:hlinkClick r:id="" action="ppaction://hlinkshowjump?jump=nextslide"/>
          </p:cNvPr>
          <p:cNvSpPr/>
          <p:nvPr/>
        </p:nvSpPr>
        <p:spPr>
          <a:xfrm>
            <a:off x="8534520" y="662940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AutoShape 3">
            <a:hlinkClick r:id="" action="ppaction://hlinkshowjump?jump=previousslide"/>
          </p:cNvPr>
          <p:cNvSpPr/>
          <p:nvPr/>
        </p:nvSpPr>
        <p:spPr>
          <a:xfrm>
            <a:off x="8229600" y="662940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AutoShape 4">
            <a:hlinkClick r:id="" action="ppaction://hlinkshowjump?jump=firstslide"/>
          </p:cNvPr>
          <p:cNvSpPr/>
          <p:nvPr/>
        </p:nvSpPr>
        <p:spPr>
          <a:xfrm>
            <a:off x="8839080" y="662940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4400" y="3837"/>
                </a:moveTo>
                <a:lnTo>
                  <a:pt x="16976" y="6448"/>
                </a:ln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lnTo>
                  <a:pt x="21363" y="10800"/>
                </a:lnTo>
                <a:lnTo>
                  <a:pt x="19709" y="10800"/>
                </a:lnTo>
                <a:lnTo>
                  <a:pt x="19709" y="17989"/>
                </a:lnTo>
                <a:lnTo>
                  <a:pt x="9091" y="17989"/>
                </a:lnTo>
                <a:lnTo>
                  <a:pt x="9091" y="10800"/>
                </a:lnTo>
                <a:lnTo>
                  <a:pt x="7437" y="10800"/>
                </a:lnTo>
                <a:close/>
              </a:path>
              <a:path fill="darkenLess" w="28800" h="21600">
                <a:moveTo>
                  <a:pt x="16976" y="6448"/>
                </a:move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close/>
              </a:path>
              <a:path fill="darkenLess" w="28800" h="21600">
                <a:moveTo>
                  <a:pt x="13477" y="14299"/>
                </a:moveTo>
                <a:lnTo>
                  <a:pt x="15323" y="14299"/>
                </a:lnTo>
                <a:lnTo>
                  <a:pt x="15323" y="17989"/>
                </a:lnTo>
                <a:lnTo>
                  <a:pt x="19709" y="17989"/>
                </a:lnTo>
                <a:lnTo>
                  <a:pt x="19709" y="10800"/>
                </a:lnTo>
                <a:lnTo>
                  <a:pt x="9091" y="10800"/>
                </a:lnTo>
                <a:lnTo>
                  <a:pt x="9091" y="17989"/>
                </a:lnTo>
                <a:lnTo>
                  <a:pt x="134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AutoShape 5"/>
          <p:cNvSpPr/>
          <p:nvPr/>
        </p:nvSpPr>
        <p:spPr>
          <a:xfrm>
            <a:off x="7924680" y="662940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Text Box 8"/>
          <p:cNvSpPr/>
          <p:nvPr/>
        </p:nvSpPr>
        <p:spPr>
          <a:xfrm>
            <a:off x="2819520" y="304920"/>
            <a:ext cx="4057560" cy="1251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Comic Sans MS"/>
              </a:rPr>
              <a:t>Y Ö N E T İ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Brush Script MT"/>
              </a:rPr>
              <a:t>Süreç  –  Bilim  - San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Text Box 9"/>
          <p:cNvSpPr/>
          <p:nvPr/>
        </p:nvSpPr>
        <p:spPr>
          <a:xfrm>
            <a:off x="242280" y="1793880"/>
            <a:ext cx="8769960" cy="3462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AMAÇLARIN ETKİLİ VE VERİMLİ BİR BİÇİM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GERÇEKLEŞTİRİLMESİ MAKSADIYL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Planlama, örgütleme, iletişim, eşgüdüm ve denetim işlevlerine ilişkin (</a:t>
            </a:r>
            <a:r>
              <a:rPr b="1" i="1" lang="tr-TR" sz="2000" spc="-1" strike="noStrike">
                <a:solidFill>
                  <a:srgbClr val="cc0000"/>
                </a:solidFill>
                <a:latin typeface="Times New Roman"/>
              </a:rPr>
              <a:t>SÜREÇ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kavram, ilke, kuram, model ve tekniklerin (</a:t>
            </a:r>
            <a:r>
              <a:rPr b="1" i="1" lang="tr-TR" sz="2000" spc="-1" strike="noStrike">
                <a:solidFill>
                  <a:srgbClr val="cc0000"/>
                </a:solidFill>
                <a:latin typeface="Times New Roman"/>
              </a:rPr>
              <a:t>BİLİM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sistematik ve bilinçli bir biçimde, ustalıkla uygulanması (</a:t>
            </a:r>
            <a:r>
              <a:rPr b="1" i="1" lang="tr-TR" sz="2000" spc="-1" strike="noStrike">
                <a:solidFill>
                  <a:srgbClr val="cc0000"/>
                </a:solidFill>
                <a:latin typeface="Times New Roman"/>
              </a:rPr>
              <a:t>SANAT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ile ilgili etkinliklerin tümüdü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Slayt Numarası Yer Tutucusu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3ECD-F6F7-4C67-81DB-D16A96E92D78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AutoShape 2">
            <a:hlinkClick r:id="" action="ppaction://hlinkshowjump?jump=nextslide"/>
          </p:cNvPr>
          <p:cNvSpPr/>
          <p:nvPr/>
        </p:nvSpPr>
        <p:spPr>
          <a:xfrm>
            <a:off x="8534520" y="662940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AutoShape 3">
            <a:hlinkClick r:id="" action="ppaction://hlinkshowjump?jump=previousslide"/>
          </p:cNvPr>
          <p:cNvSpPr/>
          <p:nvPr/>
        </p:nvSpPr>
        <p:spPr>
          <a:xfrm>
            <a:off x="8229600" y="662940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AutoShape 4">
            <a:hlinkClick r:id="" action="ppaction://hlinkshowjump?jump=firstslide"/>
          </p:cNvPr>
          <p:cNvSpPr/>
          <p:nvPr/>
        </p:nvSpPr>
        <p:spPr>
          <a:xfrm>
            <a:off x="8839080" y="662940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4400" y="3837"/>
                </a:moveTo>
                <a:lnTo>
                  <a:pt x="16976" y="6448"/>
                </a:ln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lnTo>
                  <a:pt x="21363" y="10800"/>
                </a:lnTo>
                <a:lnTo>
                  <a:pt x="19709" y="10800"/>
                </a:lnTo>
                <a:lnTo>
                  <a:pt x="19709" y="17989"/>
                </a:lnTo>
                <a:lnTo>
                  <a:pt x="9091" y="17989"/>
                </a:lnTo>
                <a:lnTo>
                  <a:pt x="9091" y="10800"/>
                </a:lnTo>
                <a:lnTo>
                  <a:pt x="7437" y="10800"/>
                </a:lnTo>
                <a:close/>
              </a:path>
              <a:path fill="darkenLess" w="28800" h="21600">
                <a:moveTo>
                  <a:pt x="16976" y="6448"/>
                </a:move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close/>
              </a:path>
              <a:path fill="darkenLess" w="28800" h="21600">
                <a:moveTo>
                  <a:pt x="13477" y="14299"/>
                </a:moveTo>
                <a:lnTo>
                  <a:pt x="15323" y="14299"/>
                </a:lnTo>
                <a:lnTo>
                  <a:pt x="15323" y="17989"/>
                </a:lnTo>
                <a:lnTo>
                  <a:pt x="19709" y="17989"/>
                </a:lnTo>
                <a:lnTo>
                  <a:pt x="19709" y="10800"/>
                </a:lnTo>
                <a:lnTo>
                  <a:pt x="9091" y="10800"/>
                </a:lnTo>
                <a:lnTo>
                  <a:pt x="9091" y="17989"/>
                </a:lnTo>
                <a:lnTo>
                  <a:pt x="134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AutoShape 5"/>
          <p:cNvSpPr/>
          <p:nvPr/>
        </p:nvSpPr>
        <p:spPr>
          <a:xfrm>
            <a:off x="7924680" y="662940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8"/>
          <p:cNvSpPr/>
          <p:nvPr/>
        </p:nvSpPr>
        <p:spPr>
          <a:xfrm>
            <a:off x="1881360" y="247680"/>
            <a:ext cx="5406480" cy="581400"/>
          </a:xfrm>
          <a:prstGeom prst="rect">
            <a:avLst/>
          </a:prstGeom>
          <a:solidFill>
            <a:srgbClr val="ccffcc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YÖNETİMİN </a:t>
            </a:r>
            <a:r>
              <a:rPr b="1" lang="tr-TR" sz="3200" spc="-1" strike="noStrike">
                <a:solidFill>
                  <a:srgbClr val="3333cc"/>
                </a:solidFill>
                <a:latin typeface="Times New Roman"/>
              </a:rPr>
              <a:t>SÜREÇ</a:t>
            </a: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 YÖN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ext Box 9"/>
          <p:cNvSpPr/>
          <p:nvPr/>
        </p:nvSpPr>
        <p:spPr>
          <a:xfrm>
            <a:off x="345960" y="990720"/>
            <a:ext cx="8516880" cy="5468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6765e"/>
              </a:gs>
            </a:gsLst>
            <a:lin ang="2700000"/>
          </a:gra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800080"/>
                </a:solidFill>
                <a:latin typeface="Wingdings"/>
                <a:ea typeface="Wingdings"/>
              </a:rPr>
              <a:t></a:t>
            </a:r>
            <a:r>
              <a:rPr b="0" lang="tr-TR" sz="24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Bir veya birden fazla amaç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800080"/>
                </a:solidFill>
                <a:latin typeface="Wingdings"/>
                <a:ea typeface="Wingdings"/>
              </a:rPr>
              <a:t></a:t>
            </a:r>
            <a:r>
              <a:rPr b="0" lang="tr-TR" sz="24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İnsan ve madde kaynaklarını kullanma yetkis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800080"/>
                </a:solidFill>
                <a:latin typeface="Wingdings"/>
                <a:ea typeface="Wingdings"/>
              </a:rPr>
              <a:t></a:t>
            </a:r>
            <a:r>
              <a:rPr b="0" lang="tr-TR" sz="24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Yöneten(ler) – Yönetilen(ler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800080"/>
                </a:solidFill>
                <a:latin typeface="Wingdings"/>
                <a:ea typeface="Wingdings"/>
              </a:rPr>
              <a:t></a:t>
            </a:r>
            <a:r>
              <a:rPr b="0" lang="tr-TR" sz="24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İnsan ve madde kaynakları arasındaki optimum bi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uyum ve işbirliği sağlam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800080"/>
                </a:solidFill>
                <a:latin typeface="Wingdings"/>
                <a:ea typeface="Wingdings"/>
              </a:rPr>
              <a:t></a:t>
            </a:r>
            <a:r>
              <a:rPr b="0" lang="tr-TR" sz="24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Otorite sağlam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800080"/>
                </a:solidFill>
                <a:latin typeface="Wingdings"/>
                <a:ea typeface="Wingdings"/>
              </a:rPr>
              <a:t></a:t>
            </a:r>
            <a:r>
              <a:rPr b="0" lang="tr-TR" sz="24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Yönetici ile yönetilenler arasında uyum ve iletişi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(amaç birliği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800080"/>
                </a:solidFill>
                <a:latin typeface="Wingdings"/>
                <a:ea typeface="Wingdings"/>
              </a:rPr>
              <a:t></a:t>
            </a:r>
            <a:r>
              <a:rPr b="0" lang="tr-TR" sz="24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Grupta işbölümü ve bu yolla ekonomikliği sağlayaca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uzmanlaşm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800080"/>
                </a:solidFill>
                <a:latin typeface="Wingdings"/>
                <a:ea typeface="Wingdings"/>
              </a:rPr>
              <a:t></a:t>
            </a:r>
            <a:r>
              <a:rPr b="0" lang="tr-TR" sz="24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Zaman yönetim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800080"/>
                </a:solidFill>
                <a:latin typeface="Wingdings"/>
                <a:ea typeface="Wingdings"/>
              </a:rPr>
              <a:t></a:t>
            </a:r>
            <a:r>
              <a:rPr b="0" lang="tr-TR" sz="24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Rasyonellik (Verimlilik – etkilili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Slayt Numarası Yer Tutucusu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F678-F115-4228-A610-939A9ADE0D51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AutoShape 2">
            <a:hlinkClick r:id="" action="ppaction://hlinkshowjump?jump=nextslide"/>
          </p:cNvPr>
          <p:cNvSpPr/>
          <p:nvPr/>
        </p:nvSpPr>
        <p:spPr>
          <a:xfrm>
            <a:off x="8534520" y="662940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AutoShape 3">
            <a:hlinkClick r:id="" action="ppaction://hlinkshowjump?jump=previousslide"/>
          </p:cNvPr>
          <p:cNvSpPr/>
          <p:nvPr/>
        </p:nvSpPr>
        <p:spPr>
          <a:xfrm>
            <a:off x="8229600" y="662940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AutoShape 4">
            <a:hlinkClick r:id="" action="ppaction://hlinkshowjump?jump=firstslide"/>
          </p:cNvPr>
          <p:cNvSpPr/>
          <p:nvPr/>
        </p:nvSpPr>
        <p:spPr>
          <a:xfrm>
            <a:off x="8839080" y="662940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4400" y="3837"/>
                </a:moveTo>
                <a:lnTo>
                  <a:pt x="16976" y="6448"/>
                </a:ln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lnTo>
                  <a:pt x="21363" y="10800"/>
                </a:lnTo>
                <a:lnTo>
                  <a:pt x="19709" y="10800"/>
                </a:lnTo>
                <a:lnTo>
                  <a:pt x="19709" y="17989"/>
                </a:lnTo>
                <a:lnTo>
                  <a:pt x="9091" y="17989"/>
                </a:lnTo>
                <a:lnTo>
                  <a:pt x="9091" y="10800"/>
                </a:lnTo>
                <a:lnTo>
                  <a:pt x="7437" y="10800"/>
                </a:lnTo>
                <a:close/>
              </a:path>
              <a:path fill="darkenLess" w="28800" h="21600">
                <a:moveTo>
                  <a:pt x="16976" y="6448"/>
                </a:move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close/>
              </a:path>
              <a:path fill="darkenLess" w="28800" h="21600">
                <a:moveTo>
                  <a:pt x="13477" y="14299"/>
                </a:moveTo>
                <a:lnTo>
                  <a:pt x="15323" y="14299"/>
                </a:lnTo>
                <a:lnTo>
                  <a:pt x="15323" y="17989"/>
                </a:lnTo>
                <a:lnTo>
                  <a:pt x="19709" y="17989"/>
                </a:lnTo>
                <a:lnTo>
                  <a:pt x="19709" y="10800"/>
                </a:lnTo>
                <a:lnTo>
                  <a:pt x="9091" y="10800"/>
                </a:lnTo>
                <a:lnTo>
                  <a:pt x="9091" y="17989"/>
                </a:lnTo>
                <a:lnTo>
                  <a:pt x="134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AutoShape 5"/>
          <p:cNvSpPr/>
          <p:nvPr/>
        </p:nvSpPr>
        <p:spPr>
          <a:xfrm>
            <a:off x="7924680" y="662940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6"/>
          <p:cNvSpPr/>
          <p:nvPr/>
        </p:nvSpPr>
        <p:spPr>
          <a:xfrm>
            <a:off x="1947600" y="247680"/>
            <a:ext cx="5270760" cy="581400"/>
          </a:xfrm>
          <a:prstGeom prst="rect">
            <a:avLst/>
          </a:prstGeom>
          <a:solidFill>
            <a:srgbClr val="ccffcc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YÖNETİMİN </a:t>
            </a:r>
            <a:r>
              <a:rPr b="1" lang="tr-TR" sz="3200" spc="-1" strike="noStrike">
                <a:solidFill>
                  <a:srgbClr val="3333cc"/>
                </a:solidFill>
                <a:latin typeface="Times New Roman"/>
              </a:rPr>
              <a:t>BİLİM</a:t>
            </a: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 YÖN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7"/>
          <p:cNvSpPr/>
          <p:nvPr/>
        </p:nvSpPr>
        <p:spPr>
          <a:xfrm>
            <a:off x="457200" y="914400"/>
            <a:ext cx="8369280" cy="5528520"/>
          </a:xfrm>
          <a:prstGeom prst="rect">
            <a:avLst/>
          </a:prstGeom>
          <a:solidFill>
            <a:srgbClr val="ccffcc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Oval 9"/>
          <p:cNvSpPr/>
          <p:nvPr/>
        </p:nvSpPr>
        <p:spPr>
          <a:xfrm>
            <a:off x="7238880" y="1523880"/>
            <a:ext cx="1447920" cy="129564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Antropolo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Oval 10"/>
          <p:cNvSpPr/>
          <p:nvPr/>
        </p:nvSpPr>
        <p:spPr>
          <a:xfrm>
            <a:off x="7238880" y="4495680"/>
            <a:ext cx="1447920" cy="12956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Oval 11"/>
          <p:cNvSpPr/>
          <p:nvPr/>
        </p:nvSpPr>
        <p:spPr>
          <a:xfrm>
            <a:off x="762120" y="1219320"/>
            <a:ext cx="1447560" cy="129528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Siyas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Bilim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Oval 12"/>
          <p:cNvSpPr/>
          <p:nvPr/>
        </p:nvSpPr>
        <p:spPr>
          <a:xfrm>
            <a:off x="2362320" y="1143000"/>
            <a:ext cx="1447560" cy="129528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Psikolo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Oval 13"/>
          <p:cNvSpPr/>
          <p:nvPr/>
        </p:nvSpPr>
        <p:spPr>
          <a:xfrm>
            <a:off x="4038480" y="1143000"/>
            <a:ext cx="1447920" cy="12952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Sosyolo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Oval 14"/>
          <p:cNvSpPr/>
          <p:nvPr/>
        </p:nvSpPr>
        <p:spPr>
          <a:xfrm>
            <a:off x="762120" y="4191120"/>
            <a:ext cx="1447560" cy="1295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Huk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Oval 15"/>
          <p:cNvSpPr/>
          <p:nvPr/>
        </p:nvSpPr>
        <p:spPr>
          <a:xfrm>
            <a:off x="2209680" y="4800600"/>
            <a:ext cx="1447920" cy="1295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Edebiy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Oval 16"/>
          <p:cNvSpPr/>
          <p:nvPr/>
        </p:nvSpPr>
        <p:spPr>
          <a:xfrm>
            <a:off x="3886200" y="4876920"/>
            <a:ext cx="144792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Felse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Oval 17"/>
          <p:cNvSpPr/>
          <p:nvPr/>
        </p:nvSpPr>
        <p:spPr>
          <a:xfrm>
            <a:off x="5638680" y="4800600"/>
            <a:ext cx="1447920" cy="12952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Matemat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Oval 18"/>
          <p:cNvSpPr/>
          <p:nvPr/>
        </p:nvSpPr>
        <p:spPr>
          <a:xfrm>
            <a:off x="533520" y="2743200"/>
            <a:ext cx="1447560" cy="129528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Mantı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Oval 19"/>
          <p:cNvSpPr/>
          <p:nvPr/>
        </p:nvSpPr>
        <p:spPr>
          <a:xfrm>
            <a:off x="7238880" y="2971800"/>
            <a:ext cx="1447920" cy="12952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Tari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Oval 20"/>
          <p:cNvSpPr/>
          <p:nvPr/>
        </p:nvSpPr>
        <p:spPr>
          <a:xfrm>
            <a:off x="5715000" y="1143000"/>
            <a:ext cx="1447920" cy="1295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Ekono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AutoShape 21"/>
          <p:cNvSpPr/>
          <p:nvPr/>
        </p:nvSpPr>
        <p:spPr>
          <a:xfrm>
            <a:off x="2209680" y="2590920"/>
            <a:ext cx="5181840" cy="2286000"/>
          </a:xfrm>
          <a:prstGeom prst="irregularSeal1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900" spc="-1" strike="noStrike">
                <a:solidFill>
                  <a:srgbClr val="ffffff"/>
                </a:solidFill>
                <a:latin typeface="Comic Sans MS"/>
              </a:rPr>
              <a:t>Yönetim Bilimi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1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1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10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10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" fill="hold"/>
                                        <p:tgtEl>
                                          <p:spTgt spid="10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10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10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10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" fill="hold"/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10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10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1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" fill="hold"/>
                                        <p:tgtEl>
                                          <p:spTgt spid="1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10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" fill="hold"/>
                                        <p:tgtEl>
                                          <p:spTgt spid="10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10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10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10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" fill="hold"/>
                                        <p:tgtEl>
                                          <p:spTgt spid="10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Text Box 6"/>
          <p:cNvSpPr/>
          <p:nvPr/>
        </p:nvSpPr>
        <p:spPr>
          <a:xfrm>
            <a:off x="1558440" y="103320"/>
            <a:ext cx="6053040" cy="642600"/>
          </a:xfrm>
          <a:prstGeom prst="rect">
            <a:avLst/>
          </a:prstGeom>
          <a:solidFill>
            <a:srgbClr val="ccffcc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cc0000"/>
                </a:solidFill>
                <a:latin typeface="Times New Roman"/>
              </a:rPr>
              <a:t>YÖNETİMİN </a:t>
            </a:r>
            <a:r>
              <a:rPr b="1" lang="tr-TR" sz="3600" spc="-1" strike="noStrike">
                <a:solidFill>
                  <a:srgbClr val="3333cc"/>
                </a:solidFill>
                <a:latin typeface="Times New Roman"/>
              </a:rPr>
              <a:t>SANAT</a:t>
            </a:r>
            <a:r>
              <a:rPr b="1" lang="tr-TR" sz="3600" spc="-1" strike="noStrike">
                <a:solidFill>
                  <a:srgbClr val="cc0000"/>
                </a:solidFill>
                <a:latin typeface="Times New Roman"/>
              </a:rPr>
              <a:t> YÖN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7"/>
          <p:cNvSpPr/>
          <p:nvPr/>
        </p:nvSpPr>
        <p:spPr>
          <a:xfrm>
            <a:off x="141120" y="839880"/>
            <a:ext cx="8823600" cy="1994760"/>
          </a:xfrm>
          <a:prstGeom prst="rect">
            <a:avLst/>
          </a:prstGeom>
          <a:solidFill>
            <a:srgbClr val="ffffcc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 u="sng">
                <a:solidFill>
                  <a:srgbClr val="3333cc"/>
                </a:solidFill>
                <a:uFillTx/>
                <a:latin typeface="Comic Sans MS"/>
              </a:rPr>
              <a:t>ENTELEKTÜEL YÖ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Genel kültür – Mantıklılık – Analiz ve sentez ruhu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Sezgi ve hayal gücü – Yargı gücü – Düşüncelerini konu 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sorunlara odaklaştırabilme, açık seçik ifade edebil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 Box 8"/>
          <p:cNvSpPr/>
          <p:nvPr/>
        </p:nvSpPr>
        <p:spPr>
          <a:xfrm>
            <a:off x="168840" y="3156120"/>
            <a:ext cx="8821800" cy="155700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 u="sng">
                <a:solidFill>
                  <a:srgbClr val="996633"/>
                </a:solidFill>
                <a:uFillTx/>
                <a:latin typeface="Comic Sans MS"/>
              </a:rPr>
              <a:t>KARAKTER YÖN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Akıl ve duygu dengesi – Uyum – Dikkatlilik – İhtiyatlılık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Girişkenlik – Hafıza gücü – Dinamiklik - Azim ve sebatkârlık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Yöntemlilik – Tertip ve düzenlilik – Süratlilik - Ciddi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9"/>
          <p:cNvSpPr/>
          <p:nvPr/>
        </p:nvSpPr>
        <p:spPr>
          <a:xfrm>
            <a:off x="219240" y="4925880"/>
            <a:ext cx="8745480" cy="1800360"/>
          </a:xfrm>
          <a:prstGeom prst="rect">
            <a:avLst/>
          </a:prstGeom>
          <a:solidFill>
            <a:srgbClr val="ccffcc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 u="sng">
                <a:solidFill>
                  <a:srgbClr val="008000"/>
                </a:solidFill>
                <a:uFillTx/>
                <a:latin typeface="Comic Sans MS"/>
              </a:rPr>
              <a:t>SOSYAL YÖ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Dış görünüş – Hitap gücü – Sosyallik İş disiplini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İşbirliği ve yöneltme gücü – Ölçülü ve dengeli hareket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Otorite ve ikna güc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Eğitim Örgütü nedi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Ortak amaç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şbirliğ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ireysel ihtiyaç ve güçlerin aşılmasından </a:t>
            </a:r>
            <a:r>
              <a:rPr b="0" lang="tr-T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Toplumsal ihtiyaçların karşılanması için amaçlara yönelm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Örgütün var olabilmesi için temel öğel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1. İletişim içindeki birey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macın gerçekleştirilmesi için katkı güdüs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3. gerçekleştirilecek ama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Bir örgütün tipik özellikleri nelerdi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Toplumsal varlıklar olmalar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Amaç yönelimli olmalar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Etkinlik ve ilişkilerinin sürekliliğ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6T19:06:24Z</dcterms:created>
  <dc:creator>DBE</dc:creator>
  <dc:description/>
  <dc:language>en-US</dc:language>
  <cp:lastModifiedBy>asusbm6820</cp:lastModifiedBy>
  <dcterms:modified xsi:type="dcterms:W3CDTF">2014-05-31T09:34:54Z</dcterms:modified>
  <cp:revision>31</cp:revision>
  <dc:subject/>
  <dc:title>PowerPoint Sunusu</dc:title>
</cp:coreProperties>
</file>