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3.wmf" ContentType="image/x-wmf"/>
  <Override PartName="/ppt/media/image28.jpeg" ContentType="image/jpeg"/>
  <Override PartName="/ppt/media/image34.wmf" ContentType="image/x-wmf"/>
  <Override PartName="/ppt/media/image33.wmf" ContentType="image/x-wmf"/>
  <Override PartName="/ppt/media/image13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38.jpeg" ContentType="image/jpeg"/>
  <Override PartName="/ppt/media/image39.wmf" ContentType="image/x-wmf"/>
  <Override PartName="/ppt/media/image27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BC0-BE28-4C04-A405-A5147380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752-5B01-47E0-AFA9-CC5D543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9AE-17F5-43CE-928A-5526EE0D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312-617F-4261-8796-9789DFCC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25ACD-85A5-4F8F-BF5A-2D7F5873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2B41D-2D32-4126-A16A-D31D0F8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0B2B-951F-4BBE-9ED8-B2B1E80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93793-8091-4B67-A46D-E61312C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6C6EB-F191-49C1-9A69-F969A87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0D6E-A96C-4ED6-8C97-6E8F993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CB4F-47B6-4B98-9311-BDC963BA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8D6-A2F5-4BE4-A8BB-4CAEC59E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AF20-599A-4707-8A81-1368428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5878-21DC-4AA9-91D7-4B4588E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A3545-E839-4739-B2EB-B8E90D49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4666C-5ADF-4150-8FB3-F799C0D0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52CFA-CAEF-4C2B-A39C-F7395122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DA1B-D9F3-4508-B6BA-B296250F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C301-87EA-4ED3-85F3-FEC61FA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F5D1-D09A-4209-9FD1-608D231B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3720-3024-4F44-981D-CB24F9C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77CD-56E8-42B2-BCE7-2E734AC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B0C-63C9-4223-A795-15DF6EC6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D6A3-6F74-4A8F-8C5C-9E35A76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6597-1784-4AC5-ADA3-9381778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50FC-8EBB-4DFB-BB1C-AEB67BB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3AA6-847B-4210-8097-A0FEF31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3F46-B78E-40CE-ADA2-B70B891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D853-320F-458F-A4F0-065E8791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6532-19FC-4275-885C-7CB26518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3AB7-4569-4261-BE1E-072DFB26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3C91-D41D-4E63-8599-EA597BD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9FA9-12DA-4DBD-8844-47363098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2D1-1A02-4F88-A0BA-FB0174D9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2956-372A-4243-9240-F1E8F07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3395-9657-4331-8D1E-D2F1621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426B-F397-48E8-AF5F-6456754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6206-7437-4077-9B63-3DDFF36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A74C-BD81-471C-9DDA-550E0B4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AF2B-55E3-4165-8454-1F6BEE7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7675-DBBC-49AF-8D3A-F2D43A1A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BC6A-1330-4DB9-A1E5-666A3BDE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7D1B-E577-4650-B1CE-251491E6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963-980E-4B8F-A0AA-032F2D2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766-770B-4135-AD7B-7C9537D0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E2F-792C-4A08-85B3-95F3127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9F5-A801-47F6-A9F6-BCF26E7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7E9-4030-49D2-99ED-65E7999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038-71C2-4658-A10E-003D158D8A2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2CA5-C0A8-405A-9020-78AE7EFA3326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1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2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0BA7-6A83-4B03-8B08-401252AD062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7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2AE-C9DF-4BB3-9E5F-66C3ACC77134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http://www.komikler.com/komikresim/icat_resimleri/13:23101/Eglenceli_Kupalar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9900"/>
                </a:solidFill>
                <a:latin typeface="Arial"/>
              </a:rPr>
              <a:t>EĞİTİMDE SINI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9900"/>
                </a:solidFill>
                <a:latin typeface="Monotype Corsiva"/>
              </a:rPr>
              <a:t>YÖNETİMİ </a:t>
            </a:r>
            <a:r>
              <a:rPr b="1" lang="tr-TR" sz="18800" spc="-1" strike="noStrike">
                <a:solidFill>
                  <a:srgbClr val="ff9900"/>
                </a:solidFill>
                <a:latin typeface="Monotype Corsiva"/>
              </a:rPr>
              <a:t>! </a:t>
            </a:r>
            <a:endParaRPr b="0" lang="en-US" sz="1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SINAVDA SORACAĞIMIZI SÖYLEYEREK DİKKATLERİNİ ÇEKM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ccecff"/>
                </a:solidFill>
                <a:latin typeface="Arial"/>
              </a:rPr>
              <a:t>Serbest Bırakıcı</a:t>
            </a:r>
            <a:r>
              <a:rPr b="0" lang="tr-TR" sz="5400" spc="-1" strike="noStrike">
                <a:solidFill>
                  <a:srgbClr val="ccecff"/>
                </a:solidFill>
                <a:latin typeface="Arial"/>
              </a:rPr>
              <a:t> Öğretmen Tutumu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844280"/>
            <a:ext cx="8842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a girer girmez gülüm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ta dolaşan öğrencilere hiç aldırış etm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 yönetiminde etkisiz bir eleman gibidir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 ne zaman,ne isterlerse yapabileceklerine inanı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ccecff"/>
                </a:solidFill>
                <a:latin typeface="Arial"/>
              </a:rPr>
              <a:t>Demokratik</a:t>
            </a:r>
            <a:r>
              <a:rPr b="0" lang="tr-TR" sz="5400" spc="-1" strike="noStrike">
                <a:solidFill>
                  <a:srgbClr val="ccecff"/>
                </a:solidFill>
                <a:latin typeface="Arial"/>
              </a:rPr>
              <a:t> Öğretmen Tutumu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a girer girmez öğrencileri selamlarlar. Herkesin oturmasını ister ve herkesin dikkatini toplayıncaya kadar bek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rkalarda dolaşan öğrencilere,kendilerini gördüğünü belirten sinyaller gönder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alları belirlerken öğrenci görüşlerini a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e; istenmedik davranışlar sergiledikleri zaman sonuçlarına kendileri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tlanmaları gerektiğini belir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Öğrenci Davranışlarını Etkileyen Faktörl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Arial"/>
              </a:rPr>
              <a:t>Sınıf İçi Faktörl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ff"/>
                </a:solidFill>
                <a:latin typeface="Arial"/>
              </a:rPr>
              <a:t>Sınıf Dışı Faktörl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4" descr="pato1"/>
          <p:cNvPicPr/>
          <p:nvPr/>
        </p:nvPicPr>
        <p:blipFill>
          <a:blip r:embed="rId1"/>
          <a:stretch/>
        </p:blipFill>
        <p:spPr>
          <a:xfrm>
            <a:off x="0" y="350028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pato2"/>
          <p:cNvPicPr/>
          <p:nvPr/>
        </p:nvPicPr>
        <p:blipFill>
          <a:blip r:embed="rId2"/>
          <a:stretch/>
        </p:blipFill>
        <p:spPr>
          <a:xfrm>
            <a:off x="2987640" y="3573360"/>
            <a:ext cx="2808360" cy="3284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pato3"/>
          <p:cNvPicPr/>
          <p:nvPr/>
        </p:nvPicPr>
        <p:blipFill>
          <a:blip r:embed="rId3"/>
          <a:stretch/>
        </p:blipFill>
        <p:spPr>
          <a:xfrm>
            <a:off x="5940360" y="3573360"/>
            <a:ext cx="3203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Sınıf İçi Faktör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me Ortamının Sağlıksız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ta Öğrencileri olumsuz davranışlara yönlendirecek öğrencilerin var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lerle ilgili öğrencilerde hakim olan yanlış inanç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in öğrencinin tepkisini çekecek türden davranışları sıklıkla sergile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Sınıf Dışı Faktör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evre ve Özellik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kuldaki bireyler arasındaki uyumsuzluk ve geçimsizl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kademik başarısızlı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kuldaki marjinal öğrencilerin fazla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 için öğrenme fırsatının eşit olmayı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in sosyal ve Akademik deney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Öğrenci Gözü ile ÖĞRETME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hlak , değer ve davranış açısından toplumun temsilc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ilginin kaynağı bir filoz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ğrenme engellerini ortadan kaldıran ve öğrenmeye yön veren uz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anlışlıkları keşfeden dedek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ehlikeyi ve gerginliği azaltıcı bir psiko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Şefkat ve nasihat ile ana-baba gibi koruyuc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yumu sağlayan grup lid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ven veren arkada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İstenmeyen Davranışları Önleme Yaklaşımlar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DAVRANIŞÇI YAKLAŞIM: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Ödül ve cezalarla öğrencinin olumsuz davranışlarını ortadan kaldırmak amaçlan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İNSANCIL YAKLAŞIM: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Problemlerin çözümünde öğrenci merkezli olan bu yaklaşımda kişinin psikolojik özü,gereksinimleri ve yetenekleri göz önüne alın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dül ve cezaların yerine; öğrencinin kendi davranışından sorumlu olması,karar verme, denetleme ve değerlendirme gibi becerileri göstermesi amaçlan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İstenmeyen Davranışların Önlenmes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Kendisinin Kontrolünü Kaybetmeme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4" descr="BD07175_"/>
          <p:cNvPicPr/>
          <p:nvPr/>
        </p:nvPicPr>
        <p:blipFill>
          <a:blip r:embed="rId1"/>
          <a:stretch/>
        </p:blipFill>
        <p:spPr>
          <a:xfrm>
            <a:off x="1042920" y="2276640"/>
            <a:ext cx="7229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Problem çok ciddi boyutlara ulaşmadan duruma müdahale edilmeli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ncinin iyi davranışları ödüllendirilmeli,ödül öğrenciye değil yapılan işe verilmeli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icat_grup_13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352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ZEGARNIG OLGUSU: YARIM BIRAKILAN KONU ÇOK DAHA FAZLA İLGİ UYANDIR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Öğretmenin bir öğrencinin sergilediği istenmeyen davranışına müdahale etmesi (Göz kontağı kurma,yanına yaklaşma vs..) yakın arkadaşlarının da davranışları düzeltmesine neden olacakt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788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bir davranışın bozukluğu karşısında “Şunu demek istiyorum” diyerek sonuna kadar kararlı olduğunu hissettirme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5" name="Object 4"/>
          <p:cNvGraphicFramePr/>
          <p:nvPr/>
        </p:nvGraphicFramePr>
        <p:xfrm>
          <a:off x="4834080" y="2538360"/>
          <a:ext cx="366372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4080" y="2538360"/>
                    <a:ext cx="36637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-1580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 öğrencilerinde görmek istediği davranışlar için </a:t>
            </a:r>
            <a:r>
              <a:rPr b="1" i="1" lang="tr-TR" sz="4000" spc="-1" strike="noStrike">
                <a:solidFill>
                  <a:srgbClr val="ffffff"/>
                </a:solidFill>
                <a:latin typeface="Arial"/>
              </a:rPr>
              <a:t>model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olmalıd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4" descr="KOPYAÇEK_dl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in öğrencisine karşı </a:t>
            </a:r>
            <a:r>
              <a:rPr b="1" i="1" lang="tr-TR" sz="4000" spc="-1" strike="noStrike">
                <a:solidFill>
                  <a:srgbClr val="ffffff"/>
                </a:solidFill>
                <a:latin typeface="Arial"/>
              </a:rPr>
              <a:t>olumlu tutumu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 , öğrencilerin davranışlarında etkili olmaktad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 her an sınıfta olan her şeyden haberdar olduğunu hissettirmelidi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sınıfta_uyku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-1609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 detaylara çok fazla zaman ayırmamalıd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9unkarekoku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47200" y="-29160"/>
            <a:ext cx="8139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Bıkkınlık dikkatin dağılmasına neden ol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Sıkıntı hissedilince öğretmen etkinliği değiştirebilmelid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14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öğrencinin kişiliği ile değil  “durum ile ilgili “BEN” mesajları verme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n çok konuşuyorsun “ yerine “ Senin konuşman benim dikkatimi dağıtıyo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İyi bir sınıf disiplini için “Vücut dili” çok önemlidir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kopek_asker;mektubu_okuyor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Öğretmen istenmeyen davranışlarla ilgili öğrencilere ne hissettikleri ile ilgili konuşma fırsatı vermelid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4" descr="temtop_tanoral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mysterious-structures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795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Öğrencilere karşı kesinlikle “aptal,tembel,sorumsuz…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gibi kelimeler kullanılmamalı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640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Öğretmen bütün öğrencilerine eşit davranmalı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Aynı mesafede olmalı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Öğretmen bütün öğrencilerine sorumluluk vermelid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öğrencilerinin kendilerine güvenini yüksek tutmak ve akademik başarıları için destek olmalı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ÇOK TATLI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tenmeyen davranışların ortadan kaldırılmasında bireysel ilgilenme önemli bir çalışmadır. Öğretmen bireysel görüşmeler konusunda istekli ve yaratıcı olmalıdı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513053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“Problem çözme becerileri “ konusunda kendisini yetiştirmel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Sorunun fark edilme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Sorunun tanımlanmas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Çözüme yönelik alternatiflerin üret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Çözümlerin seçilme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Uygula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Değerlendirme ve Düzelt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PROBLEM DURUMLARI VE YAKLAŞIML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Hiperaktif Öğrencile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endinize yakın oturtunuz.Ders esnasında hareket edebilecekleri alanın sınırlarını birlikte çizin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*Dikkati Çabuk Dağılan Öğrencil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uvar kenarına oturtun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" descr="cat_bird_cage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İş Yapmak İstemeyen Öğrenci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pacağı çalışmaların listesini zaman limitini ile birlikte yazınız.Yaptıkları çalışmaların yanına  (+) koydurtunu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einstein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*Hafızası Zayıf Öğrencil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Çalışmaları küçük parçalar şeklinde ayırarak veriniz.Talimatları en fazla ikişer ikişer verin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Object 4"/>
          <p:cNvGraphicFramePr/>
          <p:nvPr/>
        </p:nvGraphicFramePr>
        <p:xfrm>
          <a:off x="4140360" y="1628640"/>
          <a:ext cx="450504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50504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931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KONUYLA İLGİLİ  KENDİ DENEYİMLERİNDEN DOĞAN İPUÇLA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5" descr="cartoon"/>
          <p:cNvPicPr/>
          <p:nvPr/>
        </p:nvPicPr>
        <p:blipFill>
          <a:blip r:embed="rId1"/>
          <a:stretch/>
        </p:blipFill>
        <p:spPr>
          <a:xfrm>
            <a:off x="4940280" y="2060640"/>
            <a:ext cx="4203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Motivasyonu Düşük Öğrencil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er bir gösterdiği gelişmeyi kayıt etmek üzere bir tablo hazırlatınız.Her gelişmeyi ve yeni öğrendiklerini tabloya kayıt ettirin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neyse_sustu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79520" y="277560"/>
            <a:ext cx="8207280" cy="5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Unutmayın…….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endi varlıklarından Memnun olan İnsanlar Başarılı , Mutlu,Kendine Güvenen, Kendini Gerçekleştirmiş Kişilikler Yetiştiri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cocuk1558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ONLARA ZENGİN BİR ŞÖLEN SOFRASI SUNMA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planta"/>
          <p:cNvPicPr/>
          <p:nvPr/>
        </p:nvPicPr>
        <p:blipFill>
          <a:blip r:embed="rId1"/>
          <a:stretch/>
        </p:blipFill>
        <p:spPr>
          <a:xfrm>
            <a:off x="1979640" y="1916280"/>
            <a:ext cx="5710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ÖĞRETMENLERİN İLETİŞİM BECERİLER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İLGİL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NEŞEL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MUT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İLGİL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GÜVENİLİ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İNSA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OL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DERSİNİ İYİ SU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SEVGİ BESLE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SAYGIYA SAHİ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SAYGI GÖS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İREYSEL FARKLILIKLARI DİKKATE A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HOŞGÖRÜL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ANLAYIŞ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YANS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ÖĞRETMENLER KENDİLERİNİ DEĞERLENDİRMEDE OBJEKTİFLER Mİ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KENDİNE GÖRE İYİ BİR ÖĞRETMEN OLMAK NE ANLAM TAŞ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NCİLERİN İSTEMEDİĞİ SINIF ORTAMI YARATILMAKTAD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ARAŞTIMALARA GÖRE EN ÖNEMLİ ÖZELLİK </a:t>
            </a:r>
            <a:r>
              <a:rPr b="1" i="1" lang="tr-TR" sz="4400" spc="-1" strike="noStrike">
                <a:solidFill>
                  <a:srgbClr val="fef5a0"/>
                </a:solidFill>
                <a:latin typeface="Trebuchet MS"/>
              </a:rPr>
              <a:t>DEMOKRATİK OLMA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ff"/>
                </a:solidFill>
                <a:latin typeface="Arial"/>
              </a:rPr>
              <a:t>OKUL NEDEN ÖNEMLİ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ccecff"/>
                </a:solidFill>
                <a:uFillTx/>
                <a:latin typeface="Arial"/>
              </a:rPr>
              <a:t>WHY SCHOOL IS 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3" descr="shcool"/>
          <p:cNvPicPr/>
          <p:nvPr/>
        </p:nvPicPr>
        <p:blipFill>
          <a:blip r:embed="rId1"/>
          <a:stretch/>
        </p:blipFill>
        <p:spPr>
          <a:xfrm>
            <a:off x="971640" y="1287360"/>
            <a:ext cx="75247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6000" spc="-1" strike="noStrike">
                <a:solidFill>
                  <a:srgbClr val="fef5a0"/>
                </a:solidFill>
                <a:latin typeface="Arial"/>
              </a:rPr>
              <a:t>ÖĞRETMENE VEREBİLECEĞİMİZ BİR SİHİRLİ DEĞNEK VAR MI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6600" spc="-1" strike="noStrike">
                <a:solidFill>
                  <a:srgbClr val="99ff99"/>
                </a:solidFill>
                <a:latin typeface="Arial"/>
              </a:rPr>
              <a:t>SINIF YÖNETİMİ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36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Lucida Handwriting"/>
              </a:rPr>
              <a:t>SINIF: ÖĞRENCİ VE ÖĞRETMEN BİRLİKTELİĞİ: DİNAMİK BİR ETKİLEŞİ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Lucida Handwriting"/>
              </a:rPr>
              <a:t>ÖĞRETMEN OLM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Lucida Handwriting"/>
              </a:rPr>
              <a:t>ÖĞRENCİ OLM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İZİN NASIL BİR ÖĞRETMEN OLDUĞUNUZ KARŞINIZDAKİ ÖĞRENCİLERİN NASIL ÖĞRENCİ OLDUKLARINDAN AYRI DÜŞÜNÜLEME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Lucida Handwriting"/>
              </a:rPr>
              <a:t>İNSANLAR OYNADIKLARI ROLLERDEN ZEVK ALMALIDIRL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Lucida Handwriting"/>
              </a:rPr>
              <a:t>NASIL BİR ÖĞRENCİ ROLÜ VERİYORUZ ONLA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Lucida Handwriting"/>
              </a:rPr>
              <a:t>ZEVKLİ Mİ SIKICI 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ef5a0"/>
                </a:solidFill>
                <a:latin typeface="Lucida Handwriting"/>
              </a:rPr>
              <a:t>YARATICI MI MONOTON M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ccecff"/>
                </a:solidFill>
                <a:latin typeface="Arial"/>
              </a:rPr>
              <a:t>GERÇEKLER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NCİLERİ KALABALIK SINIFLARDA PASİF, OTURAN, DİNLEYEN BİR KONUMA İTİYORU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NE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TMENLER TEKDÜZE BİR ŞEKİLDE MÜFREDATI YİNELEYEN BİR ÖĞRETME MAKİNASI M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ef5a0"/>
                </a:solidFill>
                <a:latin typeface="Arial"/>
              </a:rPr>
              <a:t>ÖĞRENCİ: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 ÖĞRENMEYİ SEVDİĞİ İÇİN DEĞİL, YÜKSEK NOT ALMAK İÇİN (YA DA BİR SINAVI GEÇMEK İÇİN) ZİHNİNE BİLGİ YÜKLEYEN BİR ÖĞRENME MAKİNAS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BU KISIR DÖNGÜYÜ NASIL AŞABİLİRİ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ccecff"/>
                </a:solidFill>
                <a:latin typeface="Arial"/>
              </a:rPr>
              <a:t>İ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ONA ULAŞAMASAK DA YÜKSEK BİR İDEALİMİZ OLMAL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tr-TR" sz="3600" spc="-1" strike="noStrike">
                <a:solidFill>
                  <a:srgbClr val="fef5a0"/>
                </a:solidFill>
                <a:latin typeface="Arial"/>
              </a:rPr>
              <a:t>ÖĞRENCİ-ÖĞRETMEN İKİLEMİNİ ORTADAN KALDIRAN BİR DERS ORTAM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TMEN ÖĞRENCİ, ÖĞRENCİ ÖĞRETMEN OLMAL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2. HEYECANLI, MERAKLI, CANLI, EĞLENCELİ BİR DERS ORTAMI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ÜŞÜNEN, TARTIŞAN, KAFASI KARIŞAN, ZORLANAN, YARATAN ÖĞRENCİL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ENDİSİ DE ÖĞRENEN, ZEVK ALAN, GÜLEN, DÜŞÜNEN, YA DA SADECE İZLEYEN BİR ÖĞRETME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SİHİRLİ DEĞNEK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HER ÖĞRETMENİN SEVGİ DOLU YÜREĞİDİ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3.  ÖĞRENMEYİ DESTEKLEYEN ZENGİN BİR SINIF ORTAMI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İ, GRAFİKLER, RESİMLER, AKTİVİTELER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İYE ÖĞRENMEYİ ÖĞRETEN VE ÖĞRENMENİN SORUMLULUĞUNU ONA BENİMSETEN BİR EĞİTİM STRATEJİS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classroom"/>
          <p:cNvPicPr/>
          <p:nvPr/>
        </p:nvPicPr>
        <p:blipFill>
          <a:blip r:embed="rId1"/>
          <a:stretch/>
        </p:blipFill>
        <p:spPr>
          <a:xfrm>
            <a:off x="1403280" y="-96840"/>
            <a:ext cx="695484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3300"/>
                </a:solidFill>
                <a:latin typeface="Lucida Handwriting"/>
              </a:rPr>
              <a:t>EĞİTİMDE SINIF YÖNETİMİ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4672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adb9e"/>
                </a:solidFill>
                <a:latin typeface="Arial"/>
              </a:rPr>
              <a:t>TAM HEDEFE ULAŞACAKKEN</a:t>
            </a: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 !!…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45245Q7YU_w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6000" spc="-1" strike="noStrike">
                <a:solidFill>
                  <a:srgbClr val="ff3300"/>
                </a:solidFill>
                <a:latin typeface="Arial"/>
              </a:rPr>
              <a:t>DİKKATİMİZİ TAM OLARAK YOLUMUZA (EĞİTİME) VERİYOR MUYUZ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ffff"/>
                </a:solidFill>
                <a:latin typeface="Monotype Corsiva"/>
              </a:rPr>
              <a:t>BİR RESİM BİN SÖZDEN İYİDİR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Çin atasöz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İTGİDE KARMAŞIKLAŞAN BİR DÜNYADA, BAZEN ESKİ SORULAR İÇİN YENİ CEVAPLARA İHTİYAÇ DUYAR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ccecff"/>
                </a:solidFill>
                <a:uFillTx/>
                <a:latin typeface="Monotype Corsiva"/>
              </a:rPr>
              <a:t>Sınıf Yönetimi ve Disiplin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ınıf Yönetimi; öğrenci davranışlarını kontrol ve disipline etme etkinliği </a:t>
            </a: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değil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tmen otoritesinin sınıfta hakim kılınması için bir dizi kuralları uygulama faaliyeti de </a:t>
            </a: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değildir</a:t>
            </a:r>
            <a:r>
              <a:rPr b="1" lang="tr-TR" sz="4000" spc="-1" strike="noStrike" u="sng">
                <a:solidFill>
                  <a:srgbClr val="ff33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f6600"/>
                </a:solidFill>
                <a:uFillTx/>
                <a:latin typeface="Arial"/>
              </a:rPr>
              <a:t>Çağdaş ve modern yaklaşım ve anlayışa göre</a:t>
            </a:r>
            <a:r>
              <a:rPr b="1" lang="tr-TR" sz="4400" spc="-1" strike="noStrike" u="sng">
                <a:solidFill>
                  <a:srgbClr val="ffffff"/>
                </a:solidFill>
                <a:uFillTx/>
                <a:latin typeface="Arial"/>
              </a:rPr>
              <a:t> sınıfta öğrenmeyi sağlayıcı bir sınıf ortamının meydana getirilmesi sürecidi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95280" y="809640"/>
            <a:ext cx="8352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fffff"/>
                </a:solidFill>
                <a:uFillTx/>
                <a:latin typeface="Arial"/>
              </a:rPr>
              <a:t>Sınıf yönetiminin etkili ve başarılı olması durumunda bunun </a:t>
            </a:r>
            <a:r>
              <a:rPr b="1" lang="tr-TR" sz="4400" spc="-1" strike="noStrike" u="sng">
                <a:solidFill>
                  <a:srgbClr val="ff6600"/>
                </a:solidFill>
                <a:uFillTx/>
                <a:latin typeface="Arial"/>
              </a:rPr>
              <a:t>öğrenci başarısına da yansıdığı</a:t>
            </a:r>
            <a:r>
              <a:rPr b="1" lang="tr-TR" sz="4400" spc="-1" strike="noStrike" u="sng">
                <a:solidFill>
                  <a:srgbClr val="ffffff"/>
                </a:solidFill>
                <a:uFillTx/>
                <a:latin typeface="Arial"/>
              </a:rPr>
              <a:t> araştırmalarla sabitt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ÖĞRETMENİN ERDEMLERİ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ef5a0"/>
                </a:solidFill>
                <a:latin typeface="Arial"/>
              </a:rPr>
              <a:t>SABIRLI OLMAK VE İŞİNİ SEVEREK YAPMA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fffff"/>
                </a:solidFill>
                <a:uFillTx/>
                <a:latin typeface="Arial"/>
              </a:rPr>
              <a:t>Etkili Sınıf Yönetiminin kurulduğu sınıf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 u="sng">
                <a:solidFill>
                  <a:srgbClr val="fef5a0"/>
                </a:solidFill>
                <a:uFillTx/>
                <a:latin typeface="Arial"/>
              </a:rPr>
              <a:t>tüm etkinlikler amaçlıdır, düzenlid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 u="sng">
                <a:solidFill>
                  <a:srgbClr val="fef5a0"/>
                </a:solidFill>
                <a:uFillTx/>
                <a:latin typeface="Arial"/>
              </a:rPr>
              <a:t>ve demokratik disiplinin sağlandığı bir ortamda gerçekleştiril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Öğretmen </a:t>
            </a:r>
            <a:r>
              <a:rPr b="1" lang="tr-TR" sz="4800" spc="-1" strike="noStrike">
                <a:solidFill>
                  <a:srgbClr val="ff3300"/>
                </a:solidFill>
                <a:latin typeface="Arial"/>
              </a:rPr>
              <a:t>otoriter, demokrat ya da vurdumduymaz</a:t>
            </a: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 bir lider olabil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ccecff"/>
                </a:solidFill>
                <a:uFillTx/>
                <a:latin typeface="Arial"/>
              </a:rPr>
              <a:t>Sınıf Yönetiminin Modelleri:</a:t>
            </a: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Çağdaş yaklaşımlara göre; sınıf yönetiminin </a:t>
            </a:r>
            <a:r>
              <a:rPr b="1" lang="tr-TR" sz="4000" spc="-1" strike="noStrike">
                <a:solidFill>
                  <a:srgbClr val="fef5a0"/>
                </a:solidFill>
                <a:latin typeface="Arial"/>
              </a:rPr>
              <a:t>öğrenci merkezli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 olması gerekmekte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ınıf Yönetimi Modelleri </a:t>
            </a: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Otoriter, Tepkisel, Önlemsel, Gelişimsel ve Bütünsel</a:t>
            </a: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 olarak gruplandırılmaktad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ccecff"/>
                </a:solidFill>
                <a:uFillTx/>
                <a:latin typeface="Arial"/>
              </a:rPr>
              <a:t>Tepkisel Model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stenmeyen bir davranışa tepki olan sınıf yönetim modelidir. </a:t>
            </a:r>
            <a:r>
              <a:rPr b="0" lang="tr-TR" sz="4000" spc="-1" strike="noStrike">
                <a:solidFill>
                  <a:srgbClr val="fef5a0"/>
                </a:solidFill>
                <a:latin typeface="Arial"/>
              </a:rPr>
              <a:t>Amacı, istenmeyen durum veya davranışın değiştirilmesidir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. Bu model, düzen sağlayıcı ödül-ceza etkinliklerini içer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3419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fffff"/>
                </a:solidFill>
                <a:uFillTx/>
                <a:latin typeface="Arial"/>
              </a:rPr>
              <a:t>Otoriter Model: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in mutlak otoritesine dayalı bir model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cartoon_20_years"/>
          <p:cNvPicPr/>
          <p:nvPr/>
        </p:nvPicPr>
        <p:blipFill>
          <a:blip r:embed="rId1"/>
          <a:stretch/>
        </p:blipFill>
        <p:spPr>
          <a:xfrm>
            <a:off x="3635280" y="692280"/>
            <a:ext cx="55087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Önlemsel Model: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lanlama düşüncesine bağlı, geleceği kestirme, istenmeyen davranış ve sonucu, olmadan önleme eğilimidi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ef5a0"/>
                </a:solidFill>
                <a:latin typeface="Arial"/>
              </a:rPr>
              <a:t>Amacı; sınıf sorunlarının ortaya çıkmasına imkan vermeyici bir düzenleniş ve işleyiş oluşturarak, tepkisel modele ihtiyacı azaltmaktadı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f3300"/>
                </a:solidFill>
                <a:uFillTx/>
                <a:latin typeface="Arial"/>
              </a:rPr>
              <a:t>Gelişimsel Model: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 Sınıf Yönetiminde öğrencilerin; fiziksel, duygusal, deneyimsel gelişim düzeylerinin gerektirdiği uygulamaların gerçekleştirilmesini esas alan bir modeld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f3300"/>
                </a:solidFill>
                <a:uFillTx/>
                <a:latin typeface="Arial"/>
              </a:rPr>
              <a:t>Bütünsel Model: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 Sınıf Yönetimi algılarını bütünleştiren bu modelde, sınıf yönetimine öncelik verme, gruba olduğu kadar </a:t>
            </a:r>
            <a:r>
              <a:rPr b="0" lang="tr-TR" sz="4000" spc="-1" strike="noStrike" u="sng">
                <a:solidFill>
                  <a:srgbClr val="ffffff"/>
                </a:solidFill>
                <a:uFillTx/>
                <a:latin typeface="Arial"/>
              </a:rPr>
              <a:t>bireye de yönelme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, istenen davranışa ulaşabilmek için, </a:t>
            </a:r>
            <a:r>
              <a:rPr b="0" i="1" lang="tr-TR" sz="4000" spc="-1" strike="noStrike" u="sng">
                <a:solidFill>
                  <a:srgbClr val="ffffff"/>
                </a:solidFill>
                <a:uFillTx/>
                <a:latin typeface="Arial"/>
              </a:rPr>
              <a:t>istenmeyenin nedenlerini ortadan kaldırma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 bu sistemin özelliğidir.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ccecff"/>
                </a:solidFill>
                <a:uFillTx/>
                <a:latin typeface="Arial"/>
              </a:rPr>
              <a:t>SINIF YÖNETİMİ İÇİN GEREKLİ OLAN HAZIRLIKLAR:</a:t>
            </a: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Fiziksel Ortamın Düzenlenmesi ve Etki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ınıf ustaca düzenlenmiş bir çevre olmalıdır. Çünkü, davranış değiştirmenin çok etkili bir yolu, çevreyi değiştirmektir. </a:t>
            </a: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Eğitimde yeni teknolojiler, öğrenme çevresine yenilikler getir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ef5a0"/>
                </a:solidFill>
                <a:latin typeface="Arial"/>
              </a:rPr>
              <a:t>VE KONUMUZA TAM HAKİMİY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clasroom-barb-1_300"/>
          <p:cNvPicPr/>
          <p:nvPr/>
        </p:nvPicPr>
        <p:blipFill>
          <a:blip r:embed="rId1"/>
          <a:stretch/>
        </p:blipFill>
        <p:spPr>
          <a:xfrm>
            <a:off x="468360" y="1144440"/>
            <a:ext cx="82328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ef5a0"/>
                </a:solidFill>
                <a:latin typeface="Arial"/>
              </a:rPr>
              <a:t>Sınıfta birkaç öğrenme etkinliği için mekanlar oluşturulmalı, her grubun farklı bir araçla çalışıyor olmasına imkan verilmeli, öğrencilerin birbirlerinden faydalanmaları sağlanmalı, sınıf eşyaları ve bölümleri buna göre düzenlenmeli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classroom1"/>
          <p:cNvPicPr/>
          <p:nvPr/>
        </p:nvPicPr>
        <p:blipFill>
          <a:blip r:embed="rId1"/>
          <a:stretch/>
        </p:blipFill>
        <p:spPr>
          <a:xfrm>
            <a:off x="1692360" y="2708280"/>
            <a:ext cx="640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 ortamı; </a:t>
            </a:r>
            <a:r>
              <a:rPr b="1" i="1" lang="tr-TR" sz="3600" spc="-1" strike="noStrike" u="sng">
                <a:solidFill>
                  <a:srgbClr val="ffffff"/>
                </a:solidFill>
                <a:uFillTx/>
                <a:latin typeface="Georgia"/>
              </a:rPr>
              <a:t>işlevsel bir sanat ve güzellik alanı, öğrenme için güdü merkezi olmalı</a:t>
            </a:r>
            <a:r>
              <a:rPr b="1" i="1" lang="tr-TR" sz="3200" spc="-1" strike="noStrike">
                <a:solidFill>
                  <a:srgbClr val="ffffff"/>
                </a:solidFill>
                <a:latin typeface="Georgia"/>
              </a:rPr>
              <a:t>,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öğrenci özelliklerine göre kolaylıklar sağlamalı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ef5a0"/>
                </a:solidFill>
                <a:latin typeface="Matisse ITC"/>
              </a:rPr>
              <a:t>Uyarıcı ve çeşitlenmiş ortamda öğrenme daha iyi gerçekleşmektedir ! 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Sınıfta İlk Günler: </a:t>
            </a:r>
            <a:r>
              <a:rPr b="1" lang="tr-TR" sz="3600" spc="-1" strike="noStrike" u="sng">
                <a:solidFill>
                  <a:srgbClr val="ff3300"/>
                </a:solidFill>
                <a:uFillTx/>
                <a:latin typeface="Arial"/>
              </a:rPr>
              <a:t>BALAY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ınıfın ilişki düzeninin kurulmasına ilk günden başlanmalıdır. Sınıf düzenini oluşturmada ilk birkaç gün, dönümcül (kritik) zamandı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ınıf düzeni, öğretmen ve öğrencinin birbirini tanımaya başladığı (balayı) ve “deneme döneminde” kurulmalıdır.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075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u dönemde öğrenciler, neleri yapıp neleri yapamayacakları konusunda öğretmeni denerler, daha kontrollü davranırlar, gerçek davranışlarını göstermezl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362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99ff99"/>
                </a:solidFill>
                <a:uFillTx/>
                <a:latin typeface="Arial"/>
              </a:rPr>
              <a:t>Öğretmenin Model-Örnek Olması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ğitsel amaçlara ulaşmanın amaçlarından biri de görgüdür. Öğrenci; bilginin somut yansıması olan görüntüler yoluyla, </a:t>
            </a:r>
            <a:r>
              <a:rPr b="0" lang="tr-TR" sz="4000" spc="-1" strike="noStrike">
                <a:solidFill>
                  <a:srgbClr val="99ff99"/>
                </a:solidFill>
                <a:latin typeface="Arial"/>
              </a:rPr>
              <a:t>davranışın örneklerini izleyerek davranış kazanma ve davranış değiştirmeyi kolaylaştırabil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Öğrencinin göstermesi gereken davranışlar konusunda ona en yakın </a:t>
            </a:r>
            <a:r>
              <a:rPr b="1" i="1" lang="tr-TR" sz="4400" spc="-1" strike="noStrike">
                <a:solidFill>
                  <a:srgbClr val="ffffff"/>
                </a:solidFill>
                <a:latin typeface="Arial"/>
              </a:rPr>
              <a:t>örnek görüntü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, öğretmenden gelmelidi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99ff99"/>
                </a:solidFill>
                <a:latin typeface="Arial"/>
              </a:rPr>
              <a:t>Öğretmenin kişisel yönelimi, öğrenci yöneliminin önemli bir değişkeni olarak belirlenmiştir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tmenin, kendisini işine vermesi de, öğrencinin onu bu özelliği ile model alması sonucunu doğuracaktır. Öğretmenin derse bağlılığı ve ilgisi, öğrencinin de bu yönlü davranışını destekl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tmen; sabırlı, soğukkanlı, öfkesini yenebilen, öğrenciye saygılı olumsuz duygularını bastırabilen, duygu ve heyecanları normal durumda tutan sınıfı gerilime sokmayan tutum ve davranışlara büyük duyarlık göstermelidir.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ınıfta </a:t>
            </a: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bireysel ayrılıklar ilkesi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öğretmenin uyacağı en önemli eğitim ilkelerindend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71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b4b39"/>
                </a:solidFill>
                <a:latin typeface="Matisse ITC"/>
              </a:rPr>
              <a:t>ÖĞRENMEYİ KıŞKıRTAN İPUÇLARı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3300"/>
                </a:solidFill>
                <a:latin typeface="Matisse ITC"/>
              </a:rPr>
              <a:t>ÖĞRETMEN – ÖĞRENCİ İLİŞKİSİ</a:t>
            </a:r>
            <a:r>
              <a:rPr b="0" lang="tr-TR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tmen gücünü, öğrencilerle açık, içten, dürüst, (yanılabileceğini kabul eden), iyi ilişkiler kurarak, sınıfın havasını sosyal açıdan iyi yapılandırarak kullanmalıdır.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800" spc="-1" strike="noStrike" u="sng">
                <a:solidFill>
                  <a:srgbClr val="99ff99"/>
                </a:solidFill>
                <a:uFillTx/>
                <a:latin typeface="Arial"/>
              </a:rPr>
              <a:t>Demokratik bir lider</a:t>
            </a: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 olarak öğretmen; öğrencilerin görüşlerini alır, yapılacak işler konusunda onlarla uzlaşır, çalışma düzenlerini seçme hakkı tanır.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99ff99"/>
                </a:solidFill>
                <a:uFillTx/>
                <a:latin typeface="Arial"/>
              </a:rPr>
              <a:t>Sınıfta İletişim Kurma</a:t>
            </a:r>
            <a:r>
              <a:rPr b="0" lang="tr-TR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tmen </a:t>
            </a:r>
            <a:r>
              <a:rPr b="1" lang="tr-TR" sz="4000" spc="-1" strike="noStrike">
                <a:solidFill>
                  <a:srgbClr val="fb4b39"/>
                </a:solidFill>
                <a:latin typeface="Arial"/>
              </a:rPr>
              <a:t>yargılayıcı değil, betimleyici dil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 kullanmalıdı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İletişim sadece sözle değil, çok daha etkileyici olabilen, kısa sürede sonuç getiren, göz teması, el-kol yüz hareketleri, yürüyüş biçimi, öğrenciye yaklaşma şekilleriyle kurulmalıd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Sınıfta Korku, Kaygı: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Sınıftaki korku ve kaygı kaynaklarından biri öğretmen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ef5a0"/>
                </a:solidFill>
                <a:latin typeface="Arial"/>
              </a:rPr>
              <a:t>Aşırı Otoriter öğretmen öğrenciyi korkutu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 Öğretmenin onları, arkadaşları önünde zor duruma sokacağını düşünmeleri öğrencilerde kaygı yarat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; her söz ve eyleminin, farklı öğrencileri nasıl etkileyeceğini önceden düşünüp uygun ve olumlu davranmalıdır.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ccecff"/>
                </a:solidFill>
                <a:uFillTx/>
                <a:latin typeface="Arial"/>
              </a:rPr>
              <a:t>İstenmeyen Davranışlara Karşı Alınacak Önlemler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 u="sng">
                <a:solidFill>
                  <a:srgbClr val="fef5a0"/>
                </a:solidFill>
                <a:uFillTx/>
                <a:latin typeface="Verdana"/>
              </a:rPr>
              <a:t>istenmeyen davranışları azaltmanın bir yolu, istenenlerin başlatılması, çoğaltılması, güçlendirilmesi ile ol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Bunun  için </a:t>
            </a:r>
            <a:r>
              <a:rPr b="1" lang="tr-TR" sz="3600" spc="-1" strike="noStrike">
                <a:solidFill>
                  <a:srgbClr val="99ff99"/>
                </a:solidFill>
                <a:latin typeface="Arial"/>
              </a:rPr>
              <a:t>isteneni çağrıştırıcı davranmak, istenen davranışa inandırmak, istenen davranışı güçlendirmek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, kolaylaştırmak olumlu yön ve yöntemlerden bazılarıdı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279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ccecff"/>
                </a:solidFill>
                <a:latin typeface="Monotype Corsiva"/>
              </a:rPr>
              <a:t>OLUMSUZ ÖĞRETMEN</a:t>
            </a:r>
            <a:br>
              <a:rPr sz="6000"/>
            </a:br>
            <a:r>
              <a:rPr b="1" lang="tr-TR" sz="6000" spc="-1" strike="noStrike">
                <a:solidFill>
                  <a:srgbClr val="ccecff"/>
                </a:solidFill>
                <a:latin typeface="Monotype Corsiva"/>
              </a:rPr>
              <a:t>TUTUMLAR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iscip1"/>
          <p:cNvPicPr/>
          <p:nvPr/>
        </p:nvPicPr>
        <p:blipFill>
          <a:blip r:embed="rId1"/>
          <a:stretch/>
        </p:blipFill>
        <p:spPr>
          <a:xfrm>
            <a:off x="190800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11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ef5a0"/>
                </a:solidFill>
                <a:latin typeface="Arial"/>
              </a:rPr>
              <a:t>BİR DERS ÖNCE GELECEK DERSİ TANITMAK VE MERAKLARINI UYANDIRMA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Ses yükseltm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Esnem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Burada benim sözüm geç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Son sözü söylemede ısr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Olumsuz vücut dilinin kullanılması:</a:t>
            </a:r>
            <a:r>
              <a:rPr b="1" i="1" lang="tr-TR" sz="3600" spc="-1" strike="noStrike">
                <a:solidFill>
                  <a:srgbClr val="ffffff"/>
                </a:solidFill>
                <a:latin typeface="Arial"/>
              </a:rPr>
              <a:t>sert duruş,sıkı bağlı kollar,sert el hareketleri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Utandırma, bozma, gururla oynama, küçük düşürme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Küçümseme,alay etme,iğnelem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Hava atma, kendini öv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Kaba kuvv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Çifte standartlı olma-‘</a:t>
            </a:r>
            <a:r>
              <a:rPr b="1" i="1" lang="tr-TR" sz="4000" spc="-1" strike="noStrike">
                <a:solidFill>
                  <a:srgbClr val="ffffff"/>
                </a:solidFill>
                <a:latin typeface="Arial"/>
              </a:rPr>
              <a:t>söylediğimi yapın yaptığımı değil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.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İspatsız doğrulukta ıs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Şunu yap sana şu var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zaten hepiniz böylesiniz’,’sizden beklemiyor değildim’,’öğrenci milleti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nciyi yansılam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Emret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Aşırı ödüllendir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Meşgulum sonra ge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Ben sizin arkadaşınızım. (Ama biz arkadaş değil öğretmen istiyorduk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Çık dışarı terbiyesiz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İşe yaramaz!,Ne yaptığın beni ilgilendirmez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discip2"/>
          <p:cNvPicPr/>
          <p:nvPr/>
        </p:nvPicPr>
        <p:blipFill>
          <a:blip r:embed="rId1"/>
          <a:stretch/>
        </p:blipFill>
        <p:spPr>
          <a:xfrm>
            <a:off x="2195640" y="-603360"/>
            <a:ext cx="526392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Ben öyle istiyorum,o kada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dev vermek için ödev verm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Madem susmayacaksınız o zaman bu cümleyi elli defa yazı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Verilen sözün tutulmamas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Herşeye evet demek. (ve sonra altından kalkamamak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Tebeşir vs. atma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ffff"/>
                </a:solidFill>
                <a:latin typeface="Arial"/>
              </a:rPr>
              <a:t>OLUMLU ÖĞRETMEN</a:t>
            </a:r>
            <a:br>
              <a:rPr sz="6600"/>
            </a:br>
            <a:r>
              <a:rPr b="1" lang="tr-TR" sz="6600" spc="-1" strike="noStrike">
                <a:solidFill>
                  <a:srgbClr val="ffffff"/>
                </a:solidFill>
                <a:latin typeface="Arial"/>
              </a:rPr>
              <a:t>TUTUMLAR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good_b6"/>
          <p:cNvPicPr/>
          <p:nvPr/>
        </p:nvPicPr>
        <p:blipFill>
          <a:blip r:embed="rId1"/>
          <a:stretch/>
        </p:blipFill>
        <p:spPr>
          <a:xfrm>
            <a:off x="684360" y="657360"/>
            <a:ext cx="7127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lümse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zel giyin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nciden yana tavı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Öğrencinin şahsi ekonomik durumunu bilmek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İnsanlar hata yapabilirler kabullenmesiyle disiplin problemlerine yaklaşmak.</a:t>
            </a: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Üzüntülü olduğunda ne olduğunu sorma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evincini paylaşma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Kusurlarını  örtme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Ümit vermek,güven verme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Sende benim gibisin, bana benzer özelliklerin v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Arial"/>
              </a:rPr>
              <a:t>Günaydın, lütfen, tabiiki neden olmasın, Özür dilerim, deme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orb-of-wonder"/>
          <p:cNvPicPr/>
          <p:nvPr/>
        </p:nvPicPr>
        <p:blipFill>
          <a:blip r:embed="rId1"/>
          <a:stretch/>
        </p:blipFill>
        <p:spPr>
          <a:xfrm>
            <a:off x="169236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ccecff"/>
                </a:solidFill>
                <a:latin typeface="Arial"/>
              </a:rPr>
              <a:t>Sınıfı İyi Yönetmenin Bazı İpuçlar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99ff99"/>
                </a:solidFill>
                <a:latin typeface="Arial"/>
              </a:rPr>
              <a:t>Öğrencilerin isimlerini en kısa zamanda öğren</a:t>
            </a:r>
            <a:r>
              <a:rPr b="0" i="1" lang="tr-TR" sz="4000" spc="-1" strike="noStrike">
                <a:solidFill>
                  <a:srgbClr val="99ff99"/>
                </a:solidFill>
                <a:latin typeface="Arial"/>
              </a:rPr>
              <a:t>erek</a:t>
            </a:r>
            <a:r>
              <a:rPr b="0" i="1" lang="tr-T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her fırsatta öğrencilere isimleriyle hitap etmel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nciler çok etkilenip kendilerine değer verildiğini anlayacak </a:t>
            </a:r>
            <a:r>
              <a:rPr b="1" i="1" lang="tr-TR" sz="4000" spc="-1" strike="noStrike">
                <a:solidFill>
                  <a:srgbClr val="ffffff"/>
                </a:solidFill>
                <a:latin typeface="Arial"/>
              </a:rPr>
              <a:t>ve gönüle köprüler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 ilk günlerden kurulaca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Öğretmen hem sıkı disiplinli hemde canayakın ve arkadaşca olabilir.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Öğrenciler, </a:t>
            </a: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sınıfta istediğimizi yapabileceğimiz bir öğretmen olsun yerine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sınıfı disiplinde tutacak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dersin kaynamasını engelleyecek ve ONLARA </a:t>
            </a:r>
            <a:r>
              <a:rPr b="1" lang="tr-TR" sz="3600" spc="-1" strike="noStrike">
                <a:solidFill>
                  <a:srgbClr val="ffffff"/>
                </a:solidFill>
                <a:latin typeface="Arial"/>
              </a:rPr>
              <a:t>öğrenmeyi öğretecek bir ÖĞRETMEN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sterl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4000" spc="-1" strike="noStrike">
                <a:solidFill>
                  <a:srgbClr val="99ff99"/>
                </a:solidFill>
                <a:latin typeface="Arial"/>
              </a:rPr>
              <a:t>Sınıf Kurallarını öğrencilerle beraber belirleyin ve uygun bir yere asın.</a:t>
            </a:r>
            <a:r>
              <a:rPr b="0" i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kulun kendine ait kuralları yanında size göre sınıfın yönetilmesinde faydalı olabileceğini düşündüklerinizi maddeleştirip asılabil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4400" spc="-1" strike="noStrike">
                <a:solidFill>
                  <a:srgbClr val="99ff99"/>
                </a:solidFill>
                <a:latin typeface="Arial"/>
              </a:rPr>
              <a:t>Derse başlamadan önce tahtanın bir köşesine konuyla ilgili İLGİNÇ soruları yazm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ve konu ilerledikçe ve yeri geldikçe soruları cevaplamak, derse olan ilgiyi arttırabil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tr-TR" sz="4400" spc="-1" strike="noStrike">
                <a:solidFill>
                  <a:srgbClr val="99ff99"/>
                </a:solidFill>
                <a:latin typeface="Arial"/>
              </a:rPr>
              <a:t>Öğrencileriniz şu an ne yapıyorlar? Problemleri, ailevi durumları ne durumd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in özel hayatı ile ilgilenmenizin öğrenmelerine faydası olacaktı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GÜNÜMÜZDE EĞİTİMİN SONUCU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DİPLO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ef5a0"/>
                </a:solidFill>
                <a:latin typeface="Arial"/>
              </a:rPr>
              <a:t>PEKİ DİPLOMANIN BEDELİ?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88e4"/>
                </a:solidFill>
                <a:latin typeface="Arial"/>
              </a:rPr>
              <a:t>Sınıf Yönetiminin Dil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684360" y="1484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Mümkün olduğu kadar mütevazi 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Gereksiz çatışmalardan kaçı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Saygılı ve pozitif 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Bir “olay”dan sonra normale dö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Kararlı ol, saldırgan ol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Arial"/>
              </a:rPr>
              <a:t>Sınıfın dışındaki “olay”larla da ilgil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Sınıfta kullanılan dil çok önemlidir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·   “Bu uyduruk kağıtları bir daha görmek istemiyoru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·   “Susun! Yoksa. . 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z zaten bunu anlamazsınız ki!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·   “Ne zaman çalışıp öğreneceksiniz?!.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n 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e söz geçiremeyen, kimsenin dinlemediği ve ciddiye almadığı öğret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in zamanını çalan, pekiştireç vermeyen, saygısız ve soğuk yüzlü öğret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Yeni öğretmenlerin Sınıf Yönetimi hatalar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e isteyip ne istemediklerini bilmez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ekkür ve övgünün sınırını bilmez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öğrenci veya grupla çok ilgilenip sınıfın geri kalanını ihmal eder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in dikkatini çekmeden yeni bir konuya başla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hızlı ve bazen de cırtlak konuşu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yerde çok ayakta veya oturur kalı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ef5a0"/>
                </a:solidFill>
                <a:latin typeface="Arial"/>
              </a:rPr>
              <a:t>YA DA BAZEN, BUGÜNKÜ KONUNUN SIKICI OLDUĞUNU İTİRAF ETM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 kurallarını tam koymadıkları için çelişkili hareket yapa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eden dilini ve yüz ifadelerini doğru kullanmaz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nıfın belli bir kısmıyla ders yapa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ncileri sınıfın huzurunda azarla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stenmeyen davranışlara zamanında müdahale etmezler. 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i="1" lang="tr-TR" sz="4000" spc="-1" strike="noStrike">
                <a:solidFill>
                  <a:srgbClr val="ff0066"/>
                </a:solidFill>
                <a:latin typeface="Arial"/>
              </a:rPr>
              <a:t>Bugünkü çocuklar ve gençler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i="1" lang="tr-TR" sz="4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.”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3739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5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’ten sonra doğ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üyükbabalarını bilmez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Eski elbise giymed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Nükleer savaşı bilmez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Kot pantolon giye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Sadece müzik kanalı dinle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Çok farklı bir sosyal ve teknik çevrede yaşar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Siyah-beyaz ve uzaktan kumandası olmayan televizyonu bilmez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Yemek alışkanlıkları değişik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Eti senin, kemiği benim” veya “Hocanın vurduğu yerde gül biter” felsefesine inanmaz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ÖĞRETMENDEN BEKLENTİL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Dersliğin  Öğretime Hazırl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Derslikteki Kural ve Seçenekleri Belirley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ğretm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Öğretimi Düzenleyip Sürdürm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Öğrenci Davranışlarını Kontrol Etm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PE00228_"/>
          <p:cNvPicPr/>
          <p:nvPr/>
        </p:nvPicPr>
        <p:blipFill>
          <a:blip r:embed="rId1"/>
          <a:stretch/>
        </p:blipFill>
        <p:spPr>
          <a:xfrm>
            <a:off x="6156360" y="3284640"/>
            <a:ext cx="298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ĞRENMENİN OLUŞUMU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ÜZERİNDE DİKKAT ÇEKM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Davranış Nedir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Öğrencilerin sergilediği iyi ve kötü, doğru ve yanlış,faydalı veya faydasız, üretici veya gereksiz, fiziksel ve zihinsel hareketlerd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İstenmeyen Davranı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uruma ve ortama uygun olmay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linçli olarak yapılan davranışl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Saldır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Ahlaksızlı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Otoriteye Karşı G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Sınıf içi saygısızlık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Zamanı boşa geç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4" descr="sınıfta_kargaşa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Öğretmenin Görev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Sınıfta istenmeyen davranışları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oluşmasına  engel olmak,sö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konusu davranışlar  meyda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geldiğinde de duruma uygu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yaklaşımlar sergileyerek olumsuz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davranışların sönmesi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sağlamaktı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"/>
              </a:rPr>
              <a:t>ÖĞRETMEN TUTUMLAR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ff"/>
                </a:solidFill>
                <a:latin typeface="Arial"/>
              </a:rPr>
              <a:t>Otokratik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 Öğretmen Tutu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ff"/>
                </a:solidFill>
                <a:latin typeface="Arial"/>
              </a:rPr>
              <a:t>Serbest Bırakıcı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 Öğretmen Tutu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ff"/>
                </a:solidFill>
                <a:latin typeface="Arial"/>
              </a:rPr>
              <a:t>Demokratik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 Öğretmen Tutu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9200" y="428760"/>
            <a:ext cx="8067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ccecff"/>
                </a:solidFill>
                <a:latin typeface="Arial"/>
              </a:rPr>
              <a:t>Otokratik</a:t>
            </a:r>
            <a:r>
              <a:rPr b="0" lang="tr-TR" sz="5400" spc="-1" strike="noStrike">
                <a:solidFill>
                  <a:srgbClr val="ccecff"/>
                </a:solidFill>
                <a:latin typeface="Arial"/>
              </a:rPr>
              <a:t> Öğretmen Tutumu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likle sınıfa takım elbise ile gire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Etrafa soğukça bakar,genellikle öğrenciyi selamlamadan derse başla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*Sınıf kontrolünün kendi elinde olduğu hissini vermeye çalışır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9:01:42Z</dcterms:created>
  <dc:creator>Yilmaz Akgunlu</dc:creator>
  <dc:description/>
  <dc:language>en-US</dc:language>
  <cp:lastModifiedBy>User</cp:lastModifiedBy>
  <dcterms:modified xsi:type="dcterms:W3CDTF">2013-01-29T14:01:44Z</dcterms:modified>
  <cp:revision>80</cp:revision>
  <dc:subject/>
  <dc:title>EĞİTİMDE SINIF YÖNETİMİ</dc:title>
</cp:coreProperties>
</file>