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jpeg" ContentType="image/jpeg"/>
  <Override PartName="/ppt/media/image13.wmf" ContentType="image/x-wmf"/>
  <Override PartName="/ppt/media/image7.wmf" ContentType="image/x-wmf"/>
  <Override PartName="/ppt/media/image15.jpeg" ContentType="image/jpeg"/>
  <Override PartName="/ppt/media/image14.wmf" ContentType="image/x-wmf"/>
  <Override PartName="/ppt/media/image12.wmf" ContentType="image/x-wmf"/>
  <Override PartName="/ppt/media/image1.jpeg" ContentType="image/jpeg"/>
  <Override PartName="/ppt/media/arrow.wav" ContentType="audio/x-wav"/>
  <Override PartName="/ppt/media/camera.wav" ContentType="audio/x-wav"/>
  <Override PartName="/ppt/media/image5.wmf" ContentType="image/x-wmf"/>
  <Override PartName="/ppt/media/image2.jpeg" ContentType="image/jpeg"/>
  <Override PartName="/ppt/media/image3.jpeg" ContentType="image/jpeg"/>
  <Override PartName="/ppt/media/image10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0063" cy="9629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SINIF YÖNETİMİ EĞİTİM SEMİNERİ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685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6C17-E841-4C53-B568-277BA3009CB8}" type="datetime3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30.Temmuz.2026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3200" cy="36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2600" y="4573080"/>
            <a:ext cx="5025960" cy="43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47240"/>
            <a:ext cx="29685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www.rehberlikservisi.org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9147240"/>
            <a:ext cx="29685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757C-0177-4D0D-BDF4-EAC67829333F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26"/>
          <p:cNvSpPr/>
          <p:nvPr/>
        </p:nvSpPr>
        <p:spPr>
          <a:xfrm>
            <a:off x="0" y="0"/>
            <a:ext cx="2968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SINIF YÖNETİMİ EĞİTİM SEMİNERİ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027"/>
          <p:cNvSpPr/>
          <p:nvPr/>
        </p:nvSpPr>
        <p:spPr>
          <a:xfrm>
            <a:off x="3882960" y="0"/>
            <a:ext cx="2968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032B-3521-4D24-BF21-7BA389CE8218}" type="datetime3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30.Temmuz.2026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030"/>
          <p:cNvSpPr/>
          <p:nvPr/>
        </p:nvSpPr>
        <p:spPr>
          <a:xfrm>
            <a:off x="0" y="9147240"/>
            <a:ext cx="2968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www.rehberlikservisi.org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31"/>
          <p:cNvSpPr/>
          <p:nvPr/>
        </p:nvSpPr>
        <p:spPr>
          <a:xfrm>
            <a:off x="3882960" y="9147240"/>
            <a:ext cx="2968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DF99-0B93-4858-B953-72B4FC752DB7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573080"/>
            <a:ext cx="5479920" cy="43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26"/>
          <p:cNvSpPr/>
          <p:nvPr/>
        </p:nvSpPr>
        <p:spPr>
          <a:xfrm>
            <a:off x="0" y="0"/>
            <a:ext cx="2968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SINIF YÖNETİMİ EĞİTİM SEMİNERİ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027"/>
          <p:cNvSpPr/>
          <p:nvPr/>
        </p:nvSpPr>
        <p:spPr>
          <a:xfrm>
            <a:off x="3882960" y="0"/>
            <a:ext cx="2968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E08B-ED75-4E09-9E87-9B9F8E36949E}" type="datetime3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30.Temmuz.2026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030"/>
          <p:cNvSpPr/>
          <p:nvPr/>
        </p:nvSpPr>
        <p:spPr>
          <a:xfrm>
            <a:off x="0" y="9147240"/>
            <a:ext cx="2968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www.rehberlikservisi.org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031"/>
          <p:cNvSpPr/>
          <p:nvPr/>
        </p:nvSpPr>
        <p:spPr>
          <a:xfrm>
            <a:off x="3882960" y="9147240"/>
            <a:ext cx="2968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D2F1-EB81-4A71-8871-C7600F4363D2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2600" y="4573080"/>
            <a:ext cx="5025960" cy="43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26"/>
          <p:cNvSpPr/>
          <p:nvPr/>
        </p:nvSpPr>
        <p:spPr>
          <a:xfrm>
            <a:off x="0" y="0"/>
            <a:ext cx="2968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SINIF YÖNETİMİ EĞİTİM SEMİNERİ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027"/>
          <p:cNvSpPr/>
          <p:nvPr/>
        </p:nvSpPr>
        <p:spPr>
          <a:xfrm>
            <a:off x="3882960" y="0"/>
            <a:ext cx="2968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4F63-CB01-4EA7-A01F-2DAF2A4E5006}" type="datetime3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30.Temmuz.2026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30"/>
          <p:cNvSpPr/>
          <p:nvPr/>
        </p:nvSpPr>
        <p:spPr>
          <a:xfrm>
            <a:off x="0" y="9147240"/>
            <a:ext cx="2968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www.rehberlikservisi.org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031"/>
          <p:cNvSpPr/>
          <p:nvPr/>
        </p:nvSpPr>
        <p:spPr>
          <a:xfrm>
            <a:off x="3882960" y="9147240"/>
            <a:ext cx="2968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5A6F-5206-4239-9997-43F0B1ACF594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2600" y="4573080"/>
            <a:ext cx="5025960" cy="43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80E-48EC-4D95-A200-1D4B3883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6582-20C3-44D9-9789-C94CD2F7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B47-DE1D-4ECC-8176-D4B505F6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63D-7E9D-4994-B1BA-C46F4A53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FE4E-53FC-4DB6-8D6B-A3E470A8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629-11A3-4B50-A097-151AA79B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778-C90E-45AC-B419-95FCD89A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55C-2CD9-4E8E-A5E7-62E855A1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D03-BC85-4C48-A1B6-024064A5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457-468B-41D1-BDD4-B36E19DE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D6F6-664D-42FE-9BD9-412917CD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5C1-3BFD-473A-B69E-0ADE8052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7AA7-D83F-4C22-A971-F5DA2B2649EC}" type="datetime5">
              <a:rPr b="0" lang="tr-TR" sz="1400" spc="-1" strike="noStrike">
                <a:solidFill>
                  <a:srgbClr val="000000"/>
                </a:solidFill>
                <a:latin typeface="Arial"/>
              </a:rPr>
              <a:t>30.Tem.2026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www.rehberlikservisi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FEB4-ECAE-4D3F-9CBB-BBBDAE48CD92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D780-FAC4-4114-9EBD-43016C386775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4067280" y="5157720"/>
            <a:ext cx="410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468360" y="2852640"/>
            <a:ext cx="838836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54"/>
              </a:avLst>
            </a:prstTxWarp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0">
                  <a:noFill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TKİLİ SINIF YÖNETİMİ SEMİNERİ </a:t>
            </a:r>
            <a:endParaRPr b="0" i="1" lang="en-US" sz="1600" spc="1" strike="noStrike">
              <a:ln w="0">
                <a:noFill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1403280" y="3213000"/>
            <a:ext cx="619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i="1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l"/>
    <p:sndAc>
      <p:stSnd>
        <p:snd r:embed="rId1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8E24-E5E4-401F-AEAC-94B67A446D68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812000" cy="132732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Öğrenci Tipleri</a:t>
            </a: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i="1" lang="tr-TR" sz="8000" spc="-1" strike="noStrike">
                <a:solidFill>
                  <a:srgbClr val="ffffff"/>
                </a:solidFill>
                <a:latin typeface="ZapfHumnst BT"/>
              </a:rPr>
              <a:t>6</a:t>
            </a:r>
            <a:endParaRPr b="0" lang="en-US" sz="80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10" name="Picture 3" descr="BUSI109D"/>
          <p:cNvPicPr/>
          <p:nvPr/>
        </p:nvPicPr>
        <p:blipFill>
          <a:blip r:embed="rId1"/>
          <a:stretch/>
        </p:blipFill>
        <p:spPr>
          <a:xfrm>
            <a:off x="6732720" y="476280"/>
            <a:ext cx="1439640" cy="3456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292480"/>
            <a:ext cx="79135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Şüpheci, düşünceli, vefalı, tehlike avcı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Akılcı , sorumluluk sahibi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Septik yapıdadır, her şeyi sorgula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Detayları bilmek ve kendisi çözmek iste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Kararsızlıktan dolayı yarım kalmış işler kaçınılmazdı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En kötü senaryoya göre hareket eder, temkinlidirle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Bu yüzden sınıf etkileşimleri zayıft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“</a:t>
            </a: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Düşünmek”, “yapmaktan” daha öncelikli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B8BD-2A52-4BB2-9F85-29BE22B5F9A8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8229600" cy="137160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Öğrenci Tipleri</a:t>
            </a: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i="1" lang="tr-TR" sz="8000" spc="-1" strike="noStrike">
                <a:solidFill>
                  <a:srgbClr val="ffffff"/>
                </a:solidFill>
                <a:latin typeface="ZapfHumnst BT"/>
              </a:rPr>
              <a:t>7</a:t>
            </a:r>
            <a:endParaRPr b="0" lang="en-US" sz="80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15" name="Picture 3" descr="BUSI102D"/>
          <p:cNvPicPr/>
          <p:nvPr/>
        </p:nvPicPr>
        <p:blipFill>
          <a:blip r:embed="rId1"/>
          <a:stretch/>
        </p:blipFill>
        <p:spPr>
          <a:xfrm>
            <a:off x="5724360" y="404640"/>
            <a:ext cx="2122560" cy="2200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468360" y="1844640"/>
            <a:ext cx="8459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4760" indent="-37476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242492"/>
                </a:solidFill>
                <a:latin typeface="ZapfHumnst BT"/>
              </a:rPr>
              <a:t>İyimser, eğlenceli, hevesli, hareketli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Hayatla barışık, bir çok seçenek sahibi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Zuhurata tabii, spontane, anlık yaş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“</a:t>
            </a: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hayal  gücü” geniş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Kafasında sürekli fikirler uçuşur, ama bir türlü uygulamaya fırsat bulamaz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Sıradanlıktan, rutinden, hoşlanmaz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Bağımlılık, sorumluluktan kaçar yapacaksa da gönüllü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F5D5-7CE1-4CD1-ABA8-A1701CAD974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19280" y="476280"/>
            <a:ext cx="7199280" cy="129528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Öğrenci Tipleri</a:t>
            </a: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i="1" lang="tr-TR" sz="8000" spc="-1" strike="noStrike">
                <a:solidFill>
                  <a:srgbClr val="ffffff"/>
                </a:solidFill>
                <a:latin typeface="ZapfHumnst BT"/>
              </a:rPr>
              <a:t>8</a:t>
            </a:r>
            <a:endParaRPr b="0" lang="en-US" sz="80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20" name="Picture 3" descr="BUSI099D"/>
          <p:cNvPicPr/>
          <p:nvPr/>
        </p:nvPicPr>
        <p:blipFill>
          <a:blip r:embed="rId1"/>
          <a:stretch/>
        </p:blipFill>
        <p:spPr>
          <a:xfrm>
            <a:off x="7308720" y="4292640"/>
            <a:ext cx="1130400" cy="23032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539640" y="2060640"/>
            <a:ext cx="76345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Patron, Sınıfın ağası, babası, rei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kendinden emin, güç ve kontrol odaklı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Karşı karşıya gelmekten çekinmezl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Çok kolay tartışabilirler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Kendinizden eminseniz, ikna edebilirsiniz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Sınıfta daha çok enerji, fikir hareketliliği isterl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Her zaman kendi doğruları vardır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Sınırlar iyi çizilmel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4937-E1E8-46DE-8513-A065A298B155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127640" cy="103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Öğrenci Tipleri</a:t>
            </a: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i="1" lang="tr-TR" sz="8000" spc="-1" strike="noStrike">
                <a:solidFill>
                  <a:srgbClr val="ffffff"/>
                </a:solidFill>
                <a:latin typeface="ZapfHumnst BT"/>
              </a:rPr>
              <a:t>9</a:t>
            </a:r>
            <a:endParaRPr b="0" lang="en-US" sz="80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25" name="Picture 3" descr="PROFJ"/>
          <p:cNvPicPr/>
          <p:nvPr/>
        </p:nvPicPr>
        <p:blipFill>
          <a:blip r:embed="rId1"/>
          <a:stretch/>
        </p:blipFill>
        <p:spPr>
          <a:xfrm>
            <a:off x="7020000" y="4724280"/>
            <a:ext cx="1274760" cy="1944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684360" y="1916280"/>
            <a:ext cx="791496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242492"/>
                </a:solidFill>
                <a:latin typeface="ZapfHumnst BT"/>
              </a:rPr>
              <a:t>Mekanın bilgesi, Barışçı,</a:t>
            </a: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 </a:t>
            </a:r>
            <a:r>
              <a:rPr b="0" i="1" lang="tr-TR" sz="2800" spc="-1" strike="noStrike">
                <a:solidFill>
                  <a:srgbClr val="242492"/>
                </a:solidFill>
                <a:latin typeface="ZapfHumnst BT"/>
              </a:rPr>
              <a:t>Müşfik, sevece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Çatışmadan kaçarlar , iyi arabulucudurl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Karar vermede ve önceliklerini belirlemede zorlanırl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“</a:t>
            </a: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benim için fark etmez” yaklaşımını benims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Uzun soluklu proje vs takipte zorlanırl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Kısa periyotlu işler verilmel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2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3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7BC4-DD1A-4BD9-A6F8-D5A7C55A7A6F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971640" y="2637000"/>
            <a:ext cx="57369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4760" indent="-374760">
              <a:lnSpc>
                <a:spcPct val="13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Etkileri nelerdir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3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Davranışların sebepleri nelerdir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3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Yanlış Yaklaşımla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3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 </a:t>
            </a: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Çözüml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3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68360" y="549360"/>
            <a:ext cx="7128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800" spc="-1" strike="noStrike">
                <a:solidFill>
                  <a:srgbClr val="7b9cb5"/>
                </a:solidFill>
                <a:latin typeface="President"/>
              </a:rPr>
              <a:t>Farklı Kişilik Tipleri ve 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800" spc="-1" strike="noStrike">
                <a:solidFill>
                  <a:srgbClr val="7b9cb5"/>
                </a:solidFill>
                <a:latin typeface="President"/>
              </a:rPr>
              <a:t>Davranışlarını Tanıyalım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2F3B-D570-4D8B-966A-B2739104E064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624720" cy="771480"/>
          </a:xfrm>
          <a:prstGeom prst="rect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800" spc="-1" strike="noStrike">
                <a:solidFill>
                  <a:srgbClr val="7b9cb5"/>
                </a:solidFill>
                <a:latin typeface="Tahoma"/>
              </a:rPr>
              <a:t>Yardım Meleği - ı</a:t>
            </a:r>
            <a:endParaRPr b="0" lang="en-US" sz="48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7840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zellik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uymak istediklerini duyar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Otorite varlığında iyi çalış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üyüklerin dünyasında yaşamak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er fırsatta “ben iyiyim” mesaj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Öğretmenin “fino”su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Idarenin adamı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Etki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Yağcı dalkavuk olarak algılan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Güvenilmez ve sıkıcı bulunabil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BA0A-6F04-4D9F-8E3E-86BCE9DEE800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34920" y="404640"/>
            <a:ext cx="6769080" cy="771840"/>
          </a:xfrm>
          <a:prstGeom prst="rect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800" spc="-1" strike="noStrike">
                <a:solidFill>
                  <a:srgbClr val="7b9cb5"/>
                </a:solidFill>
                <a:latin typeface="Tahoma"/>
              </a:rPr>
              <a:t>Yardım Meleği - ıı</a:t>
            </a:r>
            <a:endParaRPr b="0" lang="en-US" sz="48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7840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avranışın nede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Güç arayışı, dikkat çek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üyüklerin dünyasında yaşamak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aşarıdan ziyade eğl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azen “double-sided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ata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Yağcı, dalkavuk, güvenilmez ve sıkıcı olarak algılan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esaj kaygısıyla “Görmezden gelme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avranışı ödüllendirerek sömür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izden görüp mahremiyete dikkate etme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2A92-38B0-44C8-BEFA-4E646ED111F0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7127640" cy="895320"/>
          </a:xfrm>
          <a:prstGeom prst="rect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5400" spc="-1" strike="noStrike">
                <a:solidFill>
                  <a:srgbClr val="7b9cb5"/>
                </a:solidFill>
                <a:latin typeface="Tahoma"/>
              </a:rPr>
              <a:t>Yağcı</a:t>
            </a:r>
            <a:endParaRPr b="0" lang="en-US" sz="5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769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avranışın nede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Güç arayışı, dikkat çek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üyüklerin dünyasında yaşamak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aşarıdan ziyade eğl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azen “double-sided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ata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Yağcı, dalkavuk, güvenilmez ve sıkıcı olarak algılan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ınıf ortamında ona yönelikkırıcı davranma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esaj kaygısıyla “Görmezden gelme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avranışı ödüllendirerek sömür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izden görüp mahremiyete dikkate etme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7026-7496-4C33-8A6B-2E498F573DF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92000" y="260280"/>
            <a:ext cx="6941880" cy="1044720"/>
          </a:xfrm>
          <a:prstGeom prst="rect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5400" spc="-1" strike="noStrike">
                <a:solidFill>
                  <a:srgbClr val="7b9cb5"/>
                </a:solidFill>
                <a:latin typeface="Tahoma"/>
              </a:rPr>
              <a:t>Açgözlü - ı</a:t>
            </a:r>
            <a:endParaRPr b="0" lang="en-US" sz="5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9135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Özellik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ürekli daha fazlasını ister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Israrcıdırlar; cümleleri,anlatımı her şeyi duymak ister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nun için öğretmenleri hakkında konuşu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yrıcalık elde etmek iste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yrıcalıklı davranılsa bile yetinme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ÇGÖZLÜLÜK başkalarını inciten ve hayattan zevk almayı imkansız kılan bir davranış biçi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ki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Ne yapılırsa yapılsın memnun edemeyeceğiniz iç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em sınıf hem de öğretmen olumsuz etkilenir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Güvenilmez ve sıkıcı bulunabil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C97B-CF30-47CD-ACC4-68720201144D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60280"/>
            <a:ext cx="6941880" cy="1044720"/>
          </a:xfrm>
          <a:prstGeom prst="rect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5400" spc="-1" strike="noStrike">
                <a:solidFill>
                  <a:srgbClr val="7b9cb5"/>
                </a:solidFill>
                <a:latin typeface="Tahoma"/>
              </a:rPr>
              <a:t>Açgözlü - ıı</a:t>
            </a:r>
            <a:endParaRPr b="0" lang="en-US" sz="5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1628640"/>
            <a:ext cx="784044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avranışın neden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Güç arayışı, dikkat çekme, Rekabetin sonucudu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özümü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tipler başkalarından bir şeyler alabildiğince mutlu olu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eşhisin doğruluğu için konsultasyon yapılmalı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amimi ama ciddi bir yaklaşım sergilemel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encilliğin sevilmeyen bir şey olduğu vurgulanmalı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encillik ile hak arama arasındaki fark iyice izah edilmel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2021-CA32-4579-9EB2-851D8F102BE0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620280"/>
            <a:ext cx="6870960" cy="97308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800" spc="-1" strike="noStrike">
                <a:solidFill>
                  <a:srgbClr val="7b9cb5"/>
                </a:solidFill>
                <a:latin typeface="Tahoma"/>
              </a:rPr>
              <a:t>Eğitim modelimiz nasıl?</a:t>
            </a:r>
            <a:endParaRPr b="0" lang="en-US" sz="4800" spc="-1" strike="noStrike">
              <a:solidFill>
                <a:srgbClr val="7b9cb5"/>
              </a:solidFill>
              <a:latin typeface="Tahoma"/>
            </a:endParaRPr>
          </a:p>
        </p:txBody>
      </p:sp>
      <p:grpSp>
        <p:nvGrpSpPr>
          <p:cNvPr id="55" name="Organization Chart 3"/>
          <p:cNvGrpSpPr/>
          <p:nvPr/>
        </p:nvGrpSpPr>
        <p:grpSpPr>
          <a:xfrm>
            <a:off x="1671480" y="1749240"/>
            <a:ext cx="5614560" cy="1887480"/>
            <a:chOff x="1671480" y="1749240"/>
            <a:chExt cx="5614560" cy="1887480"/>
          </a:xfrm>
        </p:grpSpPr>
        <p:cxnSp>
          <p:nvCxnSpPr>
            <p:cNvPr id="56" name="_s1028"/>
            <p:cNvCxnSpPr>
              <a:stCxn id="57" idx="0"/>
              <a:endCxn id="58" idx="2"/>
            </p:cNvCxnSpPr>
            <p:nvPr/>
          </p:nvCxnSpPr>
          <p:spPr>
            <a:xfrm flipV="1" rot="16200000">
              <a:off x="5338080" y="1904040"/>
              <a:ext cx="229320" cy="1949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1029"/>
            <p:cNvCxnSpPr>
              <a:stCxn id="60" idx="0"/>
              <a:endCxn id="58" idx="2"/>
            </p:cNvCxnSpPr>
            <p:nvPr/>
          </p:nvCxnSpPr>
          <p:spPr>
            <a:xfrm flipV="1" rot="16200000">
              <a:off x="4363920" y="287820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30"/>
            <p:cNvCxnSpPr>
              <a:stCxn id="62" idx="0"/>
              <a:endCxn id="58" idx="2"/>
            </p:cNvCxnSpPr>
            <p:nvPr/>
          </p:nvCxnSpPr>
          <p:spPr>
            <a:xfrm flipH="1" flipV="1" rot="5400000">
              <a:off x="3390480" y="1905840"/>
              <a:ext cx="229320" cy="1946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" name="_s1031"/>
            <p:cNvSpPr/>
            <p:nvPr/>
          </p:nvSpPr>
          <p:spPr>
            <a:xfrm>
              <a:off x="2562120" y="1749240"/>
              <a:ext cx="3831840" cy="1015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DAVRANIŞ</a:t>
              </a:r>
              <a:endParaRPr b="0" i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1032"/>
            <p:cNvSpPr/>
            <p:nvPr/>
          </p:nvSpPr>
          <p:spPr>
            <a:xfrm>
              <a:off x="1671480" y="2993760"/>
              <a:ext cx="1719000" cy="642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7517"/>
                </a:gs>
                <a:gs pos="50000">
                  <a:srgbClr val="99ff33"/>
                </a:gs>
                <a:gs pos="100000">
                  <a:srgbClr val="46751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KİŞİLİK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1033"/>
            <p:cNvSpPr/>
            <p:nvPr/>
          </p:nvSpPr>
          <p:spPr>
            <a:xfrm>
              <a:off x="3619440" y="2993760"/>
              <a:ext cx="1719000" cy="642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7517"/>
                </a:gs>
                <a:gs pos="50000">
                  <a:srgbClr val="99ff33"/>
                </a:gs>
                <a:gs pos="100000">
                  <a:srgbClr val="46751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ÖZNE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1034"/>
            <p:cNvSpPr/>
            <p:nvPr/>
          </p:nvSpPr>
          <p:spPr>
            <a:xfrm>
              <a:off x="5567400" y="2993760"/>
              <a:ext cx="1718640" cy="642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7517"/>
                </a:gs>
                <a:gs pos="50000">
                  <a:srgbClr val="99ff33"/>
                </a:gs>
                <a:gs pos="100000">
                  <a:srgbClr val="46751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RTAM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12"/>
          <p:cNvGrpSpPr/>
          <p:nvPr/>
        </p:nvGrpSpPr>
        <p:grpSpPr>
          <a:xfrm>
            <a:off x="1979640" y="4653000"/>
            <a:ext cx="5672160" cy="1572120"/>
            <a:chOff x="1979640" y="4653000"/>
            <a:chExt cx="5672160" cy="1572120"/>
          </a:xfrm>
        </p:grpSpPr>
        <p:sp>
          <p:nvSpPr>
            <p:cNvPr id="64" name="Text Box 13"/>
            <p:cNvSpPr/>
            <p:nvPr/>
          </p:nvSpPr>
          <p:spPr>
            <a:xfrm>
              <a:off x="1979640" y="4653000"/>
              <a:ext cx="163980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99"/>
                </a:buClr>
                <a:buSzPct val="6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tr-TR" sz="2400" spc="-1" strike="noStrike">
                  <a:solidFill>
                    <a:srgbClr val="000099"/>
                  </a:solidFill>
                  <a:latin typeface="Times New Roman"/>
                </a:rPr>
                <a:t>Mizaç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99"/>
                </a:buClr>
                <a:buSzPct val="6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tr-TR" sz="2400" spc="-1" strike="noStrike">
                  <a:solidFill>
                    <a:srgbClr val="000099"/>
                  </a:solidFill>
                  <a:latin typeface="Times New Roman"/>
                </a:rPr>
                <a:t>Karakter Eğitimi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3995640" y="4653000"/>
              <a:ext cx="180036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99"/>
                </a:buClr>
                <a:buSzPct val="6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tr-TR" sz="2400" spc="-1" strike="noStrike">
                  <a:solidFill>
                    <a:srgbClr val="000099"/>
                  </a:solidFill>
                  <a:latin typeface="Times New Roman"/>
                </a:rPr>
                <a:t>İrade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99"/>
                </a:buClr>
                <a:buSzPct val="6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tr-TR" sz="2400" spc="-1" strike="noStrike">
                  <a:solidFill>
                    <a:srgbClr val="000099"/>
                  </a:solidFill>
                  <a:latin typeface="Times New Roman"/>
                </a:rPr>
                <a:t>istek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99"/>
                </a:buClr>
                <a:buSzPct val="6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tr-TR" sz="2400" spc="-1" strike="noStrike">
                  <a:solidFill>
                    <a:srgbClr val="000099"/>
                  </a:solidFill>
                  <a:latin typeface="Times New Roman"/>
                </a:rPr>
                <a:t>duygusallık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15"/>
            <p:cNvSpPr/>
            <p:nvPr/>
          </p:nvSpPr>
          <p:spPr>
            <a:xfrm>
              <a:off x="6012000" y="4653000"/>
              <a:ext cx="16398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99"/>
                </a:buClr>
                <a:buSzPct val="6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tr-TR" sz="2400" spc="-1" strike="noStrike">
                  <a:solidFill>
                    <a:srgbClr val="000099"/>
                  </a:solidFill>
                  <a:latin typeface="Times New Roman"/>
                </a:rPr>
                <a:t>Çevre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99"/>
                </a:buClr>
                <a:buSzPct val="6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tr-TR" sz="2400" spc="-1" strike="noStrike">
                  <a:solidFill>
                    <a:srgbClr val="000099"/>
                  </a:solidFill>
                  <a:latin typeface="Times New Roman"/>
                </a:rPr>
                <a:t>Şartlar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99"/>
                </a:buClr>
                <a:buSzPct val="6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tr-TR" sz="2400" spc="-1" strike="noStrike">
                  <a:solidFill>
                    <a:srgbClr val="000099"/>
                  </a:solidFill>
                  <a:latin typeface="Times New Roman"/>
                </a:rPr>
                <a:t>Kültür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oup 16"/>
          <p:cNvGrpSpPr/>
          <p:nvPr/>
        </p:nvGrpSpPr>
        <p:grpSpPr>
          <a:xfrm>
            <a:off x="2268360" y="3716280"/>
            <a:ext cx="4606920" cy="792000"/>
            <a:chOff x="2268360" y="3716280"/>
            <a:chExt cx="4606920" cy="792000"/>
          </a:xfrm>
        </p:grpSpPr>
        <p:sp>
          <p:nvSpPr>
            <p:cNvPr id="68" name="AutoShape 17"/>
            <p:cNvSpPr/>
            <p:nvPr/>
          </p:nvSpPr>
          <p:spPr>
            <a:xfrm>
              <a:off x="2268360" y="3716280"/>
              <a:ext cx="503280" cy="790560"/>
            </a:xfrm>
            <a:prstGeom prst="upDownArrow">
              <a:avLst>
                <a:gd name="adj1" fmla="val 50000"/>
                <a:gd name="adj2" fmla="val 31271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buClr>
                  <a:srgbClr val="99ff33"/>
                </a:buClr>
                <a:buSzPct val="65000"/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18"/>
            <p:cNvSpPr/>
            <p:nvPr/>
          </p:nvSpPr>
          <p:spPr>
            <a:xfrm>
              <a:off x="4284360" y="3717720"/>
              <a:ext cx="503280" cy="790560"/>
            </a:xfrm>
            <a:prstGeom prst="upDownArrow">
              <a:avLst>
                <a:gd name="adj1" fmla="val 50000"/>
                <a:gd name="adj2" fmla="val 31271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buClr>
                  <a:srgbClr val="99ff33"/>
                </a:buClr>
                <a:buSzPct val="65000"/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utoShape 19"/>
            <p:cNvSpPr/>
            <p:nvPr/>
          </p:nvSpPr>
          <p:spPr>
            <a:xfrm>
              <a:off x="6372000" y="3716280"/>
              <a:ext cx="503280" cy="790560"/>
            </a:xfrm>
            <a:prstGeom prst="upDownArrow">
              <a:avLst>
                <a:gd name="adj1" fmla="val 50000"/>
                <a:gd name="adj2" fmla="val 31271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buClr>
                  <a:srgbClr val="99ff33"/>
                </a:buClr>
                <a:buSzPct val="65000"/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6B76-02A5-4DEF-9F33-C292A849EE7B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63280" y="404640"/>
            <a:ext cx="6985080" cy="771840"/>
          </a:xfrm>
          <a:prstGeom prst="rect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800" spc="-1" strike="noStrike">
                <a:solidFill>
                  <a:srgbClr val="7b9cb5"/>
                </a:solidFill>
                <a:latin typeface="Tahoma"/>
              </a:rPr>
              <a:t>Kopyacı - ı</a:t>
            </a:r>
            <a:endParaRPr b="0" lang="en-US" sz="48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79280" y="1484280"/>
            <a:ext cx="79138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Özellikler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iğer öğrencilerin ödevlerini çalışmalarını kopya ed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Şüphelenilince veya yakalanınca %99 inkar ed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Çalışmadan daha çok kopya yöntemine zaman harca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kiler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Öğretmen” sıfatı yerine “bekçi” sıfatı yükl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aşka çocukları da işin içine çekebil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iğerlerinin mutlaka haberi vardır;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em sınıf, hem de öğretmen olumsuz etkilenir..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052A-9552-4E52-B3F1-4EF775893EF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2920" y="333000"/>
            <a:ext cx="6949800" cy="771480"/>
          </a:xfrm>
          <a:prstGeom prst="rect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800" spc="-1" strike="noStrike">
                <a:solidFill>
                  <a:srgbClr val="7b9cb5"/>
                </a:solidFill>
                <a:latin typeface="Tahoma"/>
              </a:rPr>
              <a:t>Kopyacı - ıı </a:t>
            </a:r>
            <a:endParaRPr b="0" lang="en-US" sz="48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9280" y="1484280"/>
            <a:ext cx="8280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orum &amp; Çözü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opyacı riski bilir, buna rağmen göze almışsa başarı istediği içindir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opya cezası davranışı kaldırmaz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adece bir dahaki sefere daha dikkatli olması gerektiğini öğren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maç ceza vermek değil, davranışı değiştirmekt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ınıf ortamında değil birebir diyalogla çözmel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Şüphelenmişseniz açıkca sorun bu zayıflık değildir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çık fermuar” sendromu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iz kızar ve mahkum ederseniz o da inkar eder, o kadar.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Gerek sınıf gerekse aileyi suçlayıcı tavır almayın duygusal değil profesyonelce yaklaşı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arakter eğitimi ihtiyaç saptaması.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rada siz hiç kopya çekdiniz mi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7FBC-0A62-4FFE-AB2B-16B505DDB01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92000" y="404640"/>
            <a:ext cx="7056360" cy="895680"/>
          </a:xfrm>
          <a:prstGeom prst="rect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5400" spc="-1" strike="noStrike">
                <a:solidFill>
                  <a:srgbClr val="7b9cb5"/>
                </a:solidFill>
                <a:latin typeface="Tahoma"/>
              </a:rPr>
              <a:t>Saldırgan - ı</a:t>
            </a:r>
            <a:endParaRPr b="0" lang="en-US" sz="5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79280" y="1484280"/>
            <a:ext cx="79138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Özellikler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iğer öğrencilere, öğretmene ve aileye karşı hırçındır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uygusal ve çabuk parlayan tiplerd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ınıf başarısı genellikle düşüktü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ınıf, okul,hatta öğretmen karşıtıdı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evam problemleri vardı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ınıftaki bazı öğrencilerle sabit çatışma yaşarla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kiler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ınıfta gergin bir hava estir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askı oluşturarak başka çocukları da işin içine çekebil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em sınıf, hem de öğretmen olumsuz etkilenir..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Öğretmeni de tedirgin edebil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60EF-4309-4CE3-9B06-482EC27F9CA1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7056360" cy="895320"/>
          </a:xfrm>
          <a:prstGeom prst="rect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5400" spc="-1" strike="noStrike">
                <a:solidFill>
                  <a:srgbClr val="7b9cb5"/>
                </a:solidFill>
                <a:latin typeface="Tahoma"/>
              </a:rPr>
              <a:t>Saldırgan - ıı</a:t>
            </a:r>
            <a:endParaRPr b="0" lang="en-US" sz="5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79280" y="1268280"/>
            <a:ext cx="8280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orum &amp; Çözü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aldırgan  tutum ile düşmanlık arasındaki farkı ayırmalı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maç ceza vermek değil, davranışı değiştirmekt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iz kızar ve mahkum ederseniz o daha da artırır,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ınıf ortamında değil, birebir diyalogla çözmel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Gerek sınıf gerekse aileyi suçlayıcı tavır almayın duygusal değil profesyonelce yaklaşı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avranışın sebebi özeldir; genelleştirmey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aldırgan” denip yalnız bırakılan öğrenciye siz yaklaşı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arakter eğitimi ihtiyaç saptaması.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atal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aldırganca davranışa aynı şekilde karşılık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-2 kişi yüzünden tüm sınıfa veya gruba ceza verm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maç ceza vermek değil, davranışı değiştirmekt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Notla veya başka şekilde tehdit etmek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5E09-3F48-42E2-BA3B-BA90BF4C9514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5280" y="404640"/>
            <a:ext cx="6408720" cy="895680"/>
          </a:xfrm>
          <a:prstGeom prst="rect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400" spc="-1" strike="noStrike">
                <a:solidFill>
                  <a:srgbClr val="7b9cb5"/>
                </a:solidFill>
                <a:latin typeface="Tahoma"/>
              </a:rPr>
              <a:t>Artist-Uyanık Geçinen- ı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79280" y="1484280"/>
            <a:ext cx="79138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Özellikler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iğer öğrencilerle, öğretmenle kolay diyalog kurabilir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İlgili ilgisiz her şeyi rahatlıkla konuşabilen rahat tiplerd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aşkalarını etkilemek hoşlarına gid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ınıf, okul,hatta öğretmen karşıtıdı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evam problemleri vardı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ınıftaki bazı öğrencilerden model alan olursa öğretmenle sınıftakilerle çatışma yaşarla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orum &amp; Çözü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Özel olarak konuşmalı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Önce teke tek yaptığı üçkağıtları bildiğinizi ifade etmel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evam ederse etrafındaki insanları kaybedebileceği vurgulanmalı (yalancı çoba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ürüstlük harbilik adına konuşalı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8D2A-7892-4507-970F-820F6441C9F2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6842160" cy="895320"/>
          </a:xfrm>
          <a:prstGeom prst="rect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5400" spc="-1" strike="noStrike">
                <a:solidFill>
                  <a:srgbClr val="7b9cb5"/>
                </a:solidFill>
                <a:latin typeface="Tahoma"/>
              </a:rPr>
              <a:t>Hayalci - ı</a:t>
            </a:r>
            <a:endParaRPr b="0" lang="en-US" sz="5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79280" y="1484280"/>
            <a:ext cx="79138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Özellikler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iğer öğrencilerle, öğretmenle diyalog kurmayabilir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İlgisiz, sadece oturup dışarıya bakan tiplerd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evam problemi yaşamazlar; fiziksel olarak var ama ruhen yoklardı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İşleri bitirmesi gecikebilir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kiler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Öğretmeni oyalar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Gruplar sessiz ve hayalci tipi içlerine almak istemezl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ınıfta varlığı bile unutulu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em sınıf, hem de öğretmen olumsuz etkilenir..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Öğretmenin dikkatini dağıtır ve tedirgin edebil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F13F-95F1-4790-B758-2C755D332F3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7129440" cy="895320"/>
          </a:xfrm>
          <a:prstGeom prst="rect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5400" spc="-1" strike="noStrike">
                <a:solidFill>
                  <a:srgbClr val="7b9cb5"/>
                </a:solidFill>
                <a:latin typeface="Tahoma"/>
              </a:rPr>
              <a:t>Hayalci - ıı</a:t>
            </a:r>
            <a:endParaRPr b="0" lang="en-US" sz="5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79280" y="1628640"/>
            <a:ext cx="849636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orum &amp; Çözü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endine güven oldukça düşüktü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avranışın sebebi özeldir; genelleştirmey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ayal dünyası, gerçek dünyadaki başarısızlık ve problemlerden iyid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Ot” denip yalnız bırakılan öğrenciye siz yaklaşın v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endini güvende hissedeceği bir ortamda teke tek görüşmel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Niçin öyle davrandığını sormayın o da bilmez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ehdit etmemeli, tedirginlik doğuru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unulan hedefler kısa kısa olmalı ki dikkati dağılması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atal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endi haline bırakmak veya çok yüklenmek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Öğrenciyi tamamen dışlamak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1803-4D68-4BF4-BE95-E38308126C65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056360" cy="895320"/>
          </a:xfrm>
          <a:prstGeom prst="rect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5400" spc="-1" strike="noStrike">
                <a:solidFill>
                  <a:srgbClr val="7b9cb5"/>
                </a:solidFill>
                <a:latin typeface="Tahoma"/>
              </a:rPr>
              <a:t>Bilgiç - ı</a:t>
            </a:r>
            <a:endParaRPr b="0" lang="en-US" sz="5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79280" y="1484280"/>
            <a:ext cx="79138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Özellikler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er şeyi bildiğini zanned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ürekli yorumlayıcıdır; başkalarının cevaplarını küçümseyen, havalı ve ukala olarak algılanı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ocaları beğenmez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Zayıf bir dinleyicidir; az dinler çok konuşu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kiler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Öğretmeni oyalar; ders monologa dönüşebil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aşkalarının hakkına riayet etmeden isteklerini dile getirir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iğer öğrencilerin “bilgiç” tarafından eleştirilmeleri kaçınılmazdır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em sınıf, hem de öğretmen olumsuz etkilenir..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Öğretmenin dikkatini dağıtır ve tedirgin edebil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6E9E-A02A-4404-87B7-EC4D3123C106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15760" y="333000"/>
            <a:ext cx="7103880" cy="895320"/>
          </a:xfrm>
          <a:prstGeom prst="rect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5400" spc="-1" strike="noStrike">
                <a:solidFill>
                  <a:srgbClr val="7b9cb5"/>
                </a:solidFill>
                <a:latin typeface="Tahoma"/>
              </a:rPr>
              <a:t>Bilgiç - ıı</a:t>
            </a:r>
            <a:endParaRPr b="0" lang="en-US" sz="5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250920" y="1413000"/>
            <a:ext cx="8569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orum &amp; Çözü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Genelde bu tipler zekidir ve Kendine güvenleri oldukça yüksektir,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endi bilgisini göstererek dikkatleri çekmeye çalışı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ilgi güçtür; başarıda bu gücün temelidir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tiplerle uğraşmak extra zaman ve emek ist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Zeki ve akıllı tiplerin, insanlarla nasıl diyalog kurması gerektiğini ın lideri olmaya ihtiyaçları olduğunda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İnsanları kendinden uzaklaştıran bir tipin zeki birisi olamayacağından ve kabul göremeyeceğinden ” bahsedilmel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endimizi dinlettirecek bir yol var; aptal olarak algılanmak istemezler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üşahhas örnekler vermeli ancak birbirine düşürmemel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A16E-323A-45CB-AD5F-8A24A00AA156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056360" cy="895320"/>
          </a:xfrm>
          <a:prstGeom prst="rect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5400" spc="-1" strike="noStrike">
                <a:solidFill>
                  <a:srgbClr val="7b9cb5"/>
                </a:solidFill>
                <a:latin typeface="Tahoma"/>
              </a:rPr>
              <a:t>Bilgiç - ııı</a:t>
            </a:r>
            <a:endParaRPr b="0" lang="en-US" sz="5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250920" y="1413000"/>
            <a:ext cx="8569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orum &amp; Çözü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aşkalarını karşısına almaktansa yanına almanın daha akıllı bir davranış olduğundan bahsedilmel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ilgiç ile anlamlı ve dolu bir diyalog zorunluluğu vardır, geçiştiremezsiniz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ncak bu tiplere superlik addedip hem kendinizi hem de diğer öğrencileri komplexe itmey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ilmediğinizi söylemekten çekinmey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atal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Onunla rekabete girmek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er şeyi bilemeyeceğini göstererek (!) küçük düşürmek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iğer öğrencileri ona karşı doldurmak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E23E-4EC2-4DC2-A22D-F795D47A465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8229600" cy="137160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800" spc="-1" strike="noStrike">
                <a:solidFill>
                  <a:srgbClr val="5044ec"/>
                </a:solidFill>
                <a:latin typeface="Tahoma"/>
              </a:rPr>
              <a:t>Farklılıklar </a:t>
            </a:r>
            <a:br>
              <a:rPr sz="4800"/>
            </a:br>
            <a:r>
              <a:rPr b="0" i="1" lang="tr-TR" sz="4800" spc="-1" strike="noStrike">
                <a:solidFill>
                  <a:srgbClr val="5044ec"/>
                </a:solidFill>
                <a:latin typeface="Tahoma"/>
              </a:rPr>
              <a:t>nereden kaynaklanır?..</a:t>
            </a:r>
            <a:endParaRPr b="0" lang="en-US" sz="48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2596680"/>
            <a:ext cx="81612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işilik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Yaşantılar- tecrübe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Tahoma"/>
              </a:rPr>
              <a:t>Karakter eğitim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ültürel form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B844-7093-4516-9C64-3295DF9DC735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419880" cy="895320"/>
          </a:xfrm>
          <a:prstGeom prst="rect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5400" spc="-1" strike="noStrike">
                <a:solidFill>
                  <a:srgbClr val="7b9cb5"/>
                </a:solidFill>
                <a:latin typeface="Tahoma"/>
              </a:rPr>
              <a:t>Dalgacı - ı</a:t>
            </a:r>
            <a:endParaRPr b="0" lang="en-US" sz="5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7928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Özellikler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er şeyi oyun haline getir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Ciddi olmayı beceremez; şakalar, espril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aşkalarının sıkıntısında eğlence arayabil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Zayıf bir dinleyicidir; az dinler çok konuşu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kiler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Öğretmenin dikkatini dağıtır; derslerdeki ciddi hava bozulu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iğer çocuklar bazen model alıp şakalarıyla kavgaya sebep olabil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em sınıf, hem de öğretmen olumsuz etkilenir..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ve tedirgin edebil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" name="camera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72FB-0EE7-437D-9011-D017F317D0DD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7b9cb5"/>
                </a:solidFill>
                <a:latin typeface="Tahoma"/>
              </a:rPr>
              <a:t> </a:t>
            </a:r>
            <a:r>
              <a:rPr b="0" lang="tr-TR" sz="3600" spc="-1" strike="noStrike">
                <a:solidFill>
                  <a:srgbClr val="7b9cb5"/>
                </a:solidFill>
                <a:latin typeface="Tahoma"/>
              </a:rPr>
              <a:t>ETKİLİ SINIF YÖNETİMİ</a:t>
            </a:r>
            <a:br>
              <a:rPr sz="4000"/>
            </a:b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ORTAK KURALLAR</a:t>
            </a:r>
            <a:endParaRPr b="0" lang="en-US" sz="2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90560" y="1628640"/>
            <a:ext cx="83534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ılık kıyaf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azılı tarih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azılı sonuçlarının bir hafta içinde duyurul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özlü uygulama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dev verilmesi, takip ve değerlendirilm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ğrencilerin sınıfta izin alarak konuş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erse zamanında girilmesi ve çıkıl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erse girişte önce yoklama alınıp,defterin imzalan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onuşurken hiç kimsenin sözünün kesilmem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ınıftaki gürültü seviyesinde belli bir ölçünün olmas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4000">
    <p:wipe dir="l"/>
    <p:sndAc>
      <p:stSnd>
        <p:snd r:embed="rId1" name="arrow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C91F-0538-403D-AA95-D8CB5432AE14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833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7b9cb5"/>
                </a:solidFill>
                <a:latin typeface="Tahoma"/>
              </a:rPr>
              <a:t>MOTİVASYON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lumlu bir sınıf ortamı oluşturmak için gerekli öğretmen becerilerinden en önde geleni, öğrencinin öğrenmeye olan motivasyonunu yükseltmek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ınıfı bireyler olarak düşünü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ocuktaki başarısızlık yerine başarıyı, olumsuzluk yerine olumlu yönleri görü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vgüler çocuğun kendisine değil,davranışına yönelik olmalıdı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aşarı beklentisini artırm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4000">
    <p:dissolve/>
    <p:sndAc>
      <p:stSnd>
        <p:snd r:embed="rId1" name="camera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8DB3-A292-4B77-A597-EEB080E133FA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833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Tahoma"/>
              </a:rPr>
              <a:t>Sınıf Toplantısı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İltifat ve takdir et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Öncelikli sonuçları tespit et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rogram(Gündem) araç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* Başkalarını dinlerken duygularını paylaşı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* Bir şeye takılıp kalmadan tartışı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* Problem çözümü için yardım istey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elecek planlar(geziler, partiler, projel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4000">
    <p:wipe dir="l"/>
    <p:sndAc>
      <p:stSnd>
        <p:snd r:embed="rId1" name="arrow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500"/>
                            </p:stCondLst>
                            <p:childTnLst>
                              <p:par>
                                <p:cTn id="60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148A-F37F-46A5-A47F-8692A95AB55B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74760" y="977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242492"/>
                </a:solidFill>
                <a:latin typeface="Tahoma"/>
              </a:rPr>
              <a:t>A. Planlama ve Hazırlık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233856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ers planı net, uygun hedef ve bilgilere sahip olmalı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ers geçmiş ve gelecek derslerle uygun biçimde bağlanacak şekilde planlanmalıdı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alzeme ve kaynaklar zamanında hazırlanmalı ve kontrol edilmelid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ütün planlama kararları öğrenci ve çevreyi içine almalıdı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4000">
    <p:dissolve/>
    <p:sndAc>
      <p:stSnd>
        <p:snd r:embed="rId1" name="camera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63DC-750A-46C0-B7CD-2A8E23CAD459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833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242492"/>
                </a:solidFill>
                <a:latin typeface="Tahoma"/>
              </a:rPr>
              <a:t>B.Ders Sunumu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Öğretmenin tavrı güvenli, rahat ve kendinden emin olmalıdı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Öğrencilerin derse aktif katılımları sağlanmalıdı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Öğretmen öğrencilerin fikir ve katılımlarına saygı ve destekle yaklaşmalı, gelişimlerini hızlandırmalıdı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Öğretmen ilgi ve dikkatin devamı için ses ve beden dilini kullanmalıdı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Konu anlatılırken bol örnek verilmelidi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ahoma"/>
              </a:rPr>
              <a:t>Çocukların anlatılanların ne kadarını öğrendikleri kontrol edilmelidi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4000">
    <p:wipe dir="l"/>
    <p:sndAc>
      <p:stSnd>
        <p:snd r:embed="rId1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500"/>
                            </p:stCondLst>
                            <p:childTnLst>
                              <p:par>
                                <p:cTn id="99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3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4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B4ED-B96A-43ED-A0CE-975E2708AD8F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Tahoma"/>
              </a:rPr>
              <a:t>Dikkat! Kısır Döngü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752480" y="182880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889280" y="1793880"/>
            <a:ext cx="100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2590920" y="1676520"/>
            <a:ext cx="2286000" cy="1676160"/>
            <a:chOff x="2590920" y="1676520"/>
            <a:chExt cx="2286000" cy="1676160"/>
          </a:xfrm>
        </p:grpSpPr>
        <p:sp>
          <p:nvSpPr>
            <p:cNvPr id="209" name="Oval 6"/>
            <p:cNvSpPr/>
            <p:nvPr/>
          </p:nvSpPr>
          <p:spPr>
            <a:xfrm>
              <a:off x="2590920" y="1676520"/>
              <a:ext cx="2286000" cy="167616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buClr>
                  <a:srgbClr val="99ff33"/>
                </a:buClr>
                <a:buSzPct val="65000"/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7"/>
            <p:cNvSpPr/>
            <p:nvPr/>
          </p:nvSpPr>
          <p:spPr>
            <a:xfrm>
              <a:off x="2819520" y="1905120"/>
              <a:ext cx="1904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Öğrenci bilginin önemli olduğuna inanmıyorsa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8"/>
          <p:cNvGrpSpPr/>
          <p:nvPr/>
        </p:nvGrpSpPr>
        <p:grpSpPr>
          <a:xfrm>
            <a:off x="5105520" y="2514600"/>
            <a:ext cx="2286000" cy="1847160"/>
            <a:chOff x="5105520" y="2514600"/>
            <a:chExt cx="2286000" cy="1847160"/>
          </a:xfrm>
        </p:grpSpPr>
        <p:sp>
          <p:nvSpPr>
            <p:cNvPr id="212" name="Oval 9"/>
            <p:cNvSpPr/>
            <p:nvPr/>
          </p:nvSpPr>
          <p:spPr>
            <a:xfrm>
              <a:off x="5105520" y="2514600"/>
              <a:ext cx="2286000" cy="167616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buClr>
                  <a:srgbClr val="99ff33"/>
                </a:buClr>
                <a:buSzPct val="65000"/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0"/>
            <p:cNvSpPr/>
            <p:nvPr/>
          </p:nvSpPr>
          <p:spPr>
            <a:xfrm>
              <a:off x="5334120" y="2743200"/>
              <a:ext cx="19047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Öğrenci ders etkinliklerine katılmaz ve ders                             çalışmaz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11"/>
          <p:cNvGrpSpPr/>
          <p:nvPr/>
        </p:nvGrpSpPr>
        <p:grpSpPr>
          <a:xfrm>
            <a:off x="4724280" y="4648320"/>
            <a:ext cx="2286000" cy="1676160"/>
            <a:chOff x="4724280" y="4648320"/>
            <a:chExt cx="2286000" cy="1676160"/>
          </a:xfrm>
        </p:grpSpPr>
        <p:sp>
          <p:nvSpPr>
            <p:cNvPr id="215" name="Oval 12"/>
            <p:cNvSpPr/>
            <p:nvPr/>
          </p:nvSpPr>
          <p:spPr>
            <a:xfrm>
              <a:off x="4724280" y="4648320"/>
              <a:ext cx="2286000" cy="167616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buClr>
                  <a:srgbClr val="99ff33"/>
                </a:buClr>
                <a:buSzPct val="65000"/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3"/>
            <p:cNvSpPr/>
            <p:nvPr/>
          </p:nvSpPr>
          <p:spPr>
            <a:xfrm>
              <a:off x="4952880" y="4876920"/>
              <a:ext cx="19047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Başarı düşer, statü kaybı olur ve öğrenci dışlanır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4"/>
          <p:cNvGrpSpPr/>
          <p:nvPr/>
        </p:nvGrpSpPr>
        <p:grpSpPr>
          <a:xfrm>
            <a:off x="2133720" y="4114800"/>
            <a:ext cx="2286000" cy="1676160"/>
            <a:chOff x="2133720" y="4114800"/>
            <a:chExt cx="2286000" cy="1676160"/>
          </a:xfrm>
        </p:grpSpPr>
        <p:sp>
          <p:nvSpPr>
            <p:cNvPr id="218" name="Oval 15"/>
            <p:cNvSpPr/>
            <p:nvPr/>
          </p:nvSpPr>
          <p:spPr>
            <a:xfrm>
              <a:off x="2133720" y="4114800"/>
              <a:ext cx="2286000" cy="167616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buClr>
                  <a:srgbClr val="99ff33"/>
                </a:buClr>
                <a:buSzPct val="65000"/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6"/>
            <p:cNvSpPr/>
            <p:nvPr/>
          </p:nvSpPr>
          <p:spPr>
            <a:xfrm>
              <a:off x="2362320" y="4343400"/>
              <a:ext cx="19047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Öğretmen çalışmayan öğrenciden hoşlanmaz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AutoShape 17"/>
          <p:cNvSpPr/>
          <p:nvPr/>
        </p:nvSpPr>
        <p:spPr>
          <a:xfrm flipV="1">
            <a:off x="4800600" y="1751760"/>
            <a:ext cx="1295280" cy="762120"/>
          </a:xfrm>
          <a:custGeom>
            <a:avLst/>
            <a:gdLst>
              <a:gd name="textAreaLeft" fmla="*/ 0 w 1295280"/>
              <a:gd name="textAreaRight" fmla="*/ 1110240 w 1295280"/>
              <a:gd name="textAreaTop" fmla="*/ 507960 h 762120"/>
              <a:gd name="textAreaBottom" fmla="*/ 762120 h 7621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8"/>
          <p:cNvSpPr/>
          <p:nvPr/>
        </p:nvSpPr>
        <p:spPr>
          <a:xfrm flipH="1" flipV="1">
            <a:off x="7010280" y="3429000"/>
            <a:ext cx="914400" cy="1905120"/>
          </a:xfrm>
          <a:custGeom>
            <a:avLst/>
            <a:gdLst>
              <a:gd name="textAreaLeft" fmla="*/ 526320 w 914400"/>
              <a:gd name="textAreaRight" fmla="*/ 772200 w 914400"/>
              <a:gd name="textAreaTop" fmla="*/ 256680 h 1905120"/>
              <a:gd name="textAreaBottom" fmla="*/ 81540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0"/>
          <p:cNvSpPr/>
          <p:nvPr/>
        </p:nvSpPr>
        <p:spPr>
          <a:xfrm>
            <a:off x="4038480" y="3276720"/>
            <a:ext cx="914400" cy="838080"/>
          </a:xfrm>
          <a:custGeom>
            <a:avLst/>
            <a:gdLst>
              <a:gd name="textAreaLeft" fmla="*/ 525960 w 914400"/>
              <a:gd name="textAreaRight" fmla="*/ 771840 w 914400"/>
              <a:gd name="textAreaTop" fmla="*/ 112680 h 838080"/>
              <a:gd name="textAreaBottom" fmla="*/ 3585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42AC-30C1-4799-A6BF-9ACE178DE3F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905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242492"/>
                </a:solidFill>
                <a:latin typeface="Tahoma"/>
              </a:rPr>
              <a:t>Ev Ödevleri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ekrar ödev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Hazırlık ödev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Ek bilgi ödev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Yaratıcı ödev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Not: Ödevler not verilerek imza atılarak veya düşünceler yazılarak incelenmeli ve iade edilmelid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4000">
    <p:wipe dir="l"/>
    <p:sndAc>
      <p:stSnd>
        <p:snd r:embed="rId1" name="arrow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9384-47C4-42BC-A6F6-F3836426E4A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05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242492"/>
                </a:solidFill>
                <a:latin typeface="Tahoma"/>
              </a:rPr>
              <a:t>D. Ders Yönetimi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482920"/>
            <a:ext cx="8229600" cy="29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Öğrencilerin derse ilgi, dikkat ve katılımı sürdürülmelid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Dersin hızı ve akışı devamlı belli bir seviyede tutulmalıdı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Ders etkili bir şekilde bitiril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4000">
    <p:dissolve/>
    <p:sndAc>
      <p:stSnd>
        <p:snd r:embed="rId1" name="camera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988D-FCF2-4416-80EA-C1B3E6D0C9A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44200" y="13302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7b9cb5"/>
                </a:solidFill>
                <a:latin typeface="Tahoma"/>
              </a:rPr>
              <a:t>SORUNLU DAVRANIŞLAR</a:t>
            </a:r>
            <a:endParaRPr b="0" lang="en-US" sz="5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p:transition spd="slow" advTm="4000">
    <p:wipe dir="l"/>
    <p:sndAc>
      <p:stSnd>
        <p:snd r:embed="rId1" name="arrow.wav"/>
      </p:stSnd>
    </p:sndAc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1F55-D7A3-4983-A6B9-0C2E0ED46DD9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344000" cy="77148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800" spc="-1" strike="noStrike">
                <a:solidFill>
                  <a:srgbClr val="7b9cb5"/>
                </a:solidFill>
                <a:latin typeface="Tahoma"/>
              </a:rPr>
              <a:t>Ne tür Kişilikler var ?</a:t>
            </a:r>
            <a:endParaRPr b="0" lang="en-US" sz="48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696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Duygu merkez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Zihin Merkez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Fizik Merkez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4" descr="kusbakisi"/>
          <p:cNvPicPr/>
          <p:nvPr/>
        </p:nvPicPr>
        <p:blipFill>
          <a:blip r:embed="rId1"/>
          <a:stretch/>
        </p:blipFill>
        <p:spPr>
          <a:xfrm>
            <a:off x="4427640" y="3095640"/>
            <a:ext cx="2016000" cy="1519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UYKUCULAR"/>
          <p:cNvPicPr/>
          <p:nvPr/>
        </p:nvPicPr>
        <p:blipFill>
          <a:blip r:embed="rId2"/>
          <a:stretch/>
        </p:blipFill>
        <p:spPr>
          <a:xfrm>
            <a:off x="4500720" y="151596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no engel"/>
          <p:cNvPicPr/>
          <p:nvPr/>
        </p:nvPicPr>
        <p:blipFill>
          <a:blip r:embed="rId3"/>
          <a:stretch/>
        </p:blipFill>
        <p:spPr>
          <a:xfrm>
            <a:off x="4427640" y="4724280"/>
            <a:ext cx="2016000" cy="1449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amera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20F5-C83E-4379-BE03-44F15965890A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242492"/>
                </a:solidFill>
                <a:latin typeface="Tahoma"/>
              </a:rPr>
              <a:t>A. Sorun Ortaya Çıkmadan Önlemek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Sınıfta iyi bir gözlemci olmalısını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Sınıfta sıkıntılı öğrenci olup olmadığına bakı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Sınıfta dolaşı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Her öğrenciyle göz kontağı kur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Soru sor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Yakınlığı kullanı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4000">
    <p:dissolve/>
    <p:sndAc>
      <p:stSnd>
        <p:snd r:embed="rId1" name="camera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4F37-8BC0-4348-9255-37CE2E405DD2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280" y="54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242492"/>
                </a:solidFill>
                <a:latin typeface="Tahoma"/>
              </a:rPr>
              <a:t>Sorunun Çözülmesi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740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orunlu davranışı tespit edin ve hissettir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aygısızlığa dikkat ed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Öğrencileri hareket ettir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özlü uyarıları kullanı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Öfkeden uzak dur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Öğrencinin kişiliğini değil davranışını eleştir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dil olmayan karşılaştırmalardan kaçını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utarlı olun, boş tehditlerden kaçını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üm sınıfı cezalandırmayı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azen görmezlikten gelmek daha iyid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4000">
    <p:dissolve/>
    <p:sndAc>
      <p:stSnd>
        <p:snd r:embed="rId1" name="camera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F587-68F4-4AB9-92C3-9F48F01D7B66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33"/>
                </a:solidFill>
                <a:latin typeface="Tahoma"/>
              </a:rPr>
              <a:t>Yaramazlığın Hedefleri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1844640"/>
          <a:ext cx="8893080" cy="4568760"/>
        </p:xfrm>
        <a:graphic>
          <a:graphicData uri="http://schemas.openxmlformats.org/drawingml/2006/table">
            <a:tbl>
              <a:tblPr/>
              <a:tblGrid>
                <a:gridCol w="3022560"/>
                <a:gridCol w="2935080"/>
                <a:gridCol w="293544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aramazlığı bırakıp tekrar başlıyorsa, öğretmeni takip ederek yaramazlık yapıyor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kkat çekme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ıkılma,anlamsızlık duygusu,sevgi ihtiyacı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aramazlığı durdurmayı reddediyor veya miktarını artırıyor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üç ya da yetki mücadelesi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hdit edilmiş hissetme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İşbirliğini,katılımı reddediyor, gerçekçi hedefler belirleyemiyor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etersizlik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üçsüz hissetme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üşmanca davranıyor, sık şikayet ediyor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Öç alma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İncinme, adaletsizlik hissetme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4000">
    <p:dissolve/>
    <p:sndAc>
      <p:stSnd>
        <p:snd r:embed="rId1" name="camera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C6FE-596D-4284-B115-8C5B2936BF85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7b9cb5"/>
                </a:solidFill>
                <a:latin typeface="Tahoma"/>
              </a:rPr>
              <a:t>CEZA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eza,disiplin sorunu karşısında diğer yöntemlerin başarısız olması sonucu başvurulan bir yöntemd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Tahoma"/>
              </a:rPr>
              <a:t>**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457200" y="2852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7b9cb5"/>
                </a:solidFill>
                <a:latin typeface="Tahoma"/>
              </a:rPr>
              <a:t>Cezanın Amaçları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457200" y="42829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Hemen değerlendirmek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Caydırmak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Düzeltmek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camera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357D-5CD9-4AA0-8F6A-42BB5EC4CA5A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689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0000"/>
                </a:solidFill>
                <a:latin typeface="Tahoma"/>
              </a:rPr>
              <a:t>Ceza Türleri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Yazma ödev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lıkoym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Haklarından mahrum etm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Sınıftan ayırm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ilesini bilgilendirm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Disiplin kuruluna sevk etm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Okuldan uzaklaştırm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371600" y="1600200"/>
            <a:ext cx="7391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7b9cb5"/>
              </a:buClr>
              <a:buSzPct val="6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Gönül Koymak (Duygusal Banka hesabı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wipe dir="l"/>
    <p:sndAc>
      <p:stSnd>
        <p:snd r:embed="rId1" name="arrow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5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6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0B0D-11FC-4D6E-B559-A42063D8B2CF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187280" y="1052640"/>
            <a:ext cx="6769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d831"/>
                </a:solidFill>
                <a:latin typeface="Arial Black"/>
              </a:rPr>
              <a:t>ÖĞRENCİLERİNİZLE  DİY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627280" y="1844640"/>
            <a:ext cx="34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Tahoma"/>
              </a:rPr>
              <a:t>EMPATİ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(Karşılıklı Anlayış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4" descr="şükrü-15"/>
          <p:cNvPicPr/>
          <p:nvPr/>
        </p:nvPicPr>
        <p:blipFill>
          <a:blip r:embed="rId1"/>
          <a:stretch/>
        </p:blipFill>
        <p:spPr>
          <a:xfrm>
            <a:off x="179280" y="2924280"/>
            <a:ext cx="8785440" cy="28810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5"/>
          <p:cNvSpPr/>
          <p:nvPr/>
        </p:nvSpPr>
        <p:spPr>
          <a:xfrm>
            <a:off x="1908000" y="59500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DUYGUSAL BANKA HESAB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2CBE-DF71-4141-87B1-62C52F1CD0BD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7128000" cy="103212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Öğrenci Tipleri</a:t>
            </a: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i="1" lang="tr-TR" sz="8000" spc="-1" strike="noStrike">
                <a:solidFill>
                  <a:srgbClr val="ffffff"/>
                </a:solidFill>
                <a:latin typeface="ZapfHumnst BT"/>
              </a:rPr>
              <a:t>1</a:t>
            </a:r>
            <a:endParaRPr b="0" lang="en-US" sz="8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77742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242492"/>
                </a:solidFill>
                <a:latin typeface="ZapfHumnst BT"/>
              </a:rPr>
              <a:t>Mükemmeliyetçi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Öğretmenden ziyade kendi motifleri öne çık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Sınıftaki her ayrıntı dikkat çekicid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Hataları görme ve algılama hassasiyeti yüksek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Boylarını aşan işlere kalkışa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Siyah ve beyaz vardır; gri tonlar israft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İnsanlar “kurallar” için vard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Kılık-kıyafet, zamanlama, ödev sınav </a:t>
            </a: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4" descr="TESTJ"/>
          <p:cNvPicPr/>
          <p:nvPr/>
        </p:nvPicPr>
        <p:blipFill>
          <a:blip r:embed="rId1"/>
          <a:stretch/>
        </p:blipFill>
        <p:spPr>
          <a:xfrm>
            <a:off x="7020000" y="4508640"/>
            <a:ext cx="174132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0CE5-C6DB-41D2-AD86-BF5EE1542612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1640" y="333360"/>
            <a:ext cx="7343640" cy="137160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Öğrenci Tipleri</a:t>
            </a: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i="1" lang="tr-TR" sz="8000" spc="-1" strike="noStrike">
                <a:solidFill>
                  <a:srgbClr val="ffffff"/>
                </a:solidFill>
                <a:latin typeface="ZapfHumnst BT"/>
              </a:rPr>
              <a:t>2</a:t>
            </a:r>
            <a:endParaRPr b="0" lang="en-US" sz="80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90" name="Picture 3" descr="LIBRARJ"/>
          <p:cNvPicPr/>
          <p:nvPr/>
        </p:nvPicPr>
        <p:blipFill>
          <a:blip r:embed="rId1"/>
          <a:stretch/>
        </p:blipFill>
        <p:spPr>
          <a:xfrm>
            <a:off x="250920" y="836640"/>
            <a:ext cx="1055520" cy="2951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684360" y="1844640"/>
            <a:ext cx="79912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4760" indent="-37476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242492"/>
                </a:solidFill>
                <a:latin typeface="ZapfHumnst BT"/>
              </a:rPr>
              <a:t>FEDAKA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Diyaloglar empati taşır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Ben demeyi beceremezl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Öğrenci merkezli motifler öne çıkar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Aşırı korumacı anne-baba rolü oynayabilirler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Duygusal ihtiyaçlarını başkaları için yaşayarak giderirl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Fedakarlıklarının karşılığını beklerse ve bulamazs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intikam çanları çalabili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FDDD-1FE4-4073-BDC9-36E72C70B363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1280" y="333360"/>
            <a:ext cx="7632720" cy="137160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Öğrenci Tipleri</a:t>
            </a: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i="1" lang="tr-TR" sz="8000" spc="-1" strike="noStrike">
                <a:solidFill>
                  <a:srgbClr val="ffffff"/>
                </a:solidFill>
                <a:latin typeface="ZapfHumnst BT"/>
              </a:rPr>
              <a:t>3</a:t>
            </a:r>
            <a:endParaRPr b="0" lang="en-US" sz="80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95" name="Picture 3" descr="BUSI103D"/>
          <p:cNvPicPr/>
          <p:nvPr/>
        </p:nvPicPr>
        <p:blipFill>
          <a:blip r:embed="rId1"/>
          <a:stretch/>
        </p:blipFill>
        <p:spPr>
          <a:xfrm>
            <a:off x="6084720" y="692280"/>
            <a:ext cx="2233800" cy="1817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684360" y="1628640"/>
            <a:ext cx="79912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242492"/>
                </a:solidFill>
                <a:latin typeface="ZapfHumnst BT"/>
              </a:rPr>
              <a:t>İmaj ve Başarı her şeydi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Yapılacak iş ve elde edilecek kar önemlidir Başarıya giden her yol geçerlidir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Duygular ertelenebili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Geröeklered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Fikirden aksiyona geçer, analiz pek yoktur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Bilgi sırdır paylaşılmaz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Rekabet ve başarı temel unsurlardır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ZapfHumnst BT"/>
              </a:rPr>
              <a:t>İyi giyinmek, marka, imaj,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D80F-3E86-49DE-8869-5CC1F6315313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yagmur"/>
          <p:cNvPicPr/>
          <p:nvPr/>
        </p:nvPicPr>
        <p:blipFill>
          <a:blip r:embed="rId1"/>
          <a:stretch/>
        </p:blipFill>
        <p:spPr>
          <a:xfrm>
            <a:off x="6012000" y="2997360"/>
            <a:ext cx="2396880" cy="3422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199280" cy="137160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Öğrenci Tipleri</a:t>
            </a: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i="1" lang="tr-TR" sz="8000" spc="-1" strike="noStrike">
                <a:solidFill>
                  <a:srgbClr val="ffffff"/>
                </a:solidFill>
                <a:latin typeface="ZapfHumnst BT"/>
              </a:rPr>
              <a:t>4</a:t>
            </a:r>
            <a:endParaRPr b="0" lang="en-US" sz="80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01" name="Picture 4" descr="GALLEJ"/>
          <p:cNvPicPr/>
          <p:nvPr/>
        </p:nvPicPr>
        <p:blipFill>
          <a:blip r:embed="rId2"/>
          <a:stretch/>
        </p:blipFill>
        <p:spPr>
          <a:xfrm>
            <a:off x="5867280" y="404640"/>
            <a:ext cx="2009880" cy="2160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684360" y="1844640"/>
            <a:ext cx="79912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4760" indent="-37476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242492"/>
                </a:solidFill>
                <a:latin typeface="ZapfHumnst BT"/>
              </a:rPr>
              <a:t>Özgün, duygusal,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Duyguları aşırı uçlarda yaşarl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Bardağın hep boş kısmını görürl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Sahip olamadıkları için birilerini suçlarl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Arkadaşlarıyla rekabetçidirl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Eleştirmekten kaçını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3D4C-4B95-4344-B29E-1A15FFFE7B6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7416720" cy="137160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Öğrenci Tipleri</a:t>
            </a:r>
            <a:r>
              <a:rPr b="0" i="1" lang="tr-TR" sz="40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i="1" lang="tr-TR" sz="8000" spc="-1" strike="noStrike">
                <a:solidFill>
                  <a:srgbClr val="ffffff"/>
                </a:solidFill>
                <a:latin typeface="ZapfHumnst BT"/>
              </a:rPr>
              <a:t>5</a:t>
            </a:r>
            <a:endParaRPr b="0" lang="en-US" sz="80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06" name="Picture 3" descr="BUSI163D"/>
          <p:cNvPicPr/>
          <p:nvPr/>
        </p:nvPicPr>
        <p:blipFill>
          <a:blip r:embed="rId1"/>
          <a:stretch/>
        </p:blipFill>
        <p:spPr>
          <a:xfrm>
            <a:off x="6084720" y="404640"/>
            <a:ext cx="2776680" cy="1467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468360" y="1844640"/>
            <a:ext cx="8459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4760" indent="-37476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242492"/>
                </a:solidFill>
                <a:latin typeface="ZapfHumnst BT"/>
              </a:rPr>
              <a:t>Gözlemci , ölçülü, araştırmacı, M1.ci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Mahremiyet ve öznellik önemlidir; yalnızlık iyidir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Sosyalleşme zaman kaybı ve lükstür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Diğer öğrencilerle yakınlaşmaya teşvik etmeli.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Duygular yerine, zeka ön plandadı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Kendilerini ifade etmede zorlanabilirl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Rahatlık alanlarını terk etmek istemezl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Planları ve kendi akılları üstündür; grupta zaman </a:t>
            </a: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ZapfHumnst BT"/>
              </a:rPr>
              <a:t>tanımalı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18:58:55Z</dcterms:created>
  <dc:creator>Kemal Pehlivanoğlu</dc:creator>
  <dc:description>izinsiz kullanmayınız, çoğaltıp, dağıtmayınız...
0 535 620 15 57</dc:description>
  <dc:language>en-US</dc:language>
  <cp:lastModifiedBy>Adnan</cp:lastModifiedBy>
  <dcterms:modified xsi:type="dcterms:W3CDTF">2013-07-18T20:50:37Z</dcterms:modified>
  <cp:revision>117</cp:revision>
  <dc:subject>sınıf yönetimi</dc:subject>
  <dc:title>PowerPoint Sunusu</dc:title>
</cp:coreProperties>
</file>