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8.png" ContentType="image/png"/>
  <Override PartName="/ppt/media/image33.png" ContentType="image/png"/>
  <Override PartName="/ppt/media/image13.png" ContentType="image/png"/>
  <Override PartName="/ppt/media/image11.png" ContentType="image/png"/>
  <Override PartName="/ppt/media/image9.jpeg" ContentType="image/jpeg"/>
  <Override PartName="/ppt/media/image31.png" ContentType="image/png"/>
  <Override PartName="/ppt/media/image32.png" ContentType="image/png"/>
  <Override PartName="/ppt/media/image37.png" ContentType="image/png"/>
  <Override PartName="/ppt/media/image7.png" ContentType="image/png"/>
  <Override PartName="/ppt/media/image34.png" ContentType="image/png"/>
  <Override PartName="/ppt/media/image12.png" ContentType="image/png"/>
  <Override PartName="/ppt/media/image36.png" ContentType="image/png"/>
  <Override PartName="/ppt/media/image1.jpeg" ContentType="image/jpeg"/>
  <Override PartName="/ppt/media/image10.png" ContentType="image/png"/>
  <Override PartName="/ppt/media/image4.jpeg" ContentType="image/jpeg"/>
  <Override PartName="/ppt/media/image25.png" ContentType="image/png"/>
  <Override PartName="/ppt/media/image28.png" ContentType="image/png"/>
  <Override PartName="/ppt/media/image30.png" ContentType="image/png"/>
  <Override PartName="/ppt/media/image3.jpeg" ContentType="image/jpeg"/>
  <Override PartName="/ppt/media/image15.png" ContentType="image/png"/>
  <Override PartName="/ppt/media/image5.png" ContentType="image/png"/>
  <Override PartName="/ppt/media/image35.png" ContentType="image/png"/>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0A23-48A0-4EF0-9336-A56DFF1E045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www.egitimhane.com </a:t>
            </a:r>
            <a:endParaRPr b="0" lang="en-US"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3FC2F-2BF9-4130-A14F-2A64596D637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www.egitimhane.com </a:t>
            </a:r>
            <a:endParaRPr b="0" lang="en-US"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01E9-33A0-486E-98D4-5430357C14A6}" type="slidenum">
              <a:rPr b="0" lang="tr-T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A640F-EDCA-419B-B1B9-95F375E74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FB219-F3BF-44B2-8B9A-D0A7DABD5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656FF-99E7-46FA-9EF2-0DEE15E71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3931E-19B8-4F75-BA26-849DC7CB0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FBE2F-96C4-45AA-887B-06E780E4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D0073-EBAF-4501-839C-FC579038B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D7EA7-5889-45C0-941F-D08225E0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323C5-C72B-497A-B789-26F8E057D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B21B3-E475-4047-972C-AB171B3A0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1F074-BBF6-4136-88E5-33C4D9E04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BD12-9C94-40D9-B433-93EAC2D92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7FAC-5BC9-4274-8662-5413ED6F0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A9040-939F-4F20-B2B6-9E804116E8D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42960" y="1428840"/>
            <a:ext cx="7772400" cy="2071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Arial Black"/>
              </a:rPr>
              <a:t>ÖRNEK KİTAP LİSTESİNİN İNCELENMESİ VE YORUMLANMASI</a:t>
            </a: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2015-2016 Eğitim Öğretim yılı Haziran semin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NDEN SEÇTİKLERİMİZ</a:t>
            </a:r>
            <a:endParaRPr b="0" lang="en-US" sz="4400" spc="-1" strike="noStrike">
              <a:solidFill>
                <a:srgbClr val="000000"/>
              </a:solidFill>
              <a:latin typeface="Calibri"/>
            </a:endParaRPr>
          </a:p>
        </p:txBody>
      </p:sp>
      <p:pic>
        <p:nvPicPr>
          <p:cNvPr id="75" name="3 İçerik Yer Tutucusu" descr="untitled.png"/>
          <p:cNvPicPr/>
          <p:nvPr/>
        </p:nvPicPr>
        <p:blipFill>
          <a:blip r:embed="rId1"/>
          <a:stretch/>
        </p:blipFill>
        <p:spPr>
          <a:xfrm>
            <a:off x="1785960" y="1571760"/>
            <a:ext cx="507204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eyaz Zambaklar Ülkesinde, Mustafa Kemal Atatürk zamanında Türkçeye ilk kez çevrildi. Atatürk, kitabı okuduğunda bu destansı başarıya tek kelimeyle hayran olmuştu. Derhal kitabın ülkedeki okulların, özellikle askeri okulların müfredatına dahil edilmesini emretti. Türk askerleri ülkelerindeki “yaşamı yenilemek” için mutlaka bu kitabı okumalıydı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 kitap tüm yoksulluğa, imkansızlıklara ve elverişsiz doğa koşullarına rağmen, bir avuç aydının önderliğinde; askerlerden din adamlarına, profesörlerden öğretmenlere, doktorlardan işadamlarına kadar, her meslekten insanın omuz omuza bir dayanışma sergileyerek, Finlandiya'yı, ülkelerini geri kalmışlıktan kurtarmak için nasıl büyük bir mücadele verdiklerini, tüm insanlığa örnek olacak biçimde gözler önüne sermekted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BEYAZ ZAMBAKLAR ÜLKESİNDE</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Bugün dünyanın en iyi eğitim veren ülkelerinden biri olarak kabul gören Finlandiya'da halk duyarlı, bilinçli, eğitimli...Temel değerlerin öneminden, alkol ve sigaranın zararlarına kadar, çok önemli konularda çok kıymetli fikirler edinebileceğiniz ve hayat boyu hatırlayabileceğiniz bir kitap...</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NDEN SEÇTİKLERİMİZ</a:t>
            </a:r>
            <a:endParaRPr b="0" lang="en-US" sz="4400" spc="-1" strike="noStrike">
              <a:solidFill>
                <a:srgbClr val="000000"/>
              </a:solidFill>
              <a:latin typeface="Calibri"/>
            </a:endParaRPr>
          </a:p>
        </p:txBody>
      </p:sp>
      <p:pic>
        <p:nvPicPr>
          <p:cNvPr id="83" name="3 İçerik Yer Tutucusu" descr="untitled.png"/>
          <p:cNvPicPr/>
          <p:nvPr/>
        </p:nvPicPr>
        <p:blipFill>
          <a:blip r:embed="rId1"/>
          <a:stretch/>
        </p:blipFill>
        <p:spPr>
          <a:xfrm>
            <a:off x="2214720" y="1928880"/>
            <a:ext cx="3929040" cy="4000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EMİLE</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Çocukları, yeteneklerini ortaya çıkarmaları ve olmak istedikleri şeyi olmaları için özgür bırakmalıyız. Biz onlara hakim, asker ya da din adamı olmalarını değil yaşamayı öğretebiliriz ve onlar bir meslek sahibi olmadan önce insan olmalılar. Çünkü, bir insan ne olmak istiyorsa ya da ne olması gerekiyorsa onu olabilir, sonra vazgeçip başka bir şey olabilir; ama o daima kendisi olarak kalacak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EMİLE</a:t>
            </a:r>
            <a:endParaRPr b="0" lang="en-US" sz="4400" spc="-1" strike="noStrike">
              <a:solidFill>
                <a:srgbClr val="000000"/>
              </a:solidFill>
              <a:latin typeface="Calibri"/>
            </a:endParaRPr>
          </a:p>
        </p:txBody>
      </p:sp>
      <p:sp>
        <p:nvSpPr>
          <p:cNvPr id="87" name=""/>
          <p:cNvSpPr txBox="1"/>
          <p:nvPr/>
        </p:nvSpPr>
        <p:spPr>
          <a:xfrm>
            <a:off x="428760" y="1071720"/>
            <a:ext cx="822960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aşadığımız süre boyunca insanlar tarafından eğitiliyoruz ve bizi etkileyen olaylardan edindiğimiz tecrübeyle olgunlaşıyoruz. Bize eğitim veren insanların bizim için çizdiği yol ile yaratılışımıza uygun olan yol zıt yönleri işaret ettiğinde ise ruhsal karşılıklar yaşıyoruz. Yürümemizi istedikleri yolun sonu bize mutluluk getirmeyecek, ancak diğer yolda yürümemiz için de teşvik edilmiyoruz. Bütün hayatımız boyunca böyle çarpıştığımız ve dalgalandığımız için kendi kendimizle uyuşamadan, ne kendimiz için ne de başkaları için iyi şeyler yapamadan hayatımızı tamamlıyoruz.</a:t>
            </a:r>
            <a:br>
              <a:rPr sz="2800"/>
            </a:br>
            <a:r>
              <a:rPr b="0" lang="tr-TR"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SİZ ŞU KİTAPLARDAN HANGİSİLERİNİ OKUDUNUZ?</a:t>
            </a:r>
            <a:endParaRPr b="0" lang="en-US" sz="4400" spc="-1" strike="noStrike">
              <a:solidFill>
                <a:srgbClr val="000000"/>
              </a:solidFill>
              <a:latin typeface="Calibri"/>
            </a:endParaRPr>
          </a:p>
        </p:txBody>
      </p:sp>
      <p:pic>
        <p:nvPicPr>
          <p:cNvPr id="89" name="4 İçerik Yer Tutucusu" descr="fdadd98afc95e9736bb64c936ec4993b.jpg"/>
          <p:cNvPicPr/>
          <p:nvPr/>
        </p:nvPicPr>
        <p:blipFill>
          <a:blip r:embed="rId1"/>
          <a:stretch/>
        </p:blipFill>
        <p:spPr>
          <a:xfrm>
            <a:off x="2928960" y="1571760"/>
            <a:ext cx="3071880" cy="460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1" name="3 İçerik Yer Tutucusu" descr="untitled.png"/>
          <p:cNvPicPr/>
          <p:nvPr/>
        </p:nvPicPr>
        <p:blipFill>
          <a:blip r:embed="rId1"/>
          <a:stretch/>
        </p:blipFill>
        <p:spPr>
          <a:xfrm>
            <a:off x="1857240" y="1714680"/>
            <a:ext cx="4357800" cy="4214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3" name="3 İçerik Yer Tutucusu" descr="untitled.png"/>
          <p:cNvPicPr/>
          <p:nvPr/>
        </p:nvPicPr>
        <p:blipFill>
          <a:blip r:embed="rId1"/>
          <a:stretch/>
        </p:blipFill>
        <p:spPr>
          <a:xfrm>
            <a:off x="2714760" y="1714680"/>
            <a:ext cx="4071960" cy="464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57240"/>
            <a:ext cx="7772400" cy="1743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0000"/>
                </a:solidFill>
                <a:latin typeface="Calibri"/>
              </a:rPr>
              <a:t>Balibey İlkokulu </a:t>
            </a:r>
            <a:br>
              <a:rPr sz="4400"/>
            </a:br>
            <a:r>
              <a:rPr b="1" lang="tr-TR" sz="4400" spc="-1" strike="noStrike">
                <a:solidFill>
                  <a:srgbClr val="ff0000"/>
                </a:solidFill>
                <a:latin typeface="Calibri"/>
              </a:rPr>
              <a:t>Mustafakemalpaşa- Bursa</a:t>
            </a:r>
            <a:endParaRPr b="0" lang="en-US" sz="4400" spc="-1" strike="noStrike">
              <a:solidFill>
                <a:srgbClr val="000000"/>
              </a:solidFill>
              <a:latin typeface="Calibri"/>
            </a:endParaRPr>
          </a:p>
        </p:txBody>
      </p:sp>
      <p:sp>
        <p:nvSpPr>
          <p:cNvPr id="51" name="PlaceHolder 2"/>
          <p:cNvSpPr>
            <a:spLocks noGrp="1"/>
          </p:cNvSpPr>
          <p:nvPr>
            <p:ph type="subTitle"/>
          </p:nvPr>
        </p:nvSpPr>
        <p:spPr>
          <a:xfrm>
            <a:off x="1143000" y="40006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Canan MAÇAN – Hasan ÜLKÜ</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Sınıf Öğretmenleri</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KAYNAK:ULUSLAR ARASI TÜRK EĞİTİM BİLİMLERİ DERGİSİ (UTEB) YIL:1 SAYI:1 EKİM 2013</a:t>
            </a:r>
            <a:endParaRPr b="0" lang="en-US" sz="20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5" name="3 İçerik Yer Tutucusu" descr="untitled.png"/>
          <p:cNvPicPr/>
          <p:nvPr/>
        </p:nvPicPr>
        <p:blipFill>
          <a:blip r:embed="rId1"/>
          <a:stretch/>
        </p:blipFill>
        <p:spPr>
          <a:xfrm>
            <a:off x="2928960" y="1643040"/>
            <a:ext cx="3500280" cy="450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7" name="5 İçerik Yer Tutucusu" descr="untitled.png"/>
          <p:cNvPicPr/>
          <p:nvPr/>
        </p:nvPicPr>
        <p:blipFill>
          <a:blip r:embed="rId1"/>
          <a:stretch/>
        </p:blipFill>
        <p:spPr>
          <a:xfrm>
            <a:off x="2428920" y="1785960"/>
            <a:ext cx="4071960" cy="4286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99" name="5 İçerik Yer Tutucusu" descr="untitled.png"/>
          <p:cNvPicPr/>
          <p:nvPr/>
        </p:nvPicPr>
        <p:blipFill>
          <a:blip r:embed="rId1"/>
          <a:stretch/>
        </p:blipFill>
        <p:spPr>
          <a:xfrm>
            <a:off x="2500200" y="1714680"/>
            <a:ext cx="3571920" cy="4357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1" name="3 İçerik Yer Tutucusu" descr="untitled.png"/>
          <p:cNvPicPr/>
          <p:nvPr/>
        </p:nvPicPr>
        <p:blipFill>
          <a:blip r:embed="rId1"/>
          <a:stretch/>
        </p:blipFill>
        <p:spPr>
          <a:xfrm>
            <a:off x="2857680" y="1714680"/>
            <a:ext cx="3786120" cy="40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3" name="3 İçerik Yer Tutucusu" descr="untitled.png"/>
          <p:cNvPicPr/>
          <p:nvPr/>
        </p:nvPicPr>
        <p:blipFill>
          <a:blip r:embed="rId1"/>
          <a:stretch/>
        </p:blipFill>
        <p:spPr>
          <a:xfrm>
            <a:off x="1785960" y="2143080"/>
            <a:ext cx="4857840" cy="3929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5" name="3 İçerik Yer Tutucusu" descr="untitled.png"/>
          <p:cNvPicPr/>
          <p:nvPr/>
        </p:nvPicPr>
        <p:blipFill>
          <a:blip r:embed="rId1"/>
          <a:stretch/>
        </p:blipFill>
        <p:spPr>
          <a:xfrm>
            <a:off x="1071720" y="1643040"/>
            <a:ext cx="614340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7" name="3 İçerik Yer Tutucusu" descr="untitled.png"/>
          <p:cNvPicPr/>
          <p:nvPr/>
        </p:nvPicPr>
        <p:blipFill>
          <a:blip r:embed="rId1"/>
          <a:stretch/>
        </p:blipFill>
        <p:spPr>
          <a:xfrm>
            <a:off x="2428920" y="1857240"/>
            <a:ext cx="3643200" cy="4214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09" name="3 İçerik Yer Tutucusu" descr="untitled.png"/>
          <p:cNvPicPr/>
          <p:nvPr/>
        </p:nvPicPr>
        <p:blipFill>
          <a:blip r:embed="rId1"/>
          <a:stretch/>
        </p:blipFill>
        <p:spPr>
          <a:xfrm>
            <a:off x="2857680" y="1857240"/>
            <a:ext cx="3357360" cy="4143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1" name="3 İçerik Yer Tutucusu" descr="untitled.png"/>
          <p:cNvPicPr/>
          <p:nvPr/>
        </p:nvPicPr>
        <p:blipFill>
          <a:blip r:embed="rId1"/>
          <a:stretch/>
        </p:blipFill>
        <p:spPr>
          <a:xfrm>
            <a:off x="2357280" y="1928880"/>
            <a:ext cx="4286520" cy="3714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3" name="3 İçerik Yer Tutucusu" descr="untitled.png"/>
          <p:cNvPicPr/>
          <p:nvPr/>
        </p:nvPicPr>
        <p:blipFill>
          <a:blip r:embed="rId1"/>
          <a:stretch/>
        </p:blipFill>
        <p:spPr>
          <a:xfrm>
            <a:off x="2857680" y="2000160"/>
            <a:ext cx="3357360" cy="428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5 Resim" descr="cac7c08398be58225159d4f9f5d16ba9.jpg"/>
          <p:cNvPicPr/>
          <p:nvPr/>
        </p:nvPicPr>
        <p:blipFill>
          <a:blip r:embed="rId1"/>
          <a:stretch/>
        </p:blipFill>
        <p:spPr>
          <a:xfrm>
            <a:off x="1928880" y="2000160"/>
            <a:ext cx="4167000" cy="4630680"/>
          </a:xfrm>
          <a:prstGeom prst="rect">
            <a:avLst/>
          </a:prstGeom>
          <a:ln w="0">
            <a:noFill/>
          </a:ln>
        </p:spPr>
      </p:pic>
      <p:sp>
        <p:nvSpPr>
          <p:cNvPr id="53" name="6 Metin kutusu"/>
          <p:cNvSpPr/>
          <p:nvPr/>
        </p:nvSpPr>
        <p:spPr>
          <a:xfrm>
            <a:off x="857160" y="500040"/>
            <a:ext cx="692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ea typeface="Arial"/>
              </a:rPr>
              <a:t> </a:t>
            </a:r>
            <a:r>
              <a:rPr b="1" lang="tr-TR" sz="2400" spc="-1" strike="noStrike">
                <a:solidFill>
                  <a:srgbClr val="000000"/>
                </a:solidFill>
                <a:latin typeface="Arial"/>
                <a:ea typeface="Arial"/>
              </a:rPr>
              <a:t>Kitaplar </a:t>
            </a:r>
            <a:r>
              <a:rPr b="0" lang="tr-TR" sz="1800" spc="-1" strike="noStrike">
                <a:solidFill>
                  <a:srgbClr val="000000"/>
                </a:solidFill>
                <a:latin typeface="Arial"/>
                <a:ea typeface="Arial"/>
              </a:rPr>
              <a:t>,dünyayı değiştirmez,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 </a:t>
            </a:r>
            <a:r>
              <a:rPr b="1" lang="tr-TR" sz="2800" spc="-1" strike="noStrike">
                <a:solidFill>
                  <a:srgbClr val="000000"/>
                </a:solidFill>
                <a:latin typeface="Arial"/>
                <a:ea typeface="Arial"/>
              </a:rPr>
              <a:t>dünyayı insan değiştirir</a:t>
            </a:r>
            <a:r>
              <a:rPr b="0" lang="tr-TR"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ea typeface="Arial"/>
              </a:rPr>
              <a:t> </a:t>
            </a:r>
            <a:r>
              <a:rPr b="1" lang="tr-TR" sz="3200" spc="-1" strike="noStrike">
                <a:solidFill>
                  <a:srgbClr val="000000"/>
                </a:solidFill>
                <a:latin typeface="Arial"/>
                <a:ea typeface="Arial"/>
              </a:rPr>
              <a:t>kitaplar sadece insanı değiştir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5" name="3 İçerik Yer Tutucusu" descr="untitled.png"/>
          <p:cNvPicPr/>
          <p:nvPr/>
        </p:nvPicPr>
        <p:blipFill>
          <a:blip r:embed="rId1"/>
          <a:stretch/>
        </p:blipFill>
        <p:spPr>
          <a:xfrm>
            <a:off x="2357280" y="1857240"/>
            <a:ext cx="4714920" cy="4214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7" name="3 İçerik Yer Tutucusu" descr="untitled.png"/>
          <p:cNvPicPr/>
          <p:nvPr/>
        </p:nvPicPr>
        <p:blipFill>
          <a:blip r:embed="rId1"/>
          <a:stretch/>
        </p:blipFill>
        <p:spPr>
          <a:xfrm>
            <a:off x="2571840" y="1928880"/>
            <a:ext cx="3643200" cy="3857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19" name="3 İçerik Yer Tutucusu" descr="untitled.png"/>
          <p:cNvPicPr/>
          <p:nvPr/>
        </p:nvPicPr>
        <p:blipFill>
          <a:blip r:embed="rId1"/>
          <a:stretch/>
        </p:blipFill>
        <p:spPr>
          <a:xfrm>
            <a:off x="2786040" y="2000160"/>
            <a:ext cx="3286080" cy="4071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1" name="3 İçerik Yer Tutucusu" descr="untitled.png"/>
          <p:cNvPicPr/>
          <p:nvPr/>
        </p:nvPicPr>
        <p:blipFill>
          <a:blip r:embed="rId1"/>
          <a:stretch/>
        </p:blipFill>
        <p:spPr>
          <a:xfrm>
            <a:off x="3071880" y="1785960"/>
            <a:ext cx="3786120" cy="435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3" name="3 İçerik Yer Tutucusu" descr="untitled.png"/>
          <p:cNvPicPr/>
          <p:nvPr/>
        </p:nvPicPr>
        <p:blipFill>
          <a:blip r:embed="rId1"/>
          <a:stretch/>
        </p:blipFill>
        <p:spPr>
          <a:xfrm>
            <a:off x="2214720" y="2000160"/>
            <a:ext cx="4000320" cy="41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5" name="3 İçerik Yer Tutucusu" descr="untitled.png"/>
          <p:cNvPicPr/>
          <p:nvPr/>
        </p:nvPicPr>
        <p:blipFill>
          <a:blip r:embed="rId1"/>
          <a:stretch/>
        </p:blipFill>
        <p:spPr>
          <a:xfrm>
            <a:off x="3143160" y="1643040"/>
            <a:ext cx="3214800" cy="41432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7" name="3 İçerik Yer Tutucusu" descr="untitled.png"/>
          <p:cNvPicPr/>
          <p:nvPr/>
        </p:nvPicPr>
        <p:blipFill>
          <a:blip r:embed="rId1"/>
          <a:stretch/>
        </p:blipFill>
        <p:spPr>
          <a:xfrm>
            <a:off x="2428920" y="1714680"/>
            <a:ext cx="3857760" cy="4714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29" name="3 İçerik Yer Tutucusu" descr="untitled.png"/>
          <p:cNvPicPr/>
          <p:nvPr/>
        </p:nvPicPr>
        <p:blipFill>
          <a:blip r:embed="rId1"/>
          <a:stretch/>
        </p:blipFill>
        <p:spPr>
          <a:xfrm>
            <a:off x="2286000" y="1785960"/>
            <a:ext cx="3714840" cy="4214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1" name="3 İçerik Yer Tutucusu" descr="untitled.png"/>
          <p:cNvPicPr/>
          <p:nvPr/>
        </p:nvPicPr>
        <p:blipFill>
          <a:blip r:embed="rId1"/>
          <a:stretch/>
        </p:blipFill>
        <p:spPr>
          <a:xfrm>
            <a:off x="2928960" y="1928880"/>
            <a:ext cx="3357720" cy="4143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3" name="3 İçerik Yer Tutucusu" descr="untitled.png"/>
          <p:cNvPicPr/>
          <p:nvPr/>
        </p:nvPicPr>
        <p:blipFill>
          <a:blip r:embed="rId1"/>
          <a:stretch/>
        </p:blipFill>
        <p:spPr>
          <a:xfrm>
            <a:off x="2500200" y="1857240"/>
            <a:ext cx="3429000" cy="442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0000"/>
                </a:solidFill>
                <a:latin typeface="Calibri"/>
              </a:rPr>
              <a:t>ÖĞRETMENLER HANGİ KONULARDA KİTAP OKUMAYA İHTİYAÇ DUYUYORLAR?</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Öğrenci davranışlarını anlamaya ve tanımaya yönelik kitaplar (Ö=40,%10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İletişim (Ö=35, % 88),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Öğretim yöntemleri (Ö=32, % 80),</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Yaşama dair kitaplar (Ö= 32, % 80), dı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Sınıf uygulamaları (Ö=31, % 78), 5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Velilere yönelik kitaplar (Ö=25, % 63),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Okula ilişkin kitaplar (Ö=24, %60),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Çağdaş eğitimli içerikli kitaplar (Ö=15, %38),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Alana özgü pratik kitaplar (Ö=11, % 28),</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5" name="3 İçerik Yer Tutucusu" descr="untitled.png"/>
          <p:cNvPicPr/>
          <p:nvPr/>
        </p:nvPicPr>
        <p:blipFill>
          <a:blip r:embed="rId1"/>
          <a:stretch/>
        </p:blipFill>
        <p:spPr>
          <a:xfrm>
            <a:off x="2357280" y="1857240"/>
            <a:ext cx="4000680" cy="4429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7" name="3 İçerik Yer Tutucusu" descr="untitled.png"/>
          <p:cNvPicPr/>
          <p:nvPr/>
        </p:nvPicPr>
        <p:blipFill>
          <a:blip r:embed="rId1"/>
          <a:stretch/>
        </p:blipFill>
        <p:spPr>
          <a:xfrm>
            <a:off x="2286000" y="2143080"/>
            <a:ext cx="3214800" cy="4143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39" name="3 İçerik Yer Tutucusu" descr="untitled.png"/>
          <p:cNvPicPr/>
          <p:nvPr/>
        </p:nvPicPr>
        <p:blipFill>
          <a:blip r:embed="rId1"/>
          <a:stretch/>
        </p:blipFill>
        <p:spPr>
          <a:xfrm>
            <a:off x="2857680" y="2000160"/>
            <a:ext cx="3143160" cy="40719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1" name="3 İçerik Yer Tutucusu" descr="untitled.png"/>
          <p:cNvPicPr/>
          <p:nvPr/>
        </p:nvPicPr>
        <p:blipFill>
          <a:blip r:embed="rId1"/>
          <a:stretch/>
        </p:blipFill>
        <p:spPr>
          <a:xfrm>
            <a:off x="2857680" y="1643040"/>
            <a:ext cx="3357360" cy="4643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3" name="3 İçerik Yer Tutucusu" descr="untitled.png"/>
          <p:cNvPicPr/>
          <p:nvPr/>
        </p:nvPicPr>
        <p:blipFill>
          <a:blip r:embed="rId1"/>
          <a:stretch/>
        </p:blipFill>
        <p:spPr>
          <a:xfrm>
            <a:off x="3071880" y="1714680"/>
            <a:ext cx="2819160" cy="4429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ÖRNEK KİTAP LİSTESİ</a:t>
            </a:r>
            <a:endParaRPr b="0" lang="en-US" sz="4400" spc="-1" strike="noStrike">
              <a:solidFill>
                <a:srgbClr val="000000"/>
              </a:solidFill>
              <a:latin typeface="Calibri"/>
            </a:endParaRPr>
          </a:p>
        </p:txBody>
      </p:sp>
      <p:pic>
        <p:nvPicPr>
          <p:cNvPr id="145" name="3 İçerik Yer Tutucusu" descr="untitled.png"/>
          <p:cNvPicPr/>
          <p:nvPr/>
        </p:nvPicPr>
        <p:blipFill>
          <a:blip r:embed="rId1"/>
          <a:stretch/>
        </p:blipFill>
        <p:spPr>
          <a:xfrm>
            <a:off x="2214720" y="2071800"/>
            <a:ext cx="4286160" cy="40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pic>
        <p:nvPicPr>
          <p:cNvPr id="57" name="3 İçerik Yer Tutucusu" descr="8cee50f0b26b84cdfb0fefc61da020b6.jpg"/>
          <p:cNvPicPr/>
          <p:nvPr/>
        </p:nvPicPr>
        <p:blipFill>
          <a:blip r:embed="rId1"/>
          <a:stretch/>
        </p:blipFill>
        <p:spPr>
          <a:xfrm>
            <a:off x="1143000" y="1714680"/>
            <a:ext cx="1074600" cy="3786120"/>
          </a:xfrm>
          <a:prstGeom prst="rect">
            <a:avLst/>
          </a:prstGeom>
          <a:ln w="0">
            <a:noFill/>
          </a:ln>
        </p:spPr>
      </p:pic>
      <p:sp>
        <p:nvSpPr>
          <p:cNvPr id="58" name="4 Oval Belirtme Çizgisi"/>
          <p:cNvSpPr/>
          <p:nvPr/>
        </p:nvSpPr>
        <p:spPr>
          <a:xfrm>
            <a:off x="2928960" y="1857240"/>
            <a:ext cx="5357880" cy="2143440"/>
          </a:xfrm>
          <a:prstGeom prst="wedgeEllipseCallout">
            <a:avLst>
              <a:gd name="adj1" fmla="val -62842"/>
              <a:gd name="adj2" fmla="val -313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tmen yetişme dönemlerinde teorik almış olduğumuz dersleri uygulamaya aktaramıyorum. Sanırım bu alanda çok okumaya ihtiyacım var. </a:t>
            </a:r>
            <a:endParaRPr b="0" lang="en-US" sz="2000" spc="-1" strike="noStrike">
              <a:solidFill>
                <a:srgbClr val="000000"/>
              </a:solidFill>
              <a:latin typeface="Arial"/>
            </a:endParaRPr>
          </a:p>
        </p:txBody>
      </p:sp>
      <p:sp>
        <p:nvSpPr>
          <p:cNvPr id="59" name="5 Oval Belirtme Çizgisi"/>
          <p:cNvSpPr/>
          <p:nvPr/>
        </p:nvSpPr>
        <p:spPr>
          <a:xfrm>
            <a:off x="3714840" y="4357800"/>
            <a:ext cx="5143320" cy="1714320"/>
          </a:xfrm>
          <a:prstGeom prst="wedgeEllipseCallout">
            <a:avLst>
              <a:gd name="adj1" fmla="val -67875"/>
              <a:gd name="adj2" fmla="val -6057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tmen olarak sınıfta uygulamalarda tıkanıyorum. Hangi kitapları okumam gerektiğini bilmiyorum</a:t>
            </a:r>
            <a:r>
              <a:rPr b="0" lang="tr-TR" sz="2500" spc="-1" strike="noStrike">
                <a:solidFill>
                  <a:srgbClr val="000000"/>
                </a:solidFill>
                <a:latin typeface="Calibri"/>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1" name="4 Oval Belirtme Çizgisi"/>
          <p:cNvSpPr/>
          <p:nvPr/>
        </p:nvSpPr>
        <p:spPr>
          <a:xfrm>
            <a:off x="214200" y="1928880"/>
            <a:ext cx="5357880" cy="2143080"/>
          </a:xfrm>
          <a:prstGeom prst="wedgeEllipseCallout">
            <a:avLst>
              <a:gd name="adj1" fmla="val 60300"/>
              <a:gd name="adj2" fmla="val -1758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ınıf disiplini konusunda çok yetersiz hissediyorum. </a:t>
            </a:r>
            <a:endParaRPr b="0" lang="en-US" sz="2000" spc="-1" strike="noStrike">
              <a:solidFill>
                <a:srgbClr val="000000"/>
              </a:solidFill>
              <a:latin typeface="Arial"/>
            </a:endParaRPr>
          </a:p>
        </p:txBody>
      </p:sp>
      <p:sp>
        <p:nvSpPr>
          <p:cNvPr id="62" name="5 Oval Belirtme Çizgisi"/>
          <p:cNvSpPr/>
          <p:nvPr/>
        </p:nvSpPr>
        <p:spPr>
          <a:xfrm>
            <a:off x="642960" y="4572000"/>
            <a:ext cx="5143320" cy="1857240"/>
          </a:xfrm>
          <a:prstGeom prst="wedgeEllipseCallout">
            <a:avLst>
              <a:gd name="adj1" fmla="val 52740"/>
              <a:gd name="adj2" fmla="val -10488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ncileri ne kadar tanısam da bazen tanımadığımı hissediyorum. En çok öğrenciyi tanıma kitaplarına ihtiyaç duyuyorum. </a:t>
            </a:r>
            <a:endParaRPr b="0" lang="en-US" sz="2000" spc="-1" strike="noStrike">
              <a:solidFill>
                <a:srgbClr val="000000"/>
              </a:solidFill>
              <a:latin typeface="Arial"/>
            </a:endParaRPr>
          </a:p>
        </p:txBody>
      </p:sp>
      <p:pic>
        <p:nvPicPr>
          <p:cNvPr id="63" name="7 İçerik Yer Tutucusu" descr="184784df749e62cdb3d0b8bea00136d3.jpg"/>
          <p:cNvPicPr/>
          <p:nvPr/>
        </p:nvPicPr>
        <p:blipFill>
          <a:blip r:embed="rId1"/>
          <a:stretch/>
        </p:blipFill>
        <p:spPr>
          <a:xfrm>
            <a:off x="6286680" y="1928880"/>
            <a:ext cx="224784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5" name="4 Oval Belirtme Çizgisi"/>
          <p:cNvSpPr/>
          <p:nvPr/>
        </p:nvSpPr>
        <p:spPr>
          <a:xfrm>
            <a:off x="3000240" y="1500120"/>
            <a:ext cx="5357880" cy="2143080"/>
          </a:xfrm>
          <a:prstGeom prst="wedgeEllipseCallout">
            <a:avLst>
              <a:gd name="adj1" fmla="val -67305"/>
              <a:gd name="adj2" fmla="val 5068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 veliye ne söyleyeceğimi bilmiyorum. Velilere yönelik kitaplara ihtiyacım var.</a:t>
            </a:r>
            <a:endParaRPr b="0" lang="en-US" sz="2000" spc="-1" strike="noStrike">
              <a:solidFill>
                <a:srgbClr val="000000"/>
              </a:solidFill>
              <a:latin typeface="Arial"/>
            </a:endParaRPr>
          </a:p>
        </p:txBody>
      </p:sp>
      <p:sp>
        <p:nvSpPr>
          <p:cNvPr id="66" name="5 Oval Belirtme Çizgisi"/>
          <p:cNvSpPr/>
          <p:nvPr/>
        </p:nvSpPr>
        <p:spPr>
          <a:xfrm>
            <a:off x="3143160" y="4429080"/>
            <a:ext cx="5143680" cy="1857600"/>
          </a:xfrm>
          <a:prstGeom prst="wedgeEllipseCallout">
            <a:avLst>
              <a:gd name="adj1" fmla="val -64865"/>
              <a:gd name="adj2" fmla="val -2384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ınıf içi etkinliklere yetişemiyorum. Yöntem kitaplarına ihtiyacım var.</a:t>
            </a:r>
            <a:endParaRPr b="0" lang="en-US" sz="2000" spc="-1" strike="noStrike">
              <a:solidFill>
                <a:srgbClr val="000000"/>
              </a:solidFill>
              <a:latin typeface="Arial"/>
            </a:endParaRPr>
          </a:p>
        </p:txBody>
      </p:sp>
      <p:pic>
        <p:nvPicPr>
          <p:cNvPr id="67" name="8 İçerik Yer Tutucusu" descr="side-teacher.png"/>
          <p:cNvPicPr/>
          <p:nvPr/>
        </p:nvPicPr>
        <p:blipFill>
          <a:blip r:embed="rId1"/>
          <a:stretch/>
        </p:blipFill>
        <p:spPr>
          <a:xfrm>
            <a:off x="500040" y="3929040"/>
            <a:ext cx="163836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0000"/>
                </a:solidFill>
                <a:latin typeface="Calibri"/>
              </a:rPr>
              <a:t>ÖĞRETMENLERİN İHTİYAÇ DUYDUĞU OKUMA KİTAPLARINA İLİŞKİN KENDİ İFADELERİ</a:t>
            </a:r>
            <a:endParaRPr b="0" lang="en-US" sz="4000" spc="-1" strike="noStrike">
              <a:solidFill>
                <a:srgbClr val="000000"/>
              </a:solidFill>
              <a:latin typeface="Calibri"/>
            </a:endParaRPr>
          </a:p>
        </p:txBody>
      </p:sp>
      <p:sp>
        <p:nvSpPr>
          <p:cNvPr id="69" name="4 Oval Belirtme Çizgisi"/>
          <p:cNvSpPr/>
          <p:nvPr/>
        </p:nvSpPr>
        <p:spPr>
          <a:xfrm>
            <a:off x="3071880" y="1643040"/>
            <a:ext cx="5357880" cy="2143080"/>
          </a:xfrm>
          <a:prstGeom prst="wedgeEllipseCallout">
            <a:avLst>
              <a:gd name="adj1" fmla="val -46300"/>
              <a:gd name="adj2" fmla="val 3755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rsimin zor olduğu algısını nasıl yok edeceğimi bilmek istiyorum. </a:t>
            </a:r>
            <a:endParaRPr b="0" lang="en-US" sz="2000" spc="-1" strike="noStrike">
              <a:solidFill>
                <a:srgbClr val="000000"/>
              </a:solidFill>
              <a:latin typeface="Arial"/>
            </a:endParaRPr>
          </a:p>
        </p:txBody>
      </p:sp>
      <p:sp>
        <p:nvSpPr>
          <p:cNvPr id="70" name="5 Oval Belirtme Çizgisi"/>
          <p:cNvSpPr/>
          <p:nvPr/>
        </p:nvSpPr>
        <p:spPr>
          <a:xfrm>
            <a:off x="3143160" y="4429080"/>
            <a:ext cx="5143680" cy="1857600"/>
          </a:xfrm>
          <a:prstGeom prst="wedgeEllipseCallout">
            <a:avLst>
              <a:gd name="adj1" fmla="val -53652"/>
              <a:gd name="adj2" fmla="val -753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ğrencilerin nasıl öğrendikleri konusunda okumalara ihtiyaç duyuyorum.</a:t>
            </a:r>
            <a:endParaRPr b="0" lang="en-US" sz="2000" spc="-1" strike="noStrike">
              <a:solidFill>
                <a:srgbClr val="000000"/>
              </a:solidFill>
              <a:latin typeface="Arial"/>
            </a:endParaRPr>
          </a:p>
        </p:txBody>
      </p:sp>
      <p:pic>
        <p:nvPicPr>
          <p:cNvPr id="71" name="7 İçerik Yer Tutucusu" descr="depositphotos_22295471-Cartoon-teacher-with-a-pointer.jpg"/>
          <p:cNvPicPr/>
          <p:nvPr/>
        </p:nvPicPr>
        <p:blipFill>
          <a:blip r:embed="rId1"/>
          <a:stretch/>
        </p:blipFill>
        <p:spPr>
          <a:xfrm>
            <a:off x="500040" y="1928880"/>
            <a:ext cx="235764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Calibri"/>
              </a:rPr>
              <a:t>KONUYA İLİŞKİN ÖNERİLER</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Alanında okuryazar insan yetiştirme konusunda özellikle öğretmen yetiştiren kurumlarda duyarlılık geliştirile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Öğretmenlerin ihtiyaçları doğrultusunda oluşturulan liste, öğretmen adaylarına ve tüm öğretmenlere okuması için teşvik edile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   </a:t>
            </a:r>
            <a:r>
              <a:rPr b="0" lang="tr-TR" sz="3000" spc="-1" strike="noStrike">
                <a:solidFill>
                  <a:srgbClr val="000000"/>
                </a:solidFill>
                <a:latin typeface="Calibri"/>
              </a:rPr>
              <a:t>Okullarda öğretmenler odasında öğretmen kitaplığı oluşturularak listedeki kitaplar temin edilebilir ve okunmaları sağlanabilir. Böylece meslek içerisinde öğretmenlerin geliştirilmesi sağlanabilir.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22:10:13Z</dcterms:created>
  <dc:creator>Windows User</dc:creator>
  <dc:description/>
  <dc:language>en-US</dc:language>
  <cp:lastModifiedBy>win7</cp:lastModifiedBy>
  <dcterms:modified xsi:type="dcterms:W3CDTF">2016-06-22T22:14:05Z</dcterms:modified>
  <cp:revision>23</cp:revision>
  <dc:subject/>
  <dc:title>Öğretmenlerin Kitap Okuma İhtiyacı Olduğu Konular</dc:title>
</cp:coreProperties>
</file>