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7D4-AD4A-4FDA-A949-8AA6A68C20E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egitimhane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7E4-4C70-47B0-8AF4-148D59E9C586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F57-88E1-480C-846C-935A2D0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CE9-08F7-414C-B97B-3B36921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0F4-212D-4577-A592-A8CFB77C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6AF-E2FC-42A6-8466-69F9B129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197-1AF0-41A8-97A9-657A90C6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DF5-E33C-4D67-9941-362320C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3CE-53B3-46DC-9E42-86E755C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F77-E1E9-4361-852B-579A114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DA24-A492-446A-9490-A6F4AC65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7B7-ECE7-4145-B689-34E2337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2A30-8F89-409F-B339-4CE69A0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CBC-FE30-433E-B255-CC79D869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C33E-97D4-4863-9EF7-308E123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F42-BEDD-49EF-AFAD-7C51CA8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4617-E8C9-42EF-9675-5E9B617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AA2-C4EF-44A4-A7E6-2643F0EF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DEE-8ED2-46B0-9406-BE693CAB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ABB-4CFD-4149-B6AB-347F038B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D07-2295-4E9E-8C85-2931A6A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DC9-A6BF-464E-BFC5-E5E93903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75A-ACD0-468C-8543-6AFDA5A4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1FA-4424-40F2-9131-D9F7F98A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0FB-4807-446B-9A88-1AA4E41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B53-22F8-4475-A027-5BCBBB9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43F-0F39-41F7-878E-A7C5CA198C9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14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15 Serbest Form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16 Serbest Form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130-B1EE-47C2-95AF-DBD04F6711F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 Dikdörtgen" descr=""/>
          <p:cNvPicPr/>
          <p:nvPr/>
        </p:nvPicPr>
        <p:blipFill>
          <a:blip r:embed="rId1"/>
          <a:stretch/>
        </p:blipFill>
        <p:spPr>
          <a:xfrm>
            <a:off x="0" y="3365640"/>
            <a:ext cx="9028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ffff00"/>
                </a:solidFill>
                <a:latin typeface="Constantia"/>
              </a:rPr>
              <a:t>İKAZ VE ALARM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ffff"/>
                </a:solidFill>
                <a:latin typeface="Constantia"/>
              </a:rPr>
              <a:t>İkaz ve Alarm Sistemlerinin amacı, düşman saldırısını önceden haber almak ve tehlikeye karşı halkı uyararak bir takım önlemlerin alınmasını sağlamaktır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ffff00"/>
                </a:solidFill>
                <a:latin typeface="Constantia"/>
              </a:rPr>
              <a:t>İKAZ VE ALARM İŞARETLERİ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ffff"/>
                </a:solidFill>
                <a:latin typeface="Constantia"/>
              </a:rPr>
              <a:t>İkaz ve Alarm işaretleri sarı, kırmızı, beyaz ikaz ve radyoaktif serpinti tehlikesi ile kimyasal savaş maddeleri tehlikesi alarmı olmak üzere beşe ayrılır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Constantia"/>
              </a:rPr>
              <a:t>Sarı İkaz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ff00"/>
                </a:solidFill>
                <a:latin typeface="Arial Black"/>
              </a:rPr>
              <a:t>Hava saldırısı ihtimali var olduğunu işaret eden sarı ikaz,</a:t>
            </a:r>
            <a:r>
              <a:rPr b="1" lang="tr-TR" sz="3200" spc="-1" strike="noStrike">
                <a:solidFill>
                  <a:srgbClr val="00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1" lang="tr-TR" sz="3200" spc="-1" strike="noStrike">
                <a:solidFill>
                  <a:srgbClr val="00ff00"/>
                </a:solidFill>
                <a:latin typeface="Arial Black"/>
              </a:rPr>
              <a:t>3 dakika süren düz siren sesi </a:t>
            </a:r>
            <a:r>
              <a:rPr b="0" lang="tr-TR" sz="3200" spc="-1" strike="noStrike">
                <a:solidFill>
                  <a:srgbClr val="00ff00"/>
                </a:solidFill>
                <a:latin typeface="Arial Black"/>
              </a:rPr>
              <a:t>ile duyurulur.</a:t>
            </a:r>
            <a:br>
              <a:rPr sz="2200"/>
            </a:br>
            <a:br>
              <a:rPr sz="2200"/>
            </a:br>
            <a:r>
              <a:rPr b="0" lang="tr-TR" sz="3000" spc="-1" strike="noStrike">
                <a:solidFill>
                  <a:srgbClr val="ffffff"/>
                </a:solidFill>
                <a:latin typeface="Arial Black"/>
              </a:rPr>
              <a:t>Bu ikazı duyunca; bina içindeki doğal gaz, hava gazı, elektrik, su ana anahtarlarını kapatınız.Yanan ocak, soba gibi şeyleri söndürünüz, kapı ve pencereleri kapatıp, perdeleri çekiniz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 Black"/>
              </a:rPr>
              <a:t>Dışarıda bulunuyorsanız; ikaz haberini duyunca hemen sığınabileceğiniz bir sığınak veya sağlam bir bodrum, duvar dibi veya bir çukura yaklaşınız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rial Black"/>
              </a:rPr>
              <a:t>Kırmızı İkaz(ALARM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ff00"/>
                </a:solidFill>
                <a:latin typeface="Arial Black"/>
              </a:rPr>
              <a:t>Hava saldırısı tehlikesi olduğunu işaret eden kırmızı ikaz, 3 dakika süren yükselip alçalan dalgalı siren sesi ile duyurulur.</a:t>
            </a:r>
            <a:br>
              <a:rPr sz="2800"/>
            </a:br>
            <a:br>
              <a:rPr sz="2800"/>
            </a:br>
            <a:r>
              <a:rPr b="1" lang="tr-TR" sz="3200" spc="-1" strike="noStrike">
                <a:solidFill>
                  <a:srgbClr val="ffffff"/>
                </a:solidFill>
                <a:latin typeface="Arial Black"/>
              </a:rPr>
              <a:t>Bu ikazı duyunca; Sarı ikaz sırasında eksik kalanları tamamlayınız, gerekli olan malzemeleri de yanınıza alarak hemen sığınak yerine gidiniz. Tehlike geçti ikazı verilinceye kadar sakin bir şekilde burada bekleyiniz</a:t>
            </a:r>
            <a:r>
              <a:rPr b="0" lang="tr-TR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ff00"/>
                </a:solidFill>
                <a:latin typeface="Arial Black"/>
              </a:rPr>
              <a:t>Radyoaktif Serpinti İkazı (Alarm)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 Black"/>
              </a:rPr>
              <a:t>Radyoaktif serpinti tehlikesini işaret eden bu ikaz ise </a:t>
            </a:r>
            <a:r>
              <a:rPr b="1" lang="tr-TR" sz="3200" spc="-1" strike="noStrike">
                <a:solidFill>
                  <a:srgbClr val="ffffff"/>
                </a:solidFill>
                <a:latin typeface="Arial Black"/>
              </a:rPr>
              <a:t>3 dakika süreli kesik-kesik siren ses</a:t>
            </a:r>
            <a:r>
              <a:rPr b="0" lang="tr-TR" sz="3200" spc="-1" strike="noStrike">
                <a:solidFill>
                  <a:srgbClr val="ffffff"/>
                </a:solidFill>
                <a:latin typeface="Arial Black"/>
              </a:rPr>
              <a:t>i ile duyurulur.</a:t>
            </a:r>
            <a:br>
              <a:rPr sz="3200"/>
            </a:br>
            <a:br>
              <a:rPr sz="3200"/>
            </a:br>
            <a:r>
              <a:rPr b="0" lang="tr-TR" sz="2600" spc="-1" strike="noStrike">
                <a:solidFill>
                  <a:srgbClr val="ffff00"/>
                </a:solidFill>
                <a:latin typeface="Arial Black"/>
              </a:rPr>
              <a:t>Bu ikazla hemen, diğer ikaz alarm işaretlerinde de belirtildiği gibi gereken malzeme ve yiyecek maddeleri ile birlikte sığınak veya sığınma yerlerine gidiniz. Yapılacak uyarılara hazırlıklı bulunuz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Arial Black"/>
              </a:rPr>
              <a:t>Vücudumuzun açık kalan kısımlarını tamamen kapatmalıyız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Constantia"/>
              </a:rPr>
              <a:t>Kimyasal Savaş Maddeleri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Constantia"/>
              </a:rPr>
              <a:t>Tehlikesi İkazı (Alarm)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ff00"/>
                </a:solidFill>
                <a:latin typeface="Arial Black"/>
              </a:rPr>
              <a:t>Saldırının kimyasal silahlarla yapılması halinde, ikaz radyoaktif serpintide olduğu gibi 3 dakika süreli kesik kesik siren sesi ile ve Radyo - Tv den verilir. En yakın sığınağa girmeliyiz.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 Black"/>
              </a:rPr>
              <a:t>Tehlike Geçti (BEYAZ İKAZ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Arial Black"/>
              </a:rPr>
              <a:t>Tehlike geçti işareti, radyo, televizyon, hoparlör, megafon gibi araçlarla duyurulur.Bu haberi duyunca sığındığınız yerden çıkarak normal yerlerinize dönünüz, yardıma muhtaç olanlar varsa yardım ediniz</a:t>
            </a:r>
            <a:r>
              <a:rPr b="0" lang="tr-TR" sz="26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Arial Black"/>
              </a:rPr>
              <a:t>DİKKAT !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 Black"/>
              </a:rPr>
              <a:t>Bu İkaz ve Alarm işaretlerini tanımak, tanıtmak ve alınacak tedbirleri bilmek, olağanüstü hal ve savaş durumundan en az zararla çıkmamızı sağlayacaktır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1:17Z</dcterms:created>
  <dc:creator>Nebahat</dc:creator>
  <dc:description/>
  <dc:language>en-US</dc:language>
  <cp:lastModifiedBy>asus</cp:lastModifiedBy>
  <dcterms:modified xsi:type="dcterms:W3CDTF">2018-02-03T11:39:02Z</dcterms:modified>
  <cp:revision>5</cp:revision>
  <dc:subject/>
  <dc:title>İKAZ VE ALA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