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4E4-0B6D-465F-881F-6FC54C681C9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ww.fizikpenceres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30C-5939-44D7-9515-6CA60048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BEE-DEFA-473D-9A88-5913FB1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C6E-2396-4FEF-8764-100A5608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C22-6615-4B0A-B3F0-1719486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E37-7C0E-478D-8B7E-5BA55D4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3DC-7ACD-412B-9D05-16C87580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E87-46E0-4DB8-B4F3-982096B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C4C-3DCA-46DE-8B5C-8C703D6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1E1-32DA-4460-B2F0-B4F031D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D5C-B5AB-401A-B8E2-EA0B070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CE9-C639-48A4-85D1-E7BBCA6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CC2-16B8-4DB1-A882-ACE556A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F40-1082-4D62-B782-487093023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49360" y="6732720"/>
            <a:ext cx="2592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11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Metin kutusu"/>
          <p:cNvSpPr/>
          <p:nvPr/>
        </p:nvSpPr>
        <p:spPr>
          <a:xfrm>
            <a:off x="189000" y="33480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781360" y="3708360"/>
            <a:ext cx="554040" cy="216000"/>
            <a:chOff x="2781360" y="3708360"/>
            <a:chExt cx="554040" cy="216000"/>
          </a:xfrm>
        </p:grpSpPr>
        <p:sp>
          <p:nvSpPr>
            <p:cNvPr id="55" name=""/>
            <p:cNvSpPr/>
            <p:nvPr/>
          </p:nvSpPr>
          <p:spPr>
            <a:xfrm>
              <a:off x="2852640" y="39243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81360" y="370836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52640" y="4067280"/>
            <a:ext cx="434880" cy="95040"/>
            <a:chOff x="2852640" y="4067280"/>
            <a:chExt cx="434880" cy="95040"/>
          </a:xfrm>
        </p:grpSpPr>
        <p:sp>
          <p:nvSpPr>
            <p:cNvPr id="58" name=""/>
            <p:cNvSpPr/>
            <p:nvPr/>
          </p:nvSpPr>
          <p:spPr>
            <a:xfrm>
              <a:off x="2852640" y="40672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68720" y="406728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852640" y="4284720"/>
            <a:ext cx="434880" cy="95040"/>
            <a:chOff x="2852640" y="4284720"/>
            <a:chExt cx="434880" cy="95040"/>
          </a:xfrm>
        </p:grpSpPr>
        <p:sp>
          <p:nvSpPr>
            <p:cNvPr id="61" name=""/>
            <p:cNvSpPr/>
            <p:nvPr/>
          </p:nvSpPr>
          <p:spPr>
            <a:xfrm>
              <a:off x="2852640" y="4284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68720" y="4284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852640" y="4500720"/>
            <a:ext cx="434880" cy="95040"/>
            <a:chOff x="2852640" y="4500720"/>
            <a:chExt cx="434880" cy="95040"/>
          </a:xfrm>
        </p:grpSpPr>
        <p:sp>
          <p:nvSpPr>
            <p:cNvPr id="64" name=""/>
            <p:cNvSpPr/>
            <p:nvPr/>
          </p:nvSpPr>
          <p:spPr>
            <a:xfrm>
              <a:off x="2852640" y="4500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68720" y="450072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852640" y="5003640"/>
            <a:ext cx="434880" cy="95400"/>
            <a:chOff x="2852640" y="5003640"/>
            <a:chExt cx="434880" cy="95400"/>
          </a:xfrm>
        </p:grpSpPr>
        <p:sp>
          <p:nvSpPr>
            <p:cNvPr id="67" name=""/>
            <p:cNvSpPr/>
            <p:nvPr/>
          </p:nvSpPr>
          <p:spPr>
            <a:xfrm>
              <a:off x="2852640" y="500364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8720" y="500364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852640" y="5435640"/>
            <a:ext cx="434880" cy="95040"/>
            <a:chOff x="2852640" y="5435640"/>
            <a:chExt cx="434880" cy="95040"/>
          </a:xfrm>
        </p:grpSpPr>
        <p:sp>
          <p:nvSpPr>
            <p:cNvPr id="70" name=""/>
            <p:cNvSpPr/>
            <p:nvPr/>
          </p:nvSpPr>
          <p:spPr>
            <a:xfrm>
              <a:off x="2852640" y="54356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68720" y="54356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14440" y="17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767600"/>
            <a:ext cx="30970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Isı alan bir metal çubuğun ……………………… art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Kaldırma kuvveti sıvının özkütlesi ile  ………….. orantılı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.  Sıvılar kendisine uygulanan ……………….aynen iletir.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Hızın arttığı yerde basınç ……………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Basınç birimi ………………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 Metin kutusu"/>
          <p:cNvSpPr/>
          <p:nvPr/>
        </p:nvSpPr>
        <p:spPr>
          <a:xfrm>
            <a:off x="260280" y="572436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" y="6299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6280" y="7091280"/>
            <a:ext cx="26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. Cismin yere yaptığı basınç P, II. Cismin yere yaptığı basınç ise 2P’ dir. Cisimler III. Şekildeki gibi konulurs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Yere yapılan basınç kaç P olu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0800" y="14763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Metin kutusu"/>
          <p:cNvSpPr/>
          <p:nvPr/>
        </p:nvSpPr>
        <p:spPr>
          <a:xfrm>
            <a:off x="189000" y="3851280"/>
            <a:ext cx="2735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Açık hava basıncını barometre ölç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       Denizlerin derinli altimetre ile ölçülü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Denizlerin derinliği batimetre ile 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Akışkanların basıncını inceleyen ilk bili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adamı Bernoulli’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Açık hava basıncı havanın ağırlığınd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kaynaklan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30800" y="42130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2280" y="6443640"/>
            <a:ext cx="433080" cy="289080"/>
          </a:xfrm>
          <a:custGeom>
            <a:avLst/>
            <a:gdLst>
              <a:gd name="textAreaLeft" fmla="*/ 95040 w 433080"/>
              <a:gd name="textAreaRight" fmla="*/ 338040 w 43308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6440" y="666288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800" y="6443640"/>
            <a:ext cx="25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1267920" y="6443640"/>
            <a:ext cx="576360" cy="287280"/>
          </a:xfrm>
          <a:custGeom>
            <a:avLst/>
            <a:gdLst>
              <a:gd name="textAreaLeft" fmla="*/ 126720 w 576360"/>
              <a:gd name="textAreaRight" fmla="*/ 449640 w 57636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2276640" y="6443640"/>
            <a:ext cx="576000" cy="287280"/>
          </a:xfrm>
          <a:custGeom>
            <a:avLst/>
            <a:gdLst>
              <a:gd name="textAreaLeft" fmla="*/ 126720 w 576000"/>
              <a:gd name="textAreaRight" fmla="*/ 449280 w 57600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2349360" y="6156360"/>
            <a:ext cx="433440" cy="288720"/>
          </a:xfrm>
          <a:custGeom>
            <a:avLst/>
            <a:gdLst>
              <a:gd name="textAreaLeft" fmla="*/ 95040 w 433440"/>
              <a:gd name="textAreaRight" fmla="*/ 338400 w 43344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14800" y="6443640"/>
            <a:ext cx="31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3160" y="6443640"/>
            <a:ext cx="31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2800" y="6156360"/>
            <a:ext cx="25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440" y="68770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2440" y="687564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6875640"/>
            <a:ext cx="2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16280" y="1530360"/>
            <a:ext cx="2737080" cy="148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16280" y="4211640"/>
            <a:ext cx="2808360" cy="934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157720" y="6288120"/>
            <a:ext cx="1173240" cy="927000"/>
            <a:chOff x="5157720" y="6288120"/>
            <a:chExt cx="1173240" cy="927000"/>
          </a:xfrm>
        </p:grpSpPr>
        <p:grpSp>
          <p:nvGrpSpPr>
            <p:cNvPr id="97" name=""/>
            <p:cNvGrpSpPr/>
            <p:nvPr/>
          </p:nvGrpSpPr>
          <p:grpSpPr>
            <a:xfrm>
              <a:off x="5157720" y="6407280"/>
              <a:ext cx="1173240" cy="807840"/>
              <a:chOff x="5157720" y="6407280"/>
              <a:chExt cx="1173240" cy="807840"/>
            </a:xfrm>
          </p:grpSpPr>
          <p:sp>
            <p:nvSpPr>
              <p:cNvPr id="98" name=""/>
              <p:cNvSpPr/>
              <p:nvPr/>
            </p:nvSpPr>
            <p:spPr>
              <a:xfrm>
                <a:off x="5271840" y="6440760"/>
                <a:ext cx="930600" cy="774360"/>
              </a:xfrm>
              <a:prstGeom prst="roundRect">
                <a:avLst>
                  <a:gd name="adj" fmla="val 1468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91280" y="6437880"/>
                <a:ext cx="889200" cy="758880"/>
              </a:xfrm>
              <a:prstGeom prst="roundRect">
                <a:avLst>
                  <a:gd name="adj" fmla="val 130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57720" y="6407280"/>
                <a:ext cx="1173240" cy="1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684760" y="6957360"/>
              <a:ext cx="25200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70760" y="65469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81200" y="65469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94160" y="6903000"/>
              <a:ext cx="879840" cy="290520"/>
            </a:xfrm>
            <a:custGeom>
              <a:avLst/>
              <a:gdLst/>
              <a:ahLst/>
              <a:rect l="l" t="t" r="r" b="b"/>
              <a:pathLst>
                <a:path w="1809" h="605">
                  <a:moveTo>
                    <a:pt x="1809" y="0"/>
                  </a:moveTo>
                  <a:lnTo>
                    <a:pt x="4" y="0"/>
                  </a:lnTo>
                  <a:lnTo>
                    <a:pt x="4" y="415"/>
                  </a:lnTo>
                  <a:cubicBezTo>
                    <a:pt x="4" y="490"/>
                    <a:pt x="0" y="438"/>
                    <a:pt x="4" y="450"/>
                  </a:cubicBezTo>
                  <a:cubicBezTo>
                    <a:pt x="8" y="462"/>
                    <a:pt x="19" y="473"/>
                    <a:pt x="29" y="490"/>
                  </a:cubicBezTo>
                  <a:cubicBezTo>
                    <a:pt x="37" y="515"/>
                    <a:pt x="42" y="533"/>
                    <a:pt x="64" y="550"/>
                  </a:cubicBezTo>
                  <a:cubicBezTo>
                    <a:pt x="73" y="557"/>
                    <a:pt x="94" y="570"/>
                    <a:pt x="94" y="570"/>
                  </a:cubicBezTo>
                  <a:cubicBezTo>
                    <a:pt x="113" y="599"/>
                    <a:pt x="165" y="605"/>
                    <a:pt x="199" y="605"/>
                  </a:cubicBezTo>
                  <a:lnTo>
                    <a:pt x="1609" y="605"/>
                  </a:lnTo>
                  <a:cubicBezTo>
                    <a:pt x="1621" y="604"/>
                    <a:pt x="1677" y="599"/>
                    <a:pt x="1694" y="595"/>
                  </a:cubicBezTo>
                  <a:cubicBezTo>
                    <a:pt x="1704" y="593"/>
                    <a:pt x="1714" y="588"/>
                    <a:pt x="1724" y="585"/>
                  </a:cubicBezTo>
                  <a:cubicBezTo>
                    <a:pt x="1735" y="581"/>
                    <a:pt x="1754" y="565"/>
                    <a:pt x="1754" y="565"/>
                  </a:cubicBezTo>
                  <a:cubicBezTo>
                    <a:pt x="1763" y="551"/>
                    <a:pt x="1788" y="523"/>
                    <a:pt x="1794" y="505"/>
                  </a:cubicBezTo>
                  <a:cubicBezTo>
                    <a:pt x="1797" y="495"/>
                    <a:pt x="1801" y="485"/>
                    <a:pt x="1804" y="475"/>
                  </a:cubicBezTo>
                  <a:cubicBezTo>
                    <a:pt x="1806" y="470"/>
                    <a:pt x="1809" y="460"/>
                    <a:pt x="1809" y="460"/>
                  </a:cubicBezTo>
                  <a:cubicBezTo>
                    <a:pt x="1807" y="450"/>
                    <a:pt x="1804" y="430"/>
                    <a:pt x="1804" y="430"/>
                  </a:cubicBezTo>
                  <a:lnTo>
                    <a:pt x="1809" y="320"/>
                  </a:lnTo>
                  <a:lnTo>
                    <a:pt x="180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98480" y="6644520"/>
              <a:ext cx="874800" cy="271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5240" y="6642720"/>
              <a:ext cx="8888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23480" y="6288120"/>
              <a:ext cx="1562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448240" y="6435000"/>
              <a:ext cx="206280" cy="421920"/>
              <a:chOff x="5448240" y="6435000"/>
              <a:chExt cx="206280" cy="421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448240" y="6435000"/>
                <a:ext cx="206280" cy="7056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48240" y="6505560"/>
                <a:ext cx="206280" cy="7056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48240" y="6573960"/>
                <a:ext cx="206280" cy="7056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48240" y="6644520"/>
                <a:ext cx="206280" cy="7056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48240" y="6715440"/>
                <a:ext cx="206280" cy="7056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48240" y="6786360"/>
                <a:ext cx="206280" cy="7056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848560" y="6571440"/>
              <a:ext cx="206280" cy="283320"/>
              <a:chOff x="5848560" y="6571440"/>
              <a:chExt cx="206280" cy="283320"/>
            </a:xfrm>
          </p:grpSpPr>
          <p:sp>
            <p:nvSpPr>
              <p:cNvPr id="116" name=""/>
              <p:cNvSpPr/>
              <p:nvPr/>
            </p:nvSpPr>
            <p:spPr>
              <a:xfrm>
                <a:off x="5848560" y="6571440"/>
                <a:ext cx="206280" cy="7092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48560" y="6642360"/>
                <a:ext cx="206280" cy="7020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48560" y="6713280"/>
                <a:ext cx="206280" cy="7020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48560" y="6783840"/>
                <a:ext cx="206280" cy="70920"/>
              </a:xfrm>
              <a:prstGeom prst="rect">
                <a:avLst/>
              </a:prstGeom>
              <a:solidFill>
                <a:srgbClr val="ffffff">
                  <a:alpha val="2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16960" y="6437160"/>
              <a:ext cx="15624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05760" y="6963840"/>
              <a:ext cx="651240" cy="1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tr-TR" sz="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 = 4 g/cm</a:t>
              </a:r>
              <a:r>
                <a:rPr b="0" lang="tr-TR" sz="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22720" y="7224840"/>
                <a:ext cx="314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366440" y="729720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e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73360" y="6321600"/>
            <a:ext cx="180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İçinde    4 g/cm3    özküt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leli sıvı bulunan bir kab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A ve B   cisimleri   konul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duğunda   şekildeki  gib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dengede kalıyorla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İçleri  dolu   A  ve  B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cisimlerinin  özkütlele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oran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2 Düz Bağlayıcı"/>
          <p:cNvSpPr/>
          <p:nvPr/>
        </p:nvSpPr>
        <p:spPr>
          <a:xfrm>
            <a:off x="321300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2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080" y="3203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16280" y="384120"/>
            <a:ext cx="1009440" cy="792360"/>
            <a:chOff x="1916280" y="384120"/>
            <a:chExt cx="1009440" cy="792360"/>
          </a:xfrm>
        </p:grpSpPr>
        <p:grpSp>
          <p:nvGrpSpPr>
            <p:cNvPr id="131" name=""/>
            <p:cNvGrpSpPr/>
            <p:nvPr/>
          </p:nvGrpSpPr>
          <p:grpSpPr>
            <a:xfrm>
              <a:off x="1916280" y="384120"/>
              <a:ext cx="1009440" cy="792360"/>
              <a:chOff x="1916280" y="384120"/>
              <a:chExt cx="1009440" cy="792360"/>
            </a:xfrm>
          </p:grpSpPr>
          <p:sp>
            <p:nvSpPr>
              <p:cNvPr id="132" name=""/>
              <p:cNvSpPr/>
              <p:nvPr/>
            </p:nvSpPr>
            <p:spPr>
              <a:xfrm>
                <a:off x="2014200" y="416880"/>
                <a:ext cx="801000" cy="759600"/>
              </a:xfrm>
              <a:prstGeom prst="roundRect">
                <a:avLst>
                  <a:gd name="adj" fmla="val 1468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31120" y="414360"/>
                <a:ext cx="765000" cy="744480"/>
              </a:xfrm>
              <a:prstGeom prst="roundRect">
                <a:avLst>
                  <a:gd name="adj" fmla="val 130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16280" y="384120"/>
                <a:ext cx="1009440" cy="13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369520" y="924120"/>
              <a:ext cx="2170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3120" y="520200"/>
              <a:ext cx="1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96840" y="520200"/>
              <a:ext cx="1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33640" y="870120"/>
              <a:ext cx="756720" cy="285480"/>
            </a:xfrm>
            <a:custGeom>
              <a:avLst/>
              <a:gdLst/>
              <a:ahLst/>
              <a:rect l="l" t="t" r="r" b="b"/>
              <a:pathLst>
                <a:path w="1809" h="605">
                  <a:moveTo>
                    <a:pt x="1809" y="0"/>
                  </a:moveTo>
                  <a:lnTo>
                    <a:pt x="4" y="0"/>
                  </a:lnTo>
                  <a:lnTo>
                    <a:pt x="4" y="415"/>
                  </a:lnTo>
                  <a:cubicBezTo>
                    <a:pt x="4" y="490"/>
                    <a:pt x="0" y="438"/>
                    <a:pt x="4" y="450"/>
                  </a:cubicBezTo>
                  <a:cubicBezTo>
                    <a:pt x="8" y="462"/>
                    <a:pt x="19" y="473"/>
                    <a:pt x="29" y="490"/>
                  </a:cubicBezTo>
                  <a:cubicBezTo>
                    <a:pt x="37" y="515"/>
                    <a:pt x="42" y="533"/>
                    <a:pt x="64" y="550"/>
                  </a:cubicBezTo>
                  <a:cubicBezTo>
                    <a:pt x="73" y="557"/>
                    <a:pt x="94" y="570"/>
                    <a:pt x="94" y="570"/>
                  </a:cubicBezTo>
                  <a:cubicBezTo>
                    <a:pt x="113" y="599"/>
                    <a:pt x="165" y="605"/>
                    <a:pt x="199" y="605"/>
                  </a:cubicBezTo>
                  <a:lnTo>
                    <a:pt x="1609" y="605"/>
                  </a:lnTo>
                  <a:cubicBezTo>
                    <a:pt x="1621" y="604"/>
                    <a:pt x="1677" y="599"/>
                    <a:pt x="1694" y="595"/>
                  </a:cubicBezTo>
                  <a:cubicBezTo>
                    <a:pt x="1704" y="593"/>
                    <a:pt x="1714" y="588"/>
                    <a:pt x="1724" y="585"/>
                  </a:cubicBezTo>
                  <a:cubicBezTo>
                    <a:pt x="1735" y="581"/>
                    <a:pt x="1754" y="565"/>
                    <a:pt x="1754" y="565"/>
                  </a:cubicBezTo>
                  <a:cubicBezTo>
                    <a:pt x="1763" y="551"/>
                    <a:pt x="1788" y="523"/>
                    <a:pt x="1794" y="505"/>
                  </a:cubicBezTo>
                  <a:cubicBezTo>
                    <a:pt x="1797" y="495"/>
                    <a:pt x="1801" y="485"/>
                    <a:pt x="1804" y="475"/>
                  </a:cubicBezTo>
                  <a:cubicBezTo>
                    <a:pt x="1806" y="470"/>
                    <a:pt x="1809" y="460"/>
                    <a:pt x="1809" y="460"/>
                  </a:cubicBezTo>
                  <a:cubicBezTo>
                    <a:pt x="1807" y="450"/>
                    <a:pt x="1804" y="430"/>
                    <a:pt x="1804" y="430"/>
                  </a:cubicBezTo>
                  <a:lnTo>
                    <a:pt x="1809" y="320"/>
                  </a:lnTo>
                  <a:lnTo>
                    <a:pt x="180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6240" y="617040"/>
              <a:ext cx="744120" cy="266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4720" y="614880"/>
              <a:ext cx="764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0480" y="880200"/>
              <a:ext cx="752760" cy="193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31840" y="881640"/>
              <a:ext cx="764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67840" y="670320"/>
              <a:ext cx="13428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77200" y="1000080"/>
              <a:ext cx="13428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tr-TR" sz="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366280" y="807120"/>
              <a:ext cx="198360" cy="222480"/>
              <a:chOff x="2366280" y="807120"/>
              <a:chExt cx="198360" cy="222480"/>
            </a:xfrm>
          </p:grpSpPr>
          <p:sp>
            <p:nvSpPr>
              <p:cNvPr id="146" name=""/>
              <p:cNvSpPr/>
              <p:nvPr/>
            </p:nvSpPr>
            <p:spPr>
              <a:xfrm>
                <a:off x="2366280" y="807120"/>
                <a:ext cx="198360" cy="7236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66280" y="882000"/>
                <a:ext cx="198360" cy="727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66280" y="956880"/>
                <a:ext cx="198360" cy="727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420280" y="682920"/>
              <a:ext cx="13428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5040" y="513000"/>
            <a:ext cx="296676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K  cismi  birbiriyle   karış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mayan 2d ve d</a:t>
            </a:r>
            <a:r>
              <a:rPr b="0" lang="tr-TR" sz="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özkütlel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sıvılar  içerisinde  şekild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ki gibi  dengede  durmak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ta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K cisminin özkütlesi 4d olduğuna göre d</a:t>
            </a:r>
            <a:r>
              <a:rPr b="1" lang="tr-TR" sz="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kaç  d  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3132000"/>
            <a:ext cx="1535040" cy="1060200"/>
            <a:chOff x="981000" y="3132000"/>
            <a:chExt cx="1535040" cy="1060200"/>
          </a:xfrm>
        </p:grpSpPr>
        <p:sp>
          <p:nvSpPr>
            <p:cNvPr id="152" name=""/>
            <p:cNvSpPr/>
            <p:nvPr/>
          </p:nvSpPr>
          <p:spPr>
            <a:xfrm>
              <a:off x="1141560" y="3278520"/>
              <a:ext cx="871560" cy="771480"/>
            </a:xfrm>
            <a:custGeom>
              <a:avLst/>
              <a:gdLst/>
              <a:ahLst/>
              <a:rect l="l" t="t" r="r" b="b"/>
              <a:pathLst>
                <a:path w="1277" h="1331">
                  <a:moveTo>
                    <a:pt x="0" y="0"/>
                  </a:moveTo>
                  <a:lnTo>
                    <a:pt x="0" y="1331"/>
                  </a:lnTo>
                  <a:lnTo>
                    <a:pt x="1277" y="1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360" y="3779280"/>
              <a:ext cx="591480" cy="268560"/>
            </a:xfrm>
            <a:custGeom>
              <a:avLst/>
              <a:gdLst/>
              <a:ahLst/>
              <a:rect l="l" t="t" r="r" b="b"/>
              <a:pathLst>
                <a:path w="1035" h="645">
                  <a:moveTo>
                    <a:pt x="0" y="0"/>
                  </a:moveTo>
                  <a:lnTo>
                    <a:pt x="1035" y="0"/>
                  </a:lnTo>
                  <a:lnTo>
                    <a:pt x="103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1680" y="3132000"/>
              <a:ext cx="50580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ıcaklı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83880" y="3825720"/>
              <a:ext cx="187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9760" y="4062240"/>
              <a:ext cx="653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     80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81000" y="3450600"/>
              <a:ext cx="2062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040" y="3986280"/>
              <a:ext cx="45900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Isı (Ca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92600" y="4060080"/>
              <a:ext cx="187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360" y="3506040"/>
              <a:ext cx="296280" cy="541800"/>
            </a:xfrm>
            <a:custGeom>
              <a:avLst/>
              <a:gdLst/>
              <a:ahLst/>
              <a:rect l="l" t="t" r="r" b="b"/>
              <a:pathLst>
                <a:path w="1035" h="645">
                  <a:moveTo>
                    <a:pt x="0" y="0"/>
                  </a:moveTo>
                  <a:lnTo>
                    <a:pt x="1035" y="0"/>
                  </a:lnTo>
                  <a:lnTo>
                    <a:pt x="103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139760" y="3419640"/>
              <a:ext cx="352080" cy="62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39760" y="3727080"/>
              <a:ext cx="707760" cy="320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3310920"/>
              <a:ext cx="158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5960" y="3638160"/>
              <a:ext cx="1584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73360" y="4599000"/>
                <a:ext cx="2379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991160" y="4642920"/>
            <a:ext cx="5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açtı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3360" y="428472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ıca  yalıtılmış X  ve  Y  kaplarında bulunan  aynı cins sıvıların  ısı - sıcaklık  grafiği  yukarıdaki gibid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 sıvının kütleleri oranı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084640" y="468360"/>
            <a:ext cx="1108080" cy="1126800"/>
            <a:chOff x="5084640" y="468360"/>
            <a:chExt cx="1108080" cy="1126800"/>
          </a:xfrm>
        </p:grpSpPr>
        <p:grpSp>
          <p:nvGrpSpPr>
            <p:cNvPr id="169" name=""/>
            <p:cNvGrpSpPr/>
            <p:nvPr/>
          </p:nvGrpSpPr>
          <p:grpSpPr>
            <a:xfrm>
              <a:off x="5279040" y="468360"/>
              <a:ext cx="133920" cy="953640"/>
              <a:chOff x="5279040" y="468360"/>
              <a:chExt cx="133920" cy="953640"/>
            </a:xfrm>
          </p:grpSpPr>
          <p:sp>
            <p:nvSpPr>
              <p:cNvPr id="170" name=""/>
              <p:cNvSpPr/>
              <p:nvPr/>
            </p:nvSpPr>
            <p:spPr>
              <a:xfrm>
                <a:off x="5317560" y="468360"/>
                <a:ext cx="58680" cy="865440"/>
              </a:xfrm>
              <a:custGeom>
                <a:avLst/>
                <a:gdLst>
                  <a:gd name="textAreaLeft" fmla="*/ 8640 w 58680"/>
                  <a:gd name="textAreaRight" fmla="*/ 50040 w 58680"/>
                  <a:gd name="textAreaTop" fmla="*/ 8640 h 865440"/>
                  <a:gd name="textAreaBottom" fmla="*/ 856800 h 865440"/>
                </a:gdLst>
                <a:ahLst/>
                <a:rect l="textAreaLeft" t="textAreaTop" r="textAreaRight" b="textAreaBottom"/>
                <a:pathLst>
                  <a:path w="21600" h="316756">
                    <a:moveTo>
                      <a:pt x="10800" y="0"/>
                    </a:moveTo>
                    <a:arcTo wR="10800" hR="10800" stAng="16200000" swAng="-5400000"/>
                    <a:lnTo>
                      <a:pt x="0" y="305956"/>
                    </a:lnTo>
                    <a:arcTo wR="10800" hR="10800" stAng="10800000" swAng="-5400000"/>
                    <a:lnTo>
                      <a:pt x="10800" y="3167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79040" y="1298160"/>
                <a:ext cx="13392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8280" y="1279440"/>
                <a:ext cx="57960" cy="37080"/>
              </a:xfrm>
              <a:custGeom>
                <a:avLst/>
                <a:gdLst/>
                <a:ahLst/>
                <a:rect l="l" t="t" r="r" b="b"/>
                <a:pathLst>
                  <a:path w="114" h="76">
                    <a:moveTo>
                      <a:pt x="12" y="23"/>
                    </a:moveTo>
                    <a:cubicBezTo>
                      <a:pt x="5" y="34"/>
                      <a:pt x="0" y="60"/>
                      <a:pt x="7" y="68"/>
                    </a:cubicBezTo>
                    <a:cubicBezTo>
                      <a:pt x="14" y="76"/>
                      <a:pt x="40" y="74"/>
                      <a:pt x="57" y="73"/>
                    </a:cubicBezTo>
                    <a:cubicBezTo>
                      <a:pt x="74" y="72"/>
                      <a:pt x="100" y="71"/>
                      <a:pt x="107" y="63"/>
                    </a:cubicBezTo>
                    <a:cubicBezTo>
                      <a:pt x="114" y="55"/>
                      <a:pt x="111" y="33"/>
                      <a:pt x="102" y="23"/>
                    </a:cubicBezTo>
                    <a:cubicBezTo>
                      <a:pt x="93" y="13"/>
                      <a:pt x="66" y="0"/>
                      <a:pt x="52" y="3"/>
                    </a:cubicBezTo>
                    <a:cubicBezTo>
                      <a:pt x="38" y="6"/>
                      <a:pt x="19" y="12"/>
                      <a:pt x="12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796000" y="468360"/>
              <a:ext cx="133920" cy="953640"/>
              <a:chOff x="5796000" y="468360"/>
              <a:chExt cx="133920" cy="953640"/>
            </a:xfrm>
          </p:grpSpPr>
          <p:sp>
            <p:nvSpPr>
              <p:cNvPr id="174" name=""/>
              <p:cNvSpPr/>
              <p:nvPr/>
            </p:nvSpPr>
            <p:spPr>
              <a:xfrm>
                <a:off x="5834520" y="468360"/>
                <a:ext cx="58680" cy="865440"/>
              </a:xfrm>
              <a:custGeom>
                <a:avLst/>
                <a:gdLst>
                  <a:gd name="textAreaLeft" fmla="*/ 8640 w 58680"/>
                  <a:gd name="textAreaRight" fmla="*/ 50040 w 58680"/>
                  <a:gd name="textAreaTop" fmla="*/ 8640 h 865440"/>
                  <a:gd name="textAreaBottom" fmla="*/ 856800 h 865440"/>
                </a:gdLst>
                <a:ahLst/>
                <a:rect l="textAreaLeft" t="textAreaTop" r="textAreaRight" b="textAreaBottom"/>
                <a:pathLst>
                  <a:path w="21600" h="316756">
                    <a:moveTo>
                      <a:pt x="10800" y="0"/>
                    </a:moveTo>
                    <a:arcTo wR="10800" hR="10800" stAng="16200000" swAng="-5400000"/>
                    <a:lnTo>
                      <a:pt x="0" y="305956"/>
                    </a:lnTo>
                    <a:arcTo wR="10800" hR="10800" stAng="10800000" swAng="-5400000"/>
                    <a:lnTo>
                      <a:pt x="10800" y="3167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6000" y="1298160"/>
                <a:ext cx="13392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35240" y="1279440"/>
                <a:ext cx="57960" cy="37080"/>
              </a:xfrm>
              <a:custGeom>
                <a:avLst/>
                <a:gdLst/>
                <a:ahLst/>
                <a:rect l="l" t="t" r="r" b="b"/>
                <a:pathLst>
                  <a:path w="114" h="76">
                    <a:moveTo>
                      <a:pt x="12" y="23"/>
                    </a:moveTo>
                    <a:cubicBezTo>
                      <a:pt x="5" y="34"/>
                      <a:pt x="0" y="60"/>
                      <a:pt x="7" y="68"/>
                    </a:cubicBezTo>
                    <a:cubicBezTo>
                      <a:pt x="14" y="76"/>
                      <a:pt x="40" y="74"/>
                      <a:pt x="57" y="73"/>
                    </a:cubicBezTo>
                    <a:cubicBezTo>
                      <a:pt x="74" y="72"/>
                      <a:pt x="100" y="71"/>
                      <a:pt x="107" y="63"/>
                    </a:cubicBezTo>
                    <a:cubicBezTo>
                      <a:pt x="114" y="55"/>
                      <a:pt x="111" y="33"/>
                      <a:pt x="102" y="23"/>
                    </a:cubicBezTo>
                    <a:cubicBezTo>
                      <a:pt x="93" y="13"/>
                      <a:pt x="66" y="0"/>
                      <a:pt x="52" y="3"/>
                    </a:cubicBezTo>
                    <a:cubicBezTo>
                      <a:pt x="38" y="6"/>
                      <a:pt x="19" y="12"/>
                      <a:pt x="12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084640" y="507600"/>
              <a:ext cx="2340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3720" y="1082880"/>
              <a:ext cx="2145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22960" y="1170720"/>
              <a:ext cx="51120" cy="12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37760" y="1170720"/>
              <a:ext cx="5112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77960" y="578160"/>
              <a:ext cx="660600" cy="595440"/>
              <a:chOff x="5277960" y="578160"/>
              <a:chExt cx="660600" cy="595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5280840" y="578160"/>
                <a:ext cx="657720" cy="595440"/>
                <a:chOff x="5280840" y="578160"/>
                <a:chExt cx="657720" cy="595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280840" y="578160"/>
                  <a:ext cx="65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283360" y="1173600"/>
                  <a:ext cx="65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5277960" y="949680"/>
                <a:ext cx="65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5958720" y="504360"/>
              <a:ext cx="2340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52240" y="1107720"/>
              <a:ext cx="234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91280" y="1457280"/>
              <a:ext cx="233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8640" y="888480"/>
              <a:ext cx="2340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9360" y="879120"/>
              <a:ext cx="233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6720" y="1460160"/>
              <a:ext cx="2340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390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7720" y="468360"/>
            <a:ext cx="1657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7.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Celcius termometres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le bir X termometres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nin    eşlenişi   şekil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gösterilmişti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Celcius  termometr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si 10 </a:t>
            </a:r>
            <a:r>
              <a:rPr b="1" lang="tr-TR" sz="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C yi  gösterdiğ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bir ortamda, X term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etresi kaç  </a:t>
            </a:r>
            <a:r>
              <a:rPr b="1" lang="tr-TR" sz="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X   gö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ter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157720" y="3596760"/>
            <a:ext cx="1973160" cy="1123200"/>
            <a:chOff x="5157720" y="3596760"/>
            <a:chExt cx="1973160" cy="1123200"/>
          </a:xfrm>
        </p:grpSpPr>
        <p:sp>
          <p:nvSpPr>
            <p:cNvPr id="195" name=""/>
            <p:cNvSpPr/>
            <p:nvPr/>
          </p:nvSpPr>
          <p:spPr>
            <a:xfrm>
              <a:off x="5157720" y="423360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157720" y="3635280"/>
              <a:ext cx="131760" cy="585000"/>
              <a:chOff x="5157720" y="3635280"/>
              <a:chExt cx="131760" cy="585000"/>
            </a:xfrm>
          </p:grpSpPr>
          <p:sp>
            <p:nvSpPr>
              <p:cNvPr id="197" name=""/>
              <p:cNvSpPr/>
              <p:nvPr/>
            </p:nvSpPr>
            <p:spPr>
              <a:xfrm flipH="1" rot="16200000">
                <a:off x="4897440" y="3895200"/>
                <a:ext cx="585000" cy="65160"/>
              </a:xfrm>
              <a:prstGeom prst="rect">
                <a:avLst/>
              </a:prstGeom>
              <a:gradFill rotWithShape="0">
                <a:gsLst>
                  <a:gs pos="0">
                    <a:srgbClr val="505050"/>
                  </a:gs>
                  <a:gs pos="50000">
                    <a:srgbClr val="ffffff"/>
                  </a:gs>
                  <a:gs pos="100000">
                    <a:srgbClr val="50505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16200000">
                <a:off x="4964040" y="3895200"/>
                <a:ext cx="585000" cy="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407560" y="423360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5214240" y="3894480"/>
              <a:ext cx="585000" cy="64800"/>
            </a:xfrm>
            <a:prstGeom prst="rect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ffffff"/>
                </a:gs>
                <a:gs pos="100000">
                  <a:srgbClr val="50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16200000">
              <a:off x="5147280" y="3894480"/>
              <a:ext cx="585000" cy="64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347080" y="3596760"/>
              <a:ext cx="1783800" cy="1123200"/>
              <a:chOff x="5347080" y="3596760"/>
              <a:chExt cx="1783800" cy="11232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5347080" y="3596760"/>
                <a:ext cx="874080" cy="1123200"/>
                <a:chOff x="5347080" y="3596760"/>
                <a:chExt cx="874080" cy="1123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891400" y="3692520"/>
                  <a:ext cx="225720" cy="548640"/>
                </a:xfrm>
                <a:custGeom>
                  <a:avLst/>
                  <a:gdLst/>
                  <a:ahLst/>
                  <a:rect l="l" t="t" r="r" b="b"/>
                  <a:pathLst>
                    <a:path w="586" h="1371">
                      <a:moveTo>
                        <a:pt x="561" y="1328"/>
                      </a:moveTo>
                      <a:cubicBezTo>
                        <a:pt x="542" y="1371"/>
                        <a:pt x="496" y="1333"/>
                        <a:pt x="471" y="1333"/>
                      </a:cubicBezTo>
                      <a:cubicBezTo>
                        <a:pt x="446" y="1333"/>
                        <a:pt x="421" y="1336"/>
                        <a:pt x="411" y="1328"/>
                      </a:cubicBezTo>
                      <a:cubicBezTo>
                        <a:pt x="401" y="1320"/>
                        <a:pt x="411" y="1305"/>
                        <a:pt x="411" y="1283"/>
                      </a:cubicBezTo>
                      <a:cubicBezTo>
                        <a:pt x="411" y="1261"/>
                        <a:pt x="411" y="1230"/>
                        <a:pt x="411" y="1193"/>
                      </a:cubicBezTo>
                      <a:cubicBezTo>
                        <a:pt x="411" y="1156"/>
                        <a:pt x="414" y="1110"/>
                        <a:pt x="411" y="1063"/>
                      </a:cubicBezTo>
                      <a:cubicBezTo>
                        <a:pt x="408" y="1016"/>
                        <a:pt x="398" y="966"/>
                        <a:pt x="391" y="913"/>
                      </a:cubicBezTo>
                      <a:cubicBezTo>
                        <a:pt x="384" y="860"/>
                        <a:pt x="378" y="798"/>
                        <a:pt x="366" y="743"/>
                      </a:cubicBezTo>
                      <a:cubicBezTo>
                        <a:pt x="354" y="688"/>
                        <a:pt x="342" y="636"/>
                        <a:pt x="321" y="583"/>
                      </a:cubicBezTo>
                      <a:cubicBezTo>
                        <a:pt x="300" y="530"/>
                        <a:pt x="269" y="470"/>
                        <a:pt x="241" y="423"/>
                      </a:cubicBezTo>
                      <a:cubicBezTo>
                        <a:pt x="213" y="376"/>
                        <a:pt x="182" y="333"/>
                        <a:pt x="156" y="298"/>
                      </a:cubicBezTo>
                      <a:cubicBezTo>
                        <a:pt x="130" y="263"/>
                        <a:pt x="107" y="236"/>
                        <a:pt x="86" y="213"/>
                      </a:cubicBezTo>
                      <a:cubicBezTo>
                        <a:pt x="65" y="190"/>
                        <a:pt x="45" y="174"/>
                        <a:pt x="31" y="158"/>
                      </a:cubicBezTo>
                      <a:cubicBezTo>
                        <a:pt x="17" y="142"/>
                        <a:pt x="0" y="137"/>
                        <a:pt x="1" y="118"/>
                      </a:cubicBezTo>
                      <a:cubicBezTo>
                        <a:pt x="2" y="99"/>
                        <a:pt x="27" y="62"/>
                        <a:pt x="36" y="43"/>
                      </a:cubicBezTo>
                      <a:cubicBezTo>
                        <a:pt x="45" y="24"/>
                        <a:pt x="46" y="6"/>
                        <a:pt x="56" y="3"/>
                      </a:cubicBezTo>
                      <a:cubicBezTo>
                        <a:pt x="66" y="0"/>
                        <a:pt x="76" y="16"/>
                        <a:pt x="96" y="28"/>
                      </a:cubicBezTo>
                      <a:cubicBezTo>
                        <a:pt x="116" y="40"/>
                        <a:pt x="147" y="49"/>
                        <a:pt x="176" y="73"/>
                      </a:cubicBezTo>
                      <a:cubicBezTo>
                        <a:pt x="205" y="97"/>
                        <a:pt x="237" y="131"/>
                        <a:pt x="271" y="173"/>
                      </a:cubicBezTo>
                      <a:cubicBezTo>
                        <a:pt x="305" y="215"/>
                        <a:pt x="348" y="267"/>
                        <a:pt x="381" y="323"/>
                      </a:cubicBezTo>
                      <a:cubicBezTo>
                        <a:pt x="414" y="379"/>
                        <a:pt x="446" y="447"/>
                        <a:pt x="471" y="508"/>
                      </a:cubicBezTo>
                      <a:cubicBezTo>
                        <a:pt x="496" y="569"/>
                        <a:pt x="516" y="635"/>
                        <a:pt x="531" y="688"/>
                      </a:cubicBezTo>
                      <a:cubicBezTo>
                        <a:pt x="546" y="741"/>
                        <a:pt x="552" y="764"/>
                        <a:pt x="561" y="828"/>
                      </a:cubicBezTo>
                      <a:cubicBezTo>
                        <a:pt x="570" y="892"/>
                        <a:pt x="586" y="991"/>
                        <a:pt x="586" y="1073"/>
                      </a:cubicBezTo>
                      <a:cubicBezTo>
                        <a:pt x="586" y="1155"/>
                        <a:pt x="580" y="1285"/>
                        <a:pt x="561" y="13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5347080" y="3596760"/>
                  <a:ext cx="874080" cy="1123200"/>
                  <a:chOff x="5347080" y="3596760"/>
                  <a:chExt cx="874080" cy="11232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282600">
                    <a:off x="5475960" y="3623760"/>
                    <a:ext cx="704520" cy="102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035" y="234"/>
                        </a:moveTo>
                        <a:arcTo wR="10800" hR="10800" stAng="-4683514" swAng="51198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035" y="234"/>
                        </a:moveTo>
                        <a:arcTo wR="10800" hR="10800" stAng="-4683514" swAng="51198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282600">
                    <a:off x="5451480" y="3662640"/>
                    <a:ext cx="663480" cy="100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16" y="490"/>
                        </a:moveTo>
                        <a:arcTo wR="10800" hR="10800" stAng="-4360443" swAng="45705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16" y="490"/>
                        </a:moveTo>
                        <a:arcTo wR="10800" hR="10800" stAng="-4360443" swAng="45705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282600">
                    <a:off x="5387040" y="3690000"/>
                    <a:ext cx="663480" cy="10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88" y="932"/>
                        </a:moveTo>
                        <a:arcTo wR="10800" hR="10800" stAng="-3961549" swAng="39983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88" y="932"/>
                        </a:moveTo>
                        <a:arcTo wR="10800" hR="10800" stAng="-3961549" swAng="399830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>
                    <a:off x="5889960" y="3641760"/>
                    <a:ext cx="51840" cy="9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050160" y="4227840"/>
                    <a:ext cx="12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6257160" y="3596760"/>
                <a:ext cx="873720" cy="1123200"/>
                <a:chOff x="6257160" y="3596760"/>
                <a:chExt cx="873720" cy="11232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296040" y="3643920"/>
                  <a:ext cx="270000" cy="591840"/>
                </a:xfrm>
                <a:custGeom>
                  <a:avLst/>
                  <a:gdLst/>
                  <a:ahLst/>
                  <a:rect l="l" t="t" r="r" b="b"/>
                  <a:pathLst>
                    <a:path w="700" h="1479">
                      <a:moveTo>
                        <a:pt x="162" y="1454"/>
                      </a:moveTo>
                      <a:cubicBezTo>
                        <a:pt x="145" y="1479"/>
                        <a:pt x="90" y="1454"/>
                        <a:pt x="67" y="1454"/>
                      </a:cubicBezTo>
                      <a:cubicBezTo>
                        <a:pt x="44" y="1454"/>
                        <a:pt x="29" y="1461"/>
                        <a:pt x="22" y="1454"/>
                      </a:cubicBezTo>
                      <a:cubicBezTo>
                        <a:pt x="15" y="1447"/>
                        <a:pt x="25" y="1440"/>
                        <a:pt x="22" y="1409"/>
                      </a:cubicBezTo>
                      <a:cubicBezTo>
                        <a:pt x="19" y="1378"/>
                        <a:pt x="4" y="1321"/>
                        <a:pt x="2" y="1269"/>
                      </a:cubicBezTo>
                      <a:cubicBezTo>
                        <a:pt x="0" y="1217"/>
                        <a:pt x="4" y="1165"/>
                        <a:pt x="7" y="1099"/>
                      </a:cubicBezTo>
                      <a:cubicBezTo>
                        <a:pt x="10" y="1033"/>
                        <a:pt x="11" y="946"/>
                        <a:pt x="22" y="874"/>
                      </a:cubicBezTo>
                      <a:cubicBezTo>
                        <a:pt x="33" y="802"/>
                        <a:pt x="53" y="731"/>
                        <a:pt x="72" y="669"/>
                      </a:cubicBezTo>
                      <a:cubicBezTo>
                        <a:pt x="91" y="607"/>
                        <a:pt x="115" y="554"/>
                        <a:pt x="137" y="504"/>
                      </a:cubicBezTo>
                      <a:cubicBezTo>
                        <a:pt x="159" y="454"/>
                        <a:pt x="173" y="415"/>
                        <a:pt x="202" y="369"/>
                      </a:cubicBezTo>
                      <a:cubicBezTo>
                        <a:pt x="231" y="323"/>
                        <a:pt x="278" y="269"/>
                        <a:pt x="312" y="229"/>
                      </a:cubicBezTo>
                      <a:cubicBezTo>
                        <a:pt x="346" y="189"/>
                        <a:pt x="372" y="160"/>
                        <a:pt x="407" y="129"/>
                      </a:cubicBezTo>
                      <a:cubicBezTo>
                        <a:pt x="442" y="98"/>
                        <a:pt x="488" y="65"/>
                        <a:pt x="522" y="44"/>
                      </a:cubicBezTo>
                      <a:cubicBezTo>
                        <a:pt x="556" y="23"/>
                        <a:pt x="591" y="8"/>
                        <a:pt x="612" y="4"/>
                      </a:cubicBezTo>
                      <a:cubicBezTo>
                        <a:pt x="633" y="0"/>
                        <a:pt x="638" y="7"/>
                        <a:pt x="647" y="19"/>
                      </a:cubicBezTo>
                      <a:cubicBezTo>
                        <a:pt x="656" y="31"/>
                        <a:pt x="660" y="64"/>
                        <a:pt x="667" y="79"/>
                      </a:cubicBezTo>
                      <a:cubicBezTo>
                        <a:pt x="674" y="94"/>
                        <a:pt x="700" y="96"/>
                        <a:pt x="692" y="109"/>
                      </a:cubicBezTo>
                      <a:cubicBezTo>
                        <a:pt x="684" y="122"/>
                        <a:pt x="650" y="132"/>
                        <a:pt x="617" y="159"/>
                      </a:cubicBezTo>
                      <a:cubicBezTo>
                        <a:pt x="584" y="186"/>
                        <a:pt x="538" y="213"/>
                        <a:pt x="492" y="269"/>
                      </a:cubicBezTo>
                      <a:cubicBezTo>
                        <a:pt x="446" y="325"/>
                        <a:pt x="385" y="417"/>
                        <a:pt x="342" y="494"/>
                      </a:cubicBezTo>
                      <a:cubicBezTo>
                        <a:pt x="299" y="571"/>
                        <a:pt x="260" y="644"/>
                        <a:pt x="232" y="734"/>
                      </a:cubicBezTo>
                      <a:cubicBezTo>
                        <a:pt x="204" y="824"/>
                        <a:pt x="183" y="939"/>
                        <a:pt x="172" y="1034"/>
                      </a:cubicBezTo>
                      <a:cubicBezTo>
                        <a:pt x="161" y="1129"/>
                        <a:pt x="168" y="1237"/>
                        <a:pt x="167" y="1304"/>
                      </a:cubicBezTo>
                      <a:cubicBezTo>
                        <a:pt x="166" y="1371"/>
                        <a:pt x="179" y="1429"/>
                        <a:pt x="162" y="1454"/>
                      </a:cubicBezTo>
                      <a:close/>
                    </a:path>
                  </a:pathLst>
                </a:custGeom>
                <a:blipFill rotWithShape="0">
                  <a:blip r:embed="rId2">
                    <a:alphaModFix amt="9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6360480" y="3692520"/>
                  <a:ext cx="225720" cy="548640"/>
                </a:xfrm>
                <a:custGeom>
                  <a:avLst/>
                  <a:gdLst/>
                  <a:ahLst/>
                  <a:rect l="l" t="t" r="r" b="b"/>
                  <a:pathLst>
                    <a:path w="586" h="1371">
                      <a:moveTo>
                        <a:pt x="561" y="1328"/>
                      </a:moveTo>
                      <a:cubicBezTo>
                        <a:pt x="542" y="1371"/>
                        <a:pt x="496" y="1333"/>
                        <a:pt x="471" y="1333"/>
                      </a:cubicBezTo>
                      <a:cubicBezTo>
                        <a:pt x="446" y="1333"/>
                        <a:pt x="421" y="1336"/>
                        <a:pt x="411" y="1328"/>
                      </a:cubicBezTo>
                      <a:cubicBezTo>
                        <a:pt x="401" y="1320"/>
                        <a:pt x="411" y="1305"/>
                        <a:pt x="411" y="1283"/>
                      </a:cubicBezTo>
                      <a:cubicBezTo>
                        <a:pt x="411" y="1261"/>
                        <a:pt x="411" y="1230"/>
                        <a:pt x="411" y="1193"/>
                      </a:cubicBezTo>
                      <a:cubicBezTo>
                        <a:pt x="411" y="1156"/>
                        <a:pt x="414" y="1110"/>
                        <a:pt x="411" y="1063"/>
                      </a:cubicBezTo>
                      <a:cubicBezTo>
                        <a:pt x="408" y="1016"/>
                        <a:pt x="398" y="966"/>
                        <a:pt x="391" y="913"/>
                      </a:cubicBezTo>
                      <a:cubicBezTo>
                        <a:pt x="384" y="860"/>
                        <a:pt x="378" y="798"/>
                        <a:pt x="366" y="743"/>
                      </a:cubicBezTo>
                      <a:cubicBezTo>
                        <a:pt x="354" y="688"/>
                        <a:pt x="342" y="636"/>
                        <a:pt x="321" y="583"/>
                      </a:cubicBezTo>
                      <a:cubicBezTo>
                        <a:pt x="300" y="530"/>
                        <a:pt x="269" y="470"/>
                        <a:pt x="241" y="423"/>
                      </a:cubicBezTo>
                      <a:cubicBezTo>
                        <a:pt x="213" y="376"/>
                        <a:pt x="182" y="333"/>
                        <a:pt x="156" y="298"/>
                      </a:cubicBezTo>
                      <a:cubicBezTo>
                        <a:pt x="130" y="263"/>
                        <a:pt x="107" y="236"/>
                        <a:pt x="86" y="213"/>
                      </a:cubicBezTo>
                      <a:cubicBezTo>
                        <a:pt x="65" y="190"/>
                        <a:pt x="45" y="174"/>
                        <a:pt x="31" y="158"/>
                      </a:cubicBezTo>
                      <a:cubicBezTo>
                        <a:pt x="17" y="142"/>
                        <a:pt x="0" y="137"/>
                        <a:pt x="1" y="118"/>
                      </a:cubicBezTo>
                      <a:cubicBezTo>
                        <a:pt x="2" y="99"/>
                        <a:pt x="27" y="62"/>
                        <a:pt x="36" y="43"/>
                      </a:cubicBezTo>
                      <a:cubicBezTo>
                        <a:pt x="45" y="24"/>
                        <a:pt x="46" y="6"/>
                        <a:pt x="56" y="3"/>
                      </a:cubicBezTo>
                      <a:cubicBezTo>
                        <a:pt x="66" y="0"/>
                        <a:pt x="76" y="16"/>
                        <a:pt x="96" y="28"/>
                      </a:cubicBezTo>
                      <a:cubicBezTo>
                        <a:pt x="116" y="40"/>
                        <a:pt x="147" y="49"/>
                        <a:pt x="176" y="73"/>
                      </a:cubicBezTo>
                      <a:cubicBezTo>
                        <a:pt x="205" y="97"/>
                        <a:pt x="237" y="131"/>
                        <a:pt x="271" y="173"/>
                      </a:cubicBezTo>
                      <a:cubicBezTo>
                        <a:pt x="305" y="215"/>
                        <a:pt x="348" y="267"/>
                        <a:pt x="381" y="323"/>
                      </a:cubicBezTo>
                      <a:cubicBezTo>
                        <a:pt x="414" y="379"/>
                        <a:pt x="446" y="447"/>
                        <a:pt x="471" y="508"/>
                      </a:cubicBezTo>
                      <a:cubicBezTo>
                        <a:pt x="496" y="569"/>
                        <a:pt x="516" y="635"/>
                        <a:pt x="531" y="688"/>
                      </a:cubicBezTo>
                      <a:cubicBezTo>
                        <a:pt x="546" y="741"/>
                        <a:pt x="552" y="764"/>
                        <a:pt x="561" y="828"/>
                      </a:cubicBezTo>
                      <a:cubicBezTo>
                        <a:pt x="570" y="892"/>
                        <a:pt x="586" y="991"/>
                        <a:pt x="586" y="1073"/>
                      </a:cubicBezTo>
                      <a:cubicBezTo>
                        <a:pt x="586" y="1155"/>
                        <a:pt x="580" y="1285"/>
                        <a:pt x="561" y="13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6257160" y="3596760"/>
                  <a:ext cx="873720" cy="1123200"/>
                  <a:chOff x="6257160" y="3596760"/>
                  <a:chExt cx="873720" cy="1123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1317400">
                    <a:off x="6298200" y="3623760"/>
                    <a:ext cx="704520" cy="102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035" y="234"/>
                        </a:moveTo>
                        <a:arcTo wR="10800" hR="10800" stAng="-4683514" swAng="51198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035" y="234"/>
                        </a:moveTo>
                        <a:arcTo wR="10800" hR="10800" stAng="-4683514" swAng="51198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1317400">
                    <a:off x="6362280" y="3662640"/>
                    <a:ext cx="663480" cy="100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16" y="490"/>
                        </a:moveTo>
                        <a:arcTo wR="10800" hR="10800" stAng="-4360443" swAng="45705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16" y="490"/>
                        </a:moveTo>
                        <a:arcTo wR="10800" hR="10800" stAng="-4360443" swAng="45705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317400">
                    <a:off x="6426720" y="3690000"/>
                    <a:ext cx="663480" cy="10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88" y="932"/>
                        </a:moveTo>
                        <a:arcTo wR="10800" hR="10800" stAng="-3961549" swAng="39983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88" y="932"/>
                        </a:moveTo>
                        <a:arcTo wR="10800" hR="10800" stAng="-3961549" swAng="399830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36520" y="3641760"/>
                    <a:ext cx="51840" cy="9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6305040" y="4227840"/>
                    <a:ext cx="12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0" name=""/>
            <p:cNvSpPr/>
            <p:nvPr/>
          </p:nvSpPr>
          <p:spPr>
            <a:xfrm>
              <a:off x="6051240" y="424620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1440" y="424620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27200" y="4403520"/>
              <a:ext cx="1381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Şekil I                   Şekil 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286440" y="3564720"/>
            <a:ext cx="17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Şekil I' deki   YX  çifti  ısıtılıp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ZY  çifti  soğutulunca Şekil II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deki durum oluşuyo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Buna  göre,  X, Y, Z  n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uzama katsayıları  arasında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ilişki ne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49360" y="6732720"/>
            <a:ext cx="25923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2280" y="6516720"/>
            <a:ext cx="28872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38"/>
          <p:cNvSpPr/>
          <p:nvPr/>
        </p:nvSpPr>
        <p:spPr>
          <a:xfrm>
            <a:off x="115920" y="971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Ğ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İM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- ÖĞRETİ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YILI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 GAZİ LİSESİ  11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NIF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LAR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FİZİK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RSİ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DÖNEM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r-TR" sz="1000" spc="-1" strike="noStrike">
                <a:solidFill>
                  <a:srgbClr val="000000"/>
                </a:solidFill>
                <a:latin typeface="Arial"/>
              </a:rPr>
              <a:t>YAZIL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U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2 Düz Bağlayıcı"/>
          <p:cNvSpPr/>
          <p:nvPr/>
        </p:nvSpPr>
        <p:spPr>
          <a:xfrm>
            <a:off x="260280" y="1403280"/>
            <a:ext cx="619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Düz Bağlayıcı"/>
          <p:cNvSpPr/>
          <p:nvPr/>
        </p:nvSpPr>
        <p:spPr>
          <a:xfrm>
            <a:off x="3429000" y="1403280"/>
            <a:ext cx="0" cy="763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1000" y="179280"/>
            <a:ext cx="11988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ı ve Soyadı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Şubesi             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                     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 Metin kutusu"/>
          <p:cNvSpPr/>
          <p:nvPr/>
        </p:nvSpPr>
        <p:spPr>
          <a:xfrm>
            <a:off x="189000" y="36180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 .  Aşağıdaki cümlelerin hangileri doğru, hangileri  yanlıştı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781360" y="3978360"/>
            <a:ext cx="554040" cy="215640"/>
            <a:chOff x="2781360" y="3978360"/>
            <a:chExt cx="554040" cy="215640"/>
          </a:xfrm>
        </p:grpSpPr>
        <p:sp>
          <p:nvSpPr>
            <p:cNvPr id="232" name=""/>
            <p:cNvSpPr/>
            <p:nvPr/>
          </p:nvSpPr>
          <p:spPr>
            <a:xfrm>
              <a:off x="2852640" y="419400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1360" y="3978360"/>
              <a:ext cx="55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      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52640" y="4336920"/>
            <a:ext cx="434880" cy="95400"/>
            <a:chOff x="2852640" y="4336920"/>
            <a:chExt cx="434880" cy="95400"/>
          </a:xfrm>
        </p:grpSpPr>
        <p:sp>
          <p:nvSpPr>
            <p:cNvPr id="235" name=""/>
            <p:cNvSpPr/>
            <p:nvPr/>
          </p:nvSpPr>
          <p:spPr>
            <a:xfrm>
              <a:off x="2852640" y="433692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8720" y="433692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852640" y="4602240"/>
            <a:ext cx="434880" cy="95040"/>
            <a:chOff x="2852640" y="4602240"/>
            <a:chExt cx="434880" cy="95040"/>
          </a:xfrm>
        </p:grpSpPr>
        <p:sp>
          <p:nvSpPr>
            <p:cNvPr id="238" name=""/>
            <p:cNvSpPr/>
            <p:nvPr/>
          </p:nvSpPr>
          <p:spPr>
            <a:xfrm>
              <a:off x="2852640" y="46022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8720" y="46022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852640" y="4818240"/>
            <a:ext cx="434880" cy="95040"/>
            <a:chOff x="2852640" y="4818240"/>
            <a:chExt cx="434880" cy="95040"/>
          </a:xfrm>
        </p:grpSpPr>
        <p:sp>
          <p:nvSpPr>
            <p:cNvPr id="241" name=""/>
            <p:cNvSpPr/>
            <p:nvPr/>
          </p:nvSpPr>
          <p:spPr>
            <a:xfrm>
              <a:off x="2852640" y="48182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68720" y="4818240"/>
              <a:ext cx="11880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52640" y="5106960"/>
            <a:ext cx="434880" cy="95400"/>
            <a:chOff x="2852640" y="5106960"/>
            <a:chExt cx="434880" cy="95400"/>
          </a:xfrm>
        </p:grpSpPr>
        <p:sp>
          <p:nvSpPr>
            <p:cNvPr id="244" name=""/>
            <p:cNvSpPr/>
            <p:nvPr/>
          </p:nvSpPr>
          <p:spPr>
            <a:xfrm>
              <a:off x="2852640" y="51069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68720" y="510696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852640" y="5346720"/>
            <a:ext cx="434880" cy="95400"/>
            <a:chOff x="2852640" y="5346720"/>
            <a:chExt cx="434880" cy="95400"/>
          </a:xfrm>
        </p:grpSpPr>
        <p:sp>
          <p:nvSpPr>
            <p:cNvPr id="247" name=""/>
            <p:cNvSpPr/>
            <p:nvPr/>
          </p:nvSpPr>
          <p:spPr>
            <a:xfrm>
              <a:off x="2852640" y="534672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68720" y="5346720"/>
              <a:ext cx="118800" cy="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5 Metin kutusu"/>
          <p:cNvSpPr/>
          <p:nvPr/>
        </p:nvSpPr>
        <p:spPr>
          <a:xfrm>
            <a:off x="260280" y="1476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.      Aşağıdaki cümlelerde boş bırakılan yerleri uyg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özcüklerle doldurunu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14440" y="17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3360" y="1839960"/>
            <a:ext cx="3097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Isı alan maddenin  boyutları …………………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Kaldırma kuvveti batan hacimle  …………..  orantılı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.  Katılar kendisine uygulanan ……………….  aynen iletir.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Batan cisimlerin özkütlesi sıvınınkinden ……………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Hidrolik sistemler  ………… prensibinden yararlanılar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1332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yapılmışt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0800" y="14763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80280" y="611280"/>
            <a:ext cx="130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0000"/>
                </a:solidFill>
                <a:latin typeface="Arial"/>
              </a:rPr>
              <a:t>www.fizikpenceresi 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4 Metin kutusu"/>
          <p:cNvSpPr/>
          <p:nvPr/>
        </p:nvSpPr>
        <p:spPr>
          <a:xfrm>
            <a:off x="189000" y="419400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1.  Kapalı kaplardaki gaz basıncını barometre ölç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2.  Denizlerin derinliği Batimetre ile ölçülü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3.  Uçakların yerden yüksekliği Altimetre ile ölçülü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4.  Açıkhava basıncını ölçen ilk bilim adamı Torriçelli’d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5.  Sıvıların basıncı sıvının ağırlığından kaynaklan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30800" y="4579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5 Metin kutusu"/>
          <p:cNvSpPr/>
          <p:nvPr/>
        </p:nvSpPr>
        <p:spPr>
          <a:xfrm>
            <a:off x="189000" y="558000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.      Aşağıdaki klasik soruların çözümlerini yanına yapını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" y="60847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6280" y="7093080"/>
            <a:ext cx="26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I. Cismin yere yaptığı basınç P, II. Cismin yere yaptığı basınç ise 3P’ dir. Cisimler III. şekildeki gibi konulurs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yere yapılan basınç kaç P olu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720" y="673416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4080" y="6300720"/>
            <a:ext cx="25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440" y="68770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60160" y="68770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22080" y="6877080"/>
            <a:ext cx="2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41360" y="6372360"/>
            <a:ext cx="574920" cy="36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14800" y="673272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46440" y="644364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2275920" y="6262560"/>
            <a:ext cx="574560" cy="36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21000" y="5940360"/>
            <a:ext cx="28872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46560" y="5940360"/>
            <a:ext cx="25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10080" y="630072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716280" y="1566720"/>
            <a:ext cx="2737080" cy="12049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716280" y="4653000"/>
            <a:ext cx="2519280" cy="1287360"/>
            <a:chOff x="3716280" y="4653000"/>
            <a:chExt cx="2519280" cy="128736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3716280" y="4653000"/>
              <a:ext cx="25192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34080" y="5219640"/>
              <a:ext cx="214200" cy="216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12 Düz Bağlayıcı"/>
          <p:cNvSpPr/>
          <p:nvPr/>
        </p:nvSpPr>
        <p:spPr>
          <a:xfrm>
            <a:off x="3213000" y="395280"/>
            <a:ext cx="0" cy="626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6280" y="78850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Baremi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 ve  B bölümlerinde her soru 2 pua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 bölümünde  ise her soru  10 puandı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81360" y="7308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Mustafa Ün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Fizik öğretme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81360" y="7020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şarılar dileri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800" y="4683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20640" y="468360"/>
            <a:ext cx="2041560" cy="904680"/>
            <a:chOff x="620640" y="468360"/>
            <a:chExt cx="2041560" cy="904680"/>
          </a:xfrm>
        </p:grpSpPr>
        <p:grpSp>
          <p:nvGrpSpPr>
            <p:cNvPr id="281" name=""/>
            <p:cNvGrpSpPr/>
            <p:nvPr/>
          </p:nvGrpSpPr>
          <p:grpSpPr>
            <a:xfrm>
              <a:off x="620640" y="480960"/>
              <a:ext cx="1019520" cy="892080"/>
              <a:chOff x="620640" y="480960"/>
              <a:chExt cx="1019520" cy="8920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620640" y="480960"/>
                <a:ext cx="1019520" cy="694800"/>
                <a:chOff x="620640" y="480960"/>
                <a:chExt cx="1019520" cy="6948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19640" y="509760"/>
                  <a:ext cx="808920" cy="666000"/>
                </a:xfrm>
                <a:prstGeom prst="roundRect">
                  <a:avLst>
                    <a:gd name="adj" fmla="val 1468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36560" y="507240"/>
                  <a:ext cx="772560" cy="652680"/>
                </a:xfrm>
                <a:prstGeom prst="roundRect">
                  <a:avLst>
                    <a:gd name="adj" fmla="val 13019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0640" y="480960"/>
                  <a:ext cx="1019520" cy="11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>
                <a:off x="1078200" y="954000"/>
                <a:ext cx="2188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8920" y="600840"/>
                <a:ext cx="1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10200" y="600840"/>
                <a:ext cx="1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9080" y="907200"/>
                <a:ext cx="764280" cy="249840"/>
              </a:xfrm>
              <a:custGeom>
                <a:avLst/>
                <a:gdLst/>
                <a:ahLst/>
                <a:rect l="l" t="t" r="r" b="b"/>
                <a:pathLst>
                  <a:path w="1809" h="605">
                    <a:moveTo>
                      <a:pt x="1809" y="0"/>
                    </a:moveTo>
                    <a:lnTo>
                      <a:pt x="4" y="0"/>
                    </a:lnTo>
                    <a:lnTo>
                      <a:pt x="4" y="415"/>
                    </a:lnTo>
                    <a:cubicBezTo>
                      <a:pt x="4" y="490"/>
                      <a:pt x="0" y="438"/>
                      <a:pt x="4" y="450"/>
                    </a:cubicBezTo>
                    <a:cubicBezTo>
                      <a:pt x="8" y="462"/>
                      <a:pt x="19" y="473"/>
                      <a:pt x="29" y="490"/>
                    </a:cubicBezTo>
                    <a:cubicBezTo>
                      <a:pt x="37" y="515"/>
                      <a:pt x="42" y="533"/>
                      <a:pt x="64" y="550"/>
                    </a:cubicBezTo>
                    <a:cubicBezTo>
                      <a:pt x="73" y="557"/>
                      <a:pt x="94" y="570"/>
                      <a:pt x="94" y="570"/>
                    </a:cubicBezTo>
                    <a:cubicBezTo>
                      <a:pt x="113" y="599"/>
                      <a:pt x="165" y="605"/>
                      <a:pt x="199" y="605"/>
                    </a:cubicBezTo>
                    <a:lnTo>
                      <a:pt x="1609" y="605"/>
                    </a:lnTo>
                    <a:cubicBezTo>
                      <a:pt x="1621" y="604"/>
                      <a:pt x="1677" y="599"/>
                      <a:pt x="1694" y="595"/>
                    </a:cubicBezTo>
                    <a:cubicBezTo>
                      <a:pt x="1704" y="593"/>
                      <a:pt x="1714" y="588"/>
                      <a:pt x="1724" y="585"/>
                    </a:cubicBezTo>
                    <a:cubicBezTo>
                      <a:pt x="1735" y="581"/>
                      <a:pt x="1754" y="565"/>
                      <a:pt x="1754" y="565"/>
                    </a:cubicBezTo>
                    <a:cubicBezTo>
                      <a:pt x="1763" y="551"/>
                      <a:pt x="1788" y="523"/>
                      <a:pt x="1794" y="505"/>
                    </a:cubicBezTo>
                    <a:cubicBezTo>
                      <a:pt x="1797" y="495"/>
                      <a:pt x="1801" y="485"/>
                      <a:pt x="1804" y="475"/>
                    </a:cubicBezTo>
                    <a:cubicBezTo>
                      <a:pt x="1806" y="470"/>
                      <a:pt x="1809" y="460"/>
                      <a:pt x="1809" y="460"/>
                    </a:cubicBezTo>
                    <a:cubicBezTo>
                      <a:pt x="1807" y="450"/>
                      <a:pt x="1804" y="430"/>
                      <a:pt x="1804" y="430"/>
                    </a:cubicBezTo>
                    <a:lnTo>
                      <a:pt x="1809" y="320"/>
                    </a:lnTo>
                    <a:lnTo>
                      <a:pt x="1809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3040" y="685080"/>
                <a:ext cx="759960" cy="233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0520" y="683280"/>
                <a:ext cx="77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1012680" y="562680"/>
                <a:ext cx="178920" cy="304920"/>
                <a:chOff x="1012680" y="562680"/>
                <a:chExt cx="178920" cy="3049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012680" y="56268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012680" y="62388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012680" y="68508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012680" y="74592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012680" y="80676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238760" y="502920"/>
                <a:ext cx="13572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12040" y="1242360"/>
                <a:ext cx="16740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42680" y="468360"/>
              <a:ext cx="1019520" cy="904680"/>
              <a:chOff x="1642680" y="468360"/>
              <a:chExt cx="1019520" cy="9046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642680" y="480960"/>
                <a:ext cx="1019520" cy="694080"/>
                <a:chOff x="1642680" y="480960"/>
                <a:chExt cx="1019520" cy="6940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741680" y="509400"/>
                  <a:ext cx="808920" cy="665640"/>
                </a:xfrm>
                <a:prstGeom prst="roundRect">
                  <a:avLst>
                    <a:gd name="adj" fmla="val 1468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58600" y="507240"/>
                  <a:ext cx="772560" cy="652320"/>
                </a:xfrm>
                <a:prstGeom prst="roundRect">
                  <a:avLst>
                    <a:gd name="adj" fmla="val 13019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42680" y="480960"/>
                  <a:ext cx="1019520" cy="11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100240" y="954000"/>
                <a:ext cx="2188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40960" y="600840"/>
                <a:ext cx="1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32240" y="600840"/>
                <a:ext cx="1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61120" y="907200"/>
                <a:ext cx="764280" cy="249840"/>
              </a:xfrm>
              <a:custGeom>
                <a:avLst/>
                <a:gdLst/>
                <a:ahLst/>
                <a:rect l="l" t="t" r="r" b="b"/>
                <a:pathLst>
                  <a:path w="1809" h="605">
                    <a:moveTo>
                      <a:pt x="1809" y="0"/>
                    </a:moveTo>
                    <a:lnTo>
                      <a:pt x="4" y="0"/>
                    </a:lnTo>
                    <a:lnTo>
                      <a:pt x="4" y="415"/>
                    </a:lnTo>
                    <a:cubicBezTo>
                      <a:pt x="4" y="490"/>
                      <a:pt x="0" y="438"/>
                      <a:pt x="4" y="450"/>
                    </a:cubicBezTo>
                    <a:cubicBezTo>
                      <a:pt x="8" y="462"/>
                      <a:pt x="19" y="473"/>
                      <a:pt x="29" y="490"/>
                    </a:cubicBezTo>
                    <a:cubicBezTo>
                      <a:pt x="37" y="515"/>
                      <a:pt x="42" y="533"/>
                      <a:pt x="64" y="550"/>
                    </a:cubicBezTo>
                    <a:cubicBezTo>
                      <a:pt x="73" y="557"/>
                      <a:pt x="94" y="570"/>
                      <a:pt x="94" y="570"/>
                    </a:cubicBezTo>
                    <a:cubicBezTo>
                      <a:pt x="113" y="599"/>
                      <a:pt x="165" y="605"/>
                      <a:pt x="199" y="605"/>
                    </a:cubicBezTo>
                    <a:lnTo>
                      <a:pt x="1609" y="605"/>
                    </a:lnTo>
                    <a:cubicBezTo>
                      <a:pt x="1621" y="604"/>
                      <a:pt x="1677" y="599"/>
                      <a:pt x="1694" y="595"/>
                    </a:cubicBezTo>
                    <a:cubicBezTo>
                      <a:pt x="1704" y="593"/>
                      <a:pt x="1714" y="588"/>
                      <a:pt x="1724" y="585"/>
                    </a:cubicBezTo>
                    <a:cubicBezTo>
                      <a:pt x="1735" y="581"/>
                      <a:pt x="1754" y="565"/>
                      <a:pt x="1754" y="565"/>
                    </a:cubicBezTo>
                    <a:cubicBezTo>
                      <a:pt x="1763" y="551"/>
                      <a:pt x="1788" y="523"/>
                      <a:pt x="1794" y="505"/>
                    </a:cubicBezTo>
                    <a:cubicBezTo>
                      <a:pt x="1797" y="495"/>
                      <a:pt x="1801" y="485"/>
                      <a:pt x="1804" y="475"/>
                    </a:cubicBezTo>
                    <a:cubicBezTo>
                      <a:pt x="1806" y="470"/>
                      <a:pt x="1809" y="460"/>
                      <a:pt x="1809" y="460"/>
                    </a:cubicBezTo>
                    <a:cubicBezTo>
                      <a:pt x="1807" y="450"/>
                      <a:pt x="1804" y="430"/>
                      <a:pt x="1804" y="430"/>
                    </a:cubicBezTo>
                    <a:lnTo>
                      <a:pt x="1809" y="320"/>
                    </a:lnTo>
                    <a:lnTo>
                      <a:pt x="1809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65080" y="685080"/>
                <a:ext cx="759960" cy="233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62560" y="683280"/>
                <a:ext cx="772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057040" y="683280"/>
                <a:ext cx="178920" cy="304920"/>
                <a:chOff x="2057040" y="683280"/>
                <a:chExt cx="178920" cy="3049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057040" y="68328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057040" y="74448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057040" y="80568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057040" y="86652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057040" y="927360"/>
                  <a:ext cx="178920" cy="60840"/>
                </a:xfrm>
                <a:prstGeom prst="rect">
                  <a:avLst/>
                </a:prstGeom>
                <a:solidFill>
                  <a:srgbClr val="ffffff">
                    <a:alpha val="24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102400" y="468360"/>
                <a:ext cx="13572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4080" y="1242360"/>
                <a:ext cx="16740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00240" y="605160"/>
                <a:ext cx="90720" cy="71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334800" y="1403280"/>
            <a:ext cx="28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60 g  ağırlığındaki  K  cismi Şekil I' deki gibi sıvının içinde dengede duruyor.  K cisminin üzerine  bir   m   kütlesi  konulduğunda  Şekil II'deki  gibi  dengede kalıyo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Buna göre,   m  kütlesi kaç g dır?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844640" y="3419640"/>
            <a:ext cx="1009800" cy="792000"/>
            <a:chOff x="1844640" y="3419640"/>
            <a:chExt cx="1009800" cy="792000"/>
          </a:xfrm>
        </p:grpSpPr>
        <p:grpSp>
          <p:nvGrpSpPr>
            <p:cNvPr id="322" name=""/>
            <p:cNvGrpSpPr/>
            <p:nvPr/>
          </p:nvGrpSpPr>
          <p:grpSpPr>
            <a:xfrm>
              <a:off x="1844640" y="3419640"/>
              <a:ext cx="1009800" cy="792000"/>
              <a:chOff x="1844640" y="3419640"/>
              <a:chExt cx="1009800" cy="792000"/>
            </a:xfrm>
          </p:grpSpPr>
          <p:sp>
            <p:nvSpPr>
              <p:cNvPr id="323" name=""/>
              <p:cNvSpPr/>
              <p:nvPr/>
            </p:nvSpPr>
            <p:spPr>
              <a:xfrm>
                <a:off x="1942920" y="3452400"/>
                <a:ext cx="801000" cy="759240"/>
              </a:xfrm>
              <a:prstGeom prst="roundRect">
                <a:avLst>
                  <a:gd name="adj" fmla="val 1468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59480" y="3449880"/>
                <a:ext cx="765360" cy="744120"/>
              </a:xfrm>
              <a:prstGeom prst="roundRect">
                <a:avLst>
                  <a:gd name="adj" fmla="val 130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44640" y="3419640"/>
                <a:ext cx="1009800" cy="13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297880" y="3959280"/>
              <a:ext cx="21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41840" y="3555720"/>
              <a:ext cx="1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25560" y="3555720"/>
              <a:ext cx="1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62000" y="3905280"/>
              <a:ext cx="757080" cy="285480"/>
            </a:xfrm>
            <a:custGeom>
              <a:avLst/>
              <a:gdLst/>
              <a:ahLst/>
              <a:rect l="l" t="t" r="r" b="b"/>
              <a:pathLst>
                <a:path w="1809" h="605">
                  <a:moveTo>
                    <a:pt x="1809" y="0"/>
                  </a:moveTo>
                  <a:lnTo>
                    <a:pt x="4" y="0"/>
                  </a:lnTo>
                  <a:lnTo>
                    <a:pt x="4" y="415"/>
                  </a:lnTo>
                  <a:cubicBezTo>
                    <a:pt x="4" y="490"/>
                    <a:pt x="0" y="438"/>
                    <a:pt x="4" y="450"/>
                  </a:cubicBezTo>
                  <a:cubicBezTo>
                    <a:pt x="8" y="462"/>
                    <a:pt x="19" y="473"/>
                    <a:pt x="29" y="490"/>
                  </a:cubicBezTo>
                  <a:cubicBezTo>
                    <a:pt x="37" y="515"/>
                    <a:pt x="42" y="533"/>
                    <a:pt x="64" y="550"/>
                  </a:cubicBezTo>
                  <a:cubicBezTo>
                    <a:pt x="73" y="557"/>
                    <a:pt x="94" y="570"/>
                    <a:pt x="94" y="570"/>
                  </a:cubicBezTo>
                  <a:cubicBezTo>
                    <a:pt x="113" y="599"/>
                    <a:pt x="165" y="605"/>
                    <a:pt x="199" y="605"/>
                  </a:cubicBezTo>
                  <a:lnTo>
                    <a:pt x="1609" y="605"/>
                  </a:lnTo>
                  <a:cubicBezTo>
                    <a:pt x="1621" y="604"/>
                    <a:pt x="1677" y="599"/>
                    <a:pt x="1694" y="595"/>
                  </a:cubicBezTo>
                  <a:cubicBezTo>
                    <a:pt x="1704" y="593"/>
                    <a:pt x="1714" y="588"/>
                    <a:pt x="1724" y="585"/>
                  </a:cubicBezTo>
                  <a:cubicBezTo>
                    <a:pt x="1735" y="581"/>
                    <a:pt x="1754" y="565"/>
                    <a:pt x="1754" y="565"/>
                  </a:cubicBezTo>
                  <a:cubicBezTo>
                    <a:pt x="1763" y="551"/>
                    <a:pt x="1788" y="523"/>
                    <a:pt x="1794" y="505"/>
                  </a:cubicBezTo>
                  <a:cubicBezTo>
                    <a:pt x="1797" y="495"/>
                    <a:pt x="1801" y="485"/>
                    <a:pt x="1804" y="475"/>
                  </a:cubicBezTo>
                  <a:cubicBezTo>
                    <a:pt x="1806" y="470"/>
                    <a:pt x="1809" y="460"/>
                    <a:pt x="1809" y="460"/>
                  </a:cubicBezTo>
                  <a:cubicBezTo>
                    <a:pt x="1807" y="450"/>
                    <a:pt x="1804" y="430"/>
                    <a:pt x="1804" y="430"/>
                  </a:cubicBezTo>
                  <a:lnTo>
                    <a:pt x="1809" y="320"/>
                  </a:lnTo>
                  <a:lnTo>
                    <a:pt x="180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4600" y="3652200"/>
              <a:ext cx="744480" cy="26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63440" y="3650400"/>
              <a:ext cx="7646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9200" y="3915360"/>
              <a:ext cx="753120" cy="193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60200" y="3916800"/>
              <a:ext cx="7646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96200" y="3705480"/>
              <a:ext cx="1346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05920" y="4035240"/>
              <a:ext cx="1346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295000" y="3842640"/>
              <a:ext cx="198720" cy="222480"/>
              <a:chOff x="2295000" y="3842640"/>
              <a:chExt cx="198720" cy="222480"/>
            </a:xfrm>
          </p:grpSpPr>
          <p:sp>
            <p:nvSpPr>
              <p:cNvPr id="337" name=""/>
              <p:cNvSpPr/>
              <p:nvPr/>
            </p:nvSpPr>
            <p:spPr>
              <a:xfrm>
                <a:off x="2295000" y="3842640"/>
                <a:ext cx="198720" cy="7236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295000" y="3917520"/>
                <a:ext cx="198720" cy="727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95000" y="3992400"/>
                <a:ext cx="198720" cy="727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349000" y="3718080"/>
              <a:ext cx="1346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86840" y="3564720"/>
            <a:ext cx="1966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K  cismi  birbiriyle   karış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mayan 2d ve 5d özkütlel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sıvılar  içerisinde  şekild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ki gibi  dengede  durmak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tadı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K cisminin özkütlesi  kaç  d  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157720" y="395280"/>
            <a:ext cx="1528920" cy="1015560"/>
            <a:chOff x="5157720" y="395280"/>
            <a:chExt cx="1528920" cy="1015560"/>
          </a:xfrm>
        </p:grpSpPr>
        <p:sp>
          <p:nvSpPr>
            <p:cNvPr id="343" name=""/>
            <p:cNvSpPr/>
            <p:nvPr/>
          </p:nvSpPr>
          <p:spPr>
            <a:xfrm>
              <a:off x="5311800" y="494280"/>
              <a:ext cx="871920" cy="771480"/>
            </a:xfrm>
            <a:custGeom>
              <a:avLst/>
              <a:gdLst/>
              <a:ahLst/>
              <a:rect l="l" t="t" r="r" b="b"/>
              <a:pathLst>
                <a:path w="1277" h="1331">
                  <a:moveTo>
                    <a:pt x="0" y="0"/>
                  </a:moveTo>
                  <a:lnTo>
                    <a:pt x="0" y="1331"/>
                  </a:lnTo>
                  <a:lnTo>
                    <a:pt x="1277" y="1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48520" y="395280"/>
              <a:ext cx="32184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t (</a:t>
              </a:r>
              <a:r>
                <a:rPr b="0" lang="tr-TR" sz="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60600" y="901080"/>
              <a:ext cx="18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9560" y="1280880"/>
              <a:ext cx="653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      2Q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57720" y="593280"/>
              <a:ext cx="18720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7640" y="1201680"/>
              <a:ext cx="45900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Isı (Ca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62840" y="1275480"/>
              <a:ext cx="187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313600" y="660960"/>
              <a:ext cx="578880" cy="601920"/>
              <a:chOff x="5313600" y="660960"/>
              <a:chExt cx="578880" cy="60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5313600" y="660960"/>
                <a:ext cx="578880" cy="601920"/>
              </a:xfrm>
              <a:custGeom>
                <a:avLst/>
                <a:gdLst/>
                <a:ahLst/>
                <a:rect l="l" t="t" r="r" b="b"/>
                <a:pathLst>
                  <a:path w="1035" h="645">
                    <a:moveTo>
                      <a:pt x="0" y="0"/>
                    </a:moveTo>
                    <a:lnTo>
                      <a:pt x="1035" y="0"/>
                    </a:lnTo>
                    <a:lnTo>
                      <a:pt x="1035" y="6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03400" y="660960"/>
                <a:ext cx="0" cy="6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14680" y="96228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>
              <a:off x="5310360" y="660600"/>
              <a:ext cx="291960" cy="600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313600" y="660600"/>
              <a:ext cx="577800" cy="298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82880" y="536040"/>
              <a:ext cx="18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19480" y="564480"/>
              <a:ext cx="18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500280" y="1187280"/>
                <a:ext cx="333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769560" y="125820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e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468360"/>
            <a:ext cx="165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Kütleleri  sırasıyla   m  ve  2m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olan    X  ve  Y  cisimlerin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ısı - sıcaklık grafiği verilmişti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Bu  cisimlerin  özısıları oranı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14800" y="4683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300640" y="2906640"/>
            <a:ext cx="1106640" cy="1088640"/>
            <a:chOff x="5300640" y="2906640"/>
            <a:chExt cx="1106640" cy="1088640"/>
          </a:xfrm>
        </p:grpSpPr>
        <p:grpSp>
          <p:nvGrpSpPr>
            <p:cNvPr id="363" name=""/>
            <p:cNvGrpSpPr/>
            <p:nvPr/>
          </p:nvGrpSpPr>
          <p:grpSpPr>
            <a:xfrm>
              <a:off x="5494680" y="3041640"/>
              <a:ext cx="133920" cy="953640"/>
              <a:chOff x="5494680" y="3041640"/>
              <a:chExt cx="133920" cy="953640"/>
            </a:xfrm>
          </p:grpSpPr>
          <p:sp>
            <p:nvSpPr>
              <p:cNvPr id="364" name=""/>
              <p:cNvSpPr/>
              <p:nvPr/>
            </p:nvSpPr>
            <p:spPr>
              <a:xfrm>
                <a:off x="5533200" y="3041640"/>
                <a:ext cx="58680" cy="865440"/>
              </a:xfrm>
              <a:custGeom>
                <a:avLst/>
                <a:gdLst>
                  <a:gd name="textAreaLeft" fmla="*/ 8640 w 58680"/>
                  <a:gd name="textAreaRight" fmla="*/ 50040 w 58680"/>
                  <a:gd name="textAreaTop" fmla="*/ 8640 h 865440"/>
                  <a:gd name="textAreaBottom" fmla="*/ 856800 h 865440"/>
                </a:gdLst>
                <a:ahLst/>
                <a:rect l="textAreaLeft" t="textAreaTop" r="textAreaRight" b="textAreaBottom"/>
                <a:pathLst>
                  <a:path w="21600" h="316756">
                    <a:moveTo>
                      <a:pt x="10800" y="0"/>
                    </a:moveTo>
                    <a:arcTo wR="10800" hR="10800" stAng="16200000" swAng="-5400000"/>
                    <a:lnTo>
                      <a:pt x="0" y="305956"/>
                    </a:lnTo>
                    <a:arcTo wR="10800" hR="10800" stAng="10800000" swAng="-5400000"/>
                    <a:lnTo>
                      <a:pt x="10800" y="3167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94680" y="3871440"/>
                <a:ext cx="13392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33920" y="3852720"/>
                <a:ext cx="57960" cy="37080"/>
              </a:xfrm>
              <a:custGeom>
                <a:avLst/>
                <a:gdLst/>
                <a:ahLst/>
                <a:rect l="l" t="t" r="r" b="b"/>
                <a:pathLst>
                  <a:path w="114" h="76">
                    <a:moveTo>
                      <a:pt x="12" y="23"/>
                    </a:moveTo>
                    <a:cubicBezTo>
                      <a:pt x="5" y="34"/>
                      <a:pt x="0" y="60"/>
                      <a:pt x="7" y="68"/>
                    </a:cubicBezTo>
                    <a:cubicBezTo>
                      <a:pt x="14" y="76"/>
                      <a:pt x="40" y="74"/>
                      <a:pt x="57" y="73"/>
                    </a:cubicBezTo>
                    <a:cubicBezTo>
                      <a:pt x="74" y="72"/>
                      <a:pt x="100" y="71"/>
                      <a:pt x="107" y="63"/>
                    </a:cubicBezTo>
                    <a:cubicBezTo>
                      <a:pt x="114" y="55"/>
                      <a:pt x="111" y="33"/>
                      <a:pt x="102" y="23"/>
                    </a:cubicBezTo>
                    <a:cubicBezTo>
                      <a:pt x="93" y="13"/>
                      <a:pt x="66" y="0"/>
                      <a:pt x="52" y="3"/>
                    </a:cubicBezTo>
                    <a:cubicBezTo>
                      <a:pt x="38" y="6"/>
                      <a:pt x="19" y="12"/>
                      <a:pt x="12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010920" y="3041640"/>
              <a:ext cx="133920" cy="953640"/>
              <a:chOff x="6010920" y="3041640"/>
              <a:chExt cx="133920" cy="953640"/>
            </a:xfrm>
          </p:grpSpPr>
          <p:sp>
            <p:nvSpPr>
              <p:cNvPr id="368" name=""/>
              <p:cNvSpPr/>
              <p:nvPr/>
            </p:nvSpPr>
            <p:spPr>
              <a:xfrm>
                <a:off x="6049440" y="3041640"/>
                <a:ext cx="58680" cy="865440"/>
              </a:xfrm>
              <a:custGeom>
                <a:avLst/>
                <a:gdLst>
                  <a:gd name="textAreaLeft" fmla="*/ 8640 w 58680"/>
                  <a:gd name="textAreaRight" fmla="*/ 50040 w 58680"/>
                  <a:gd name="textAreaTop" fmla="*/ 8640 h 865440"/>
                  <a:gd name="textAreaBottom" fmla="*/ 856800 h 865440"/>
                </a:gdLst>
                <a:ahLst/>
                <a:rect l="textAreaLeft" t="textAreaTop" r="textAreaRight" b="textAreaBottom"/>
                <a:pathLst>
                  <a:path w="21600" h="316756">
                    <a:moveTo>
                      <a:pt x="10800" y="0"/>
                    </a:moveTo>
                    <a:arcTo wR="10800" hR="10800" stAng="16200000" swAng="-5400000"/>
                    <a:lnTo>
                      <a:pt x="0" y="305956"/>
                    </a:lnTo>
                    <a:arcTo wR="10800" hR="10800" stAng="10800000" swAng="-5400000"/>
                    <a:lnTo>
                      <a:pt x="10800" y="3167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10920" y="3871440"/>
                <a:ext cx="13392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50160" y="3852720"/>
                <a:ext cx="57960" cy="37080"/>
              </a:xfrm>
              <a:custGeom>
                <a:avLst/>
                <a:gdLst/>
                <a:ahLst/>
                <a:rect l="l" t="t" r="r" b="b"/>
                <a:pathLst>
                  <a:path w="114" h="76">
                    <a:moveTo>
                      <a:pt x="12" y="23"/>
                    </a:moveTo>
                    <a:cubicBezTo>
                      <a:pt x="5" y="34"/>
                      <a:pt x="0" y="60"/>
                      <a:pt x="7" y="68"/>
                    </a:cubicBezTo>
                    <a:cubicBezTo>
                      <a:pt x="14" y="76"/>
                      <a:pt x="40" y="74"/>
                      <a:pt x="57" y="73"/>
                    </a:cubicBezTo>
                    <a:cubicBezTo>
                      <a:pt x="74" y="72"/>
                      <a:pt x="100" y="71"/>
                      <a:pt x="107" y="63"/>
                    </a:cubicBezTo>
                    <a:cubicBezTo>
                      <a:pt x="114" y="55"/>
                      <a:pt x="111" y="33"/>
                      <a:pt x="102" y="23"/>
                    </a:cubicBezTo>
                    <a:cubicBezTo>
                      <a:pt x="93" y="13"/>
                      <a:pt x="66" y="0"/>
                      <a:pt x="52" y="3"/>
                    </a:cubicBezTo>
                    <a:cubicBezTo>
                      <a:pt x="38" y="6"/>
                      <a:pt x="19" y="12"/>
                      <a:pt x="12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300640" y="3081240"/>
              <a:ext cx="233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2600" y="3643920"/>
              <a:ext cx="2145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38600" y="3518640"/>
              <a:ext cx="48240" cy="352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53040" y="3521880"/>
              <a:ext cx="51480" cy="352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493600" y="3151440"/>
              <a:ext cx="659520" cy="595440"/>
              <a:chOff x="5493600" y="3151440"/>
              <a:chExt cx="659520" cy="5954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96480" y="3151440"/>
                <a:ext cx="656640" cy="595440"/>
                <a:chOff x="5496480" y="3151440"/>
                <a:chExt cx="656640" cy="595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496480" y="3151440"/>
                  <a:ext cx="65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99000" y="3746880"/>
                  <a:ext cx="65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5493600" y="3522960"/>
                <a:ext cx="65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6173640" y="3078000"/>
              <a:ext cx="233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67160" y="3681360"/>
              <a:ext cx="233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7200" y="2906640"/>
              <a:ext cx="233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tr-TR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54640" y="3462120"/>
              <a:ext cx="233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63920" y="3452760"/>
              <a:ext cx="233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284640" y="297828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Şekildeki termometre  ölçeklerine göre X sıcaklığı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ç derece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084640" y="5446440"/>
            <a:ext cx="1973160" cy="1123200"/>
            <a:chOff x="5084640" y="5446440"/>
            <a:chExt cx="1973160" cy="1123200"/>
          </a:xfrm>
        </p:grpSpPr>
        <p:sp>
          <p:nvSpPr>
            <p:cNvPr id="387" name=""/>
            <p:cNvSpPr/>
            <p:nvPr/>
          </p:nvSpPr>
          <p:spPr>
            <a:xfrm>
              <a:off x="5084640" y="608328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084640" y="5484960"/>
              <a:ext cx="131760" cy="585000"/>
              <a:chOff x="5084640" y="5484960"/>
              <a:chExt cx="131760" cy="585000"/>
            </a:xfrm>
          </p:grpSpPr>
          <p:sp>
            <p:nvSpPr>
              <p:cNvPr id="389" name=""/>
              <p:cNvSpPr/>
              <p:nvPr/>
            </p:nvSpPr>
            <p:spPr>
              <a:xfrm flipH="1" rot="16200000">
                <a:off x="4824360" y="5744880"/>
                <a:ext cx="585000" cy="65160"/>
              </a:xfrm>
              <a:prstGeom prst="rect">
                <a:avLst/>
              </a:prstGeom>
              <a:gradFill rotWithShape="0">
                <a:gsLst>
                  <a:gs pos="0">
                    <a:srgbClr val="505050"/>
                  </a:gs>
                  <a:gs pos="50000">
                    <a:srgbClr val="ffffff"/>
                  </a:gs>
                  <a:gs pos="100000">
                    <a:srgbClr val="50505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6200000">
                <a:off x="4890960" y="5744880"/>
                <a:ext cx="585000" cy="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5334480" y="608328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16200000">
              <a:off x="5141160" y="5744160"/>
              <a:ext cx="585000" cy="64800"/>
            </a:xfrm>
            <a:prstGeom prst="rect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ffffff"/>
                </a:gs>
                <a:gs pos="100000">
                  <a:srgbClr val="50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16200000">
              <a:off x="5074200" y="5744160"/>
              <a:ext cx="585000" cy="64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5274000" y="5446440"/>
              <a:ext cx="1783800" cy="1123200"/>
              <a:chOff x="5274000" y="5446440"/>
              <a:chExt cx="1783800" cy="112320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5274000" y="5446440"/>
                <a:ext cx="874080" cy="1123200"/>
                <a:chOff x="5274000" y="5446440"/>
                <a:chExt cx="874080" cy="1123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5818320" y="5542200"/>
                  <a:ext cx="225720" cy="548640"/>
                </a:xfrm>
                <a:custGeom>
                  <a:avLst/>
                  <a:gdLst/>
                  <a:ahLst/>
                  <a:rect l="l" t="t" r="r" b="b"/>
                  <a:pathLst>
                    <a:path w="586" h="1371">
                      <a:moveTo>
                        <a:pt x="561" y="1328"/>
                      </a:moveTo>
                      <a:cubicBezTo>
                        <a:pt x="542" y="1371"/>
                        <a:pt x="496" y="1333"/>
                        <a:pt x="471" y="1333"/>
                      </a:cubicBezTo>
                      <a:cubicBezTo>
                        <a:pt x="446" y="1333"/>
                        <a:pt x="421" y="1336"/>
                        <a:pt x="411" y="1328"/>
                      </a:cubicBezTo>
                      <a:cubicBezTo>
                        <a:pt x="401" y="1320"/>
                        <a:pt x="411" y="1305"/>
                        <a:pt x="411" y="1283"/>
                      </a:cubicBezTo>
                      <a:cubicBezTo>
                        <a:pt x="411" y="1261"/>
                        <a:pt x="411" y="1230"/>
                        <a:pt x="411" y="1193"/>
                      </a:cubicBezTo>
                      <a:cubicBezTo>
                        <a:pt x="411" y="1156"/>
                        <a:pt x="414" y="1110"/>
                        <a:pt x="411" y="1063"/>
                      </a:cubicBezTo>
                      <a:cubicBezTo>
                        <a:pt x="408" y="1016"/>
                        <a:pt x="398" y="966"/>
                        <a:pt x="391" y="913"/>
                      </a:cubicBezTo>
                      <a:cubicBezTo>
                        <a:pt x="384" y="860"/>
                        <a:pt x="378" y="798"/>
                        <a:pt x="366" y="743"/>
                      </a:cubicBezTo>
                      <a:cubicBezTo>
                        <a:pt x="354" y="688"/>
                        <a:pt x="342" y="636"/>
                        <a:pt x="321" y="583"/>
                      </a:cubicBezTo>
                      <a:cubicBezTo>
                        <a:pt x="300" y="530"/>
                        <a:pt x="269" y="470"/>
                        <a:pt x="241" y="423"/>
                      </a:cubicBezTo>
                      <a:cubicBezTo>
                        <a:pt x="213" y="376"/>
                        <a:pt x="182" y="333"/>
                        <a:pt x="156" y="298"/>
                      </a:cubicBezTo>
                      <a:cubicBezTo>
                        <a:pt x="130" y="263"/>
                        <a:pt x="107" y="236"/>
                        <a:pt x="86" y="213"/>
                      </a:cubicBezTo>
                      <a:cubicBezTo>
                        <a:pt x="65" y="190"/>
                        <a:pt x="45" y="174"/>
                        <a:pt x="31" y="158"/>
                      </a:cubicBezTo>
                      <a:cubicBezTo>
                        <a:pt x="17" y="142"/>
                        <a:pt x="0" y="137"/>
                        <a:pt x="1" y="118"/>
                      </a:cubicBezTo>
                      <a:cubicBezTo>
                        <a:pt x="2" y="99"/>
                        <a:pt x="27" y="62"/>
                        <a:pt x="36" y="43"/>
                      </a:cubicBezTo>
                      <a:cubicBezTo>
                        <a:pt x="45" y="24"/>
                        <a:pt x="46" y="6"/>
                        <a:pt x="56" y="3"/>
                      </a:cubicBezTo>
                      <a:cubicBezTo>
                        <a:pt x="66" y="0"/>
                        <a:pt x="76" y="16"/>
                        <a:pt x="96" y="28"/>
                      </a:cubicBezTo>
                      <a:cubicBezTo>
                        <a:pt x="116" y="40"/>
                        <a:pt x="147" y="49"/>
                        <a:pt x="176" y="73"/>
                      </a:cubicBezTo>
                      <a:cubicBezTo>
                        <a:pt x="205" y="97"/>
                        <a:pt x="237" y="131"/>
                        <a:pt x="271" y="173"/>
                      </a:cubicBezTo>
                      <a:cubicBezTo>
                        <a:pt x="305" y="215"/>
                        <a:pt x="348" y="267"/>
                        <a:pt x="381" y="323"/>
                      </a:cubicBezTo>
                      <a:cubicBezTo>
                        <a:pt x="414" y="379"/>
                        <a:pt x="446" y="447"/>
                        <a:pt x="471" y="508"/>
                      </a:cubicBezTo>
                      <a:cubicBezTo>
                        <a:pt x="496" y="569"/>
                        <a:pt x="516" y="635"/>
                        <a:pt x="531" y="688"/>
                      </a:cubicBezTo>
                      <a:cubicBezTo>
                        <a:pt x="546" y="741"/>
                        <a:pt x="552" y="764"/>
                        <a:pt x="561" y="828"/>
                      </a:cubicBezTo>
                      <a:cubicBezTo>
                        <a:pt x="570" y="892"/>
                        <a:pt x="586" y="991"/>
                        <a:pt x="586" y="1073"/>
                      </a:cubicBezTo>
                      <a:cubicBezTo>
                        <a:pt x="586" y="1155"/>
                        <a:pt x="580" y="1285"/>
                        <a:pt x="561" y="13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5274000" y="5446440"/>
                  <a:ext cx="874080" cy="1123200"/>
                  <a:chOff x="5274000" y="5446440"/>
                  <a:chExt cx="874080" cy="1123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282600">
                    <a:off x="5402880" y="5473440"/>
                    <a:ext cx="704520" cy="102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035" y="234"/>
                        </a:moveTo>
                        <a:arcTo wR="10800" hR="10800" stAng="-4683514" swAng="51198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035" y="234"/>
                        </a:moveTo>
                        <a:arcTo wR="10800" hR="10800" stAng="-4683514" swAng="51198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282600">
                    <a:off x="5378400" y="5512320"/>
                    <a:ext cx="663480" cy="100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16" y="490"/>
                        </a:moveTo>
                        <a:arcTo wR="10800" hR="10800" stAng="-4360443" swAng="45705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16" y="490"/>
                        </a:moveTo>
                        <a:arcTo wR="10800" hR="10800" stAng="-4360443" swAng="45705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82600">
                    <a:off x="5313960" y="5539680"/>
                    <a:ext cx="663480" cy="10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88" y="932"/>
                        </a:moveTo>
                        <a:arcTo wR="10800" hR="10800" stAng="-3961549" swAng="39983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88" y="932"/>
                        </a:moveTo>
                        <a:arcTo wR="10800" hR="10800" stAng="-3961549" swAng="399830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>
                    <a:off x="5816880" y="5491440"/>
                    <a:ext cx="51840" cy="9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5977080" y="6077520"/>
                    <a:ext cx="12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"/>
              <p:cNvGrpSpPr/>
              <p:nvPr/>
            </p:nvGrpSpPr>
            <p:grpSpPr>
              <a:xfrm>
                <a:off x="6184080" y="5446440"/>
                <a:ext cx="873720" cy="1123200"/>
                <a:chOff x="6184080" y="5446440"/>
                <a:chExt cx="873720" cy="1123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222960" y="5493600"/>
                  <a:ext cx="270000" cy="591840"/>
                </a:xfrm>
                <a:custGeom>
                  <a:avLst/>
                  <a:gdLst/>
                  <a:ahLst/>
                  <a:rect l="l" t="t" r="r" b="b"/>
                  <a:pathLst>
                    <a:path w="700" h="1479">
                      <a:moveTo>
                        <a:pt x="162" y="1454"/>
                      </a:moveTo>
                      <a:cubicBezTo>
                        <a:pt x="145" y="1479"/>
                        <a:pt x="90" y="1454"/>
                        <a:pt x="67" y="1454"/>
                      </a:cubicBezTo>
                      <a:cubicBezTo>
                        <a:pt x="44" y="1454"/>
                        <a:pt x="29" y="1461"/>
                        <a:pt x="22" y="1454"/>
                      </a:cubicBezTo>
                      <a:cubicBezTo>
                        <a:pt x="15" y="1447"/>
                        <a:pt x="25" y="1440"/>
                        <a:pt x="22" y="1409"/>
                      </a:cubicBezTo>
                      <a:cubicBezTo>
                        <a:pt x="19" y="1378"/>
                        <a:pt x="4" y="1321"/>
                        <a:pt x="2" y="1269"/>
                      </a:cubicBezTo>
                      <a:cubicBezTo>
                        <a:pt x="0" y="1217"/>
                        <a:pt x="4" y="1165"/>
                        <a:pt x="7" y="1099"/>
                      </a:cubicBezTo>
                      <a:cubicBezTo>
                        <a:pt x="10" y="1033"/>
                        <a:pt x="11" y="946"/>
                        <a:pt x="22" y="874"/>
                      </a:cubicBezTo>
                      <a:cubicBezTo>
                        <a:pt x="33" y="802"/>
                        <a:pt x="53" y="731"/>
                        <a:pt x="72" y="669"/>
                      </a:cubicBezTo>
                      <a:cubicBezTo>
                        <a:pt x="91" y="607"/>
                        <a:pt x="115" y="554"/>
                        <a:pt x="137" y="504"/>
                      </a:cubicBezTo>
                      <a:cubicBezTo>
                        <a:pt x="159" y="454"/>
                        <a:pt x="173" y="415"/>
                        <a:pt x="202" y="369"/>
                      </a:cubicBezTo>
                      <a:cubicBezTo>
                        <a:pt x="231" y="323"/>
                        <a:pt x="278" y="269"/>
                        <a:pt x="312" y="229"/>
                      </a:cubicBezTo>
                      <a:cubicBezTo>
                        <a:pt x="346" y="189"/>
                        <a:pt x="372" y="160"/>
                        <a:pt x="407" y="129"/>
                      </a:cubicBezTo>
                      <a:cubicBezTo>
                        <a:pt x="442" y="98"/>
                        <a:pt x="488" y="65"/>
                        <a:pt x="522" y="44"/>
                      </a:cubicBezTo>
                      <a:cubicBezTo>
                        <a:pt x="556" y="23"/>
                        <a:pt x="591" y="8"/>
                        <a:pt x="612" y="4"/>
                      </a:cubicBezTo>
                      <a:cubicBezTo>
                        <a:pt x="633" y="0"/>
                        <a:pt x="638" y="7"/>
                        <a:pt x="647" y="19"/>
                      </a:cubicBezTo>
                      <a:cubicBezTo>
                        <a:pt x="656" y="31"/>
                        <a:pt x="660" y="64"/>
                        <a:pt x="667" y="79"/>
                      </a:cubicBezTo>
                      <a:cubicBezTo>
                        <a:pt x="674" y="94"/>
                        <a:pt x="700" y="96"/>
                        <a:pt x="692" y="109"/>
                      </a:cubicBezTo>
                      <a:cubicBezTo>
                        <a:pt x="684" y="122"/>
                        <a:pt x="650" y="132"/>
                        <a:pt x="617" y="159"/>
                      </a:cubicBezTo>
                      <a:cubicBezTo>
                        <a:pt x="584" y="186"/>
                        <a:pt x="538" y="213"/>
                        <a:pt x="492" y="269"/>
                      </a:cubicBezTo>
                      <a:cubicBezTo>
                        <a:pt x="446" y="325"/>
                        <a:pt x="385" y="417"/>
                        <a:pt x="342" y="494"/>
                      </a:cubicBezTo>
                      <a:cubicBezTo>
                        <a:pt x="299" y="571"/>
                        <a:pt x="260" y="644"/>
                        <a:pt x="232" y="734"/>
                      </a:cubicBezTo>
                      <a:cubicBezTo>
                        <a:pt x="204" y="824"/>
                        <a:pt x="183" y="939"/>
                        <a:pt x="172" y="1034"/>
                      </a:cubicBezTo>
                      <a:cubicBezTo>
                        <a:pt x="161" y="1129"/>
                        <a:pt x="168" y="1237"/>
                        <a:pt x="167" y="1304"/>
                      </a:cubicBezTo>
                      <a:cubicBezTo>
                        <a:pt x="166" y="1371"/>
                        <a:pt x="179" y="1429"/>
                        <a:pt x="162" y="1454"/>
                      </a:cubicBezTo>
                      <a:close/>
                    </a:path>
                  </a:pathLst>
                </a:custGeom>
                <a:blipFill rotWithShape="0">
                  <a:blip r:embed="rId2">
                    <a:alphaModFix amt="90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6287400" y="5542200"/>
                  <a:ext cx="225720" cy="548640"/>
                </a:xfrm>
                <a:custGeom>
                  <a:avLst/>
                  <a:gdLst/>
                  <a:ahLst/>
                  <a:rect l="l" t="t" r="r" b="b"/>
                  <a:pathLst>
                    <a:path w="586" h="1371">
                      <a:moveTo>
                        <a:pt x="561" y="1328"/>
                      </a:moveTo>
                      <a:cubicBezTo>
                        <a:pt x="542" y="1371"/>
                        <a:pt x="496" y="1333"/>
                        <a:pt x="471" y="1333"/>
                      </a:cubicBezTo>
                      <a:cubicBezTo>
                        <a:pt x="446" y="1333"/>
                        <a:pt x="421" y="1336"/>
                        <a:pt x="411" y="1328"/>
                      </a:cubicBezTo>
                      <a:cubicBezTo>
                        <a:pt x="401" y="1320"/>
                        <a:pt x="411" y="1305"/>
                        <a:pt x="411" y="1283"/>
                      </a:cubicBezTo>
                      <a:cubicBezTo>
                        <a:pt x="411" y="1261"/>
                        <a:pt x="411" y="1230"/>
                        <a:pt x="411" y="1193"/>
                      </a:cubicBezTo>
                      <a:cubicBezTo>
                        <a:pt x="411" y="1156"/>
                        <a:pt x="414" y="1110"/>
                        <a:pt x="411" y="1063"/>
                      </a:cubicBezTo>
                      <a:cubicBezTo>
                        <a:pt x="408" y="1016"/>
                        <a:pt x="398" y="966"/>
                        <a:pt x="391" y="913"/>
                      </a:cubicBezTo>
                      <a:cubicBezTo>
                        <a:pt x="384" y="860"/>
                        <a:pt x="378" y="798"/>
                        <a:pt x="366" y="743"/>
                      </a:cubicBezTo>
                      <a:cubicBezTo>
                        <a:pt x="354" y="688"/>
                        <a:pt x="342" y="636"/>
                        <a:pt x="321" y="583"/>
                      </a:cubicBezTo>
                      <a:cubicBezTo>
                        <a:pt x="300" y="530"/>
                        <a:pt x="269" y="470"/>
                        <a:pt x="241" y="423"/>
                      </a:cubicBezTo>
                      <a:cubicBezTo>
                        <a:pt x="213" y="376"/>
                        <a:pt x="182" y="333"/>
                        <a:pt x="156" y="298"/>
                      </a:cubicBezTo>
                      <a:cubicBezTo>
                        <a:pt x="130" y="263"/>
                        <a:pt x="107" y="236"/>
                        <a:pt x="86" y="213"/>
                      </a:cubicBezTo>
                      <a:cubicBezTo>
                        <a:pt x="65" y="190"/>
                        <a:pt x="45" y="174"/>
                        <a:pt x="31" y="158"/>
                      </a:cubicBezTo>
                      <a:cubicBezTo>
                        <a:pt x="17" y="142"/>
                        <a:pt x="0" y="137"/>
                        <a:pt x="1" y="118"/>
                      </a:cubicBezTo>
                      <a:cubicBezTo>
                        <a:pt x="2" y="99"/>
                        <a:pt x="27" y="62"/>
                        <a:pt x="36" y="43"/>
                      </a:cubicBezTo>
                      <a:cubicBezTo>
                        <a:pt x="45" y="24"/>
                        <a:pt x="46" y="6"/>
                        <a:pt x="56" y="3"/>
                      </a:cubicBezTo>
                      <a:cubicBezTo>
                        <a:pt x="66" y="0"/>
                        <a:pt x="76" y="16"/>
                        <a:pt x="96" y="28"/>
                      </a:cubicBezTo>
                      <a:cubicBezTo>
                        <a:pt x="116" y="40"/>
                        <a:pt x="147" y="49"/>
                        <a:pt x="176" y="73"/>
                      </a:cubicBezTo>
                      <a:cubicBezTo>
                        <a:pt x="205" y="97"/>
                        <a:pt x="237" y="131"/>
                        <a:pt x="271" y="173"/>
                      </a:cubicBezTo>
                      <a:cubicBezTo>
                        <a:pt x="305" y="215"/>
                        <a:pt x="348" y="267"/>
                        <a:pt x="381" y="323"/>
                      </a:cubicBezTo>
                      <a:cubicBezTo>
                        <a:pt x="414" y="379"/>
                        <a:pt x="446" y="447"/>
                        <a:pt x="471" y="508"/>
                      </a:cubicBezTo>
                      <a:cubicBezTo>
                        <a:pt x="496" y="569"/>
                        <a:pt x="516" y="635"/>
                        <a:pt x="531" y="688"/>
                      </a:cubicBezTo>
                      <a:cubicBezTo>
                        <a:pt x="546" y="741"/>
                        <a:pt x="552" y="764"/>
                        <a:pt x="561" y="828"/>
                      </a:cubicBezTo>
                      <a:cubicBezTo>
                        <a:pt x="570" y="892"/>
                        <a:pt x="586" y="991"/>
                        <a:pt x="586" y="1073"/>
                      </a:cubicBezTo>
                      <a:cubicBezTo>
                        <a:pt x="586" y="1155"/>
                        <a:pt x="580" y="1285"/>
                        <a:pt x="561" y="13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" name=""/>
                <p:cNvGrpSpPr/>
                <p:nvPr/>
              </p:nvGrpSpPr>
              <p:grpSpPr>
                <a:xfrm>
                  <a:off x="6184080" y="5446440"/>
                  <a:ext cx="873720" cy="1123200"/>
                  <a:chOff x="6184080" y="5446440"/>
                  <a:chExt cx="873720" cy="11232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H="1" rot="21317400">
                    <a:off x="6225120" y="5473440"/>
                    <a:ext cx="704520" cy="102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035" y="234"/>
                        </a:moveTo>
                        <a:arcTo wR="10800" hR="10800" stAng="-4683514" swAng="51198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035" y="234"/>
                        </a:moveTo>
                        <a:arcTo wR="10800" hR="10800" stAng="-4683514" swAng="51198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rot="21317400">
                    <a:off x="6289200" y="5512320"/>
                    <a:ext cx="663480" cy="100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16" y="490"/>
                        </a:moveTo>
                        <a:arcTo wR="10800" hR="10800" stAng="-4360443" swAng="45705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16" y="490"/>
                        </a:moveTo>
                        <a:arcTo wR="10800" hR="10800" stAng="-4360443" swAng="457051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21317400">
                    <a:off x="6353640" y="5539680"/>
                    <a:ext cx="663480" cy="10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88" y="932"/>
                        </a:moveTo>
                        <a:arcTo wR="10800" hR="10800" stAng="-3961549" swAng="39983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88" y="932"/>
                        </a:moveTo>
                        <a:arcTo wR="10800" hR="10800" stAng="-3961549" swAng="399830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463440" y="5491440"/>
                    <a:ext cx="51840" cy="9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6231960" y="6077520"/>
                    <a:ext cx="12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2" name=""/>
            <p:cNvSpPr/>
            <p:nvPr/>
          </p:nvSpPr>
          <p:spPr>
            <a:xfrm>
              <a:off x="5978160" y="609588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  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28360" y="6095880"/>
              <a:ext cx="212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54120" y="6253200"/>
              <a:ext cx="1381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Şekil I                   Şekil I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214800" y="5436360"/>
            <a:ext cx="17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Şekil I' deki   XY  çifti  ısıtılıp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ZX  çifti  soğutulunca Şekil II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deki durum oluşuyo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Buna  göre,  X, Y, Z  n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uzama katsayıları  arasında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Arial"/>
              </a:rPr>
              <a:t>ilişki ned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35:50Z</dcterms:created>
  <dc:creator>Sermuh</dc:creator>
  <dc:description/>
  <dc:language>en-US</dc:language>
  <cp:lastModifiedBy>Win7</cp:lastModifiedBy>
  <dcterms:modified xsi:type="dcterms:W3CDTF">2011-10-29T09:32:43Z</dcterms:modified>
  <cp:revision>91</cp:revision>
  <dc:subject/>
  <dc:title>Slayt 1</dc:title>
</cp:coreProperties>
</file>