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4FC-E462-4A0A-8B1F-632414BD210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E41-5BCC-45D5-80C2-FEF596E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A83-87A7-439F-8511-C47E89D6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F03-4970-4053-B7F4-7B942DBD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1AF-DFDD-4CEB-A4D4-B5C942E9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64C-87F1-446B-8E87-FDC00CC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3C8-83C3-40B5-935A-F0FF8C1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601-1E8C-45DA-935B-23A2864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B88-8FFF-4E26-B74C-634D5A4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0FF-F5FF-42F2-A46B-4934788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FBD-FFF2-4FEE-97C3-AD74EF4E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BF3-3C10-4F79-B8FC-D913D7D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0D3-A688-4709-B218-A89CE61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4FF-2843-43C9-9AF0-1F2E34A3E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9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etin kutusu"/>
          <p:cNvSpPr/>
          <p:nvPr/>
        </p:nvSpPr>
        <p:spPr>
          <a:xfrm>
            <a:off x="189000" y="52434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81360" y="5508720"/>
            <a:ext cx="554040" cy="215640"/>
            <a:chOff x="2781360" y="5508720"/>
            <a:chExt cx="554040" cy="215640"/>
          </a:xfrm>
        </p:grpSpPr>
        <p:sp>
          <p:nvSpPr>
            <p:cNvPr id="54" name=""/>
            <p:cNvSpPr/>
            <p:nvPr/>
          </p:nvSpPr>
          <p:spPr>
            <a:xfrm>
              <a:off x="2852640" y="57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81360" y="550872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52640" y="5940360"/>
            <a:ext cx="434880" cy="95400"/>
            <a:chOff x="2852640" y="5940360"/>
            <a:chExt cx="434880" cy="95400"/>
          </a:xfrm>
        </p:grpSpPr>
        <p:sp>
          <p:nvSpPr>
            <p:cNvPr id="57" name=""/>
            <p:cNvSpPr/>
            <p:nvPr/>
          </p:nvSpPr>
          <p:spPr>
            <a:xfrm>
              <a:off x="285264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872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52640" y="6156360"/>
            <a:ext cx="434880" cy="95040"/>
            <a:chOff x="2852640" y="6156360"/>
            <a:chExt cx="434880" cy="95040"/>
          </a:xfrm>
        </p:grpSpPr>
        <p:sp>
          <p:nvSpPr>
            <p:cNvPr id="60" name=""/>
            <p:cNvSpPr/>
            <p:nvPr/>
          </p:nvSpPr>
          <p:spPr>
            <a:xfrm>
              <a:off x="285264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6872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52640" y="6566040"/>
            <a:ext cx="434880" cy="95040"/>
            <a:chOff x="2852640" y="6566040"/>
            <a:chExt cx="434880" cy="95040"/>
          </a:xfrm>
        </p:grpSpPr>
        <p:sp>
          <p:nvSpPr>
            <p:cNvPr id="63" name=""/>
            <p:cNvSpPr/>
            <p:nvPr/>
          </p:nvSpPr>
          <p:spPr>
            <a:xfrm>
              <a:off x="285264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6872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52640" y="6732720"/>
            <a:ext cx="434880" cy="95040"/>
            <a:chOff x="2852640" y="6732720"/>
            <a:chExt cx="434880" cy="95040"/>
          </a:xfrm>
        </p:grpSpPr>
        <p:sp>
          <p:nvSpPr>
            <p:cNvPr id="66" name=""/>
            <p:cNvSpPr/>
            <p:nvPr/>
          </p:nvSpPr>
          <p:spPr>
            <a:xfrm>
              <a:off x="285264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6872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52640" y="6948360"/>
            <a:ext cx="434880" cy="95400"/>
            <a:chOff x="2852640" y="6948360"/>
            <a:chExt cx="434880" cy="95400"/>
          </a:xfrm>
        </p:grpSpPr>
        <p:sp>
          <p:nvSpPr>
            <p:cNvPr id="69" name=""/>
            <p:cNvSpPr/>
            <p:nvPr/>
          </p:nvSpPr>
          <p:spPr>
            <a:xfrm>
              <a:off x="285264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872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52640" y="7332840"/>
            <a:ext cx="434880" cy="95040"/>
            <a:chOff x="2852640" y="7332840"/>
            <a:chExt cx="434880" cy="95040"/>
          </a:xfrm>
        </p:grpSpPr>
        <p:sp>
          <p:nvSpPr>
            <p:cNvPr id="72" name=""/>
            <p:cNvSpPr/>
            <p:nvPr/>
          </p:nvSpPr>
          <p:spPr>
            <a:xfrm>
              <a:off x="285264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872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852640" y="8317080"/>
            <a:ext cx="434880" cy="95040"/>
            <a:chOff x="2852640" y="8317080"/>
            <a:chExt cx="434880" cy="95040"/>
          </a:xfrm>
        </p:grpSpPr>
        <p:sp>
          <p:nvSpPr>
            <p:cNvPr id="75" name=""/>
            <p:cNvSpPr/>
            <p:nvPr/>
          </p:nvSpPr>
          <p:spPr>
            <a:xfrm>
              <a:off x="285264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6872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2640" y="8101080"/>
            <a:ext cx="434880" cy="95040"/>
            <a:chOff x="2852640" y="8101080"/>
            <a:chExt cx="434880" cy="95040"/>
          </a:xfrm>
        </p:grpSpPr>
        <p:sp>
          <p:nvSpPr>
            <p:cNvPr id="78" name=""/>
            <p:cNvSpPr/>
            <p:nvPr/>
          </p:nvSpPr>
          <p:spPr>
            <a:xfrm>
              <a:off x="285264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6872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852640" y="7716960"/>
            <a:ext cx="434880" cy="95040"/>
            <a:chOff x="2852640" y="7716960"/>
            <a:chExt cx="434880" cy="95040"/>
          </a:xfrm>
        </p:grpSpPr>
        <p:sp>
          <p:nvSpPr>
            <p:cNvPr id="81" name=""/>
            <p:cNvSpPr/>
            <p:nvPr/>
          </p:nvSpPr>
          <p:spPr>
            <a:xfrm>
              <a:off x="285264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872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852640" y="7548480"/>
            <a:ext cx="434880" cy="95400"/>
            <a:chOff x="2852640" y="7548480"/>
            <a:chExt cx="434880" cy="95400"/>
          </a:xfrm>
        </p:grpSpPr>
        <p:sp>
          <p:nvSpPr>
            <p:cNvPr id="84" name=""/>
            <p:cNvSpPr/>
            <p:nvPr/>
          </p:nvSpPr>
          <p:spPr>
            <a:xfrm>
              <a:off x="285264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872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4440" y="17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200" y="1909080"/>
            <a:ext cx="32418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Bir ölçü aleti kullanmadan yapılan gözleme ………………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zlem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Buzun erimesini inceleyen fiziğin dalına …………………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.  Bilimin dili  ……………………..tir.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Elektrik akımını ölçmek için kullanılan araca ...……………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Eşit kollu terazi ile cisimlerin ……………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Uzunluk birimleri ……….büyür ……….kü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Zaman …………..bir büyüklükt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Metrenin 1000 katına ……………….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Bir ölçü aracının gerçeğinden farklı ölçmesin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ölçmede..……….deni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Elektrik akım birimi ………........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etin kutusu"/>
          <p:cNvSpPr/>
          <p:nvPr/>
        </p:nvSpPr>
        <p:spPr>
          <a:xfrm>
            <a:off x="3429000" y="149868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5000" y="2844720"/>
            <a:ext cx="292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sel çalışma yönteminin basamakların sırayla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30800" y="19080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6280" y="190800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 adamının özelliklerinden iki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30800" y="28447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Metin kutusu"/>
          <p:cNvSpPr/>
          <p:nvPr/>
        </p:nvSpPr>
        <p:spPr>
          <a:xfrm>
            <a:off x="189000" y="5651640"/>
            <a:ext cx="273528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gün hava çok sıcak diyen öğrenci nit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özlem yapmışt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       Işığı inceleyen fiziğin dalına atom fiziği 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r ölçü aleti kullanılarak  yapılan gözle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el gözlem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        Mekanik fiziğin bir alt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         Fizik uygulamalı bir bilim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potezin kesin doğruluğunun ispatlanmış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ine yasa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         “Yarın hava güzel olabilir.” cümlesi bir hipotez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         Bilimde modelleme düşünme kolaylığı sağl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el gözlemler, nitel gözlemlerden dah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sin sonuç ver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       Bilim adamı şüpheci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30800" y="42130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45000" y="4213080"/>
            <a:ext cx="184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tel gözlem nedir? Bir örnek verini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0" y="5294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45000" y="5294160"/>
            <a:ext cx="184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el birimlerden 5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080" y="63723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14840" y="637236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olarda verilen kavramları oklarla  eşleştiriniz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16280" y="815832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ükleer Fiz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16280" y="79455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Katıhal Fiziğ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16280" y="77328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 Fiziğ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6280" y="75200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modinam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280" y="73072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16280" y="7094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anyetiz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6280" y="68817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kan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16280" y="68817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7094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16280" y="7307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16280" y="7520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6280" y="7732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16280" y="79455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16280" y="81583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16280" y="837072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6280" y="688176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688176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6280" y="6659640"/>
            <a:ext cx="100800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ziğin Alt Bilim Dal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665964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68770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16280" y="66596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66596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00640" y="81486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are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00640" y="79358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00640" y="77230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ıknatı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00640" y="75103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00640" y="72975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atı Mad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00640" y="708516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00640" y="68724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00640" y="687240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00640" y="70851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72975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00640" y="75103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00640" y="7723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00640" y="7935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81486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00640" y="83613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00640" y="68724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8640" y="68724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00640" y="6659640"/>
            <a:ext cx="10065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İncelediği Ko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00640" y="665964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0640" y="687708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00640" y="66596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7200" y="66596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12 Düz Bağlayıcı"/>
          <p:cNvSpPr/>
          <p:nvPr/>
        </p:nvSpPr>
        <p:spPr>
          <a:xfrm>
            <a:off x="328464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1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080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800" y="27018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0800" y="41497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4640" y="27003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sel çalışma yönteminin basamakların sırayla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5952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71920" y="82692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olarda verilen kavramları oklarla  eşleştiriniz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73360" y="2846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73360" y="26337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ıcaklı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3360" y="24210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k şidde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73360" y="22082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uvv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73360" y="19954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zun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73360" y="17827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ktrik Akım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73360" y="15699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ü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73360" y="15699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73360" y="1782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73360" y="1995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73360" y="22082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7336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73360" y="2633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573360" y="2846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73360" y="3059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573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81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73360" y="1347840"/>
            <a:ext cx="100800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ziğin Alt Bilim Dal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73360" y="1565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73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81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57720" y="28368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57720" y="26240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57720" y="24112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57720" y="2198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t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57720" y="198612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mper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57720" y="17733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a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57720" y="15606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ina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57720" y="156060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5772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57720" y="1986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57720" y="2198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57720" y="2411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57720" y="2624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57720" y="283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57720" y="30495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57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65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57720" y="1347840"/>
            <a:ext cx="10065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İncelediği Ko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57720" y="134784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57720" y="156528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5772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6428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6280" y="414036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.     İv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I.    Zam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II.   Hı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V.   Kuvv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V.    Kü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Yukarıda verilen büyüklüklerden hangile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skaler büyüklüktü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4640" y="82692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 adamının özelliklerinden iki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2 Düz Bağlayıcı"/>
          <p:cNvSpPr/>
          <p:nvPr/>
        </p:nvSpPr>
        <p:spPr>
          <a:xfrm>
            <a:off x="321300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1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4640" y="82692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Ölçmede hatanın dört nedeninden iki 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4640" y="2484360"/>
            <a:ext cx="13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78 m kaç mm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" y="248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6280" y="4427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asır kaç ay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" y="4427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9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Metin kutusu"/>
          <p:cNvSpPr/>
          <p:nvPr/>
        </p:nvSpPr>
        <p:spPr>
          <a:xfrm>
            <a:off x="189000" y="52434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781360" y="5508720"/>
            <a:ext cx="554040" cy="215640"/>
            <a:chOff x="2781360" y="5508720"/>
            <a:chExt cx="554040" cy="215640"/>
          </a:xfrm>
        </p:grpSpPr>
        <p:sp>
          <p:nvSpPr>
            <p:cNvPr id="162" name=""/>
            <p:cNvSpPr/>
            <p:nvPr/>
          </p:nvSpPr>
          <p:spPr>
            <a:xfrm>
              <a:off x="2852640" y="57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1360" y="550872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852640" y="5940360"/>
            <a:ext cx="434880" cy="95400"/>
            <a:chOff x="2852640" y="5940360"/>
            <a:chExt cx="434880" cy="95400"/>
          </a:xfrm>
        </p:grpSpPr>
        <p:sp>
          <p:nvSpPr>
            <p:cNvPr id="165" name=""/>
            <p:cNvSpPr/>
            <p:nvPr/>
          </p:nvSpPr>
          <p:spPr>
            <a:xfrm>
              <a:off x="285264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6872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52640" y="6156360"/>
            <a:ext cx="434880" cy="95040"/>
            <a:chOff x="2852640" y="6156360"/>
            <a:chExt cx="434880" cy="95040"/>
          </a:xfrm>
        </p:grpSpPr>
        <p:sp>
          <p:nvSpPr>
            <p:cNvPr id="168" name=""/>
            <p:cNvSpPr/>
            <p:nvPr/>
          </p:nvSpPr>
          <p:spPr>
            <a:xfrm>
              <a:off x="285264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872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852640" y="6566040"/>
            <a:ext cx="434880" cy="95040"/>
            <a:chOff x="2852640" y="6566040"/>
            <a:chExt cx="434880" cy="95040"/>
          </a:xfrm>
        </p:grpSpPr>
        <p:sp>
          <p:nvSpPr>
            <p:cNvPr id="171" name=""/>
            <p:cNvSpPr/>
            <p:nvPr/>
          </p:nvSpPr>
          <p:spPr>
            <a:xfrm>
              <a:off x="285264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6872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52640" y="6732720"/>
            <a:ext cx="434880" cy="95040"/>
            <a:chOff x="2852640" y="6732720"/>
            <a:chExt cx="434880" cy="95040"/>
          </a:xfrm>
        </p:grpSpPr>
        <p:sp>
          <p:nvSpPr>
            <p:cNvPr id="174" name=""/>
            <p:cNvSpPr/>
            <p:nvPr/>
          </p:nvSpPr>
          <p:spPr>
            <a:xfrm>
              <a:off x="285264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872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52640" y="6948360"/>
            <a:ext cx="434880" cy="95400"/>
            <a:chOff x="2852640" y="6948360"/>
            <a:chExt cx="434880" cy="95400"/>
          </a:xfrm>
        </p:grpSpPr>
        <p:sp>
          <p:nvSpPr>
            <p:cNvPr id="177" name=""/>
            <p:cNvSpPr/>
            <p:nvPr/>
          </p:nvSpPr>
          <p:spPr>
            <a:xfrm>
              <a:off x="285264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872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52640" y="7332840"/>
            <a:ext cx="434880" cy="95040"/>
            <a:chOff x="2852640" y="7332840"/>
            <a:chExt cx="434880" cy="95040"/>
          </a:xfrm>
        </p:grpSpPr>
        <p:sp>
          <p:nvSpPr>
            <p:cNvPr id="180" name=""/>
            <p:cNvSpPr/>
            <p:nvPr/>
          </p:nvSpPr>
          <p:spPr>
            <a:xfrm>
              <a:off x="285264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872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852640" y="8317080"/>
            <a:ext cx="434880" cy="95040"/>
            <a:chOff x="2852640" y="8317080"/>
            <a:chExt cx="434880" cy="95040"/>
          </a:xfrm>
        </p:grpSpPr>
        <p:sp>
          <p:nvSpPr>
            <p:cNvPr id="183" name=""/>
            <p:cNvSpPr/>
            <p:nvPr/>
          </p:nvSpPr>
          <p:spPr>
            <a:xfrm>
              <a:off x="285264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6872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52640" y="8101080"/>
            <a:ext cx="434880" cy="95040"/>
            <a:chOff x="2852640" y="8101080"/>
            <a:chExt cx="434880" cy="95040"/>
          </a:xfrm>
        </p:grpSpPr>
        <p:sp>
          <p:nvSpPr>
            <p:cNvPr id="186" name=""/>
            <p:cNvSpPr/>
            <p:nvPr/>
          </p:nvSpPr>
          <p:spPr>
            <a:xfrm>
              <a:off x="285264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6872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52640" y="7716960"/>
            <a:ext cx="434880" cy="95040"/>
            <a:chOff x="2852640" y="7716960"/>
            <a:chExt cx="434880" cy="95040"/>
          </a:xfrm>
        </p:grpSpPr>
        <p:sp>
          <p:nvSpPr>
            <p:cNvPr id="189" name=""/>
            <p:cNvSpPr/>
            <p:nvPr/>
          </p:nvSpPr>
          <p:spPr>
            <a:xfrm>
              <a:off x="285264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6872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852640" y="7548480"/>
            <a:ext cx="434880" cy="95400"/>
            <a:chOff x="2852640" y="7548480"/>
            <a:chExt cx="434880" cy="95400"/>
          </a:xfrm>
        </p:grpSpPr>
        <p:sp>
          <p:nvSpPr>
            <p:cNvPr id="192" name=""/>
            <p:cNvSpPr/>
            <p:nvPr/>
          </p:nvSpPr>
          <p:spPr>
            <a:xfrm>
              <a:off x="285264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6872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4440" y="17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7200" y="1910880"/>
            <a:ext cx="30974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 Ölçü aleti kullanılarak yapılan gözleme ………………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zlem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 Işığı inceleyen fiziğin alt dalına …………………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    Bir ölçü aracının gerçeğinden farklı ölçmesine  ölçme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..………… deni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Sıcaklık ölçen araca ...……………….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Hız  bir ……………………… büyüklükt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Alan birimleri ……………….büyür, ………………kü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Terazi ile  cisimlerin  ……………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 Milimetrenin 1000 katına ……………….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 Bilimin dili  ……………………..t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 Sıcaklık birimi ………................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Metin kutusu"/>
          <p:cNvSpPr/>
          <p:nvPr/>
        </p:nvSpPr>
        <p:spPr>
          <a:xfrm>
            <a:off x="3429000" y="149868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0" y="19080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30800" y="2989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4 Metin kutusu"/>
          <p:cNvSpPr/>
          <p:nvPr/>
        </p:nvSpPr>
        <p:spPr>
          <a:xfrm>
            <a:off x="189000" y="5651640"/>
            <a:ext cx="309564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 Bugün hava çok sıcak diyen öğrenci nic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özlem yapmışt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 Atomu inceleyen fiziğin dalına atom fiziği 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 Bir ölçü aleti kullanılarak  yapılan gözle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tel gözlem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  Elektrik fiziğin bir alt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   Fizik uygulamalı bir bilim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   Isı ve sıcaklığı inceleyen fiziğin alt dalı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odinamik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  “Bu kış hava sıcak geçecek.” cümlesi bir hipotez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   Bilimde modelleme düşünme kolaylığı sağl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   Nicel gözlemler, nitel gözlemlerden dah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sin sonuç ver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 Bilim adamı şüpheci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0800" y="40705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15920" y="1908000"/>
            <a:ext cx="186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el gözlem nedir? Bir örnek verini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30800" y="572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16280" y="2987640"/>
            <a:ext cx="184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el birimlerden 5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9360" y="406872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,126 km kaç cm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6280" y="572616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aat kaç salise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2 Düz Bağlayıcı"/>
          <p:cNvSpPr/>
          <p:nvPr/>
        </p:nvSpPr>
        <p:spPr>
          <a:xfrm>
            <a:off x="328464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1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640" y="363528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Ölçmede hatanın dört nedeninden iki 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" y="36370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" y="5005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4640" y="8269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sel çalışma yönteminin basamakların sırayla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6280" y="500544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 adamının özelliklerinden iki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952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82692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olarda verilen kavramları oklarla  eşleştiriniz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3360" y="2846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ükleer Fiz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3360" y="26337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 Fiziğ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73360" y="24210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Katıhal Fiziğ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73360" y="22082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modinam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73360" y="19954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73360" y="17827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anyetiz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73360" y="15699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kan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3360" y="15699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73360" y="1782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73360" y="1995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73360" y="22082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7336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73360" y="2633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3360" y="2846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73360" y="3059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73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1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73360" y="1347840"/>
            <a:ext cx="100800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ziğin Alt Bilim Dal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73360" y="1565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3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81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57720" y="28368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7720" y="26240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57720" y="24112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ıknatı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57720" y="2198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57720" y="198612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atı Mad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57720" y="17733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57720" y="15606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are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57720" y="156060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5772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57720" y="1986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57720" y="2198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7720" y="2411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7720" y="2624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57720" y="283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57720" y="30495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7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65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57720" y="1347840"/>
            <a:ext cx="10065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İncelediği Ko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57720" y="134784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57720" y="156528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772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428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9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 Metin kutusu"/>
          <p:cNvSpPr/>
          <p:nvPr/>
        </p:nvSpPr>
        <p:spPr>
          <a:xfrm>
            <a:off x="189000" y="52434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781360" y="5508720"/>
            <a:ext cx="554040" cy="215640"/>
            <a:chOff x="2781360" y="5508720"/>
            <a:chExt cx="554040" cy="215640"/>
          </a:xfrm>
        </p:grpSpPr>
        <p:sp>
          <p:nvSpPr>
            <p:cNvPr id="269" name=""/>
            <p:cNvSpPr/>
            <p:nvPr/>
          </p:nvSpPr>
          <p:spPr>
            <a:xfrm>
              <a:off x="2852640" y="57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550872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852640" y="5940360"/>
            <a:ext cx="434880" cy="95400"/>
            <a:chOff x="2852640" y="5940360"/>
            <a:chExt cx="434880" cy="95400"/>
          </a:xfrm>
        </p:grpSpPr>
        <p:sp>
          <p:nvSpPr>
            <p:cNvPr id="272" name=""/>
            <p:cNvSpPr/>
            <p:nvPr/>
          </p:nvSpPr>
          <p:spPr>
            <a:xfrm>
              <a:off x="285264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6872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852640" y="6156360"/>
            <a:ext cx="434880" cy="95040"/>
            <a:chOff x="2852640" y="6156360"/>
            <a:chExt cx="434880" cy="95040"/>
          </a:xfrm>
        </p:grpSpPr>
        <p:sp>
          <p:nvSpPr>
            <p:cNvPr id="275" name=""/>
            <p:cNvSpPr/>
            <p:nvPr/>
          </p:nvSpPr>
          <p:spPr>
            <a:xfrm>
              <a:off x="285264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872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52640" y="6566040"/>
            <a:ext cx="434880" cy="95040"/>
            <a:chOff x="2852640" y="6566040"/>
            <a:chExt cx="434880" cy="95040"/>
          </a:xfrm>
        </p:grpSpPr>
        <p:sp>
          <p:nvSpPr>
            <p:cNvPr id="278" name=""/>
            <p:cNvSpPr/>
            <p:nvPr/>
          </p:nvSpPr>
          <p:spPr>
            <a:xfrm>
              <a:off x="285264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6872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852640" y="6732720"/>
            <a:ext cx="434880" cy="95040"/>
            <a:chOff x="2852640" y="6732720"/>
            <a:chExt cx="434880" cy="95040"/>
          </a:xfrm>
        </p:grpSpPr>
        <p:sp>
          <p:nvSpPr>
            <p:cNvPr id="281" name=""/>
            <p:cNvSpPr/>
            <p:nvPr/>
          </p:nvSpPr>
          <p:spPr>
            <a:xfrm>
              <a:off x="285264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6872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852640" y="6948360"/>
            <a:ext cx="434880" cy="95400"/>
            <a:chOff x="2852640" y="6948360"/>
            <a:chExt cx="434880" cy="95400"/>
          </a:xfrm>
        </p:grpSpPr>
        <p:sp>
          <p:nvSpPr>
            <p:cNvPr id="284" name=""/>
            <p:cNvSpPr/>
            <p:nvPr/>
          </p:nvSpPr>
          <p:spPr>
            <a:xfrm>
              <a:off x="285264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6872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852640" y="7332840"/>
            <a:ext cx="434880" cy="95040"/>
            <a:chOff x="2852640" y="7332840"/>
            <a:chExt cx="434880" cy="95040"/>
          </a:xfrm>
        </p:grpSpPr>
        <p:sp>
          <p:nvSpPr>
            <p:cNvPr id="287" name=""/>
            <p:cNvSpPr/>
            <p:nvPr/>
          </p:nvSpPr>
          <p:spPr>
            <a:xfrm>
              <a:off x="285264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6872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52640" y="8317080"/>
            <a:ext cx="434880" cy="95040"/>
            <a:chOff x="2852640" y="8317080"/>
            <a:chExt cx="434880" cy="95040"/>
          </a:xfrm>
        </p:grpSpPr>
        <p:sp>
          <p:nvSpPr>
            <p:cNvPr id="290" name=""/>
            <p:cNvSpPr/>
            <p:nvPr/>
          </p:nvSpPr>
          <p:spPr>
            <a:xfrm>
              <a:off x="285264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6872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852640" y="8101080"/>
            <a:ext cx="434880" cy="95040"/>
            <a:chOff x="2852640" y="8101080"/>
            <a:chExt cx="434880" cy="95040"/>
          </a:xfrm>
        </p:grpSpPr>
        <p:sp>
          <p:nvSpPr>
            <p:cNvPr id="293" name=""/>
            <p:cNvSpPr/>
            <p:nvPr/>
          </p:nvSpPr>
          <p:spPr>
            <a:xfrm>
              <a:off x="285264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6872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852640" y="7716960"/>
            <a:ext cx="434880" cy="95040"/>
            <a:chOff x="2852640" y="7716960"/>
            <a:chExt cx="434880" cy="95040"/>
          </a:xfrm>
        </p:grpSpPr>
        <p:sp>
          <p:nvSpPr>
            <p:cNvPr id="296" name=""/>
            <p:cNvSpPr/>
            <p:nvPr/>
          </p:nvSpPr>
          <p:spPr>
            <a:xfrm>
              <a:off x="285264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6872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852640" y="7548480"/>
            <a:ext cx="434880" cy="95400"/>
            <a:chOff x="2852640" y="7548480"/>
            <a:chExt cx="434880" cy="95400"/>
          </a:xfrm>
        </p:grpSpPr>
        <p:sp>
          <p:nvSpPr>
            <p:cNvPr id="299" name=""/>
            <p:cNvSpPr/>
            <p:nvPr/>
          </p:nvSpPr>
          <p:spPr>
            <a:xfrm>
              <a:off x="285264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872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14800" y="17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7200" y="1910880"/>
            <a:ext cx="30974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 Ölçü aleti kullanılarak yapılan gözleme ………………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zlem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 Işığı inceleyen fiziğin alt dalına …………………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    Bir ölçü aracının gerçeğinden farklı ölçmesine  ölçme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..………… deni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Sıcaklık ölçen araca ...……………….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Hız  bir ……………………… büyüklükt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Alan birimleri ……………….büyür, ………………kü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Terazi ile  cisimlerin  ……………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 Milimetrenin 1000 katına ……………….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 Bilimin dili  ……………………..t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 Sıcaklık birimi ………................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5 Metin kutusu"/>
          <p:cNvSpPr/>
          <p:nvPr/>
        </p:nvSpPr>
        <p:spPr>
          <a:xfrm>
            <a:off x="3429000" y="149868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30880" y="19080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30880" y="2989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Metin kutusu"/>
          <p:cNvSpPr/>
          <p:nvPr/>
        </p:nvSpPr>
        <p:spPr>
          <a:xfrm>
            <a:off x="189000" y="5651640"/>
            <a:ext cx="309564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 Bugün hava çok sıcak diyen öğrenci nic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özlem yapmışt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 Atomu inceleyen fiziğin dalına atom fiziği 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 Bir ölçü aleti kullanılarak  yapılan gözle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tel gözlem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  Elektrik fiziğin bir alt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   Fizik uygulamalı bir bilim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   Isı ve sıcaklığı inceleyen fiziğin alt dalı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odinamik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  “Bu kış hava sıcak geçecek.” cümlesi bir hipotez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   Bilimde modelleme düşünme kolaylığı sağl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   Nicel gözlemler, nitel gözlemlerden dah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sin sonuç ver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 Bilim adamı şüpheci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30880" y="40705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16360" y="4067280"/>
            <a:ext cx="184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tel gözlem nedir? Bir örnek verini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92800" y="572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9440" y="1908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30 dm kaç km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9440" y="2987640"/>
            <a:ext cx="15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at kaç saniye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89360" y="572436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 adamının özelliklerinden iki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12 Düz Bağlayıcı"/>
          <p:cNvSpPr/>
          <p:nvPr/>
        </p:nvSpPr>
        <p:spPr>
          <a:xfrm>
            <a:off x="328464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1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4640" y="363528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Ölçmede hatanın dört nedeninden iki 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080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" y="36370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" y="5005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4640" y="8269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sel çalışma yönteminin basamakların sırayla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5952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71920" y="82692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olarda verilen kavramları oklarla  eşleştiriniz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73360" y="2846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zun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73360" y="26337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73360" y="24210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k şidde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73360" y="22082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ü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73360" y="19954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ıcaklı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73360" y="17827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ktrik Akım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3360" y="15699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uvv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3360" y="15699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73360" y="1782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73360" y="1995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73360" y="22082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7336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73360" y="2633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73360" y="2846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73360" y="3059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73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81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73360" y="1347840"/>
            <a:ext cx="100800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ziğin Alt Bilim Dal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3360" y="1565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73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81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57720" y="28368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mper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7720" y="26240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57720" y="24112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t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57720" y="2198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ina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198612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57720" y="17733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57720" y="15606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a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57720" y="156060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5772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57720" y="1986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57720" y="2198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57720" y="2411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57720" y="2624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57720" y="283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57720" y="30495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57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65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7720" y="1347840"/>
            <a:ext cx="10065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İncelediği Ko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57720" y="134784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57720" y="156528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5772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6428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3200" y="5003640"/>
            <a:ext cx="20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üretilmiş birimlerden 2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9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5 Metin kutusu"/>
          <p:cNvSpPr/>
          <p:nvPr/>
        </p:nvSpPr>
        <p:spPr>
          <a:xfrm>
            <a:off x="189000" y="52434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781360" y="5508720"/>
            <a:ext cx="554040" cy="215640"/>
            <a:chOff x="2781360" y="5508720"/>
            <a:chExt cx="554040" cy="215640"/>
          </a:xfrm>
        </p:grpSpPr>
        <p:sp>
          <p:nvSpPr>
            <p:cNvPr id="376" name=""/>
            <p:cNvSpPr/>
            <p:nvPr/>
          </p:nvSpPr>
          <p:spPr>
            <a:xfrm>
              <a:off x="2852640" y="57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81360" y="550872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852640" y="5940360"/>
            <a:ext cx="434880" cy="95400"/>
            <a:chOff x="2852640" y="5940360"/>
            <a:chExt cx="434880" cy="95400"/>
          </a:xfrm>
        </p:grpSpPr>
        <p:sp>
          <p:nvSpPr>
            <p:cNvPr id="379" name=""/>
            <p:cNvSpPr/>
            <p:nvPr/>
          </p:nvSpPr>
          <p:spPr>
            <a:xfrm>
              <a:off x="285264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6872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852640" y="6156360"/>
            <a:ext cx="434880" cy="95040"/>
            <a:chOff x="2852640" y="6156360"/>
            <a:chExt cx="434880" cy="95040"/>
          </a:xfrm>
        </p:grpSpPr>
        <p:sp>
          <p:nvSpPr>
            <p:cNvPr id="382" name=""/>
            <p:cNvSpPr/>
            <p:nvPr/>
          </p:nvSpPr>
          <p:spPr>
            <a:xfrm>
              <a:off x="285264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872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852640" y="6566040"/>
            <a:ext cx="434880" cy="95040"/>
            <a:chOff x="2852640" y="6566040"/>
            <a:chExt cx="434880" cy="95040"/>
          </a:xfrm>
        </p:grpSpPr>
        <p:sp>
          <p:nvSpPr>
            <p:cNvPr id="385" name=""/>
            <p:cNvSpPr/>
            <p:nvPr/>
          </p:nvSpPr>
          <p:spPr>
            <a:xfrm>
              <a:off x="285264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6872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852640" y="6732720"/>
            <a:ext cx="434880" cy="95040"/>
            <a:chOff x="2852640" y="6732720"/>
            <a:chExt cx="434880" cy="95040"/>
          </a:xfrm>
        </p:grpSpPr>
        <p:sp>
          <p:nvSpPr>
            <p:cNvPr id="388" name=""/>
            <p:cNvSpPr/>
            <p:nvPr/>
          </p:nvSpPr>
          <p:spPr>
            <a:xfrm>
              <a:off x="285264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6872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852640" y="6948360"/>
            <a:ext cx="434880" cy="95400"/>
            <a:chOff x="2852640" y="6948360"/>
            <a:chExt cx="434880" cy="95400"/>
          </a:xfrm>
        </p:grpSpPr>
        <p:sp>
          <p:nvSpPr>
            <p:cNvPr id="391" name=""/>
            <p:cNvSpPr/>
            <p:nvPr/>
          </p:nvSpPr>
          <p:spPr>
            <a:xfrm>
              <a:off x="285264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6872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52640" y="7332840"/>
            <a:ext cx="434880" cy="95040"/>
            <a:chOff x="2852640" y="7332840"/>
            <a:chExt cx="434880" cy="95040"/>
          </a:xfrm>
        </p:grpSpPr>
        <p:sp>
          <p:nvSpPr>
            <p:cNvPr id="394" name=""/>
            <p:cNvSpPr/>
            <p:nvPr/>
          </p:nvSpPr>
          <p:spPr>
            <a:xfrm>
              <a:off x="285264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72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852640" y="8317080"/>
            <a:ext cx="434880" cy="95040"/>
            <a:chOff x="2852640" y="8317080"/>
            <a:chExt cx="434880" cy="95040"/>
          </a:xfrm>
        </p:grpSpPr>
        <p:sp>
          <p:nvSpPr>
            <p:cNvPr id="397" name=""/>
            <p:cNvSpPr/>
            <p:nvPr/>
          </p:nvSpPr>
          <p:spPr>
            <a:xfrm>
              <a:off x="285264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72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852640" y="8101080"/>
            <a:ext cx="434880" cy="95040"/>
            <a:chOff x="2852640" y="8101080"/>
            <a:chExt cx="434880" cy="95040"/>
          </a:xfrm>
        </p:grpSpPr>
        <p:sp>
          <p:nvSpPr>
            <p:cNvPr id="400" name=""/>
            <p:cNvSpPr/>
            <p:nvPr/>
          </p:nvSpPr>
          <p:spPr>
            <a:xfrm>
              <a:off x="285264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72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852640" y="7716960"/>
            <a:ext cx="434880" cy="95040"/>
            <a:chOff x="2852640" y="7716960"/>
            <a:chExt cx="434880" cy="95040"/>
          </a:xfrm>
        </p:grpSpPr>
        <p:sp>
          <p:nvSpPr>
            <p:cNvPr id="403" name=""/>
            <p:cNvSpPr/>
            <p:nvPr/>
          </p:nvSpPr>
          <p:spPr>
            <a:xfrm>
              <a:off x="285264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6872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852640" y="7548480"/>
            <a:ext cx="434880" cy="95400"/>
            <a:chOff x="2852640" y="7548480"/>
            <a:chExt cx="434880" cy="95400"/>
          </a:xfrm>
        </p:grpSpPr>
        <p:sp>
          <p:nvSpPr>
            <p:cNvPr id="406" name=""/>
            <p:cNvSpPr/>
            <p:nvPr/>
          </p:nvSpPr>
          <p:spPr>
            <a:xfrm>
              <a:off x="285264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6872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14800" y="17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7200" y="1910880"/>
            <a:ext cx="30974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 Ölçü aleti kullanılarak yapılan gözleme ………………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zlem 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 Hareketi inceleyen fiziğin alt dalına …………………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    Bir ölçü aracının gerçeğinden farklı ölçmesine  ölçme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..………… deni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Kuvvet ölçen araca ...……………….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Uzunluk  bir ……………………… büyüklükt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Hacim birimleri ……………….büyür, ………………kü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Litre ile  sıvıların ……………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 Saniyenin 60 katına ……………….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 Bilimin dili  ……………………..t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 Akım birimi ………................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5 Metin kutusu"/>
          <p:cNvSpPr/>
          <p:nvPr/>
        </p:nvSpPr>
        <p:spPr>
          <a:xfrm>
            <a:off x="3429000" y="149868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30880" y="19080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30880" y="2989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4 Metin kutusu"/>
          <p:cNvSpPr/>
          <p:nvPr/>
        </p:nvSpPr>
        <p:spPr>
          <a:xfrm>
            <a:off x="189000" y="5651640"/>
            <a:ext cx="309564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 Bugün hava çok sıcak diyen öğrenci nic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özlem yapmışt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 Atomu inceleyen fiziğin dalına atom fiziği 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 Bir ölçü aleti kullanılarak  yapılan gözle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tel gözlem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  Fizikokimya fiziğin bir alt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   Fizik uygulamalı bir bilim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   Isı ve sıcaklığı inceleyen fiziğin alt dalı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etizma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  “Bu kış hava sıcak geçecek.” cümlesi bir hipotez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   Bilimde modelleme düşünme kolaylığı sağl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   Nitel gözlemler, nicel gözlemlerden dah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sin sonuç ver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 Bilim adamı otorite tanıma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30880" y="40705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16000" y="4067280"/>
            <a:ext cx="186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el gözlem nedir? Bir örnek verini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92800" y="572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9440" y="1908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530 m kaç mm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89440" y="2987640"/>
            <a:ext cx="15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gün kaç dakika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89360" y="5724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Ölçmede hata yapılmasının nedeninden iki  tanes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12 Düz Bağlayıcı"/>
          <p:cNvSpPr/>
          <p:nvPr/>
        </p:nvSpPr>
        <p:spPr>
          <a:xfrm>
            <a:off x="328464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1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80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800" y="27018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0800" y="41497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4640" y="8269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sel çalışma yönteminin basamakların sırayla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59520" y="826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71920" y="82692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olarda verilen kavramları oklarla  eşleştiriniz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73360" y="2846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73360" y="26337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ıcaklı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73360" y="24210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şık şidde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73360" y="22082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uvv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73360" y="19954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zun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73360" y="17827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ktrik Akım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73360" y="15699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ü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73360" y="15699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73360" y="1782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73360" y="1995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73360" y="22082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7336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73360" y="2633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73360" y="2846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73360" y="3059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73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81360" y="1569960"/>
            <a:ext cx="0" cy="148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73360" y="1347840"/>
            <a:ext cx="100800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ziğin Alt Bilim Dal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73360" y="156528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73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8136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57720" y="28368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57720" y="262404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mper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57720" y="241128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inam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57720" y="219852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to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57720" y="1986120"/>
            <a:ext cx="1008000" cy="21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57720" y="177336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ra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57720" y="1560600"/>
            <a:ext cx="1008000" cy="2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57720" y="156060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5772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57720" y="1986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57720" y="2198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57720" y="2411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57720" y="2624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57720" y="283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57720" y="3049560"/>
            <a:ext cx="1008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57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65720" y="1560600"/>
            <a:ext cx="0" cy="1488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57720" y="1347840"/>
            <a:ext cx="10065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İncelediği Ko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57720" y="134784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57720" y="1565280"/>
            <a:ext cx="100656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5772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64280" y="1347840"/>
            <a:ext cx="0" cy="212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6280" y="414972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    İv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.    Zam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.   Hı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V.   Akı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.    Kü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ukarıda verilen büyüklüklerden hangile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üretilmiş büyüklüktü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4640" y="270036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im adamının özelliklerinden iki tanesini yaz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9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5 Metin kutusu"/>
          <p:cNvSpPr/>
          <p:nvPr/>
        </p:nvSpPr>
        <p:spPr>
          <a:xfrm>
            <a:off x="189000" y="52434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81360" y="5508720"/>
            <a:ext cx="554040" cy="215640"/>
            <a:chOff x="2781360" y="5508720"/>
            <a:chExt cx="554040" cy="215640"/>
          </a:xfrm>
        </p:grpSpPr>
        <p:sp>
          <p:nvSpPr>
            <p:cNvPr id="483" name=""/>
            <p:cNvSpPr/>
            <p:nvPr/>
          </p:nvSpPr>
          <p:spPr>
            <a:xfrm>
              <a:off x="2852640" y="57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81360" y="550872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852640" y="5940360"/>
            <a:ext cx="434880" cy="95400"/>
            <a:chOff x="2852640" y="5940360"/>
            <a:chExt cx="434880" cy="95400"/>
          </a:xfrm>
        </p:grpSpPr>
        <p:sp>
          <p:nvSpPr>
            <p:cNvPr id="486" name=""/>
            <p:cNvSpPr/>
            <p:nvPr/>
          </p:nvSpPr>
          <p:spPr>
            <a:xfrm>
              <a:off x="285264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68720" y="5940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852640" y="6156360"/>
            <a:ext cx="434880" cy="95040"/>
            <a:chOff x="2852640" y="6156360"/>
            <a:chExt cx="434880" cy="95040"/>
          </a:xfrm>
        </p:grpSpPr>
        <p:sp>
          <p:nvSpPr>
            <p:cNvPr id="489" name=""/>
            <p:cNvSpPr/>
            <p:nvPr/>
          </p:nvSpPr>
          <p:spPr>
            <a:xfrm>
              <a:off x="285264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68720" y="61563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852640" y="6566040"/>
            <a:ext cx="434880" cy="95040"/>
            <a:chOff x="2852640" y="6566040"/>
            <a:chExt cx="434880" cy="95040"/>
          </a:xfrm>
        </p:grpSpPr>
        <p:sp>
          <p:nvSpPr>
            <p:cNvPr id="492" name=""/>
            <p:cNvSpPr/>
            <p:nvPr/>
          </p:nvSpPr>
          <p:spPr>
            <a:xfrm>
              <a:off x="285264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8720" y="65660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852640" y="6732720"/>
            <a:ext cx="434880" cy="95040"/>
            <a:chOff x="2852640" y="6732720"/>
            <a:chExt cx="434880" cy="95040"/>
          </a:xfrm>
        </p:grpSpPr>
        <p:sp>
          <p:nvSpPr>
            <p:cNvPr id="495" name=""/>
            <p:cNvSpPr/>
            <p:nvPr/>
          </p:nvSpPr>
          <p:spPr>
            <a:xfrm>
              <a:off x="285264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68720" y="6732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852640" y="6948360"/>
            <a:ext cx="434880" cy="95400"/>
            <a:chOff x="2852640" y="6948360"/>
            <a:chExt cx="434880" cy="95400"/>
          </a:xfrm>
        </p:grpSpPr>
        <p:sp>
          <p:nvSpPr>
            <p:cNvPr id="498" name=""/>
            <p:cNvSpPr/>
            <p:nvPr/>
          </p:nvSpPr>
          <p:spPr>
            <a:xfrm>
              <a:off x="285264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68720" y="69483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852640" y="7332840"/>
            <a:ext cx="434880" cy="95040"/>
            <a:chOff x="2852640" y="7332840"/>
            <a:chExt cx="434880" cy="95040"/>
          </a:xfrm>
        </p:grpSpPr>
        <p:sp>
          <p:nvSpPr>
            <p:cNvPr id="501" name=""/>
            <p:cNvSpPr/>
            <p:nvPr/>
          </p:nvSpPr>
          <p:spPr>
            <a:xfrm>
              <a:off x="285264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68720" y="73328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52640" y="8317080"/>
            <a:ext cx="434880" cy="95040"/>
            <a:chOff x="2852640" y="8317080"/>
            <a:chExt cx="434880" cy="95040"/>
          </a:xfrm>
        </p:grpSpPr>
        <p:sp>
          <p:nvSpPr>
            <p:cNvPr id="504" name=""/>
            <p:cNvSpPr/>
            <p:nvPr/>
          </p:nvSpPr>
          <p:spPr>
            <a:xfrm>
              <a:off x="285264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68720" y="8317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852640" y="8101080"/>
            <a:ext cx="434880" cy="95040"/>
            <a:chOff x="2852640" y="8101080"/>
            <a:chExt cx="434880" cy="95040"/>
          </a:xfrm>
        </p:grpSpPr>
        <p:sp>
          <p:nvSpPr>
            <p:cNvPr id="507" name=""/>
            <p:cNvSpPr/>
            <p:nvPr/>
          </p:nvSpPr>
          <p:spPr>
            <a:xfrm>
              <a:off x="285264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68720" y="81010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852640" y="7716960"/>
            <a:ext cx="434880" cy="95040"/>
            <a:chOff x="2852640" y="7716960"/>
            <a:chExt cx="434880" cy="95040"/>
          </a:xfrm>
        </p:grpSpPr>
        <p:sp>
          <p:nvSpPr>
            <p:cNvPr id="510" name=""/>
            <p:cNvSpPr/>
            <p:nvPr/>
          </p:nvSpPr>
          <p:spPr>
            <a:xfrm>
              <a:off x="285264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68720" y="771696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852640" y="7548480"/>
            <a:ext cx="434880" cy="95400"/>
            <a:chOff x="2852640" y="7548480"/>
            <a:chExt cx="434880" cy="95400"/>
          </a:xfrm>
        </p:grpSpPr>
        <p:sp>
          <p:nvSpPr>
            <p:cNvPr id="513" name=""/>
            <p:cNvSpPr/>
            <p:nvPr/>
          </p:nvSpPr>
          <p:spPr>
            <a:xfrm>
              <a:off x="285264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68720" y="754848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14440" y="17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7200" y="2166120"/>
            <a:ext cx="309744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Atom çekirdeğini inceleyen fiziğin alt dalına …………….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Bir ölçü aracının gerçeğinden farklı ölçmesine  ölçme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..………… deni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Uzunluk ölçen araca ...………………..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zaman  bir ……………………… büyüklükt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Hacim birimleri ……………….büyür, ………………kü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Litre ile  sıvıların ……………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 Dakikanın 60 katına ……………….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 Bilimin dili  ……………………..t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 Zaman birimi ………................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5 Metin kutusu"/>
          <p:cNvSpPr/>
          <p:nvPr/>
        </p:nvSpPr>
        <p:spPr>
          <a:xfrm>
            <a:off x="3429000" y="149868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30880" y="19080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30880" y="2989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4 Metin kutusu"/>
          <p:cNvSpPr/>
          <p:nvPr/>
        </p:nvSpPr>
        <p:spPr>
          <a:xfrm>
            <a:off x="189000" y="5651640"/>
            <a:ext cx="309564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 Bugün hava çok sıcak diyen öğrenci nit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zlem yapmışt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 Atomu inceleyen fiziğin dalına atom fiziği 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.   Bir ölçü aleti kullanılarak  yapılan gözle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nicel gözlem den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 Fizikokimya fiziğin bir alt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 Fizik uygulamalı bir bilim dalı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.   Maddenin kristal yapısı inceleyen fiziğin alt dalı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atıhal fiziği den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7.  “Bu kış hava sıcak geçecek.” cümlesi bir hipotez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8.   Bilimde modelleme düşünme kolaylığı sağl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9.   Nitel gözlemler, nicel gözlemlerden dah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esin sonuç ver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0. Bilim adamı otorite tanıma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530880" y="40705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16000" y="4067280"/>
            <a:ext cx="186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el gözlem nedir? Bir örnek verini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92800" y="572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89440" y="1908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530 km kaç dm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89440" y="2987640"/>
            <a:ext cx="15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hafta kaç saat ede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9360" y="572436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Ölçmede hata nelerden kaynaklanmaktadı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35:50Z</dcterms:created>
  <dc:creator>Sermuh</dc:creator>
  <dc:description/>
  <dc:language>en-US</dc:language>
  <cp:lastModifiedBy>Win7</cp:lastModifiedBy>
  <dcterms:modified xsi:type="dcterms:W3CDTF">2011-10-22T11:48:49Z</dcterms:modified>
  <cp:revision>75</cp:revision>
  <dc:subject/>
  <dc:title>Slayt 1</dc:title>
</cp:coreProperties>
</file>