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7B1-3F13-4466-8EB2-EF5A1F2A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EE8-2758-484A-B90A-168ABE8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133-B4CF-4542-9A11-618DE715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556-CA0B-4F54-B691-1AEB6F6E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E19-AB72-41A6-9C21-2E0B369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0D0-380E-4128-9A7E-4FF24135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6DC-C460-4089-8C55-A3E780AD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D36-B8D9-4EC0-A2C0-08D7A806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E26-01C5-47C0-8851-B6BEC80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6CE-1715-4671-9585-E89E0A63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1D7-5625-4E34-8FE1-667081A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A7C-7B0C-40C3-A325-A2B2AA1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7EFC-C23C-4825-8BC6-291C1D616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İLKÖĞRETİMLE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İLGİL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GÜZEL SÖZL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476280"/>
            <a:ext cx="7705800" cy="604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rial Black"/>
              </a:rPr>
              <a:t>İLKÖĞRETİM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tr-TR" sz="4800" spc="-1" strike="noStrike">
                <a:solidFill>
                  <a:srgbClr val="ff0000"/>
                </a:solidFill>
                <a:latin typeface="Arial Black"/>
              </a:rPr>
              <a:t>İLGİL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rial Black"/>
              </a:rPr>
              <a:t>GÜZEL SÖZL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724040" cy="309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172404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35280" y="476280"/>
            <a:ext cx="172404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59640" y="4365720"/>
            <a:ext cx="17240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042920" y="4365720"/>
            <a:ext cx="17240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708360" y="4508640"/>
            <a:ext cx="172404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819000"/>
            <a:ext cx="8675640" cy="813564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OKUL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BİR ANNE GİBİDİ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BİZİ SEVE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YETİŞTİRİ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244764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-316080"/>
            <a:ext cx="8642160" cy="7490160"/>
          </a:xfrm>
          <a:custGeom>
            <a:avLst/>
            <a:gdLst>
              <a:gd name="textAreaLeft" fmla="*/ 1972800 w 8642160"/>
              <a:gd name="textAreaRight" fmla="*/ 6669360 w 8642160"/>
              <a:gd name="textAreaTop" fmla="*/ 1709640 h 7490160"/>
              <a:gd name="textAreaBottom" fmla="*/ 5780520 h 749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OKU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SAYGIY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İNSANLIĞ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ULUSU 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ÜLKEY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SEVMEYİ ÖĞRETİ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260280"/>
            <a:ext cx="685800" cy="152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858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9280" y="5084640"/>
            <a:ext cx="685800" cy="1524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172360" y="5013360"/>
            <a:ext cx="6858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260280"/>
            <a:ext cx="8352000" cy="3024360"/>
          </a:xfrm>
          <a:prstGeom prst="wedgeRectCallout">
            <a:avLst>
              <a:gd name="adj1" fmla="val -7652"/>
              <a:gd name="adj2" fmla="val 4795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EĞİT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ÖĞRENCİL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SAYGIYLA BAŞ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24800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BİR Y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SONRASINI DÜŞÜNÜYOR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BUĞDAY EK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ON Y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SONRASINI DÜŞÜNÜYOR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AĞAÇ DİK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YÜZ Y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SONRASINI DÜŞÜNÜYOR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tr-TR" sz="3600" spc="-1" strike="noStrike">
                <a:solidFill>
                  <a:srgbClr val="000000"/>
                </a:solidFill>
                <a:latin typeface="Arial Black"/>
              </a:rPr>
              <a:t>İNSAN YETİŞTİ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1414440" cy="135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104760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581360"/>
            <a:ext cx="8820000" cy="2276640"/>
          </a:xfrm>
          <a:custGeom>
            <a:avLst/>
            <a:gdLst>
              <a:gd name="textAreaLeft" fmla="*/ 0 w 8820000"/>
              <a:gd name="textAreaRight" fmla="*/ 8820000 w 8820000"/>
              <a:gd name="textAreaTop" fmla="*/ 294840 h 2276640"/>
              <a:gd name="textAreaBottom" fmla="*/ 1981800 h 2276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KALEM KILIÇTAN KESKİNDİ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0836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32000" y="333360"/>
            <a:ext cx="6480000" cy="4537080"/>
          </a:xfrm>
          <a:custGeom>
            <a:avLst/>
            <a:gdLst>
              <a:gd name="textAreaLeft" fmla="*/ 1522800 w 6480000"/>
              <a:gd name="textAreaRight" fmla="*/ 4952520 w 6480000"/>
              <a:gd name="textAreaTop" fmla="*/ 533160 h 4537080"/>
              <a:gd name="textAreaBottom" fmla="*/ 2845800 h 4537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HER KÖTÜLÜ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BİLGİSİZLİK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DOĞ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360" y="31417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3860640"/>
            <a:ext cx="228924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84720" y="4113360"/>
            <a:ext cx="2374920" cy="205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04640"/>
            <a:ext cx="9144000" cy="180036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AĞAÇ YAŞKEN EĞİLİ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518472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rial Black"/>
              </a:rPr>
              <a:t>ÖZEL İZMİR SEV İLKÖĞRETİM OKU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852640"/>
            <a:ext cx="7056360" cy="19447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 Black"/>
              </a:rPr>
              <a:t>3. SINIF ÖĞRENCİLER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4952880"/>
            <a:ext cx="2592360" cy="155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5400000">
            <a:off x="3632760" y="1199160"/>
            <a:ext cx="1584360" cy="258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812000" y="404640"/>
            <a:ext cx="600120" cy="7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11280" y="333360"/>
            <a:ext cx="600120" cy="714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8101080" y="1916280"/>
            <a:ext cx="600120" cy="71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84360" y="2133720"/>
            <a:ext cx="599760" cy="714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7020000" y="4941720"/>
            <a:ext cx="1144440" cy="136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826920" y="5013360"/>
            <a:ext cx="108756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03280" y="0"/>
            <a:ext cx="6408720" cy="3166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BİLGİSİZ İNS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MEYVESİ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 Black"/>
              </a:rPr>
              <a:t>AĞACA BENZ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287784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800000" cy="177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76280"/>
            <a:ext cx="8207280" cy="309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İLKÖĞRETİM DAVASI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İNSAN OLMA,ULUS OL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DAVASID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60036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B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0"/>
            <a:ext cx="8964720" cy="292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YURT KALKINMASIN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TEMEL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İLKÖĞRETİMDİ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5676840"/>
            <a:ext cx="3248280" cy="118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324792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896080" y="2924280"/>
            <a:ext cx="3247920" cy="1181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43280" y="2924280"/>
            <a:ext cx="3247920" cy="1181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 rot="20377800">
            <a:off x="-15840" y="4441320"/>
            <a:ext cx="224928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948360" y="4221000"/>
            <a:ext cx="2195640" cy="1951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3564000" y="3429000"/>
            <a:ext cx="19191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4365720"/>
            <a:ext cx="7345440" cy="1942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ÖĞRENİ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AKLIN GÜCÜN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GELİŞTİRİ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403200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60280"/>
            <a:ext cx="4643280" cy="6337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BİLMEME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AYIP DEĞİ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ÖĞRENMEM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AYIPT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3097440" cy="3889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33465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42884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32000" y="333360"/>
            <a:ext cx="6624720" cy="3024360"/>
          </a:xfrm>
          <a:prstGeom prst="cloudCallout">
            <a:avLst>
              <a:gd name="adj1" fmla="val 1953"/>
              <a:gd name="adj2" fmla="val 358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İLKÖĞRET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GELECEĞİ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TEMELİDİ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4267080"/>
            <a:ext cx="186696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186696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95640" y="3645000"/>
            <a:ext cx="1866960" cy="259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24360" y="3933720"/>
            <a:ext cx="186696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948360" y="2565360"/>
            <a:ext cx="18669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43280" y="0"/>
            <a:ext cx="7129440" cy="6858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TÜRKİ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CUMHURİYETİNİ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TEMEL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KÜLTÜRD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448320"/>
            <a:ext cx="8948880" cy="4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87964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81080" y="0"/>
            <a:ext cx="9001080" cy="5157720"/>
          </a:xfrm>
          <a:custGeom>
            <a:avLst/>
            <a:gdLst>
              <a:gd name="textAreaLeft" fmla="*/ 2054880 w 9001080"/>
              <a:gd name="textAreaRight" fmla="*/ 6946200 w 9001080"/>
              <a:gd name="textAreaTop" fmla="*/ 1177200 h 5157720"/>
              <a:gd name="textAreaBottom" fmla="*/ 3980520 h 5157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rial Black"/>
              </a:rPr>
              <a:t>OKU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rial Black"/>
              </a:rPr>
              <a:t>UYGARLIĞI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rial Black"/>
              </a:rPr>
              <a:t>GELİŞTİĞİ YERDİR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48360" y="4437000"/>
            <a:ext cx="1584360" cy="222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1728720" cy="216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666720" cy="1362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101080" y="260280"/>
            <a:ext cx="666720" cy="1362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987640" y="4749840"/>
            <a:ext cx="3745080" cy="210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42:39Z</dcterms:created>
  <dc:creator>ACI - LAB</dc:creator>
  <dc:description/>
  <dc:language>en-US</dc:language>
  <cp:lastModifiedBy>xxx</cp:lastModifiedBy>
  <dcterms:modified xsi:type="dcterms:W3CDTF">2010-09-13T19:44:11Z</dcterms:modified>
  <cp:revision>31</cp:revision>
  <dc:subject/>
  <dc:title>İlköğretim haftası otobüsümüz hareket ediyor.</dc:title>
</cp:coreProperties>
</file>