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F55-3358-4E17-B254-24E1B3EE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D16-B3E9-4D9E-A171-17E95BD7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9B1-560B-4C48-BDA7-C4224366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1EC-485A-43CF-A424-7BB7ABE6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F7F-B7F2-45DC-B650-6F10C08E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F34-F746-463E-B9E2-9AECCC09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AD4-DC55-4E2B-8C0B-CF04A5A4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64F-9AE4-4B4D-8593-3A87866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982-0DD0-41F7-A006-801492C5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7F5-9539-42A2-9BA1-8FF5CDDE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BF7-75FD-44E4-ADC2-C28499F8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21E-8296-4A6A-801E-0C71A170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DC44-3AD1-40BE-B688-CF53BD61884E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F4D0-149C-4B1D-BEA3-281A61A8EF49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70c0"/>
                </a:solidFill>
                <a:latin typeface="Calibri"/>
              </a:rPr>
              <a:t>YAZIM KURALLA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Calibri"/>
              </a:rPr>
              <a:t>NECİP YAĞ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Calibri"/>
              </a:rPr>
              <a:t>TÜRK DİLİ VE EDEBİYATI ÖĞRETMEN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Calibri"/>
              </a:rPr>
              <a:t>SOSYAL BİLİMLER LİSES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70c0"/>
                </a:solidFill>
                <a:latin typeface="Calibri"/>
              </a:rPr>
              <a:t>15- Kanun, tüzük, yönetmelik, yönerge, genelge adlarının her kelimesi büyük harfle başlar: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Medeni Kanun, Borçlar Hukuku (kanun), Atatürk Uluslararası Barış Ödülü Tüzüğü, Telif Hakkı Yayın ve Satış Yönetmeliğ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7030a0"/>
                </a:solidFill>
                <a:latin typeface="Calibri"/>
              </a:rPr>
              <a:t>UYARI: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Kurum, kuruluş, kurul, merkez, bakanlık, üniversite, fakülte, bölüm, kanun, tüzük, yönetmelik vb.ni bildiren kelimeler, belli bir kurum vb. kastedildiğinde büyük harfle başl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Bu yıl </a:t>
            </a:r>
            <a:r>
              <a:rPr b="1" lang="tr-TR" sz="3000" spc="-1" strike="noStrike">
                <a:solidFill>
                  <a:srgbClr val="000000"/>
                </a:solidFill>
                <a:latin typeface="Calibri"/>
              </a:rPr>
              <a:t>Meclis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, yeni döneme erken başlayacaktır. Son aylarda </a:t>
            </a:r>
            <a:r>
              <a:rPr b="1" lang="tr-TR" sz="3000" spc="-1" strike="noStrike">
                <a:solidFill>
                  <a:srgbClr val="000000"/>
                </a:solidFill>
                <a:latin typeface="Calibri"/>
              </a:rPr>
              <a:t>Kurum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, yazım konusunda yoğun bir çalışma içine girmiştir.2876 sayılı </a:t>
            </a:r>
            <a:r>
              <a:rPr b="1" lang="tr-TR" sz="3000" spc="-1" strike="noStrike">
                <a:solidFill>
                  <a:srgbClr val="000000"/>
                </a:solidFill>
                <a:latin typeface="Calibri"/>
              </a:rPr>
              <a:t>Kanun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bu yıl yeniden gözden geçiriliyor. Bu madde </a:t>
            </a:r>
            <a:r>
              <a:rPr b="1" lang="tr-TR" sz="3000" spc="-1" strike="noStrike">
                <a:solidFill>
                  <a:srgbClr val="000000"/>
                </a:solidFill>
                <a:latin typeface="Calibri"/>
              </a:rPr>
              <a:t>Yönetmelik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’in 4’üncü maddesine aykırı düşmektedi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70c0"/>
                </a:solidFill>
                <a:latin typeface="Calibri"/>
              </a:rPr>
              <a:t>16- Kitap, dergi, gazete ve sanat eserlerinin (tablo, heykel, müzik) her kelimesi büyük harfle başl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afahat, Kendi Gök Kubbemiz, Anadolu Notları, Sinekli Bakkal; Türk Dili, Varlık; Resmî Gazete, Hürriyet, Yeni Asır; Onuncu Yıl Marşı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7030a0"/>
                </a:solidFill>
                <a:latin typeface="Calibri"/>
              </a:rPr>
              <a:t>UYARI: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Özel ada dâhil olmayan gazete, dergi, tablo vb. sözler büyük harfle başlamaz: Milliyet gazetesi, Türk Dili dergisi, Halı Dokuyan Kızlar tablos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7030a0"/>
                </a:solidFill>
                <a:latin typeface="Calibri"/>
              </a:rPr>
              <a:t>UYARI: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Büyük harflerin kullanıldığı yerlerde bulunan ve, ile, ya, veya, yahut, ki, da, de sözleriyle mı, mi, mu, mü soru eki küçük harfle yazılır: Suç ve Ceza, Leyla ile Mecnun, Diyorlar ki, Dünyaya İkinci Geliş yahut Sır İçinde Esrar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70c0"/>
                </a:solidFill>
                <a:latin typeface="Calibri"/>
              </a:rPr>
              <a:t>17- Millî ve dinî bayramlarla bayram niteliği kazanmış günlerin adları  büyük harfle başla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29 Ekim Cumhuriyet Bayramı, 23 Nisan Ulusal Egemenlik ve Çocuk Bayramı, Ramazan Bayramı, Kurban Bayramı,,Anneler Günü, Öğretmenler Günü, 27 Mart Dünya Tiyatrolar Günü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Kurultay, bilgi şöleni, açık oturum vb. toplantıların adlarında her kelime büyük harfle başla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V. Uluslararası Türk Dili Kurultayı, Manas Bilgi Şölen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tr-TR" sz="2700" spc="-1" strike="noStrike">
                <a:solidFill>
                  <a:srgbClr val="0070c0"/>
                </a:solidFill>
                <a:latin typeface="Calibri"/>
              </a:rPr>
              <a:t>18- Tarihî olay, çağ ve dönem adları büyük harfle başlar: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 Kurtuluş Savaşı, Millî Mücadele, Cilalı Taş Devri, İlk Çağ, Yükselme Devri, Millî Edebiyat Dönemi, Servetifünun Dönemi, Tanzimat Dönem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7030a0"/>
                </a:solidFill>
                <a:latin typeface="Calibri"/>
              </a:rPr>
              <a:t>UYARI: 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Tarihî dönem bildirmeyip tür veya tarz bildiren terimler küçük harfle başlar: divan şiiri, divan edebiyatı, halk şiiri, halk edebiyatı, eski Türk edebiyatı, Türk dili, Türk sanat müziği, Türk halk müziği, tekke edebiyat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70c0"/>
                </a:solidFill>
                <a:latin typeface="Calibri"/>
              </a:rPr>
              <a:t>19-Özel adlardan türetilen bütün kelimeler büyük harfle başlar: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Türkçe, Türkolog Asyalılık,Bursalı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7030a0"/>
                </a:solidFill>
                <a:latin typeface="Calibri"/>
              </a:rPr>
              <a:t>UYARI: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Para birimleri büyük harfle başlamaz: avro, dinar, dolar, lira, yeni kuruş, lir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7030a0"/>
                </a:solidFill>
                <a:latin typeface="Calibri"/>
              </a:rPr>
              <a:t>UYARI: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Özel adlar yerine kullanılan "o" zamiri cümle içinde büyük harfle yazılmaz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7030a0"/>
                </a:solidFill>
                <a:latin typeface="Calibri"/>
              </a:rPr>
              <a:t>UYARI: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Müzikte kullanılan makam ve tür adları büyük harfle başlamaz: acembuselik, bayati, hicazkâr, türkü, varsağı, bayatı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70c0"/>
                </a:solidFill>
                <a:latin typeface="Calibri"/>
              </a:rPr>
              <a:t>20- Yer, millet ve kişi adlarıyla kurulan birleşik kelimelerde özel adlar büyük harfle başlar: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Antep fıstığı, Brüksel lahanası, Frenk gömleği, Hindistan cevizi, İngiliz anahtarı, Maraş dondurması, Van kedis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70c0"/>
                </a:solidFill>
                <a:latin typeface="Calibri"/>
              </a:rPr>
              <a:t>21-Belirli bir tarih bildiren ay ve gün adları büyük harfle başlar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9 Mayıs 1453 Salı günü, 29 Ekim 1923, 28 Aralık’ta göreve başladı. Lale festivali 25 Haziranda başlayac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elirli bir tarihi belirtmeyen ay ve gün adları küçük harfle başl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Okullar genellikle eylülün ikinci haftasında öğretime baş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70c0"/>
                </a:solidFill>
                <a:latin typeface="Calibri"/>
              </a:rPr>
              <a:t>22-Levhalar ve açıklama yazıları büyük harfle başlar: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Giriş, Çıkış, Müdür, Vezne, Başkan, Doktor, Otobüs Durağı, Şehirler Arası Telefon, III. Kat, IV. Sınıf, I. Bl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189000"/>
            <a:ext cx="84358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Calibri"/>
              </a:rPr>
              <a:t>Bağlaç Olan </a:t>
            </a:r>
            <a:r>
              <a:rPr b="1" i="1" lang="tr-TR" sz="2200" spc="-1" strike="noStrike">
                <a:solidFill>
                  <a:srgbClr val="ff0000"/>
                </a:solidFill>
                <a:latin typeface="Calibri"/>
              </a:rPr>
              <a:t>da, de</a:t>
            </a:r>
            <a:r>
              <a:rPr b="1" lang="tr-TR" sz="2200" spc="-1" strike="noStrike">
                <a:solidFill>
                  <a:srgbClr val="ff0000"/>
                </a:solidFill>
                <a:latin typeface="Calibri"/>
              </a:rPr>
              <a:t>’nin Yazılış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ağlaç olan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da, d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ayrı yazılır. Kendisinden önceki kelimenin son ünlüsüne bağlı olarak ünlü uyumlarına uya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Kızı da geldi gelini de.                          Sen de mi kardeşi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UYARI 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ağlaç olan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de, da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hiçbir zaman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ta, te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çiminde yazılmaz.2.de getirildiğinde kabul etme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UYARI 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Ya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sözüyle birlikte kullanılan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mutlaka ayrı yazılır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ya 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UYARI 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Da, de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ağlacını kendisinden önceki kelimeden kesme ile ayırmak yanlıştır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Ayşe de geldi (Ayşe'de geld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eği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UYARI 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Da, de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ağlacının bulunma durumu eki olan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-da, -de, -ta, -t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ile hiçbir ilgisi yoktur. Bulunma durumu eki getirildiği kelimeye bitişik yazılır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devede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deve-de)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kulak, evd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(ev-de)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 kalmak, ayakta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ayak-ta)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 durmak, çantada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çanta-da)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kek­lik. İkide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iki-de)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bir aynı sözü söyleyip dur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0000"/>
                </a:solidFill>
                <a:latin typeface="Calibri"/>
              </a:rPr>
              <a:t>Bağlaç Olan </a:t>
            </a:r>
            <a:r>
              <a:rPr b="1" i="1" lang="tr-TR" sz="3000" spc="-1" strike="noStrike">
                <a:solidFill>
                  <a:srgbClr val="ff0000"/>
                </a:solidFill>
                <a:latin typeface="Calibri"/>
              </a:rPr>
              <a:t>ki</a:t>
            </a:r>
            <a:r>
              <a:rPr b="1" lang="tr-TR" sz="3000" spc="-1" strike="noStrike">
                <a:solidFill>
                  <a:srgbClr val="ff0000"/>
                </a:solidFill>
                <a:latin typeface="Calibri"/>
              </a:rPr>
              <a:t>’nin Yazılış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Bağlaç olan </a:t>
            </a:r>
            <a:r>
              <a:rPr b="0" i="1" lang="tr-TR" sz="3000" spc="-1" strike="noStrike">
                <a:solidFill>
                  <a:srgbClr val="000000"/>
                </a:solidFill>
                <a:latin typeface="Calibri"/>
              </a:rPr>
              <a:t>ki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ayrı yazılı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000000"/>
                </a:solidFill>
                <a:latin typeface="Calibri"/>
              </a:rPr>
              <a:t>demek ki, kaldı ki, bilmem k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000000"/>
                </a:solidFill>
                <a:latin typeface="Calibri"/>
              </a:rPr>
              <a:t>Ruşen Eşref Ünaydın'ın "Diyorlar ki" adlı eseri ne güzeldi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000000"/>
                </a:solidFill>
                <a:latin typeface="Calibri"/>
              </a:rPr>
              <a:t>Geçmiş zaman olur ki hayali cihan değ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000000"/>
                </a:solidFill>
                <a:latin typeface="Calibri"/>
              </a:rPr>
              <a:t>Ki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bağlacı, birkaç örnekte kalıplaşmış olduğu için bitişik yazılır: </a:t>
            </a:r>
            <a:r>
              <a:rPr b="0" i="1" lang="tr-TR" sz="3000" spc="-1" strike="noStrike">
                <a:solidFill>
                  <a:srgbClr val="000000"/>
                </a:solidFill>
                <a:latin typeface="Calibri"/>
              </a:rPr>
              <a:t>SOMBaHÇEM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YARI:Ki’den sonra -ler ya da -ni getiriyoruz kabul etmezse bağlaçtır ayrı yazıl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Bağlaç Olan </a:t>
            </a:r>
            <a:r>
              <a:rPr b="1" i="1" lang="tr-TR" sz="3200" spc="-1" strike="noStrike">
                <a:solidFill>
                  <a:srgbClr val="000000"/>
                </a:solidFill>
                <a:latin typeface="Calibri"/>
              </a:rPr>
              <a:t>ne ... ne ...</a:t>
            </a: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’nin Yazılış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bağlacın kullanıldığı cümlelerde fiil olumlu olmalıdı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Ne Fransa’da ne de Almanya’da aradığını bulabilmiş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Ne ziraat ne ticaret için kâfi nüfus kaldı.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                      (Falih Rıfkı At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Calibri"/>
              </a:rPr>
              <a:t>Soru Eki </a:t>
            </a:r>
            <a:r>
              <a:rPr b="1" i="1" lang="tr-TR" sz="2200" spc="-1" strike="noStrike">
                <a:solidFill>
                  <a:srgbClr val="ff0000"/>
                </a:solidFill>
                <a:latin typeface="Calibri"/>
              </a:rPr>
              <a:t>mı, mi, mu, mü</a:t>
            </a:r>
            <a:r>
              <a:rPr b="1" lang="tr-TR" sz="2200" spc="-1" strike="noStrike">
                <a:solidFill>
                  <a:srgbClr val="ff0000"/>
                </a:solidFill>
                <a:latin typeface="Calibri"/>
              </a:rPr>
              <a:t>’nün Yazılış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ek gelenekleşmiş olarak ayrı yazılır 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Kaldı mı? Sen de mi geldin? İnsanlık öldü m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oru ekinden sonra gelen ekler, bu eke bitişik olarak yazılır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Verecek misin? Okuyor muyuz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ek sorudan başka pekiştirme görevinde kullanıldığında da ayrı yazılır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Güzel mi güzel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UYARI: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Vazgeçmek birleşik fiili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m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oru ekiyle birlikte kullanıldığında iki ayrı biçimde yazılabilir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Vaz mı geçtin? Vazgeçtin mi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200" spc="-1" strike="noStrike">
                <a:solidFill>
                  <a:srgbClr val="ff0000"/>
                </a:solidFill>
                <a:latin typeface="Calibri"/>
              </a:rPr>
              <a:t>İken</a:t>
            </a:r>
            <a:r>
              <a:rPr b="1" lang="tr-TR" sz="2200" spc="-1" strike="noStrike">
                <a:solidFill>
                  <a:srgbClr val="ff0000"/>
                </a:solidFill>
                <a:latin typeface="Calibri"/>
              </a:rPr>
              <a:t>’in Yazılış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İken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yrı olarak yazılabildiği gibi kelimelere eklenerek de yazılabilir. Bu durumda başındaki i ünlüsü düşer. Getirildiği kelimenin ünlüleri kalın da olsa, bu ekin ünlüsü ince kalır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okur-ken (&lt; okur iken), yazar-ken (&lt; yazar iken), çalışır-ken (&lt; çalışır iken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İken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ünlüyle biten kelimelere ek olarak getirildiğinde başındaki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ünlüsü düşer ve araya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ünsüzü girer: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okulday-ken (&lt; okulda iken), yolday-ken (&lt; yolda ike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500" spc="-1" strike="noStrike">
                <a:solidFill>
                  <a:srgbClr val="ff0000"/>
                </a:solidFill>
                <a:latin typeface="Calibri"/>
              </a:rPr>
              <a:t>İle’</a:t>
            </a:r>
            <a:r>
              <a:rPr b="1" lang="tr-TR" sz="2500" spc="-1" strike="noStrike">
                <a:solidFill>
                  <a:srgbClr val="ff0000"/>
                </a:solidFill>
                <a:latin typeface="Calibri"/>
              </a:rPr>
              <a:t>nin Ek Olarak Yazılış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İle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 ayrı olarak yazılabildiği gibi kelimelere eklenerek de yazılabilir. Kelimelere eklenerek yazıldığında ünlü uyumlarına uy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İle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, ünsüzle biten kelimelere ek olarak getirildiğinde </a:t>
            </a: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 ünlüsü düşer ve bitişik yazılır: </a:t>
            </a: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bulut-la (bulut ile), çiçek-le (çiçek ile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İle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, ünlüyle biten kelimelere ek olarak getirildiğinde başındaki </a:t>
            </a: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ünlüsü düşer ve araya </a:t>
            </a: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 ünsüzü girer. Ek, ünlü uyumlarına uyar: </a:t>
            </a: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arkadaşı-y-la (arkadaşı ile), anası-y-la, (anası ile), çevre-y-le (çevre il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0000"/>
                </a:solidFill>
                <a:latin typeface="Calibri"/>
              </a:rPr>
              <a:t>Ek Fiil Olan </a:t>
            </a:r>
            <a:r>
              <a:rPr b="1" i="1" lang="tr-TR" sz="2500" spc="-1" strike="noStrike">
                <a:solidFill>
                  <a:srgbClr val="ff0000"/>
                </a:solidFill>
                <a:latin typeface="Calibri"/>
              </a:rPr>
              <a:t>imek</a:t>
            </a:r>
            <a:r>
              <a:rPr b="1" lang="tr-TR" sz="2500" spc="-1" strike="noStrike">
                <a:solidFill>
                  <a:srgbClr val="ff0000"/>
                </a:solidFill>
                <a:latin typeface="Calibri"/>
              </a:rPr>
              <a:t>’in Yazılış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İmek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 fiili bugün daha çok ekleşmiş olarak kullanılmakta ve ünlü uyumlarına uymaktad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Ünlüyle biten kelimelere eklendiğinde </a:t>
            </a: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ünlüsü düşer. Bu durumda araya </a:t>
            </a: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 ünsüzü girer: </a:t>
            </a: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ne-y-se (ne ise), sonuncu-y-du (sonuncu idi)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 Ünsüzle biten kelimelere eklendiğinde de </a:t>
            </a: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ünlüsü düşer: </a:t>
            </a:r>
            <a:r>
              <a:rPr b="0" i="1" lang="tr-TR" sz="2500" spc="-1" strike="noStrike">
                <a:solidFill>
                  <a:srgbClr val="000000"/>
                </a:solidFill>
                <a:latin typeface="Calibri"/>
              </a:rPr>
              <a:t>gelir-se (gelir ise), güzel-miş (güzel imiş), yorgun-du (yorgun idi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0000"/>
                </a:solidFill>
                <a:latin typeface="Calibri"/>
              </a:rPr>
              <a:t>Büyük harflerin kullanıldığı yerler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f497d"/>
                </a:solidFill>
                <a:latin typeface="Calibri"/>
              </a:rPr>
              <a:t>1-Cümle büyük harfle başl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Ak akçe kara gün içindi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f497d"/>
                </a:solidFill>
                <a:latin typeface="Calibri"/>
              </a:rPr>
              <a:t>2-Cümle içinde tırnak veya yay ayraç içine alınan cümleler büyük harfle başlar ve sonlarına uygun noktalama işareti (nokta, soru, ünlem) kon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Atatürk, "Muhtaç olduğun kudret, damarlarındaki asil kanda mevcuttur!"diyor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f497d"/>
                </a:solidFill>
                <a:latin typeface="Calibri"/>
              </a:rPr>
              <a:t>3-İki noktadan sonra gelen cümleler büyük harfle başl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Menfaat sandalyeye benzer: Başında taşırsan seni küçültür, ayağının altına alırsan yükseltir.                                       (Cenap Şahabett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240" y="260280"/>
            <a:ext cx="84582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Pekiştirmeli Sıfatların Yazılış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70c0"/>
                </a:solidFill>
                <a:latin typeface="Calibri"/>
              </a:rPr>
              <a:t>Pekiştirmeli sıfatlar bitişik yazılı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paçık, apak, büsbütün, çepeçevre, çırılçıplak, dümdüz, düpedüz, güpegündüz, kapkara, kupkuru, paramparça, sapasağlam, sapsarı, sırılsıklam, yemyeş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70c0"/>
                </a:solidFill>
                <a:latin typeface="Calibri"/>
              </a:rPr>
              <a:t>Belirtisiz isim tamlamaları, sıfat tamlamaları, isnat grupları, birleşik fiiller, ikilemeler, kısaltma grupları ve kalıplaşmış çekimli fiillerden oluşan ifadeler, yeni bir kavramı karşıladıklarında birleşik kelime olurl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yer çekimi, hanımeli, ses bilgisi; beyaz peynir, açıkgöz, toplu iğne; eli açık, sırtı pek; söz etmek, zikretmek, hasta olmak, gelebilmek, yazadurmak, alıvermek; çoluk çocuk, çıtçıt, altüst; başüstüne, günaydın; sağ ol, ateşk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Deyimlerin Yazılış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yimler ayrı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kıntıya kürek çekmek, çam devirmek, çanak tutmak, gönlünden geçirmek, göz atmak, kulak asmak, kulak vermek, çantada keklik, devede kulak, yağlı kuyruk, yüz görümlüğ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İkilemelerin Yazılış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70c0"/>
                </a:solidFill>
                <a:latin typeface="Calibri"/>
              </a:rPr>
              <a:t>İkilemeler ayrı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dım adım, ağır ağır, akın akın, allak bullak, aval aval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akmak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cır cı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ötmek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çeşit çeşit, derin derin, gide gide, güzel güzel, karış karış, kös kös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dinlemek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kucak kucak, şıp şıp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damlamak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şıpır şıpır, tak tak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vurmak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takım takım, tıkır tıkır, yavaş yavaş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ata çıka, çoluk çocuk, düşe kalka, eciş bücüş, eğri büğrü, enine bo­yuna, eski püskü, ev bark, konu komşu, pılı pırtı, salkım saçak, sere serpe, soy sop, süklüm püklüm, yana yakıla, yarım yamal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70c0"/>
                </a:solidFill>
                <a:latin typeface="Calibri"/>
              </a:rPr>
              <a:t>m </a:t>
            </a:r>
            <a:r>
              <a:rPr b="0" lang="tr-TR" sz="2000" spc="-1" strike="noStrike">
                <a:solidFill>
                  <a:srgbClr val="0070c0"/>
                </a:solidFill>
                <a:latin typeface="Calibri"/>
              </a:rPr>
              <a:t>ile yapılmış ikilemeler de ayrı yazılır:</a:t>
            </a:r>
            <a:r>
              <a:rPr b="0" i="1" lang="tr-TR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t mat, çocuk mocuk, dolap molap, kapı mapı, kitap mit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70c0"/>
                </a:solidFill>
                <a:latin typeface="Calibri"/>
              </a:rPr>
              <a:t>İsim durum ekleri ve iyelik ekiyle yapılan ikilemeler de ayrı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aş başa, diz dize, el ele, göz göze, iç içe, omuz omuza, yan yana; baştan başa, daldan dala, elden ele, günden güne, içten içe, yıldan yıla; başa baş, bire bir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ölçü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dişe diş, göze göz, teke tek; ardı ardına, boşu boşuna, günü gününe, peşi peşine, ucu ucu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Alıntı Kelimelerin Yazılış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Yabancı kökenli kelimelerin yazılışlarıyla ilgili bazı noktalar aşağıda gösterilmişti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İki ünsüzle başlayan batı kökenli alıntılar, ünsüzler arasına ünlü konmadan yazılır: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 gram, gramer, grup, kral, kredi, kritik, plan, pratik, problem, profesör, program, proje, prova, spor, staj, stil, stüdyo, trafik, tren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İçinde yan yana iki veya daha fazla ünsüz bulunan batı kökenli alıntılar, ünsüzler arasına ünlü konmadan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afranga, apartman, biyografi, elektrik, gangster, kilogram, orkestra, paragraf, program, tel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İki ünsüzle biten batı kökenli alıntılar, ünsüzler arasına ünlü konmadan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film, form, lüks, modern, natürmort, psikiyatr, seks, slayt, tey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atı kökenli alıntıların içindeki ve sonundaki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ünsüzleri olduğu gibi korunu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iyografi, diyagram, magma, monografi, paragraf, program; arkeolog, diyalog, filolog, jeolog, katalog, monolog, psikolog, ürolo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Calibri"/>
              </a:rPr>
              <a:t>Ancak </a:t>
            </a:r>
            <a:r>
              <a:rPr b="0" i="1" lang="tr-TR" sz="2000" spc="-1" strike="noStrike">
                <a:solidFill>
                  <a:srgbClr val="00b050"/>
                </a:solidFill>
                <a:latin typeface="Calibri"/>
              </a:rPr>
              <a:t>coğrafya, fotoğraf</a:t>
            </a:r>
            <a:r>
              <a:rPr b="0" lang="tr-TR" sz="2000" spc="-1" strike="noStrike">
                <a:solidFill>
                  <a:srgbClr val="00b050"/>
                </a:solidFill>
                <a:latin typeface="Calibri"/>
              </a:rPr>
              <a:t> ve </a:t>
            </a:r>
            <a:r>
              <a:rPr b="0" i="1" lang="tr-TR" sz="2000" spc="-1" strike="noStrike">
                <a:solidFill>
                  <a:srgbClr val="00b050"/>
                </a:solidFill>
                <a:latin typeface="Calibri"/>
              </a:rPr>
              <a:t>topoğraf</a:t>
            </a:r>
            <a:r>
              <a:rPr b="0" lang="tr-TR" sz="2000" spc="-1" strike="noStrike">
                <a:solidFill>
                  <a:srgbClr val="00b050"/>
                </a:solidFill>
                <a:latin typeface="Calibri"/>
              </a:rPr>
              <a:t> kelimelerinde </a:t>
            </a:r>
            <a:r>
              <a:rPr b="0" i="1" lang="tr-TR" sz="2000" spc="-1" strike="noStrike">
                <a:solidFill>
                  <a:srgbClr val="00b050"/>
                </a:solidFill>
                <a:latin typeface="Calibri"/>
              </a:rPr>
              <a:t>g’</a:t>
            </a:r>
            <a:r>
              <a:rPr b="0" lang="tr-TR" sz="2000" spc="-1" strike="noStrike">
                <a:solidFill>
                  <a:srgbClr val="00b050"/>
                </a:solidFill>
                <a:latin typeface="Calibri"/>
              </a:rPr>
              <a:t>ler, </a:t>
            </a:r>
            <a:r>
              <a:rPr b="0" i="1" lang="tr-TR" sz="2000" spc="-1" strike="noStrike">
                <a:solidFill>
                  <a:srgbClr val="00b050"/>
                </a:solidFill>
                <a:latin typeface="Calibri"/>
              </a:rPr>
              <a:t>ğ</a:t>
            </a:r>
            <a:r>
              <a:rPr b="0" lang="tr-TR" sz="2000" spc="-1" strike="noStrike">
                <a:solidFill>
                  <a:srgbClr val="00b050"/>
                </a:solidFill>
                <a:latin typeface="Calibri"/>
              </a:rPr>
              <a:t>’ye dön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Calibri"/>
              </a:rPr>
              <a:t>A. Bitişik Yazılan Birleşik Kelime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irleşik kelimeler aşağıdaki durumlarda bitişik yazılır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0" lang="tr-TR" sz="2400" spc="-1" strike="noStrike">
                <a:solidFill>
                  <a:srgbClr val="0070c0"/>
                </a:solidFill>
                <a:latin typeface="Calibri"/>
              </a:rPr>
              <a:t>Ses düşmesine uğrayan birleşik kelimeler bitişik yazılır: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kaynana (&lt; kayın ana), kaynata (&lt; kayın ata), nasıl (&lt; ne asıl), niçin (&lt; ne için), pazartesi (&lt; pazar ertesi), sütlaç (&lt; sütlü aş), birbiri (&lt; biri bir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Calibri"/>
              </a:rPr>
              <a:t>2.</a:t>
            </a:r>
            <a:r>
              <a:rPr b="0" i="1" lang="tr-TR" sz="2400" spc="-1" strike="noStrike">
                <a:solidFill>
                  <a:srgbClr val="0070c0"/>
                </a:solidFill>
                <a:latin typeface="Calibri"/>
              </a:rPr>
              <a:t>Et- ve ol-</a:t>
            </a:r>
            <a:r>
              <a:rPr b="0" lang="tr-TR" sz="2400" spc="-1" strike="noStrike">
                <a:solidFill>
                  <a:srgbClr val="0070c0"/>
                </a:solidFill>
                <a:latin typeface="Calibri"/>
              </a:rPr>
              <a:t> yardımcı fiilleriyle birleşirken ses düşmesine veya ses türemesine uğrayan birleşik kelimeler bitişik yazılır: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emretmek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(&lt;emir etmek),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kaybolmak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(&lt;kayıp olmak);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haletmek (&lt;hal’ etmek=tahttan indirmek), meno­lunmak (&lt;men’ olunmak); affetmek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(&lt;af etmek),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reddetmek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(&lt;ret etmek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UYARI :</a:t>
            </a:r>
            <a:r>
              <a:rPr b="0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adece söyleyişte tonlulaşma biçiminde ses değişmesine uğrayanlar ayrı yazılır: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azat etmek, hamt etmek, izaç etmek, iktisap et­mek.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Bu örneklerde tonluluk söyleyişte belirt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tr-TR" sz="20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tr-TR" sz="2000" spc="-1" strike="noStrike">
                <a:solidFill>
                  <a:srgbClr val="0070c0"/>
                </a:solidFill>
                <a:latin typeface="Calibri"/>
              </a:rPr>
              <a:t>Kelimelerden her ikisi veya ikincisi, birleşme sırasında benzetme yoluyla anlam değişmesine uğradığında bu tür birleşik kelimeler bitişik yazılı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tr-TR" sz="2000" spc="-1" strike="noStrike">
                <a:solidFill>
                  <a:srgbClr val="c0504d"/>
                </a:solidFill>
                <a:latin typeface="Calibri"/>
              </a:rPr>
              <a:t>Bitki adlar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slanağz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keçiboynuzu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kuşburnu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çıkağı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kkuyruk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çay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abaş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tınbaş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kavun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tıparmak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palamut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eşbıyık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muşmula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cemborusu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çobançantas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gelinfeneri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karnıkara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börülce),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akşamsefas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camgüzeli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yşekadın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fasulye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hafızali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üzüm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tr-TR" sz="2000" spc="-1" strike="noStrike">
                <a:solidFill>
                  <a:srgbClr val="c0504d"/>
                </a:solidFill>
                <a:latin typeface="Calibri"/>
              </a:rPr>
              <a:t>Hayvan adlar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danaburnu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böcek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kbaş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kuş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abacak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at)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tr-TR" sz="2000" spc="-1" strike="noStrike">
                <a:solidFill>
                  <a:srgbClr val="c0504d"/>
                </a:solidFill>
                <a:latin typeface="Calibri"/>
              </a:rPr>
              <a:t>Hastalık adlar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itdirseği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arpacık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delibaş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karabacak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ç. </a:t>
            </a:r>
            <a:r>
              <a:rPr b="0" lang="tr-TR" sz="2000" spc="-1" strike="noStrike">
                <a:solidFill>
                  <a:srgbClr val="c0504d"/>
                </a:solidFill>
                <a:latin typeface="Calibri"/>
              </a:rPr>
              <a:t>Alet ve eşya adlar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deveboynu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oru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kargaburnu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alet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kedigözü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lamba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tr-TR" sz="2000" spc="-1" strike="noStrike">
                <a:solidFill>
                  <a:srgbClr val="c0504d"/>
                </a:solidFill>
                <a:latin typeface="Calibri"/>
              </a:rPr>
              <a:t>Yiyecek adlar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dilberdudağ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tatlı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hanımgöbeği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tatlı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hanımparmağ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tatlı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kadıngöbeği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tatlı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tavukgöğsü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tatlı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vezirparmağ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tatlı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ülbülyuvas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tatlı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kuşlokumu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kurabiye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inazik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kebap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f. </a:t>
            </a:r>
            <a:r>
              <a:rPr b="0" lang="tr-TR" sz="2000" spc="-1" strike="noStrike">
                <a:solidFill>
                  <a:srgbClr val="c0504d"/>
                </a:solidFill>
                <a:latin typeface="Calibri"/>
              </a:rPr>
              <a:t>Oyun adlar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eştaş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dokuztaş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üçtaş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tr-TR" sz="2000" spc="-1" strike="noStrike">
                <a:solidFill>
                  <a:srgbClr val="c0504d"/>
                </a:solidFill>
                <a:latin typeface="Calibri"/>
              </a:rPr>
              <a:t>Gök cisimlerinin adlar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üyükay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yıldız kümesi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Demirkazık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yıldız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Küçükay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yıldız kümesi)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Samanyolu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(yıldız kümesi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ğ.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000" spc="-1" strike="noStrike">
                <a:solidFill>
                  <a:srgbClr val="c0504d"/>
                </a:solidFill>
                <a:latin typeface="Calibri"/>
              </a:rPr>
              <a:t>Renk adlar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balköpüğü, fildişi, gülkurusu, kavuniçi,tavşankanı, vişneçürüğ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-a, -e, -ı, -i, -u, -ü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zarf-fiil ekleriyle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ilmek, vermek, kalmak, durmak, gelmek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görmek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yazmak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fiilleriyle yapılan tasvirî fiiller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abildiğine, düşünebilmek  uyuyakalmak; gidedurmak, yazadurmak; çıkagelmek, süregelmek; düşeyazmak, öleyazmak; a gelivermek, gülüvermek, uçuvermek; ölmeyegö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r veya iki ögesi emir kipiyle kurulan kalıplaşmış birleşik kelimeler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aşağ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beni, ateşkes,  rastgele, sıkboğaz, çekyat, kapkaç, örtbas, seçal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veryansın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yapbo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yazboz tahtas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-an/-en, -r/-ar/-er/-ır/-ir, -maz/-mez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 -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mış/-miş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sıfat-fiil eklerinin kalıplaşmasıyla oluşan birleşik kelimeler bitişik yazılı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ğaçkakan, cankurtaran, çöpçatan, dalgakıran, gökdelen, oyunbozan, saçkıran, yelkovan, yolgeçen;akımtoplar, altıpatlar, barışsever,betonkarar, bilgisayar,  çoksatar, dil­sever, füzeatar, uçaksavar, yurtsever; etyemez, kadirbilmez,  karıncaezmez, kuşkonmaz, külyutmaz, varyemez;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güngörmüş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İkinci kelimesi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-dı (-di / -du / -dü, -tı / -ti / -tu / -tü)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alıplaşmış belirli geçmiş zaman ekleriyle kurulan birleşik kelimeler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bastı, ciğerdeldi, çıtkırıldım, dalbastı, fırdöndü, gecekondu, gündöndü, hünkârbeğendi, imambayıldı, karyağdı, külbastı, mirasyedi, papazkaçtı, serdengeçti, şıpsevdi, zıpçıkt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Her iki kelimesi de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-dı (-di / -du / -dü, -tı / -ti / -tu / -tü)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belirli geçmiş zaman veya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-r /-ar /-er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eniş zaman eklerini almış ve kalıplaşmış bulunan birleşik kelimeler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dedikodu, kaptıkaçtı, oldubitti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içerdöver, konargöçer, okuryazar, uyurgezer, yanardön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omut olarak yer bildirmeyen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t, üst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ve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üzeri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sözlerinin sona getirilmesiyle kurulan birleşik kelimeler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yakaltı, bilinçaltı, gözaltı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gözetim)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, şuuraltı; akşamüstü, akşamüzeri, ayaküstü, ayaküzeri, bayramüstü, gerçeküstü, ikindiüstü, olağanüstü, öğleüstü, öğleüzeri, suçüstü, yüzüst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İki veya daha çok kelimenin birleşmesinden oluşmuş kişi adları, soyadları ve lakaplar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per, Gülnihal, Gülseren, Gündoğdu, Şenol, Varol; Abasıyanık, Adıvar, Atatürk, Gökalp, Güntekin, Tanpınar, Yurdakul; , Yirmisekiz Çelebi Mehm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İki veya daha çok kelimeden oluşmuş Türkçe yer adları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Çanakkale, Gümüşhane; Acıpayam, Pınarbaşı, Şebinkarahisar; Beşiktaş, Kabataş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Şehir, kent, köy, mahalle, dağ, tepe, deniz, göl, ırmak, su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vb. kelimelerle kurulmuş sıfat tamlaması ve belirtisiz isim tamlaması kalıbındaki yer adları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kşehir, Eskişehir, Suşehri, Yenişehir; Atakent, Batıkent, Korukent, Çengelköy, Sarıyer, Yenimahalle;Karadağ, Uludağ; Kocatepe; Akdeniz, Karadeniz,; Acıgöl; Yeşilırmak; İncesu, Karasu, Akçay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işi adları ve unvanlarından oluşmuş mahalle, meydan, köy vb. yer ve kuruluş adlarında unvan kelimesi sonda ise, gelenekleşmiş olarak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bidinpaşa, Bayrampaşa, Davutpaşa, Ertuğrulgazi, Kemalpaşa (ilçesi); Necatibey (Caddesi), Mustafabey (Caddes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ra yönleri belirten kelimeler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güneybatı, güneydoğu, kuzeybatı, kuzeydoğ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nlardan başka dilimizde her iki ögesi de asıl anlamını koruduğu hâlde yaygın bir biçimde gelenekleşmiş olarak bitişik yazılan kelimeler de vardı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aş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sözüyle oluşturulan sıfat tamlamaları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aşbakan, başçavuş, başeser,  başhekim, başhemşire, başkent, başkomutan, başköşe, başmüfettiş, başöğretmen, başparmak, başpehlivan, başrol, başsavcı,  başyaz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r topluluğun yöneticisi anlamındaki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aş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sözüyle oluşturulan belirtisiz isim tamlamaları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şçıbaşı, binbaşı, çarkçıbaşı, çeribaşı, mehterbaşı, onbaşı, ustabaşı, yüzbaş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Oğlu,kız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sözleri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çapanoğlu, eloğlu, hinoğluhin, elkız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ç.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ğa, bey, efendi, hanım, nin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b. sözlerle kurulan birleşik kelimele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ğababa, ağabey, beyefendi, efendibaba, hanımefendi, paşabab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.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iraz, birkaç, birkaçı, birtakım, birçok, birçoğu, hiçbir, hiçbiri, herhangi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elirsizlik sıfat ve zamirleri de gelenekleşmiş olarak bitişik yazılı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15.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Ev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elimesiyle kurulan birleşik kelimeler bitişik yazılır: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aşevi, bakımevi, basımevi, doğumevi, gözlemevi, huzurevi, konukevi, orduevi, öğretmenevi, polisevi, yayınev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16.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Hane, name, zade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elimeleriyle oluşturulan birleşik kelimeler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çayhane, dershane, kahvehane, yazıhane;beyanname, kanunname, se­yahatname, siyasetname; amcazade, dayızade, teyzeza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UYARI: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Eczahane, hastahane, pastahane, postahane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sözleri kullanımdaki yaygınlık dolayısıyla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eczane, hastane, pastane, postane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biçiminde yazılmaktadı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19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üzik makam adları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cembuselik, muhayyerkür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r sıfatla oluşturulan usul adlarında sıfat ayrı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ğır aksak, yürük sema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20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anunda bitişik geçen veya bitişik olarak tescil ettirilmiş olan kuruluş adları bitişik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İçişleri, Dışişleri, Genelkurmay, Yükseköğret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f497d"/>
                </a:solidFill>
                <a:latin typeface="Calibri"/>
              </a:rPr>
              <a:t>4- Dizeler genellikle büyük harfle başl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Halk içinde muteber bir nesne yok devlet gibi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Olmaya devlet cihanda bir nefes sıhhat gibi.                                                            (Muhibb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f497d"/>
                </a:solidFill>
                <a:latin typeface="Calibri"/>
              </a:rPr>
              <a:t>5- Özel adlar büyük harfle başl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*- Kişi adlarıyla soyadları büyük harfle başlar:  Ahmet Haşim, Sait Faik Abasıyanık, Yunus Emre, Evliya Çelebi, Gevheri, Karacaoğlan, Âşık Ömer, Victor Hug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B. Ayrı Yazılan Birleşik Kelime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Etmek, edilmek, eylemek, kılmak, kılınmak, olmak, olunmak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yar­dımcı fiilleriyle kurulan birleşik fiiller herhangi bir ses düşmesine veya türemesine uğramazsa ayrı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t etmek, arz etmek, azat etmek, boş olmak, dans etmek, el etmek, göç etmek, ilan etmek, kabul etmek, kul etmek, kul olmak,  not etmek, oyun etmek, sağ olmak, söz etmek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ğ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ök cisimleri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Çoban Yıldızı, Kervan Yıldızı, Kutup Yıldızı, kuyruklu yıldız; gök taşı, hava taşı, meteor taş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ı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enzetme yoluyla insanın bir niteliğini anlatmak üzere bitki, hayvan ve nesne adlarıyla kurulan birleşik kelimele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çetin ceviz, çöpsüz üzüm; eski kurt, sarı çıyan, sağmal inek; ağır top, eksik etek, eski toprak, eski tüfek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Zamanla ilgili birleşik kelimele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ağ bozumu, gece yarısı, gün ortası, hafta başı, hafta so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-r / -ar / -er, -maz / -mez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-an / -en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sıfat-fiil ekleriyle kurulan sıfat tam­laması yapısındaki birleşik kelimeler ayrı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bakar kör, çalar saat, çıkar yol,  güler yüz, yazar kasa, yeter sayı; çıkmaz sokak, geçmez akçe, görünmez kaza, tükenmez kalem; akan yıldız, doyuran buhar, uçan d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Renk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özü veya renklerden birinin adıyla kurulmuş isim tamlaması yapısındaki renk adları ayrı yazılır: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bal rengi, duman rengi, gümüş rengi, portakal rengi, saman rengi; ateş kırmızısı, boncuk mavisi, çivit mavisi, gece mavisi, limon sarıs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Rengin tonunu belirtmek üzere renkten önce kullanılan sıfatlar ayrı yazılır: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açık mavi, açık yeşil,kirli sarı, koyu mav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er adlarında kullanılan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atı, doğu, güney, kuzey, güneybatı, güneydoğu, kuzeybatı, kuzeydoğu, aşağı, orta, yukarı, iç, yakın, uzak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elimeleri ayrı yazılır: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Doğu Anadolu, Batı Trakya, Orta Anadolu, Güney Amerika, Orta Asya, Yakın Doğu, Güneybatı Anadolu, İç Asya, İç Anadolu, Yukarı Ayranc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işi adlarından oluşmuş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mahalle, bulvar, cadde, sokak, ilçe, köy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b. yer ve kuruluş adlarında sondaki unvanlar hariç, şahıs adları ayrı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Yunus Emre Mahallesi; Gazi Mustafa Kemal Bulvarı; Nene Hatun Caddesi; Fevzi Çakmak Sokağı; Sultan Ahmet Camii, Sütçü İmam Üniversit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Dış, iç, öte, sıra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özleriyle oluşturulan birleşik kelime ve terimler ayrı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hlak dışı, çağ dışı, din dışı, kanun dışı, olağan dışı, yasa dışı; ceviz içi, hafta içi, yurt içi;  kızıl ötesi, sınır ötesi; aklı sıra, ardı sıra, peşi sıra, yanı sı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omut olarak yer belirten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t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üst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sözleriyle oluşturulan birleşik kelime ve terimler ayrı yazılır: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deri altı, su altı, toprak altı, yer altı (yüzey); arka üstü, baş üstü, böbrek üstü bez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Alt, üst, ana, ön, art, arka, yan, karşı, iç, dış, orta, büyük, küçük, sağ, sol, peşin, bir, iki, tek, çok, çift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sözlerinin başa getirilmesiyle oluşturulan birleşik kelime ve terimler ayrı yazılır:</a:t>
            </a:r>
            <a:r>
              <a:rPr b="0" i="1" lang="tr-TR" sz="2000" spc="-1" strike="noStrike">
                <a:solidFill>
                  <a:srgbClr val="000000"/>
                </a:solidFill>
                <a:latin typeface="Calibri"/>
              </a:rPr>
              <a:t> alt yazı; üst kat, üst küme; ana bilim dalı, ana dili; ön söz, ön yargı;  art niyet; arka teker; yan cümle; karşı görüş, karşı oy; iç tüzük;  dış hat;  orta oyunu; büyük anne; küçük harf; sağ açık, sağ bek; sol açık, sol bek; peşin fikir, peşin hüküm; bir gözeli, bir hücreli; iki anlamlı, iki eşeyli; tek hücreli;  çok hücreli; çift ayaklılar, çift kanatlı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0000"/>
                </a:solidFill>
                <a:latin typeface="Calibri"/>
              </a:rPr>
              <a:t>*-Takma adlar da büyük harfle başlar: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Muhibbi (Kanuni Sultan Süleyman),Kirpi (Refik Halit Karay), Deli Ozan (Faruk Nafiz Çamlıbel), Server Bedi (Peyami Safa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0000"/>
                </a:solidFill>
                <a:latin typeface="Calibri"/>
              </a:rPr>
              <a:t>*-Kişi adlarından önce ve sonra gelen saygı sözleri, unvanlar, lakaplar, meslek ve rütbe adları büyük harfle başlar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Kaymakam Erol Bey, Mustafa Efendi, Zeynep Hanım,Prof. Dr. Mehmet Kaplan, Mareşal Fevzi Çakmak, Fatih Sultan Mehmet,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0000"/>
                </a:solidFill>
                <a:latin typeface="Calibri"/>
              </a:rPr>
              <a:t>*-Akrabalık bildiren kelimeler büyük harfle başlamaz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Tülay abla, Ayşe teyze, Fatma nine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0000"/>
                </a:solidFill>
                <a:latin typeface="Calibri"/>
              </a:rPr>
              <a:t>*-Akrabalık bil­diren kelimeler başa geldiğinde lakap yerine kullanıldığı için büyük harfle başlar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: Nene Hatun, Baba Gündüz, Dayı Kemal, Hala Sulta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0000"/>
                </a:solidFill>
                <a:latin typeface="Calibri"/>
              </a:rPr>
              <a:t>*-Resmî yazılarda saygı bildiren sözlerden sonra gelen ve makam, mevki, unvan bildiren kelimeler de büyük harfle başla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ayın Bakan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evgili Kardeşim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0000"/>
                </a:solidFill>
                <a:latin typeface="Calibri"/>
              </a:rPr>
              <a:t>*-Hitap kelimeleri de büyük harfle başla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Aziz Dostum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0000"/>
                </a:solidFill>
                <a:latin typeface="Calibri"/>
              </a:rPr>
              <a:t>*-Hayvanlara verilen özel adlar büyük harfle başlar: 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arıkız, Karabaş, Pamuk, Teki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0000"/>
                </a:solidFill>
                <a:latin typeface="Calibri"/>
              </a:rPr>
              <a:t>*- Millet, boy, oymak adları büyük harfle başlar: 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Türk, Alman, Japon; Oğuz, Kırgız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70c0"/>
                </a:solidFill>
                <a:latin typeface="Calibri"/>
              </a:rPr>
              <a:t>6-Dil ve lehçe adları büyük harfle başlar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: Türkçe, Arapça; Oğuzca, Kazakça Tatarc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70c0"/>
                </a:solidFill>
                <a:latin typeface="Calibri"/>
              </a:rPr>
              <a:t>7- Devlet adları büyük harfle başlar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: Türkiye Cumhuriyeti,Azerbaycan Cumhuriye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70c0"/>
                </a:solidFill>
                <a:latin typeface="Calibri"/>
              </a:rPr>
              <a:t>8- Din ve mezhep adları ile bunların mensuplarını bildiren sözler büyük harfle başlar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: Müslümanlık, Müslüman;; Hanefilik, Hanef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70c0"/>
                </a:solidFill>
                <a:latin typeface="Calibri"/>
              </a:rPr>
              <a:t>9- Gezegen ve yıldız adları büyük harfle başlar: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Merkür, Neptün, Dünya,Güneş, Ay vb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YARI: Dünya, güneş, ay kelimeleri gezegen anlamı dışında kullanıldığında küçük harfle başl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70c0"/>
                </a:solidFill>
                <a:latin typeface="Calibri"/>
              </a:rPr>
              <a:t>10. Yer adları (kıta, bölge, il, ilçe, köy, semt, cadde, sokak, semt vb.) büyük harfle başlar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vrupa, Afrika, ; Güneydoğu Anadolu; İstanbul; Turgutlu,Şahinbey, Sarıgüllük; Atatürk Bulvarı, Aydın Sokağı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7030a0"/>
                </a:solidFill>
                <a:latin typeface="Calibri"/>
              </a:rPr>
              <a:t>UYARI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: Doğu ve batı sözleri yön bildirdiğinde küçük olarak yazılır: Bursa’nın doğus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b050"/>
                </a:solidFill>
                <a:latin typeface="Calibri"/>
              </a:rPr>
              <a:t>Bu sözler düşünce, hayat tarzı, politika vb. anlamlar bildirdiğinde ise büyük olarak yazılır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atı medeniyeti, Doğu mistisizmi 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70c0"/>
                </a:solidFill>
                <a:latin typeface="Calibri"/>
              </a:rPr>
              <a:t>11-Yer adlarında ilk isimden sonra gelen deniz, nehir, göl, dağ, boğaz vb. tür bildiren ikinci isimler büyük harfle başlar: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Ağrı Dağı, Çanakkale Boğazı, Dicle Irmağı, Ege Denizi,Fırat Nehri, Van Gölü, Zigana Geçidi, Süveyş Kanalı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7030a0"/>
                </a:solidFill>
                <a:latin typeface="Calibri"/>
              </a:rPr>
              <a:t>UYARI: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Özel ada dâhil olmayıp tamlama kuran şehir, il, ilçe, bucak, belde, köy vb. sözler küçük harfle başlar: Konya ili, Etimesgut ilçesi, Taflan köyü vb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70c0"/>
                </a:solidFill>
                <a:latin typeface="Calibri"/>
              </a:rPr>
              <a:t>12-Mahalle, meydan, bulvar, cadde, sokak adlarında geçen mahalle, meydan, bulvar, cadde, sokak kelimeleri büyük harfle başl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Yunus Emre Mahallesi, Zafer Meydanı, Ömer Seyfettin Bulvarı, Nene Hatun Caddesi,Reşat Nuri Sokağı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70c0"/>
                </a:solidFill>
                <a:latin typeface="Calibri"/>
              </a:rPr>
              <a:t>13- Saray, köşk, han, kale, köprü, anıt vb. yapı adlarının bütün kelimeleri büyük harfle başlar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opkapı Sarayı,Çankaya Köşkü, Ankara Kalesi,  Galata Köprüsü, Beyazıt Kulesi, Zafer Abidesi, Bilge Kağan Anıt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70c0"/>
                </a:solidFill>
                <a:latin typeface="Calibri"/>
              </a:rPr>
              <a:t>14- Kurum, kuruluş ve kurul adlarının her kelimesi büyük harfle başlar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: Türkiye Büyük Millet Meclisi, Türk Dil Kurumu, Dil ve Tarih-Coğrafya Fakültesi, Devlet Malzeme Ofisi, Millî Kütüphane, Çocuk Esirgeme Kurumu, Atatürk Orman Çiftliği,Mavi Köşe Bakkaliye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1:48:03Z</dcterms:created>
  <dc:creator>öğretmen</dc:creator>
  <dc:description/>
  <dc:language>en-US</dc:language>
  <cp:lastModifiedBy>NEC</cp:lastModifiedBy>
  <dcterms:modified xsi:type="dcterms:W3CDTF">2012-12-02T05:50:02Z</dcterms:modified>
  <cp:revision>5</cp:revision>
  <dc:subject/>
  <dc:title>Slayt 1</dc:title>
</cp:coreProperties>
</file>