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AKTILO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144-1A19-4F5F-B6CE-B03B86E0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FE8-5A1E-4906-AC68-E29E30F9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95E-9ED5-43D8-A497-175CCDDE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5BB-9C5C-4A4B-A0DA-87574755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F77-B7DA-44E7-AE65-B45A23A1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BD3-F8FC-44A8-A833-53AC8697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833-79F4-47C9-AE13-2EBF2B46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944-0D7F-4BCA-BAB9-B2A1236B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602-11D9-426C-B9C1-4E7B21E6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53B-1252-41EB-9C99-9C1563C2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A53-EBB8-47BC-A7BA-E724F8C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00E-257F-4D89-B05E-82437A75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26DC-22F9-4875-B160-E1CEEE64F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KTILO.WAV"/><Relationship Id="rId3" Type="http://schemas.openxmlformats.org/officeDocument/2006/relationships/audio" Target="../media/DAKTILO.WAV"/><Relationship Id="rId4" Type="http://schemas.openxmlformats.org/officeDocument/2006/relationships/audio" Target="../media/DAKTILO.WAV"/><Relationship Id="rId5" Type="http://schemas.openxmlformats.org/officeDocument/2006/relationships/audio" Target="../media/DAKTILO.WAV"/><Relationship Id="rId6" Type="http://schemas.openxmlformats.org/officeDocument/2006/relationships/audio" Target="../media/DAKTILO.WAV"/><Relationship Id="rId7" Type="http://schemas.openxmlformats.org/officeDocument/2006/relationships/audio" Target="../media/DAKTILO.WAV"/><Relationship Id="rId8" Type="http://schemas.openxmlformats.org/officeDocument/2006/relationships/audio" Target="../media/DAKTILO.WAV"/><Relationship Id="rId9" Type="http://schemas.openxmlformats.org/officeDocument/2006/relationships/audio" Target="../media/DAKTILO.WAV"/><Relationship Id="rId10" Type="http://schemas.openxmlformats.org/officeDocument/2006/relationships/audio" Target="../media/DAKTILO.WAV"/><Relationship Id="rId11" Type="http://schemas.openxmlformats.org/officeDocument/2006/relationships/audio" Target="../media/DAKTILO.WAV"/><Relationship Id="rId12" Type="http://schemas.openxmlformats.org/officeDocument/2006/relationships/audio" Target="../media/DAKTILO.WAV"/><Relationship Id="rId13" Type="http://schemas.openxmlformats.org/officeDocument/2006/relationships/audio" Target="../media/DAKTILO.WAV"/><Relationship Id="rId1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KTALAMA İŞARETLER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zıda okumayı kolaylaştırmak için birtakım işaretler kullanılır.Nokta,iki nokta,virgül,noktalı virgül... Bunlara noktalama işareti den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 işaretler bir yandan cümlenin yapısını,sözün bağlantı yerlerini açık olarak göstermeye; bir yandan da yazıda harflerle belirtilmeyen vurgu, durak gibi bir takım özellikleri bildirmeye ya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ktalama işaretlerinin yerinde ve doğru bir şekilde kullanılması, konunun anlaşılması ve maksadın anlatılması bakımından çok önemlidir.Çünkü yerinde kullanılmayan bir işaret ‘’baba’’ yı ‘’eşek’’ yapabil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li başlı noktalama işaretlerini ve kullanıldıkları yerleri örneklerle inceleyel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 arda gelen iki kelime arasında çıkabilecek anlam karışıklığını önlemek amacı ile bunların arasına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İhtiyar, bekçiyi çağırdı.Öteki, elini sakladı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Hırsız, kardeşini dövdü. Garson,çocuğu çağırdı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İhtiyar, ağaca yaslandı.Küçük, elmaları kopardı.</a:t>
            </a:r>
            <a:br>
              <a:rPr sz="2400"/>
            </a:b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un cümlelerde yüklemden uzak düşmüş olan ögeleri belirtmek için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umanda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ını şahlandırarak ‘’hurra, hurra’’ diye kendisini alkışlayan keyifli halka boyun kırarak kabarıyordu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rası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aklardan engin bir boşluk görünen karanlık  uçurumları ile uğursuz bir geçitti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niye Hanımefendi, merdivenlerde oğlunun ayak seslerini duyar duymaz, hasretlisini karşılamaya atılan bir genç kadın gibi, koltuğundan fırlamış ve ona kapıyı kendi eliyle açmaya gelmişt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akup Kadri KARAOSMANOĞLU, Panorama)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ümle içinde ara sözleri ve ara cümleleri ayırmak için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Uzun süredir o şehr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rsa’y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dememişti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Annesini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ından çok sevdiği o aziz varlığı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çok özlemişti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Örnek olsun diy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örnek istemez ya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öylüyoru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Şimdi, efendiler, müsaade buyurursanız, size bir sual sorayı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.Kemal ATATÜ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lama güç kazandırmak, anlamı pekiştirmek için tekrarlanan kelimeler arasına konu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Akşam, yine akşam, yine akşa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Göllerde bu dem kamış olsam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hmet HAŞİ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Kopar sonbahar tellerin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Derinden, derinden, derinde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en yazla başlar keder musikisi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ahya Kemal BEYATLI)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cak ikilemelerde kelimeler arasına virgül konmaz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şam akşam, yavaş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va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aplardan sonra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Kıymetli Abiciğim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Sevgili Anneciğim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Değerli Kardeşim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Sayın Başkan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Kıymetli öğretmenim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5053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ıların yazımında ondalık bölümleri ayırmak için kullanılı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20,7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,8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48,3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, veya bağlaçlarından önce ve sonra virgü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ullanılmaz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Öğretmen sınıfa girdi ve konuşmaya başladı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Radyoyu açalım veya kapatalı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 O K T A L I V İ R G Ü 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ümle içinde virgülle ayrılmış tür veya grupları birbirinden ayırmak için kon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Pazardan elma,armut,muz;ıspanak,kabak,patlıcan aldı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Erkek çocuklara Doğan,Mustafa,Orhan kız çocuklara ise Selcan, Burcu, Yonca gibi isimler veril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dinden önceki cümleyle ilgi kuran ancak, yalnız, fakat,  lakin,çünkü vb bağlaçlardan önce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Çok çalışıyor;fakat başarılı olamıyo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Halis bir şiir fena okunabilir;lakin sahte bir şiir iyi okunamaz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(Yahya Kemal BEYATLI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Bir millet ordusunu kaybedebilir,bağımsızlığını da kaybedebilir;fakat dilini sakladıkça o millet yaşıyor demekti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(Nihal ATSIZ,Türk Ülküs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;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Ögeleri arasında virgül bulunan sıralı cümleleri birbirinden ayırmak için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Sevinçten, heyecandan içim içime sığmıyor; bağırmak, kahkalar atmak ağlamak istiyoru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Sabahtan beri bekliyorum ;ne gelen var, ne gide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İş işten geçti; artık gelse de olur.gelmese d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Eşek ölür,semeri;insan ölür,eseri kalır.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I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ktalı virgülden sonra başlayan cümlelerin ilk harfi küçük yazıl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İ K İ N O K T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disinden sonra örnek verilecek cümlenin sonuna kon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Peyami Safa’nın en önemli eserleri şunlardır: Yalnızız, Matmazel Noralya’nın Koltuğu, 9.Hariciye Koğuş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Yeni harfler alındıktan sonra sonra eski yazı ile bir tek kelime bile yazmayan iki kişi görmüşümdür:Atatürk ve İnön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lih Rıfkı ATAY,Çankay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&amp; N O K T A  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Cümlenin sonuna kon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aatler geçtikçe yollara daha mahzun bir ıssızlık çöküyord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şat Nuri GÜNTEKİN, Çalıkuş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 Bu gece eğlenceleri içlerine sinme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şat Nuri GÜNTEKİN, Bir Kadın Düşman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 Bugünün gençleri Dar Kapı’ yı  okumalıdır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hme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mdi TANPIN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aklamanın daha az yapıldığı sıralı cümlelerde nokta yerine virgül yada noktalı virgül konulabili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ölür, meydan kalır; yiğit ölür, şan kal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disinden sonra  açıklama yapılacak cümlenin sonuna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Aklın ve ilmin üç büyük düşmanı vardır: Fenalık,cahillik ve tembellik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erler:İnsanda derin bir yaradır köksüzlü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udur alemde hudutsuz ve hazin öksüzlü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(Yahya Kemal BEYATLI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Cümlenin ögeleri üçe ayrılır: Özne,yüklem ve tümleç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tüphanecilik alanında yazar adı ile eser başlığı arasına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Ali Çolak:Günlük Güneşlik Şarkıl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Faruk Nafiz Çamlıbel:Çoban Çeşmes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Ahmet Turan Alkan:Altıncı Şehi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Mithat Enç:Uzun Çarşının Uluları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Yakup Kadri Karaosmanoğlu:Yab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eb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rlerdeki karşılıklı konuşmalarda,konuşan kişinin adından sonra konu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Bilge Kağa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ürklerim,işitti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Üstten gök çökmedikç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n yer delinmedikç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ülkenizi,törenizi kim bozabilir siz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öğe erer başımız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şınla senin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ge Kağa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usum birleşip yücelsin diy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ce uyumadığım,gündüz oturmadı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ürklerin Bilge Kağan der ba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 her şeyi onlar için bildi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öbetteyim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(A.Turan Oflazoğlu, Anıtkabi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: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matikte bölme işareti olarak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40:5 = 8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150:2 = 7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60:2 = 3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60:10 = 6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24:8 =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...)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Ü Ç   N O K T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90360" y="18288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...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amlanmamış cümlelerin sonuna kon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Ne çare ki, çirkinliği hemencecik ve herkes tarafından görülüveriyordu da bu yanı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arık BUĞRA, Dönemeç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Herkes savaşa gidiyordu:Gençler, yaşlılar, kadınla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Yüzümüzü ağartan nice şairlerimiz var: Mevlana Yu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zuli, Baki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...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hangi bir  sebeple bitmemiş cümlelerin sonuna gelerek, anlamı okuyucunun düşüncesine bırakmak amacı ile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Ona düşüncelerimi anlatabilsem ..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Buraya öyle alıştım ki ..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Onu öyle özledim ki ..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Annemi bir görebilsem...</a:t>
            </a:r>
            <a:br>
              <a:rPr sz="2400"/>
            </a:br>
            <a:br>
              <a:rPr sz="6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öylenmek istenmeyen, söylenmesi uygunsuz veya ayıp kaçan sözlerin yerine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O h... Bana ne dedi biliyor musu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Olayı ... Bilmedi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Arabacı B ... ‘a yaklaştığını söylüyor, iki de bir fırsat bularak arabanın içine doğru başını çeviriyord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hmet Hamdi TANPINAR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...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ıntılarda; başta ortada ve sonda alınmayan kelime ve bölümlerin yerine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... Türkçe’nin çekilmediği yer vatandır, ancak çekildiği yerler vatanlıktan çıka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Mümtaz, bu dükkana bakarken hiç farkında olmad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arme’nin  mısrasını hatırladı:’’ Meçhul bir felaketten buraya düşmüş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hmet Hamdi TANPINAR,Huzur)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ınmayan kelime ve bölümlerin yerine yay ayraç içinde  üç nokta konması da mümkündü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...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vap vermeyişi, suskunluğu belirtmek için üç nokta veya sıra noktalar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Bana kırgın mısı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Beni özledin mi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..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Beni hiç aradın mı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özün bir yerde kesilerek geri kalan bölümün okuyucunun muhayyilesini bırakıldığını göstermek ve ya ifadeye güç katmak için konu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Karşı sahilde mor,fark olunmaz sisler altındaki dağlar, korular, beyaz yalılar... Ve bütün bunların üzerinde bir esatir rüyasının havai hakikati gibi uçan martı sürüler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(Ömer SEYFETTİN,Bahar ve Kelebekler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Gök sarı,toprak sarı,çıplak ağaçlar sarı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(Faruk Nafiz ÇAMLIBEL,Han Duvarlar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r takım kısaltmaların sonuna konu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7848360" cy="5486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Alb. (Alb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 Dr.(Do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Yard.Doç.(Yardımcı doç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-Prof. (Profesö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- Alm.(Alman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cak bazı kısaltmalarda nokta konulma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 TBMM (Türkiye Büyük Millet Mecli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 TDK (Türk Dil Kuru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Ünlem ve seslenmelerde anlatımı pekiştirmek için kullanılı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Koca Ali ... Koca Ali, be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Ömer SEYFETTİN, Diye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Ne var... Ne var, be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Kim O...Kim 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arşılıklı konuşmalarda, yeterli olmayan, eksik bırakılan cevaplarda kullanılı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abancı yok!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imsi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li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angi Ali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 misin, Ali usta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enim!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e arıyorsun bu vakit buralarda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iç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asıl hiç?Suya çekicini mi düşürdün yoksa!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 O R U  İ Ş A R E T 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u bildiren cümle veya sözlerin sonuna kon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Ne zaman tükenecek bu yollar,arabacı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aruk Nafiz ÇAMLIBEL,Yolcu ile Arabac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 Sular mı yandı? Neden tunca benziyor merm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hmet HAŞİM,Merdiv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ru vurguyla belirtildiği zaman da soru işareti kullanıl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ümrükteki memur başını kaldırdı: Adınız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inmeyen yer, tarih ve benzeri durumlar için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Yunus Emre(1240?-1284), (Doğum yeri:?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Türk Halk Felsefesinin, Türk nükteciliğinin ve mizah dehasının büyük mümessili Nasrettin Hoca da (Hace Nasirüddin) bu asırda yaşamıştır.(1208?-1284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Babaannemin doğum tarihi (1901?-1972), (Doğum yeri: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 bilginin şüpheyle karşılandığı veya kesin olmadığı durumlarda yay ayraç içinde soru işareti kullanılı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Ankara’dan Konya’ya bir buçuk saatte (?) gitmiş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1496(?) yılında doğan Fuzuli..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Zaten  onun ne kadar bilgili(?) olduğu konuşmasından anlaşılıy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 o t l a r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- Uyarı:</a:t>
            </a:r>
            <a:br>
              <a:rPr sz="24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ru bildiren cümle veya sözlerde bazen cevabın ne olacağı sözün gelişinden belli olur. Bu tür cümle ve sözlerin sonunda da soru işareti kullanılı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 Haksız mıyım? Liderler içinde Atatürk gibisi var mı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 Yoksa bu sözümde yalan var mı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 Sen İstanbul’a gitmeyecek miydin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 Türkçe’den 5 almamış mıydı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-Uyarı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ı / mi eki -ınca / -ince anlamında zarf-fiil işleviyle kullanıldığı zaman soru işareti konulmaz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Akşam oldu mu sürüler döner.Hava karardı mı eve gideriz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p Er Tolga öldi m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iz ajun kaldı m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Ödlek öçin aldı m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di yürek yırtılı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Bahar gelip de nehir çağıl çağıl kabarmaya başlamaz mı içimi geri kalmış bir saat huzursuzluğu kaplardı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ldun TANER,On İkiye Bir Var) 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-Uyarı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u ifadesi taşıyan sıralı ve bağlı cümlelerde soru işareti en sona konu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Çok yakından mı bu sesler, çok uzaklardan mı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Üsküdar’dan mı, Hisar’dan mı, Kavaklar’dan mı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ahya Kemal BEYATLI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Ruhunu karartan neydi,yağmur mu yağıyordu;yoksa şimşekler mi çakıyordu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Ü N  L E M   İ Ş A R E T 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inç, kıvanç, acı korku, şaşma gibi duyguları anlatan cümlelerin sonuna kon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Ne mutlu Türküm diye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ustafa Kemal ATATÜ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Gurbet o kadar ac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 ne varsa içim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si bana yabanc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si başka biçimd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malettin Kami Kam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lenme, hitap ve uyarı sözlerinden sonra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Ordular! İlk hedefiniz Akdeniz, ileri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ustafa Kemal ATATÜRK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Ünlem işareti, seslenme ve hitap sözlerinden hemen sonra konulabileceği gibi cümlenin sonuna da konulabili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kadaş, biz bu yolda türküler tutturur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ana uğurlar olsun ... Ayrılıyor yolumuz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Sayılardan sonra sıra bildirmek için “-ncı ,-nci” eklerinin yerine kullanılır.</a:t>
            </a:r>
            <a:br>
              <a:rPr sz="2000"/>
            </a:br>
            <a:r>
              <a:rPr b="1" lang="tr-TR" sz="2000" spc="-1" strike="noStrike" u="sng">
                <a:solidFill>
                  <a:srgbClr val="000000"/>
                </a:solidFill>
                <a:uFillTx/>
                <a:latin typeface="Times New Roman"/>
              </a:rPr>
              <a:t>Örnekler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- 3.(Üçüncü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-15.(On beşinci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-IV.(Dördüncü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-II.Mehmet (İkinci Mehmet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-2.Cadde (İkinci Cadde)</a:t>
            </a:r>
            <a:br>
              <a:rPr sz="2000"/>
            </a:br>
            <a:br>
              <a:rPr sz="2000"/>
            </a:br>
            <a:r>
              <a:rPr b="1" lang="tr-TR" sz="20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000"/>
            </a:br>
            <a:br>
              <a:rPr sz="2000"/>
            </a:br>
            <a:r>
              <a:rPr b="0" lang="tr-TR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dde ve sokak numaralarında nokta mutlaka kullanılmalıdır.Nokta kullanılmadığı takdirde yukarıdaki örneklerden 2(iki) adet cadde anlaşılır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 söze alay, kinaye ve küçümseme anlamı kazandırma için ayraç içinde ünlem işareti konu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İsteseymiş  bir gün de bitirirmiş(!) ama ne yazık ki vakti yokmuş(!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Adam akıllı (!)olduğunu söylüy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(-)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 S A Ç İ Z G 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tıra sığmayan kelimeler bölünürken satır sonuna kon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oğuktan mı titriyordum, yoksa heyecandan, üzüntüden mi bi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.Havuzun suyu bulanık.Kapının saatleri on ikiyi geçmiş.Tram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y ne fena gıcırdadı! Tramvaydaki adam tanıdık mı acaba ne diye öyle dönüp dönüp baktı?   Yoksa kimseciklerin oturmadığı kanepel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bu saatte pek başı boşlar mı oturur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ait Faik ABASIYANIK,Havuz baş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 sözleri ara cümleleri ayırmak için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Örnek olsun diye  - örnek istemez ya - söylüyorum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En önde oturanlardan biri - gözlüklü olan - soruyu çok güzel cevaplandırdı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Yazarın bu romanı - Yanık Buğdaylar - hoşuma gitmiş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 bilgisinde kökleri ve ekleri ayırmak için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-ış, dur-ak,Dur-sun,gör-gü-süz-lük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il bilginde fiil kök ve gövdelerini göstermek için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-, dur-, gör-, ver-, başar-,okut-,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 bilgisinde eklerin başına konur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en, -lık, -ış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 bilgisinde heceleri göstermek için kullanılı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Örne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raş-tır-ma, ku-yum-cu, ya-zar-lık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-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ki harfli metinlerin yeni yazıya aktarılmasında Arapça ve Farsça kurallara göre yapılmış tamlamaların, birleşik ve türemiş kelimelerin öğelerini ayırmak için kullanılı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Darü’l -fünü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Resm-i geçi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Cemiyet-i Akvam</a:t>
            </a: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es yazarken semt ile şehir arasına konu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rtuluş-ANK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-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limeler arasında “-den...-a, ve, ile, ila ve arasında” anlamlarını vermek üzere kullanıl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Türkçe - Fransızca sözlü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Aydın  -İzmir yolu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Türk - Alman ilişkileri</a:t>
            </a: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-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zı terim ve kuruluş adlarında kelimeler arasına konu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Dil ve Tarih - Coğrafya Fakültesi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Zarf-fi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 __ )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 Z U N Ç İ Z G 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 __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azıda satır başına alınan konuşmaları göstermek için kullanılır.Buna konuşma çizgisi de den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nuşmalar tırnak içine verildiği zaman uzun çizgi kullanılm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__ Eski şehri gezdin 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 Rothshild’in evine gittin 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(‘’  ‘’)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 I R N A K  İ Ş A R E T 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‘’ ‘’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şka bir kimseden ve ya yazıdan olduğu gibi aktarılan sözler tırnak içine alın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l ve Tarih - Coğrafya Fakültesinin ön cephesinde Atatürk’ün “ Hayatta en hakiki mürşit ilimdir” vecizesi yer almakta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ynen alınmayan söz ve yazılar tırnak içinde gösterilem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“ ’’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 T L A R</a:t>
            </a:r>
            <a:br>
              <a:rPr sz="4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Tırnak içindeki alıntının sonunda bulunan işaret (nokta, soru işareti, ünlem işareti v.b. ) tırnak içinde kalı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“Akıl yaşta değil baştadır.”atasözü yüzyılların tecrübesinden süzülüp gelen bir gerçeği ifade etmiyor mu?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: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zun alıntılarda her paragraf ayrı ayrı paragraf içine alın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“  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Özel olarak belirtilmek istenen sözler tırnak içine alın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Yeni bir ‘’barış taarruzu ‘’ başladı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zel olarak belirtilmek istenen sözler tırnak içine alınmadan koyu yazılarak veya altı çizilerek de gösterilebili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Höyük sözü Anadolu’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p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arak geç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“ ”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apların ve yazıların adları ve başlıkları tırnak içine alını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Yahya Kemal’in bazı şiirleri “ Kendi Gök Kubbemiz” adı altında çıkt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ihlerin yazılışında gün ay ve yılı gösteren sayıları birbirinden ayırmak için konu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- 29. 5. 1453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- 03. 02. 1988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YARI: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arihlerde ay adları yazı ile de yazılabilir. Bu durumda ay adlarından önce ve sonra nokta kullanılmaz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Örnekler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 29 Mayıs 1453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 3 Şubat 1988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“ ”)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 O T L A R</a:t>
            </a:r>
            <a:br>
              <a:rPr sz="4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itapların ve yazıların adları ve başlıkları tırnak içine alınmaksızın koyu yazılarak ve ya eğik yazıyla (italik) dizilerek de gösterilebilir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ler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Cahit Sıtkı’nı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Şairin Ölüm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şiirini Yahya Kemal çok sevmişti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Bugünün gençle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 Kap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yı okumalıdırlar.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ırnak içine alınan sözlerden sonra kesme işareti kullanılmaz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‘ ’)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 E K   T I R N A 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‘’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ırnak içinde verilen ve yeniden tırnağa alınması gereken bir sözü belirtmek için kullanıl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‘’ Şinasi’ nin ‘ safi Türkçe ‘ ile yazdığını söylediği şiirlerden sonra vardığı bu konuşulan dil fikri şüphesiz ki ondan gelen en büyük kazancımız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hmet Hamdi TANPIN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‘’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 yazılarında verilen örneğin anlamını göstermek için kullanılır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Örnek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Göktürk Anıtları ‘ nda geçen fakat günümüze ulaşmayan bazı örnekler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u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millet, kavim,’sab ‘söz’, eçü apa ‘ ecdat, atalar,’ tüketi ‘tamamen, bütünüyle,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ed6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 )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Y A Y   A Y R A 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240" y="18288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 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ümlenin yapısıyla doğrudan doğruya ilgili olmayan açıklamalar için kullanıl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Örn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dolu kentlerini,köylerini(Köy sözünü de çekinerek yazıyorum.) gezsek bile görmek için değil,kendimizi göstermek için geziyoru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urullah ATAÇ,Söyleş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kkında açıklama yapılan söze ait ek, ayraç kapandıktan sonra yazıl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unus Emre (1240?-1320)’ni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ed8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yatro eserlerinde konuşanın hareketlerini, durumunu açıklamak ve göstermek için kullanılır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İhtiyar- (Topallayarak öğretmenin yanına yaklaşır.) Ne oluyor hocam? Lütfen bana da anlattı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Öğretmen-(Kaşları çatılmış bir şekilde ) Ne olacak,serseriler okulun camlarını kırmış.</a:t>
            </a:r>
            <a:br>
              <a:rPr sz="2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ıntıların,başta,ortada ve sonda alınmayan kelime ve bölümlerin yerine konulan üç nokta,yay ayraç içine alınabilir.</a:t>
            </a:r>
            <a:br>
              <a:rPr sz="2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 söze alay,kinaye veya küçümseme anlamı kazandırmak için kullanılan ünlem işareti yay ayraç içine alın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‘)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E S M E  İ Ş A R E T 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‘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Özel isimlere getirilen iyelik,hal gibi çekim eklerini ayırmak için kullanılı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Gülşen’i okula giderken gördü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Türkiye’m,benim canım memleketi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Ziya Gökalp’ten Yahya Kemal’e kadar bütün yazar ve şairleri okud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‘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ısaltmalara getirilen ekleri ayırmak için konur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ABD’de kasırga hayatı felce uğradı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THY’nin hizmetleri herkesçe takdim ediliyor. </a:t>
            </a: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‘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ılara getirilen ekleri ayırmak için konur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’İsterseniz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’in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ata çıkalım’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‘Seyfullah Aras 1997’de doğdu’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Saat 21:30’da Harem’de olmalısı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‘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slerin vezin dolayısıyla şiirde veya konuşma sırasında düştüğünü göstermek için kullanılı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l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’ol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ah’ı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’old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ayıp beni buldu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’ et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’eyle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şimdi zavallı adam</a:t>
            </a: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‘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 ek veya harften sonra gel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leri ayırmak için kullanılır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Örne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Dilimizde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ız ‘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apılmış bir çok sözcük v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‘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Özel adlar için yay ayraç ( parantez) içinde bir açıklama yapıldığı takdirde kesme işareti yay ayraçtan sonra konur.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Örnek: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akup Kadri(Karaosmanoğlu) ‘nin romanlarını zevkle okudum. 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300"/>
            </a:b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Özel adlardan türetilmiş sözcüklerde ekler, kesme işaretiyle ayrılmaz.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Örnek: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* Az önc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Konyalı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r dostumla buluştum.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Uyarı:</a:t>
            </a:r>
            <a:br>
              <a:rPr sz="2300"/>
            </a:b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Özel İsimlere eklenip “ aile, gil” anlamını veren - ler ekleri, kesme işareti ile ayrılmaz. Fakat “benzerler’’ anlamı verenler ve diğerleri ayrılır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(^)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 Ü Z E L T M E   İ Ş A R E T 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(^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azılışları bir, anlamları ve okunuşları ayrı olan kelimeleri ayırt etmek için kon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Örnek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âlem (bayrak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 hâlâ(babanın kız kardeş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r yazının maddelerini gösteren rakam veya harflerden sonra okunu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 I.  1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 II.  2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 B.  b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at ve dakika gösteren sayıları birbirinden ayırmak için konu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n 09:15’te kalktı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Tören 17:30’da, hükümet daireleri kapandıktan yarım saat sonra başlayacaktır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(Tarık BUĞRA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(^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apça ve Farsça’dan dilimize geçen birtakım kelime ve eklerde ‘’g,k,I’’ ünsüzlerinin ince okunduğunu göstermek için,bu ünsüzlerden sonra gelen ‘’a’’ve ‘’u’’ sesleri üzerine konur. 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Örnek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- dergâh, sükûn, ahlâk,evlât,hilâ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bliyografik künyelerin sonuna konu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h Sırrı Levend, Türk Dilinde Gelişme ve Sadeleşme Evreleri, Ankara 196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matikte çarpı işareti yerine kullanılı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4.5=20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6.7=42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 İ R G Ü 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 arda gelen aynı görevde olan(özneler,nesneler,tümleçler) kelimelerin ,kelime gruplarının arasına kon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Karada,havada,denizde yurdu savunur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Teyzemler,dayımlar,halamlar gelmiş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Dağları, ovaları ve ağaçları özlüyor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Sessiz dereler, solgun ağaçlar ,sarı gü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llenmiş ağızlarda tutuk dilli gönü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aruk Nafiz ÇAMLIB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ıralı  cümleleri birbirinden ayırmak için kullanılı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Örnekle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 Atlar soluyor,terliyor,dört nala koşuyordu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Fakat yol otomobillerle yasak olduğundan oda herkes gibi tramvaya biner, kimse kendisine   dikkat etmez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ih Rıfkı ATAY, Denizaşır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 Gel demesi kolay, git demesi zordur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Yaşlar kurur, iniltiler durur, çukurlar dolard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9:41:00Z</dcterms:created>
  <dc:creator>PC02</dc:creator>
  <dc:description/>
  <dc:language>en-US</dc:language>
  <cp:lastModifiedBy>Trabzon</cp:lastModifiedBy>
  <dcterms:modified xsi:type="dcterms:W3CDTF">2010-11-09T16:09:27Z</dcterms:modified>
  <cp:revision>147</cp:revision>
  <dc:subject/>
  <dc:title>  </dc:title>
</cp:coreProperties>
</file>