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88F-612E-45E7-99ED-5405AE6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55B-D9F9-4A25-9FDE-53934D1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A66-728B-498C-B55F-63E617EC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DB1-BD6A-41CA-A167-A5C7F337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CF6-9377-4835-B5C2-400D7C5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9F8-026D-4998-A4FD-35BE6A2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2F7F-E77C-4C63-AE1A-BA6CF848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8C8A-3EC0-4F40-A4EB-2AAB779A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63C-E7F6-48C7-B32C-008674CA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586-F875-4483-842F-1B49C60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DEC-266F-475E-A974-F6ED0CD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DDB-4081-47CE-BFE5-E028A24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0FEE-986A-454E-A307-F969793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FD0-513B-48BB-8D3C-A539B6B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007C-B102-4BDF-BD89-9AE0210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A4E-9CC4-4398-826A-7A66835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B7C0-B559-4CC7-9D2A-B23DAC46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87B4-44AF-47FD-ADC9-C854F449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1E69-E139-4E94-8732-2AA163B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B0D6-A74B-4A34-943F-261775B2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FE58-0E73-4876-A12C-E9712EA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8479-BD97-4F6A-AEF4-E6725845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ED9-B389-4324-BF82-0AF79A6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09D1-9CAA-49C0-8EFF-B2D0747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A0A4-0E67-4051-8EA6-1CE1FDB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3635-5109-413D-88D2-6B7B5BB8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9DF1-7ED9-4C24-9D99-A2E6F37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7219-D3E0-44A0-A36A-43C4A15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1490-9B58-4B19-9775-E0A265C0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DEA1-1078-44FC-9CE5-18192B58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37FA-C9D0-44E0-B41C-4A229BE9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E234-E52B-4C09-AD5D-C034F8C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7AAC-947C-4E8C-A74A-F790E8E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FD7-ED6B-4F2A-AFD8-1FBEF082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D291-4254-4746-B2FE-8782B39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6AF9-7FB2-46BF-84B1-FA0E596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7B6D-0F26-4D55-902A-692E271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659F-5B19-4655-B49B-7E17A3A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7908-E532-46A7-B59D-541458F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1648-1C4C-4A48-9324-001378F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9DB1-9AF3-4227-A497-AF5978E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117D-C8D1-4C70-B146-A0B8DB39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D60A-6F37-4145-8C76-0EAB8F6D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30C-C69B-4340-9C96-D925C1BD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1D0-4C32-4E9F-AE17-68E1B42D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6ED-17DF-46D2-A9E0-B485FB2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A12-8BA3-4913-ABC3-6823F61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CF1-5790-41CF-85B7-760DB06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B40F-D5DE-4FFF-ADD2-3E45D55E9AF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EDB7-014A-4205-B2E4-362E87D3933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FF1-8F05-4698-B944-3000E6E7EEC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14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15 Serbest Form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16 Serbest Form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C11E-5459-42F1-9DB1-FC205498ED3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802720" cy="6540480"/>
          </a:xfrm>
          <a:prstGeom prst="rect">
            <a:avLst/>
          </a:prstGeom>
          <a:ln w="0">
            <a:noFill/>
          </a:ln>
        </p:spPr>
      </p:pic>
      <p:sp>
        <p:nvSpPr>
          <p:cNvPr id="19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0A8-9983-45A8-8814-84AD81DFFCB6}" type="slidenum">
              <a:rPr b="0" lang="tr-TR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Ünlem işareti cümlenin sonunda yer aldığında ünlem bildiren sözcükt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Vah vah, zavallı ne kadar da zayıflamış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şasın, Türkçe testinden en az 38 net gelir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Arasözlerin başında ve sonunda kullanılı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öyüme, çocukluğumun o cennet diyarına, elb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r gün döneceği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i iki güne kalmaz, hele baban bir gelsin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llederi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FA5-1843-4AAA-9A8B-EB14565ADBA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Bu cümlelerde virgülün yerine kısa çizgi de kullanılab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çen hafta perşembe günü, seninle görüştüğümüz gün, epey yorgun görünüyord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Tamlamalarda, tamlayanla tamlanan arasına virgül girmemelid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tın, zarif boynu seyisleri adeta büyülemiş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İle, ve gibi bağlaçların olduğu yerde virgül kullanılma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A3CE-505E-46FD-838F-6C4F4FA2FC4B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Zarf fiil (eklerinden)lerden sonra istisnalar hariç- virgül gelm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ısa yo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arak, -erek, -ıp, -ip, -up, -üp eklerinden sonra virgül gelm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517-2056-45F8-A2C4-7FA02CEF8AC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ktalı Virgül ( ;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geleri arasında virgül kullanılmış sıralı cümleler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Para cüzdanını açtı, cüzdanın içinden bir yüzlük çıkardı; parayı yüzünü buruşturarak çocuğa verdi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2A1-2351-4AE8-A04A-CCD31B8B4A1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ralarında çeşitli ilgiler bulunan “ama, fakat, lakin, çünkü, yoksa, öyle ki, ayrıca, zaten” gibi bağlaçlarla birbirlerine bağlanan bağlı cümlelerde, bu bağlaçlarda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er zaman insanlara saygı göstermeliyiz; fakat hak ettiklerinden fazlasını değ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ze karşı hep gizli bir saldırganlık besledi;çünkü biz onu bazen destekled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erslerine çok çalıştı; ama başarılı olam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lecekti; fakat otobüse yetişemed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52F5-EB8A-4651-B0D9-AD248B483920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Bazen bu bağlaçlar kullanılmaz; noktalı virgül bu bağlaçların yerin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ok iyi çalıştı; başaram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konular üzerinde fazla durmayalım;zamanımız yo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8F07-C432-44A9-8E3A-14C42CCD00C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İçerisinde virgül bulunan cümlelerde özneyi belirtmek için kullanılır. (Bu kullanım bazen anlam karışıklığını da giderir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; Yunus, Mustafa,  Ali’ye göre oldukç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alışkan bir öğrencid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 Haşim;  birçok Divan şairine rahm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kutacak kıvamda kapalı, soyut, müzikal bir dil kullan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Üniversite, ilkokul, lise eğitimi verme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8207-D132-41F9-9174-707B78946BF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İçerisinde virgülle ayrılmış unsurlar bulunan tür ve takımları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aradeniz kıyılarında en çok çay, fındık, mısır;Akdeniz kıyılarında ise üzüm, pamuk, narenciye üretimi yap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ül, aşkın; karanfil, dağınıklığın; menekş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etimliğin sembolüd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emal Tahir’in Devlet Ana, Yorgun Savaşçı;Yaşar   Kemal’in İnce Memed, Teneke romanlarını okud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4169-C6E8-4E8D-B765-D38AEA550701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İki Nokta ( :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apılacak açıklama ve verilecek örneklerden önc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durumun birkaç sakıncası var: Metinlerin yanlış okunabilmesi, hatalı yorumlamalara yol açılması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ilimizdeki bazı ekler üç seslidir: -gın, sız, tı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d: Varlıkları veya kavramları karşılayan sözcüklere ad d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k halindeki iki zamirimiz şunlardır: İlg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zamiri, iyelik zamir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E2D-385D-43CD-9268-6BFDF13796A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de verilen alıntı cümlelerde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Ünlü filozof: “Bir yerde bir şey olm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stiyorsan çok yerde çok şey olmalısın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emiş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fşar Timuçin bir yazısında şöyle d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Nerede insan varsa, orada umut vardır.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Konuşma metinlerinde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da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—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aya kaç kişi geld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l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—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Üç kişiyiz efend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7D1-5319-4CED-9881-4A11955ECA87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Kısaltmalar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r. Alb. Pro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of.  (profesör),   Alm. (Almanca), Mat. (Matematik),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İng. (İngilizce), Hv. Kuv. (Hava Kuvvetleri)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E080-0617-4F62-BB34-54DF75EAB99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İki noktadan sonra gelen kısım bir cümleyse, bu cümle her zaman büyük harfle başlar;ancak iki noktadan sonraki bölüm cümle değerinde değilse, iki durum ortaya çık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örnekler sınırlandırılmışsa, iki noktadan sonraki bölüm büyük harfle başlatılır ve sonuna nokta konu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ürkçedeki iki kelime birden çok anlam taşır: Sıyırmak,asılma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İki şeyden nefret ediyorum: İkiyüzlülük, yalancılı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4E9-6B32-4FFD-982D-0D7445F2E724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Verilen örnekler sınırlandırılmamışsa, iki noktadan sonraki bölüm küçük harfle başlar ve sonuna üç nokt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u konuda önemli bazı kavramlar var:ihanet,  hurafe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B5D-5E99-47C6-AAF9-910A5E8747C7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Üç Nokta ( …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Örneklerin devam ettirilebileceği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fade etme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anında pek çok öğrenci vardı: Ali,Veli,Ece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oplantıda her meslekten adam vardı: öğretmen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ühendis, hemşire, poli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489C-0372-4C82-8162-7E8CF1AAB45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Eksiltili (yüklemi olmayan) cümlelerin sonu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Şimdi ben sana desem ki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 anahtarı evde unutmuşsa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erisinde yazılmak istenmeyen (kaba) ifadelerin yerin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r şeye…  sebep olmu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paketi… almış olabil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evletin malı deniz, yemeyen d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… adamı bir daha gözüm görmesin, diy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ılavuzu karga olanın burnu ………. çık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2B93-B759-43F4-BE90-0ED0EA054AE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sözün başında ortasında veya sonunda atlanan yer olduğunu göstermek amacıyl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tep kalesi şehrin ortasında bakımsızlıktan köhneleşmiş. Hüzünlü bir baykuş gibi şehri seyretmekten yorgun düşmüşt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ayata mal olmuş tren, vapur, otobüs gibi sözcükler, bin yıl çalışılsa da dilden çıkarılama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ydınlık sınıfla halkın zihniyet ve amacı arasında (…) tabii bir uygunluk gerek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79D-4F63-42B9-83F8-C76FA8289EB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oru İşareti ( ?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oru anlamı taşıyan sözcük ve cümlelerden sonr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asılsı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ıllardır bu davayı kazanmanın peşinde olduğumu biliyor musu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Dikkat: İçerisinde soru eki ya da sözcükler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ullanılsa bile soru anlamı taşımay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lerin sonuna soru işareti kon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enden neden bu kadar nefret ettiğini anlayamıyor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i kime yaptırdıklarını mutlaka bulmalıyı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ana niçin kızmış, bir gün mutlaka öğreniri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762-993D-4C86-84B9-A4B2617F4B0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Cevap gerektirmeyen sözde soru cümlelerinden sonr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adamı tanımaz olur muyu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ndan iyi soru mu olu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ar ağacı narsız olur mu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öyle tembel tembel oturmaktan çalışm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ha iyi değil m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linmeyen yer, tarih ve benzeri durumlar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unus Emre (? – 1329)   (Doğum yeri: 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ehi Bey (? – 1548), Anadolu’da ilk şairler tezkiresini yaz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8F43-7D46-4251-A9D9-5CBED1BB26F8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Verilen bilgilerin kesin olmadığını ifade etme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vliya Çelebi’nin Mısır’da  (?) öldüğü sanılıy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öroğlu, 17. yüzyılda (?) yaşamış bir ozanımızd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asrettin Hoca’nın ölümü, 1208 (?) yılına rast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9A1D-ABE0-416C-A8A2-0B942B5F4EC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Ünlem İşareti ( !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evinç, acı, korku, kıvanç, coşku, şaşma gibi duyguları anlatan cümlelerin sonu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ıklar olsun sana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y, bu tarafa baksana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k tolgalı beylerbeyi haykırdı: İler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öylenen sözün tam tersini kastetmek veya alay etmek (küçümsemek) amacıyl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ün gece yine onun muhteşem(!) yemeklerini yed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şair (!), ne güzel (!) şiirler yazarmış meğ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izin ne kadar zeki (!) olduğunuzu herkes biliy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167E-3A93-49D8-870B-88685DECB6F4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İşareti ( “ ”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lıntı cümleler tırnak içinde yaz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onfüçyüs: “Olgun insan sözlerinde ağır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vranışlarında aceleci değildir.” demiş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atasözümüz şöyle der: “Körle yatan şaşı kalkar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E9C-7311-4249-9A6F-0C006A3FEFEB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aat ve dakikaların yazımında ve tarihlerd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20.08.19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arın 20.30’da gelir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5. 01. 200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de verilen alıntı cümlelerde tırnak kapanmadan önce gerekiyors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evlana: “Odun bin bahar görse yeşermez.” demiş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EC62-3DA4-4D2F-ACAC-581A341136C2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indeki yapıt adları veya başlıklar tırnak içine alın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z de Orhan Veli’nin “İstanbul’u Dinliyorum”unu okudu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arın “Bakmak ve Görmek” adlı makalesini ben de oku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Fazıl Hüsnü Dağlarca’nın yayımladığı ilk şiir kitabı “Havaya Çizilen Dünya”d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3B2-CD75-4206-A339-3BEFCD70565A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cümlede özel olarak belirtilmek istenen sözcükler tırnak içine alınab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arış planına “Kıbrıs” temkinli yaklaşıy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e alınmış bir cümlede aktarılan bir söz kullanılıyorsa, bu söz tek tırnak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debiyat öğretmeni: “Şiirler içinde ‘Zindandan Mehmet’e Mektup’ gibisi var mı?”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B53-49B4-4D9C-A65C-23CD00451CE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Kesme İşareti ( ’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Özel isimlerin köklerine getirilen çekim eklerini ve sayılara getirilen ekleri ayırmak için kullan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alatya’nın kayısısı, Antep’in fıstığı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u kitabı Ayla’dan aldı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ydın’da bir sonbahar yaşamıştı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arın akşam Adıyaman’a gideceği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ana 5’inci boyuttan bahs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Not: Özel isimlere gelen yapım ekleri kesmeyle ayrılma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tepliyim, Anteplisin, Antepl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ürkçe, kullanan kişi sayısı bakımından dünyanın dördüncü büyük dilid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üslümanlık nedir, şekil mi öz m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DD5-E434-4375-951D-89639AE5A742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ısaltmalara getirilen çekim eklerin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ÖSYM’den     AB’ye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özcükte ünlü düşmesini göstermek için kullanılabil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’oldu             N’eylersin           Karac’oğlan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inde söylenen harf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’dan Z’ye her şeyi anlattık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414-3105-4032-AB06-40869E0615BA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azılışları aynı olan sözcüklerde anlam karışıklığını gider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ocuğun elmasını aldı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ocuğun elmas’ını al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van’ın içinde bir arı v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va’nın içinde bir arı v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e kadının aklı erm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ava’nı iyice temizle.    Tavan’ı iyice temizle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Not: Bu kurala giren kelime sayısı çok değildir. Ancak farklı ve dikkat gerektiren sorular sormak için uygun bir konud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73C-3390-4667-B7F4-50921409F950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zel isimlere gelen –ler eki,  ve benzerleri anlamı ile gruptan seçme anlamı taşıyorsa kesmeyle ayrılır, diğer durumlarda ayrıl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z daha nice Fatih’ler yetiştireceğiz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e Mevlana’lar ne Yunus’lar gördü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’ler yanıma gels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Mustafalara gitt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nginler bu akşam bize gelecekmi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arihlerden ve sayılardan sonra gelen çekim eklerin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1973’ün kışında doğmuş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7.30’da burada 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A12C-42C7-4EF2-A973-52192BD7351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Parantez (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özcük veya sözcük gruplarının eş veya yakın anlamları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ervet-i Fünun  (Edebiyat-ı Cedide) edebiyatı ismini aynı adlı dergiden almış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sözcük ya da cümleden sonra yapılan açıklamalar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nzimat şairleri, Divan şiirinin nazım şekillerini (gazel, kaside, mesnevi, terkib-i bent…) çok kullanmışlard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2DC-5A23-4FC1-AE29-47EFF1C250AF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Yabancı sözcüklerin okunuşu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hakespeare (Şekspir)okumadan tiyatro hakkında karar vermey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dre Gide (Andre Jid), “Dar Kapı” adlı romanıyla meşhur olmuşt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C2B-F52A-4118-AFA0-8381E30545EF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ısa Çizgi (-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atır sonlarında hece bölmed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………………………………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..…gele-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ceğini bilmiyor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İki ulus, iki tarih ya da iki şey arasındaki ilgiyi belirt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II. Dünya Savaşı 1939-1945 arasında yapılmışt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ürk- Yunan dostluğuna gölge düşt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Gaziantep - Ankara karayolu trafiğe kapanmı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eden - sonuç ilişkisi açısından inceleyini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FE6-0EAA-419E-8AD2-9B37CD68BA7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rasözlerin, aracümlelerin başında ve sonun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Şu adam - yere bakan ihtiyar - onun dedesid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romanı - siz de hatırlarsınız - geçen gün aldı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Dilbilgisi incelemelerinde köklerin ve gövdelerin sonuna, eklerin başın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l- , git- , ol- kökle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üzelleş- , alın- , gizlen- gövdele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lı , -sız , -la , -mek   ekleri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031-58FE-4CED-AB9A-AA77F2486BE8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ıncı,-inci eki yerine kullanılı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7. sınıfa bu yıl başl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apartmanın 8. katında oturuyor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I. Murat, III. Selim, 13. madde, 8. yıl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ayı basamakların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0.00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3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C67-713A-4F52-A7DC-05C360C06068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5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NECİP YAĞ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ABAHATTİN ZAİM SOSYAL BİLİMLER LİSES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ÜRK DİLİ VE EDEBİYATI ÖĞRETMEN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7E1-2FA7-4D00-BDE6-CA4FC698FAD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Rakamlar arasında çarpı işaret yerine kon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2.5= 60,   62.4= 248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onstantia"/>
              </a:rPr>
              <a:t>NOT: Kısaltmalarda nokta kullanılma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DTÜ (Orta Doğu Teknik Üniversite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PT (Devlet Planlama Teşkilatı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BMM (Türkiye Büyük Millet Mecli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Not: Cümle sonunda yer alan noktad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onra büyük harf kullan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07A5-2E26-4F25-93CB-8F128C57DC1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Virgül (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üklemden uzak kalmış özne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ar, her şeyden önce kendisine verilen yeteneği kamu yararına kullanmak sorumluluğunda olduğunu unutmamalıd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Eş görevli sözcükler, söz öbekleri ya da ögeler arası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toplantıda eski borçları, gelecek yılın planlarını, yönetici seçimlerini konuşmalıyız.( Nesneleri ayırmak iç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essiz, sakin, kararlı bir insan olması herkes tarafından takdir ediliyordu.  (Tamlayanların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evler, araziler, bağlar, bahçeler bir zamanlar bizimdi.(Tamlananları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FE33-4D4B-45C6-9210-99BD5C9FB0C2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ıralı cümleleri ayır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rkes derin bir uykudaydı, ben sabah iç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zırlık yapıyor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ğmur durdu, burnumuza ıslak toprağı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kusu geliyordu, bu kokuyu hiçbirimiz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açırmak istemedik, derin derin içimize çekt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ers çalışmaktan yorulunca dışarı çıkar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ahçede dinlenir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F8B-57F3-4F7A-9D00-AA068B8CCDBA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zellikle vurgulanmak istenen öge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endimi, sana asla ezdirm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Anlam karışıklığını gider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İhtiyar adamın elindeki tespihi çok beğen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 arabaya yavaş yavaş ilerledi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Genç adama bir şeyler söylemek gerek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şlı  kadını güçlükle yatıştır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8DE-FCF7-4EB4-998E-70C395009B8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ırnak içine alınmamış alıntı cümle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r şey sizi öldürmüyorsa güçlendirir,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nlarla bir arada bulunmak bize keyif veriyor,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arkadaşı hiç görmedim, diye mırıldan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Onaylama, reddetme, cevap verme, hitap ifadelerin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vet, ben de o filmi hatırlıyor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yır, kendisi bana bunu söylem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ok, bundan sonra seninle iş yapma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amam, sana inandı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, şimdi anlat bakalım bana derdin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D6B-BC7A-49AC-A576-2F76271DB44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55:16Z</dcterms:created>
  <dc:creator>Computers</dc:creator>
  <dc:description/>
  <dc:language>en-US</dc:language>
  <cp:lastModifiedBy>NEC</cp:lastModifiedBy>
  <dcterms:modified xsi:type="dcterms:W3CDTF">2012-12-02T05:55:16Z</dcterms:modified>
  <cp:revision>6</cp:revision>
  <dc:subject/>
  <dc:title>NOKTA (.) Bitmiş cümlelerin sonuna konur. İnsanın bilgisi, kullandığı kelimelerin toplamından ibarettir. Aldığımız ilk nefes, vereceğimiz son nefesin erken ödemesidir.</dc:title>
</cp:coreProperties>
</file>